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55E-749D-4750-AE4A-1A441EC1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4A7-64E5-45F8-B008-3A4418AD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233-2B9D-48C3-A9EC-D2701355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64B-7093-4CE1-B913-EE431AF5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9B4-413B-4D0A-BD86-39FB52F3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AF9-8CB4-4FCD-9B3C-13A6350D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F8E-B242-4929-A5D7-44324038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E6C-5641-405C-89C7-56512337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613-47F6-45A0-AFE2-FD614FE6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6C5-B81D-4945-9485-DA31E4B5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6A7-26C4-4C95-AA5F-73C25D95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65B-E58A-4C2B-9F79-E280C3C4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94CF-7EAB-4BC6-8BB6-04A1DFA1FC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Рождество\Рождество 6.jpg"/>
          <p:cNvPicPr/>
          <p:nvPr/>
        </p:nvPicPr>
        <p:blipFill>
          <a:blip r:embed="rId1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 flipH="1">
            <a:off x="323280" y="26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Новый Год шагает по пла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67280" y="3860280"/>
            <a:ext cx="461952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ла классный руководитель 6 класса Айбатирова Патимат Мухтаро.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конкур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Игра в снежки»: задача- забросить снежки в свою корзину(ведро), поставленное в 2-3 метрах от участ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2"/>
          <a:stretch/>
        </p:blipFill>
        <p:spPr>
          <a:xfrm>
            <a:off x="2916360" y="3068640"/>
            <a:ext cx="36511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НОВЫЙ ГОД\Новый год\Новый год 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357120" y="50004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д Мороз к нам в гости мч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удо в Новый Год случ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удача к нам прид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частья, радость прине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упает Новый Г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конкур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сумеет вырезать самую красиву снежинку в течении 2-3 минут. Победит тот, чья снежинка будет самая краси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3995640" y="3279600"/>
            <a:ext cx="30402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-237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конкур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быстрее смотает веревочку? Участники быстрее начинают наматывать веревочки на палочку от конфеты. Победитель получает приз (большой чупа-чупс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6" descr=""/>
          <p:cNvPicPr/>
          <p:nvPr/>
        </p:nvPicPr>
        <p:blipFill>
          <a:blip r:embed="rId2"/>
          <a:stretch/>
        </p:blipFill>
        <p:spPr>
          <a:xfrm>
            <a:off x="2916360" y="3606840"/>
            <a:ext cx="41036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 конкур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граем в «Угадайку». Сколько сушек в этой банке? Участники конкурса высказывают свои предположения. Затем пересчитывают сушки. Побеждает тот, кто точнее угадал количество сушек в бан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бедитель получает калач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5862600" y="4462560"/>
            <a:ext cx="30528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конкур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исунок с завязанными глазами». Отгадайте, что вы будете рисовать: На морозе не дрожу, нос морковкою держу. Только вот без зимней стужи горько слезы лью я в лужи. Но не жалуюсь, привык. Как зовусь я? С завязанными глазами рисуют снеговика. За лучший рисунок – приз (карандаш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2"/>
          <a:stretch/>
        </p:blipFill>
        <p:spPr>
          <a:xfrm>
            <a:off x="6564240" y="4221000"/>
            <a:ext cx="25797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3:32:50Z</dcterms:created>
  <dc:creator>УЧИТЕЛЬ</dc:creator>
  <dc:description/>
  <dc:language>en-US</dc:language>
  <cp:lastModifiedBy>real</cp:lastModifiedBy>
  <dcterms:modified xsi:type="dcterms:W3CDTF">2019-12-01T13:07:34Z</dcterms:modified>
  <cp:revision>49</cp:revision>
  <dc:subject/>
  <dc:title>Слайд 1</dc:title>
</cp:coreProperties>
</file>