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9B2-B5E5-4150-AEF7-1255A724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668-623A-404D-BA68-77E9DB11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EAA-B842-4511-A1A5-DC23B9DC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6C8-5D5F-4E8C-A927-CBAF104E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411-F3A4-458E-BD8E-801FBCF0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670-3FCE-4298-91B7-924D064C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867-44E6-456B-A90B-B8FA416B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35B-1E33-49A7-AF57-43604306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ACE-683B-4654-863C-C54B9E1C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40D-A06C-4163-84A4-C62EB98F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01D-3726-4B39-AA0C-57E0DEB0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F1F-6484-48DD-9AC8-580CD8E4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352D-DEAA-41E4-9162-01C58E7447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Рождество\Рождество 6.jpg"/>
          <p:cNvPicPr/>
          <p:nvPr/>
        </p:nvPicPr>
        <p:blipFill>
          <a:blip r:embed="rId1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 flipH="1">
            <a:off x="323280" y="26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Новый Год шагает по план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067280" y="3860280"/>
            <a:ext cx="461952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ла классный руководитель 6 класса Айбатирова Патимат Мухтаро.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 конкур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Игра в снежки»: задача- забросить снежки в свою корзину(ведро), поставленное в 2-3 метрах от участ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"/>
          <p:cNvPicPr/>
          <p:nvPr/>
        </p:nvPicPr>
        <p:blipFill>
          <a:blip r:embed="rId2"/>
          <a:stretch/>
        </p:blipFill>
        <p:spPr>
          <a:xfrm>
            <a:off x="2916360" y="3068640"/>
            <a:ext cx="36511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НОВЫЙ ГОД\Новый год\Новый год 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357120" y="500040"/>
            <a:ext cx="342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д Мороз к нам в гости мч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удо в Новый Год случ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удача к нам прид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частья, радость прине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упает Новый Г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конкур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сумеет вырезать самую красиву снежинку в течении 2-3 минут. Победит тот, чья снежинка будет самая красив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3995640" y="3279600"/>
            <a:ext cx="30402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-237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конкур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быстрее смотает веревочку? Участники быстрее начинают наматывать веревочки на палочку от конфеты. Победитель получает приз (большой чупа-чупс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6" descr=""/>
          <p:cNvPicPr/>
          <p:nvPr/>
        </p:nvPicPr>
        <p:blipFill>
          <a:blip r:embed="rId2"/>
          <a:stretch/>
        </p:blipFill>
        <p:spPr>
          <a:xfrm>
            <a:off x="2916360" y="3606840"/>
            <a:ext cx="41036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 конкур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граем в «Угадайку». Сколько сушек в этой банке? Участники конкурса высказывают свои предположения. Затем пересчитывают сушки. Побеждает тот, кто точнее угадал количество сушек в бан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обедитель получает калач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5862600" y="4462560"/>
            <a:ext cx="30528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 конкур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Рисунок с завязанными глазами». Отгадайте, что вы будете рисовать: На морозе не дрожу, нос морковкою держу. Только вот без зимней стужи горько слезы лью я в лужи. Но не жалуюсь, привык. Как зовусь я? С завязанными глазами рисуют снеговика. За лучший рисунок – приз (карандаш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6" descr=""/>
          <p:cNvPicPr/>
          <p:nvPr/>
        </p:nvPicPr>
        <p:blipFill>
          <a:blip r:embed="rId2"/>
          <a:stretch/>
        </p:blipFill>
        <p:spPr>
          <a:xfrm>
            <a:off x="6564240" y="4221000"/>
            <a:ext cx="25797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3:32:50Z</dcterms:created>
  <dc:creator>УЧИТЕЛЬ</dc:creator>
  <dc:description/>
  <dc:language>en-US</dc:language>
  <cp:lastModifiedBy>real</cp:lastModifiedBy>
  <dcterms:modified xsi:type="dcterms:W3CDTF">2019-12-01T13:07:34Z</dcterms:modified>
  <cp:revision>49</cp:revision>
  <dc:subject/>
  <dc:title>Слайд 1</dc:title>
</cp:coreProperties>
</file>