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02BF-AC9C-417B-B1DB-7A5E864B9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2611-87AE-43AC-B080-43A8A27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D117-9475-4FE4-ACB3-25BB63B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6125-628F-40E8-824A-CAE49627A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70111-8E19-4B39-B008-562CDDE75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676F4-7B11-47A0-B189-45BFF05B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F76B-0B20-49C0-B6B8-0E0C5CE0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FB180-F060-41A4-A156-89CCB455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792A-282E-453E-AE07-75578C04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E2F01-F306-4E38-9921-ABB8AEE7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67BFF-F165-4ED3-AFBD-DFEBC66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7429-48CC-476A-920D-4E87BD1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5F8E-E655-498A-886C-919A860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47C40-EE0F-4284-8F7A-FFF5B65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5220-DEB9-418B-BEC6-E0F49607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89486-7315-482A-A7ED-0939923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B8AF-FDAC-4BCC-93E5-3883A6DAC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E31-5F51-4EF9-9BD2-ECB30F5DB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52F-9648-4178-826A-61D4D68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DA44-DC4F-4D01-AFA7-8E01DDD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781-7360-4421-AA40-5940DDDA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B5A-B828-48CA-93CE-AA66CCF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7D3A-9195-4924-86FA-84AFC32F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462-7E67-4480-8799-10A45D78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F18B-BB95-4722-B4B7-C136A25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2462-D545-4391-878C-7869673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328-9639-4BA7-BCFD-C7EB558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06FA-3EF6-4A44-A11E-22C6709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C003-4A8D-4071-B1A2-5B18917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D6B-AB87-4D49-8D5F-A0E43998B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E528-FEF4-4D67-9FFA-86507DF6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0ED1-EBA5-49C3-BC48-B6BBE42E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E8D5-CC97-4196-B4AE-87D1F538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5D59-CE7F-4628-9693-777DC6F8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A5AD-5971-472A-812B-6B687353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5E4D-800F-47AD-8273-8722BCA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512A-1FA8-4ABD-978E-FCCC7F562B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EFFE-D475-427F-9384-141D179F70F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336F7-C481-4479-BA7B-35E02686AD8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863640" y="1079640"/>
            <a:ext cx="6264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6000"/>
            </a:b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Выполнила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вская К.В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Пользователь Windows</cp:lastModifiedBy>
  <dcterms:modified xsi:type="dcterms:W3CDTF">2019-12-01T14:42:56Z</dcterms:modified>
  <cp:revision>6</cp:revision>
  <dc:subject/>
  <dc:title>Слайд 1</dc:title>
</cp:coreProperties>
</file>