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1421-E872-479C-BD6B-40C8F0614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AAE5-8E5E-47A4-AFC6-4E693EC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11F9-5A28-4946-9E95-4B17624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9C80-021D-4E92-8E4D-1F3E10045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8FD5E-2247-46AE-BFE1-B6E4CCC77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19300-A480-4DD7-8ECD-44069305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EA20D-F5E3-4D8F-96FA-260076F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FE0B-2EBA-4CBA-8B59-CA065C30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F22BB-B10B-4383-A625-1F228E83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C927-2672-41F5-99C5-BA085BC5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6A29-0A68-4CA2-8127-6AC73B6C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D3D2-7199-4152-A8E4-BA84664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61553-7CC8-4BDB-8EF8-685A1D22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43A2E-49D8-4A52-AED0-1796787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738D0-E667-44D2-98DE-389AD164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87DE-EE1A-413C-8044-D397964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B501-84CD-47B3-9F5E-5BD5B93332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9AD-03BE-4089-B188-1FDED9CCF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7B31-4D99-4209-A1C7-E031D83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93F-6CDE-491C-9456-BCCEA7D7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795B-4E83-4B92-BAE8-462FBF0E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6C5-C8A1-4328-8D2F-5437C8F6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60D9-239E-43FE-845C-B2A50C67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E1F-6F3A-4919-924D-FFAB1D37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FF3A-6DD4-4773-B18A-C9C9093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39B3-E1A3-43D7-BA66-3DE25AC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AC69-D1B9-474C-922F-37E23B8E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4762-0035-4BE2-BB1F-C48DD4D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CFB5-1A0A-47BA-9D8C-19B5221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244-3B14-4011-A795-AD99E08F2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F039-6740-4FFB-B727-EAAE5B5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EB5B-812F-470A-82E7-676511FA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04DF-A758-4E04-83EE-DF1495A2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71EC-AC10-4025-8FC6-48461F7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C6B7-131C-40B7-81B3-7C9E3CE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4256-E961-45F3-9FB4-309F834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22C38-0C15-48A8-BEEC-6DFB77AFC86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E77E9-6EA3-4197-B2FE-7F1B2D689F9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0436-CD6F-49AA-A3E9-FA7F6770C5F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вская К.В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 Windows</cp:lastModifiedBy>
  <dcterms:modified xsi:type="dcterms:W3CDTF">2019-12-01T14:42:56Z</dcterms:modified>
  <cp:revision>6</cp:revision>
  <dc:subject/>
  <dc:title>Слайд 1</dc:title>
</cp:coreProperties>
</file>