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A701-3FD0-42C2-ADF0-765E0944EE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17A2-6B85-412B-B45F-258E20FFAD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1153-B96A-4945-961E-4C918DFB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031-DB6E-4BD4-B0A3-31E41409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B9E-693F-4D35-A098-5706F79F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828-D1AD-418F-BE61-0E2A662A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95EC-E0DE-4904-913C-B2FEE677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FC15-8840-4994-BBE2-32AACCE5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A3DF-6BC2-4993-94F9-7EAA6AF8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FA25-C5C0-4827-B678-57A0F382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EC86-257B-4381-A360-286AA114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1C36-903F-46D2-9967-E429B974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3A3E-952B-453B-A7FC-F3C5C504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F9B6-B026-4579-9A00-D959628A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A0E8-DBEC-4023-8178-079D584E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73BE-1569-4495-BB30-A5B96D67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9355-EFB0-46F8-B9CB-9AD9ED5B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2664-044F-4BEA-95B0-3EBC2C56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D9CE-CC5F-464F-B5BB-79CF486F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BB09-FC50-404F-A60F-4A8AFE2E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AB7-A368-41E5-921A-F27B9A59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7F8-A886-462C-800E-427675A7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810-C061-4D02-A7E3-7ECF0499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47F-4D9D-42C8-A64D-5CE2AB36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D1F-4B0B-4EE1-90BE-2ABED428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F3DD-6729-4502-9CAB-3C934BCC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BC54-D40E-4CD2-BE36-CFED045C00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DAB7-3F3D-461F-A867-7255648EC7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2004840"/>
            <a:ext cx="8143560" cy="3762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56760" y="213840"/>
            <a:ext cx="8286840" cy="1785960"/>
          </a:xfrm>
          <a:prstGeom prst="rect">
            <a:avLst/>
          </a:prstGeom>
          <a:solidFill>
            <a:srgbClr val="f2f2f2">
              <a:alpha val="65000"/>
            </a:srgbClr>
          </a:solidFill>
          <a:ln w="9360">
            <a:solidFill>
              <a:srgbClr val="00206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униципальное образовательное учреждение средняя общеобразовательн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школа №9 им. А.С. Пушкина г. Волжска Республики Марий Э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V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Научно-практическая конференция учащих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«Наследники Великой Побед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99"/>
                </a:solidFill>
                <a:latin typeface="Arial"/>
                <a:ea typeface="Arial"/>
              </a:rPr>
              <a:t>Знаете ли вы этимологию отдельных фразеологизм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3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99"/>
                </a:solidFill>
                <a:latin typeface="Arial"/>
                <a:ea typeface="Arial"/>
              </a:rPr>
              <a:t>Знаете ли вы, какими другими терминами называют фразеологизмы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3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99"/>
                </a:solidFill>
                <a:latin typeface="Arial"/>
                <a:ea typeface="Arial"/>
              </a:rPr>
              <a:t>Пользуетесь ли вы фразеологическими словаря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одержимое 3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99"/>
                </a:solidFill>
                <a:latin typeface="Arial"/>
                <a:ea typeface="Arial"/>
              </a:rPr>
              <a:t>Знаете ли вы, что такое библеиз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Содержимое 3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99"/>
                </a:solidFill>
                <a:latin typeface="Arial"/>
                <a:ea typeface="Arial"/>
              </a:rPr>
              <a:t>Знакомы, ли вам такие выражения, как «зарыть талант», «запретный плод», «камень преткновения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Содержимое 3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99"/>
                </a:solidFill>
                <a:latin typeface="Arial"/>
                <a:ea typeface="Arial"/>
              </a:rPr>
              <a:t>Результаты анкет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2f2f2">
              <a:alpha val="65000"/>
            </a:srgbClr>
          </a:solidFill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целом, учащиеся имеют представление о фразеологизмах и пользуются ими в своей реч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ольшинство незнакомо с этимологией фразеологических выражений и не знают, какими другими терминами называются фразеологизм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чащиеся редко пользуются словаря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лохо представляя, что такое библеизмы, учащиеся знакомы с фразеологизмами библейского происхожд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785960"/>
          </a:xfrm>
          <a:prstGeom prst="rect">
            <a:avLst/>
          </a:prstGeom>
          <a:solidFill>
            <a:srgbClr val="f2f2f2"/>
          </a:solidFill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99"/>
                </a:solidFill>
                <a:latin typeface="Arial"/>
                <a:ea typeface="Arial"/>
              </a:rPr>
              <a:t>Гипотеза</a:t>
            </a:r>
            <a:r>
              <a:rPr b="0" lang="ru-RU" sz="4400" spc="-1" strike="noStrike">
                <a:solidFill>
                  <a:srgbClr val="cc3399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ражения библейского происхождения составляют не менее 50 процентов от всех фразеологических выраж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40" y="2285640"/>
            <a:ext cx="8229600" cy="3840120"/>
          </a:xfrm>
          <a:prstGeom prst="rect">
            <a:avLst/>
          </a:prstGeom>
          <a:solidFill>
            <a:srgbClr val="f2f2f2">
              <a:alpha val="65000"/>
            </a:srgbClr>
          </a:solidFill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cc3399"/>
                </a:solidFill>
                <a:latin typeface="Arial"/>
                <a:ea typeface="Arial"/>
              </a:rPr>
              <a:t>Данные анализа языкового матери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71680" y="3000240"/>
          <a:ext cx="8072280" cy="3071880"/>
        </p:xfrm>
        <a:graphic>
          <a:graphicData uri="http://schemas.openxmlformats.org/drawingml/2006/table">
            <a:tbl>
              <a:tblPr/>
              <a:tblGrid>
                <a:gridCol w="1857240"/>
                <a:gridCol w="2217600"/>
                <a:gridCol w="1979640"/>
                <a:gridCol w="2017800"/>
              </a:tblGrid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ва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разеологиз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блеиз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е Т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сановой 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936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99"/>
                </a:solidFill>
                <a:latin typeface="Arial"/>
                <a:ea typeface="Arial"/>
              </a:rPr>
              <a:t>Какие фразеологизмы библейского происхождения хорошо знакомы учащимс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3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214200" y="1285920"/>
            <a:ext cx="4286520" cy="5357880"/>
          </a:xfrm>
          <a:prstGeom prst="rect">
            <a:avLst/>
          </a:prstGeom>
          <a:ln w="0">
            <a:noFill/>
          </a:ln>
        </p:spPr>
      </p:pic>
      <p:pic>
        <p:nvPicPr>
          <p:cNvPr id="129" name="Диаграмма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143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solidFill>
            <a:srgbClr val="ffffff">
              <a:alpha val="65000"/>
            </a:srgbClr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словарик фразеологизмов с иллюстрациями учащихс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ть викторину по фразеологии для учащихся средних классов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выяснить, какие фразеологизмы имеют литературный источни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выяснить, каких фразеологизмов больше: библейского или античного происхождени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99"/>
                </a:solidFill>
                <a:latin typeface="Arial"/>
                <a:ea typeface="Arial"/>
              </a:rPr>
              <a:t>Перспектива дальнейшей работы по те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1428480"/>
            <a:ext cx="8229600" cy="2786040"/>
          </a:xfrm>
          <a:prstGeom prst="rect">
            <a:avLst/>
          </a:prstGeom>
          <a:solidFill>
            <a:srgbClr val="f2f2f2"/>
          </a:solidFill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99"/>
                </a:solidFill>
                <a:latin typeface="Arial"/>
                <a:ea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071720" y="285840"/>
            <a:ext cx="6929280" cy="54561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6800" y="5857920"/>
            <a:ext cx="7301160" cy="714240"/>
          </a:xfrm>
          <a:prstGeom prst="rect">
            <a:avLst/>
          </a:prstGeom>
          <a:solidFill>
            <a:srgbClr val="f2f2f2"/>
          </a:solidFill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c3399"/>
                </a:solidFill>
                <a:latin typeface="Arial"/>
                <a:ea typeface="Arial"/>
              </a:rPr>
              <a:t>Зарыть талант в землю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6093000"/>
            <a:ext cx="6858000" cy="560160"/>
          </a:xfrm>
          <a:prstGeom prst="rect">
            <a:avLst/>
          </a:prstGeom>
          <a:solidFill>
            <a:srgbClr val="f2f2f2"/>
          </a:solidFill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c3399"/>
                </a:solidFill>
                <a:latin typeface="Arial"/>
                <a:ea typeface="Arial"/>
              </a:rPr>
              <a:t>Бросить камень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1143000" y="285840"/>
            <a:ext cx="6786720" cy="56386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99"/>
                </a:solidFill>
                <a:latin typeface="Arial"/>
                <a:ea typeface="Arial"/>
              </a:rPr>
              <a:t>Цель: </a:t>
            </a:r>
            <a:r>
              <a:rPr b="0" lang="ru-RU" sz="2800" spc="-1" strike="noStrike">
                <a:solidFill>
                  <a:srgbClr val="cc3399"/>
                </a:solidFill>
                <a:latin typeface="Arial"/>
                <a:ea typeface="Arial"/>
              </a:rPr>
              <a:t>выявление частотности библеизмов среди других фразеологических сочетан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1320" y="1643040"/>
            <a:ext cx="8143560" cy="3471840"/>
          </a:xfrm>
          <a:prstGeom prst="rect">
            <a:avLst/>
          </a:prstGeom>
          <a:solidFill>
            <a:srgbClr val="f2f2f2">
              <a:alpha val="65000"/>
            </a:srgbClr>
          </a:solidFill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учить научную литературу по те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сти анкет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брать, обобщить и проанализировать языковой матери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знакомиться ближе с такой книгой, как Библ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71800" y="214200"/>
            <a:ext cx="5286240" cy="725760"/>
          </a:xfrm>
          <a:prstGeom prst="rect">
            <a:avLst/>
          </a:prstGeom>
          <a:solidFill>
            <a:srgbClr val="f2f2f2"/>
          </a:solidFill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cc3399"/>
                </a:solidFill>
                <a:latin typeface="Arial"/>
                <a:ea typeface="Arial"/>
              </a:rPr>
              <a:t>Изучение фразе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2600" y="1000080"/>
            <a:ext cx="3357720" cy="496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.В. Ломоно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571680" y="1571760"/>
            <a:ext cx="3786120" cy="5008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71680" y="999720"/>
            <a:ext cx="3429000" cy="500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.В. Виноград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5143680" y="1571760"/>
            <a:ext cx="3357360" cy="50371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f2f2f2">
              <a:alpha val="65000"/>
            </a:srgbClr>
          </a:solidFill>
          <a:ln w="9360">
            <a:solidFill>
              <a:srgbClr val="00206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разеолог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раздел языкознания, изучающий фразеологический состав языка в его современном состоянии и историческом развит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разеологизм (фразема, идиома, крылатое выражение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- устойчивое выражение с самостоятельным значени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иблеиз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фразеологические сочетания и афоризмы библейского происхож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71680" y="1642680"/>
            <a:ext cx="3643200" cy="500040"/>
          </a:xfrm>
          <a:prstGeom prst="rect">
            <a:avLst/>
          </a:prstGeom>
          <a:solidFill>
            <a:srgbClr val="ffffff">
              <a:alpha val="65000"/>
            </a:srgbClr>
          </a:solidFill>
          <a:ln w="9360">
            <a:solidFill>
              <a:srgbClr val="00206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ирилл и Мефод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71680" y="428760"/>
            <a:ext cx="8215200" cy="1071360"/>
          </a:xfrm>
          <a:prstGeom prst="rect">
            <a:avLst/>
          </a:prstGeom>
          <a:solidFill>
            <a:srgbClr val="ffffff">
              <a:alpha val="65000"/>
            </a:srgbClr>
          </a:solidFill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99"/>
                </a:solidFill>
                <a:latin typeface="Arial"/>
                <a:ea typeface="Arial"/>
              </a:rPr>
              <a:t>Библия — </a:t>
            </a:r>
            <a:r>
              <a:rPr b="0" lang="ru-RU" sz="2600" spc="-1" strike="noStrike">
                <a:solidFill>
                  <a:srgbClr val="002060"/>
                </a:solidFill>
                <a:latin typeface="Arial"/>
                <a:ea typeface="Arial"/>
              </a:rPr>
              <a:t>собрание священных текстов христиан, состоящее из Ветхого и Нового Завет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000080" y="2241720"/>
            <a:ext cx="2687760" cy="4346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5286240" y="2214720"/>
            <a:ext cx="3429000" cy="44323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214960" y="1714680"/>
            <a:ext cx="3571920" cy="428400"/>
          </a:xfrm>
          <a:prstGeom prst="rect">
            <a:avLst/>
          </a:prstGeom>
          <a:solidFill>
            <a:srgbClr val="ffffff">
              <a:alpha val="65000"/>
            </a:srgbClr>
          </a:solidFill>
          <a:ln w="9360">
            <a:solidFill>
              <a:srgbClr val="00206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ван Фёдор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99"/>
                </a:solidFill>
                <a:latin typeface="Arial"/>
                <a:ea typeface="Arial"/>
              </a:rPr>
              <a:t>Знаете ли вы, что такое фразеологиз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4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99"/>
                </a:solidFill>
                <a:latin typeface="Arial"/>
                <a:ea typeface="Arial"/>
              </a:rPr>
              <a:t>Пользуетесь ли вы в своей речи фразеологизма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3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6:11:45Z</dcterms:created>
  <dc:creator>Admin</dc:creator>
  <dc:description/>
  <dc:language>en-US</dc:language>
  <cp:lastModifiedBy>Admin</cp:lastModifiedBy>
  <dcterms:modified xsi:type="dcterms:W3CDTF">2019-12-01T05:31:54Z</dcterms:modified>
  <cp:revision>117</cp:revision>
  <dc:subject/>
  <dc:title>Игра по русскому языку «Самый умный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09991</vt:lpwstr>
  </property>
</Properties>
</file>