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C068-AE90-470A-9E05-42E6E3D187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299C-6EC9-4E5F-B213-17A1512509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7AEF-DB0A-4CD8-9213-EBAA8CB50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3FA0-5717-4581-80B9-C228D401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8872-821A-412E-BABF-F81135932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9725-E967-4D0B-B565-16E4A0350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B4F4-3705-44AA-85EF-D2CE037D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6E19-4C9D-432A-8E37-8A6324A6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6891-5057-4F4C-AF37-11F3EAD0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A3D6-44AB-4DB7-B28E-8DAC529D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901B-CC46-41F0-9B22-E15F95DF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4A09-7094-4BCD-B852-99E110FC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8654-63F9-408A-959E-EFBC7E4F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624C-C679-4866-8514-80EC2789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D2D2-DA46-4364-B7A3-0DFF0470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8CFF-D2D2-4CC1-B5D9-78FF2117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4A78-56CE-4A25-8D93-6BCDA3D8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BCF0-2C8B-4D72-B375-9355749F0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7769-F6C4-4489-B2AC-07EC5DAFF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6846-C480-4232-A696-89A9A721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FF64-D4F8-4479-A8BA-29B351D5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D464-1971-4BDC-9E78-E5D01AD6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A108-16D2-4001-A2B1-CF9C9838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EEF3-00F9-42B7-B0FF-325B4DB8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B9F4-A23F-4A71-8548-1D924F5A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96F7-50C7-45D0-87D5-7F59887E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290C-32B3-42CD-8947-34E0F5AFC0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9E75-9B9B-4E6A-AF3C-CE93429ADE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20840" y="2004840"/>
            <a:ext cx="8143560" cy="3762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56760" y="213840"/>
            <a:ext cx="8286840" cy="1785960"/>
          </a:xfrm>
          <a:prstGeom prst="rect">
            <a:avLst/>
          </a:prstGeom>
          <a:solidFill>
            <a:srgbClr val="f2f2f2">
              <a:alpha val="65000"/>
            </a:srgbClr>
          </a:solidFill>
          <a:ln w="9360">
            <a:solidFill>
              <a:srgbClr val="00206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Муниципальное образовательное учреждение средняя общеобразовательна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школа №9 им. А.С. Пушкина г. Волжска Республики Марий Э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IV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Научно-практическая конференция учащихс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«Наследники Великой Победы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99"/>
                </a:solidFill>
                <a:latin typeface="Arial"/>
                <a:ea typeface="Arial"/>
              </a:rPr>
              <a:t>Знаете ли вы этимологию отдельных фразеологизмов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Содержимое 3" descr="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3399"/>
                </a:solidFill>
                <a:latin typeface="Arial"/>
                <a:ea typeface="Arial"/>
              </a:rPr>
              <a:t>Знаете ли вы, какими другими терминами называют фразеологизмы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Содержимое 3" descr="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99"/>
                </a:solidFill>
                <a:latin typeface="Arial"/>
                <a:ea typeface="Arial"/>
              </a:rPr>
              <a:t>Пользуетесь ли вы фразеологическими словарям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Содержимое 3" descr="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99"/>
                </a:solidFill>
                <a:latin typeface="Arial"/>
                <a:ea typeface="Arial"/>
              </a:rPr>
              <a:t>Знаете ли вы, что такое библеиз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Содержимое 3" descr="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99"/>
                </a:solidFill>
                <a:latin typeface="Arial"/>
                <a:ea typeface="Arial"/>
              </a:rPr>
              <a:t>Знакомы, ли вам такие выражения, как «зарыть талант», «запретный плод», «камень преткновения»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Содержимое 3" descr="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2f2f2"/>
          </a:solidFill>
          <a:ln w="9360">
            <a:solidFill>
              <a:srgbClr val="00206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99"/>
                </a:solidFill>
                <a:latin typeface="Arial"/>
                <a:ea typeface="Arial"/>
              </a:rPr>
              <a:t>Результаты анкетир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2f2f2">
              <a:alpha val="65000"/>
            </a:srgbClr>
          </a:solidFill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 целом, учащиеся имеют представление о фразеологизмах и пользуются ими в своей реч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большинство незнакомо с этимологией фразеологических выражений и не знают, какими другими терминами называются фразеологизм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учащиеся редко пользуются словарям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лохо представляя, что такое библеизмы, учащиеся знакомы с фразеологизмами библейского происхожден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785960"/>
          </a:xfrm>
          <a:prstGeom prst="rect">
            <a:avLst/>
          </a:prstGeom>
          <a:solidFill>
            <a:srgbClr val="f2f2f2"/>
          </a:solidFill>
          <a:ln w="9360">
            <a:solidFill>
              <a:srgbClr val="00206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99"/>
                </a:solidFill>
                <a:latin typeface="Arial"/>
                <a:ea typeface="Arial"/>
              </a:rPr>
              <a:t>Гипотеза</a:t>
            </a:r>
            <a:r>
              <a:rPr b="0" lang="ru-RU" sz="4400" spc="-1" strike="noStrike">
                <a:solidFill>
                  <a:srgbClr val="cc3399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ражения библейского происхождения составляют не менее 50 процентов от всех фразеологических выраж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00040" y="2285640"/>
            <a:ext cx="8229600" cy="3840120"/>
          </a:xfrm>
          <a:prstGeom prst="rect">
            <a:avLst/>
          </a:prstGeom>
          <a:solidFill>
            <a:srgbClr val="f2f2f2">
              <a:alpha val="65000"/>
            </a:srgbClr>
          </a:solidFill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cc3399"/>
                </a:solidFill>
                <a:latin typeface="Arial"/>
                <a:ea typeface="Arial"/>
              </a:rPr>
              <a:t>Данные анализа языкового материа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71680" y="3000240"/>
          <a:ext cx="8072280" cy="3071880"/>
        </p:xfrm>
        <a:graphic>
          <a:graphicData uri="http://schemas.openxmlformats.org/drawingml/2006/table">
            <a:tbl>
              <a:tblPr/>
              <a:tblGrid>
                <a:gridCol w="1857240"/>
                <a:gridCol w="2217600"/>
                <a:gridCol w="1979640"/>
                <a:gridCol w="2017800"/>
              </a:tblGrid>
              <a:tr h="102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ова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разеологиз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иблеиз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ц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зе Т.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рсановой 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2f2f2"/>
          </a:solidFill>
          <a:ln w="9360">
            <a:solidFill>
              <a:srgbClr val="558ed5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99"/>
                </a:solidFill>
                <a:latin typeface="Arial"/>
                <a:ea typeface="Arial"/>
              </a:rPr>
              <a:t>Какие фразеологизмы библейского происхождения хорошо знакомы учащимс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Содержимое 3" descr="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214200" y="1285920"/>
            <a:ext cx="4286520" cy="5357880"/>
          </a:xfrm>
          <a:prstGeom prst="rect">
            <a:avLst/>
          </a:prstGeom>
          <a:ln w="0">
            <a:noFill/>
          </a:ln>
        </p:spPr>
      </p:pic>
      <p:pic>
        <p:nvPicPr>
          <p:cNvPr id="129" name="Диаграмма 4" descr=""/>
          <p:cNvPicPr/>
          <p:nvPr/>
        </p:nvPicPr>
        <p:blipFill>
          <a:blip r:embed="rId2"/>
          <a:stretch/>
        </p:blipFill>
        <p:spPr>
          <a:xfrm>
            <a:off x="4714920" y="1285920"/>
            <a:ext cx="41432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solidFill>
            <a:srgbClr val="ffffff">
              <a:alpha val="65000"/>
            </a:srgbClr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составить словарик фразеологизмов с иллюстрациями учащихся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подготовить викторину по фразеологии для учащихся средних классов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выяснить, какие фразеологизмы имеют литературный источник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выяснить, каких фразеологизмов больше: библейского или античного происхождения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2f2f2"/>
          </a:solidFill>
          <a:ln w="9360">
            <a:solidFill>
              <a:srgbClr val="00206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99"/>
                </a:solidFill>
                <a:latin typeface="Arial"/>
                <a:ea typeface="Arial"/>
              </a:rPr>
              <a:t>Перспектива дальнейшей работы по тем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0040" y="1428480"/>
            <a:ext cx="8229600" cy="2786040"/>
          </a:xfrm>
          <a:prstGeom prst="rect">
            <a:avLst/>
          </a:prstGeom>
          <a:solidFill>
            <a:srgbClr val="f2f2f2"/>
          </a:solidFill>
          <a:ln w="9360">
            <a:solidFill>
              <a:srgbClr val="00206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3399"/>
                </a:solidFill>
                <a:latin typeface="Arial"/>
                <a:ea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071720" y="285840"/>
            <a:ext cx="6929280" cy="54561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6800" y="5857920"/>
            <a:ext cx="7301160" cy="714240"/>
          </a:xfrm>
          <a:prstGeom prst="rect">
            <a:avLst/>
          </a:prstGeom>
          <a:solidFill>
            <a:srgbClr val="f2f2f2"/>
          </a:solidFill>
          <a:ln w="9360">
            <a:solidFill>
              <a:srgbClr val="00206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c3399"/>
                </a:solidFill>
                <a:latin typeface="Arial"/>
                <a:ea typeface="Arial"/>
              </a:rPr>
              <a:t>Зарыть талант в землю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6000" y="6093000"/>
            <a:ext cx="6858000" cy="560160"/>
          </a:xfrm>
          <a:prstGeom prst="rect">
            <a:avLst/>
          </a:prstGeom>
          <a:solidFill>
            <a:srgbClr val="f2f2f2"/>
          </a:solidFill>
          <a:ln w="9360">
            <a:solidFill>
              <a:srgbClr val="00206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c3399"/>
                </a:solidFill>
                <a:latin typeface="Arial"/>
                <a:ea typeface="Arial"/>
              </a:rPr>
              <a:t>Бросить камень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1143000" y="285840"/>
            <a:ext cx="6786720" cy="56386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2f2f2"/>
          </a:solidFill>
          <a:ln w="9360">
            <a:solidFill>
              <a:srgbClr val="00206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99"/>
                </a:solidFill>
                <a:latin typeface="Arial"/>
                <a:ea typeface="Arial"/>
              </a:rPr>
              <a:t>Цель: </a:t>
            </a:r>
            <a:r>
              <a:rPr b="0" lang="ru-RU" sz="2800" spc="-1" strike="noStrike">
                <a:solidFill>
                  <a:srgbClr val="cc3399"/>
                </a:solidFill>
                <a:latin typeface="Arial"/>
                <a:ea typeface="Arial"/>
              </a:rPr>
              <a:t>выявление частотности библеизмов среди других фразеологических сочетани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71320" y="1643040"/>
            <a:ext cx="8143560" cy="3471840"/>
          </a:xfrm>
          <a:prstGeom prst="rect">
            <a:avLst/>
          </a:prstGeom>
          <a:solidFill>
            <a:srgbClr val="f2f2f2">
              <a:alpha val="65000"/>
            </a:srgbClr>
          </a:solidFill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дачи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зучить научную литературу по тем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вести анкетир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обрать, обобщить и проанализировать языковой материа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знакомиться ближе с такой книгой, как Библ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71800" y="214200"/>
            <a:ext cx="5286240" cy="725760"/>
          </a:xfrm>
          <a:prstGeom prst="rect">
            <a:avLst/>
          </a:prstGeom>
          <a:solidFill>
            <a:srgbClr val="f2f2f2"/>
          </a:solidFill>
          <a:ln w="9360">
            <a:solidFill>
              <a:srgbClr val="00206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cc3399"/>
                </a:solidFill>
                <a:latin typeface="Arial"/>
                <a:ea typeface="Arial"/>
              </a:rPr>
              <a:t>Изучение фразеолог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42600" y="1000080"/>
            <a:ext cx="3357720" cy="4968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.В. Ломоно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571680" y="1571760"/>
            <a:ext cx="3786120" cy="500832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71680" y="999720"/>
            <a:ext cx="3429000" cy="5000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.В. Виноград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2"/>
          <a:stretch/>
        </p:blipFill>
        <p:spPr>
          <a:xfrm>
            <a:off x="5143680" y="1571760"/>
            <a:ext cx="3357360" cy="503712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solidFill>
            <a:srgbClr val="f2f2f2">
              <a:alpha val="65000"/>
            </a:srgbClr>
          </a:solidFill>
          <a:ln w="9360">
            <a:solidFill>
              <a:srgbClr val="00206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Фразеолог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раздел языкознания, изучающий фразеологический состав языка в его современном состоянии и историческом развит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Фразеологизм (фразема, идиома, крылатое выражение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- устойчивое выражение с самостоятельным значение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иблеизм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фразеологические сочетания и афоризмы библейского происхожд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71680" y="1642680"/>
            <a:ext cx="3643200" cy="500040"/>
          </a:xfrm>
          <a:prstGeom prst="rect">
            <a:avLst/>
          </a:prstGeom>
          <a:solidFill>
            <a:srgbClr val="ffffff">
              <a:alpha val="65000"/>
            </a:srgbClr>
          </a:solidFill>
          <a:ln w="9360">
            <a:solidFill>
              <a:srgbClr val="00206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ирилл и Мефод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71680" y="428760"/>
            <a:ext cx="8215200" cy="1071360"/>
          </a:xfrm>
          <a:prstGeom prst="rect">
            <a:avLst/>
          </a:prstGeom>
          <a:solidFill>
            <a:srgbClr val="ffffff">
              <a:alpha val="65000"/>
            </a:srgbClr>
          </a:solidFill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3399"/>
                </a:solidFill>
                <a:latin typeface="Arial"/>
                <a:ea typeface="Arial"/>
              </a:rPr>
              <a:t>Библия — </a:t>
            </a:r>
            <a:r>
              <a:rPr b="0" lang="ru-RU" sz="2600" spc="-1" strike="noStrike">
                <a:solidFill>
                  <a:srgbClr val="002060"/>
                </a:solidFill>
                <a:latin typeface="Arial"/>
                <a:ea typeface="Arial"/>
              </a:rPr>
              <a:t>собрание священных текстов христиан, состоящее из Ветхого и Нового Завето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1000080" y="2241720"/>
            <a:ext cx="2687760" cy="43462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5286240" y="2214720"/>
            <a:ext cx="3429000" cy="44323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214960" y="1714680"/>
            <a:ext cx="3571920" cy="428400"/>
          </a:xfrm>
          <a:prstGeom prst="rect">
            <a:avLst/>
          </a:prstGeom>
          <a:solidFill>
            <a:srgbClr val="ffffff">
              <a:alpha val="65000"/>
            </a:srgbClr>
          </a:solidFill>
          <a:ln w="9360">
            <a:solidFill>
              <a:srgbClr val="00206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ван Фёдор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99"/>
                </a:solidFill>
                <a:latin typeface="Arial"/>
                <a:ea typeface="Arial"/>
              </a:rPr>
              <a:t>Знаете ли вы, что такое фразеологиз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Содержимое 4" descr="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99"/>
                </a:solidFill>
                <a:latin typeface="Arial"/>
                <a:ea typeface="Arial"/>
              </a:rPr>
              <a:t>Пользуетесь ли вы в своей речи фразеологизмам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Содержимое 3" descr=""/>
          <p:cNvPicPr/>
          <p:nvPr/>
        </p:nvPicPr>
        <p:blipFill>
          <a:blip r:embed="rId1">
            <a:alphaModFix amt="65000"/>
          </a:blip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1T16:11:45Z</dcterms:created>
  <dc:creator>Admin</dc:creator>
  <dc:description/>
  <dc:language>en-US</dc:language>
  <cp:lastModifiedBy>Admin</cp:lastModifiedBy>
  <dcterms:modified xsi:type="dcterms:W3CDTF">2019-12-01T05:31:54Z</dcterms:modified>
  <cp:revision>117</cp:revision>
  <dc:subject/>
  <dc:title>Игра по русскому языку «Самый умный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09991</vt:lpwstr>
  </property>
</Properties>
</file>