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3663-0578-4AD2-86CE-DE81931180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A072-48BE-4FFC-B907-6DB60049DBB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815-A02F-4CA4-BB7B-DB72F1FA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083-52BB-4242-9E8B-9DB67767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3BD-F83E-4F35-B343-59E8DE41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FE7-CC8A-46F8-8149-2989B753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4B81-BCC6-4D3F-BA37-54D366A3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2402-2290-4FC0-A816-05772040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3822-8539-45AB-8CFA-656E6623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017B-37E3-4B37-B0C8-3BEB63F5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7F5D-EBE1-4E87-B4AC-61BBABE6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21BE-0523-4397-AF0C-512E1EC0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6DF8-BD10-4FF3-8572-2CFD3F9D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F6B-005F-4885-A87E-647906B5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51C4-8083-408E-9089-C39E7BDF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F309-A05D-4D69-945A-DD814603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94B3-F85C-49B6-8D27-75E23DD4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4BD8-03EC-4304-8B3D-C8FCE2D8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339C-FC8F-4BBE-8069-097FA64F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F70-F2E3-424E-A842-47E20C6A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4D7-33DB-4EF3-A501-B98F9C3A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D5E-F66D-450C-827B-221BD5F1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076-6570-47A2-BBB1-EC15225E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7A1-1710-4A7E-AF78-EBE69C66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2A0-2619-4C61-BE01-696728E0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34A-5ECE-4B88-A895-6B9684EB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C82B-E3AF-4292-9AC1-FF6C9B55DA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59D6-76DF-4613-BCD8-22243BFB0EF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s://www.kakprosto.ru/kak-46585-kak-sozdat-vektornyy-risunok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5351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Times New Roman"/>
              </a:rPr>
              <a:t>Резьба по тонированному фону (фанера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Автор: Кожевникова Наталья Анатольев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ГБОУ гимназия №524</a:t>
            </a:r>
            <a:r>
              <a:rPr b="0" lang="en-US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Московского района Санкт-Петербур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4" descr="rezba"/>
          <p:cNvPicPr/>
          <p:nvPr/>
        </p:nvPicPr>
        <p:blipFill>
          <a:blip r:embed="rId1"/>
          <a:srcRect l="0" t="0" r="0" b="4446"/>
          <a:stretch/>
        </p:blipFill>
        <p:spPr>
          <a:xfrm>
            <a:off x="826920" y="260280"/>
            <a:ext cx="62661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351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Загот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Контурный резец  (стамеска №0,5-2 Татьянка) двигаем резец во все стороны, точно повторяя нанесенный контур изображен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Контурная резьб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1" name="Picture 9" descr="priblizitelnyy-ugol-naklona-rezaka-k-ploskosti-osnovy"/>
          <p:cNvPicPr/>
          <p:nvPr/>
        </p:nvPicPr>
        <p:blipFill>
          <a:blip r:embed="rId3"/>
          <a:stretch/>
        </p:blipFill>
        <p:spPr>
          <a:xfrm>
            <a:off x="4572000" y="4870440"/>
            <a:ext cx="2448000" cy="14382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7" descr=""/>
          <p:cNvPicPr/>
          <p:nvPr/>
        </p:nvPicPr>
        <p:blipFill>
          <a:blip r:embed="rId4"/>
          <a:srcRect l="6575" t="24055" r="27887" b="28885"/>
          <a:stretch/>
        </p:blipFill>
        <p:spPr>
          <a:xfrm>
            <a:off x="4140360" y="1374840"/>
            <a:ext cx="3384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351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Загот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Основной резец (стамеска №6-12) резьба выполняется движениями вдоль волокон дерев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Основная резьб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7" name="Picture 10" descr="IMG_2738"/>
          <p:cNvPicPr/>
          <p:nvPr/>
        </p:nvPicPr>
        <p:blipFill>
          <a:blip r:embed="rId3"/>
          <a:srcRect l="0" t="15882" r="3063" b="13618"/>
          <a:stretch/>
        </p:blipFill>
        <p:spPr>
          <a:xfrm>
            <a:off x="4221000" y="4278240"/>
            <a:ext cx="3167280" cy="17272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" descr=""/>
          <p:cNvPicPr/>
          <p:nvPr/>
        </p:nvPicPr>
        <p:blipFill>
          <a:blip r:embed="rId4"/>
          <a:stretch/>
        </p:blipFill>
        <p:spPr>
          <a:xfrm>
            <a:off x="3780000" y="1239840"/>
            <a:ext cx="3916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акиров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63160" y="1598760"/>
            <a:ext cx="3444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Лак на водной основе без запах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лярный валик 15см и емкос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Покрываем равномерно  в два слоя лака, дать просохнуть между слоями 20 мин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Picture 10" descr="Картинки по запросу лак на водной основе для бань без запаха"/>
          <p:cNvPicPr/>
          <p:nvPr/>
        </p:nvPicPr>
        <p:blipFill>
          <a:blip r:embed="rId5"/>
          <a:stretch/>
        </p:blipFill>
        <p:spPr>
          <a:xfrm>
            <a:off x="5195880" y="1046160"/>
            <a:ext cx="2352600" cy="2382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Decola Лак акриловый матовый 50 мл"/>
          <p:cNvPicPr/>
          <p:nvPr/>
        </p:nvPicPr>
        <p:blipFill>
          <a:blip r:embed="rId6"/>
          <a:stretch/>
        </p:blipFill>
        <p:spPr>
          <a:xfrm>
            <a:off x="3778200" y="785880"/>
            <a:ext cx="1417680" cy="192240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12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Picture 18" descr="Картинки по запросу валик 15 см  и емкость"/>
          <p:cNvPicPr/>
          <p:nvPr/>
        </p:nvPicPr>
        <p:blipFill>
          <a:blip r:embed="rId7"/>
          <a:stretch/>
        </p:blipFill>
        <p:spPr>
          <a:xfrm>
            <a:off x="3724200" y="3846600"/>
            <a:ext cx="2314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пасибо за ваше внимани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История ремес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09160" y="1431720"/>
            <a:ext cx="381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Times New Roman"/>
              </a:rPr>
              <a:t>Художественная   резьба по дереву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 — один из наиболее древних видов декоративного                          искусства</a:t>
            </a:r>
            <a:r>
              <a:rPr b="0" lang="en-US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(также резьба является одним из видов художественной обработки дерева наряду с выпиливанием, токарным делом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24360" y="5734080"/>
            <a:ext cx="3618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редметы домашней утвари из музея г. Нижний Тагил: набор праздничной посуды и ложка возрастом свыше </a:t>
            </a:r>
            <a:r>
              <a:rPr b="1" lang="ru-RU" sz="1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2 тысяч лет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7" descr="slide_3"/>
          <p:cNvPicPr/>
          <p:nvPr/>
        </p:nvPicPr>
        <p:blipFill>
          <a:blip r:embed="rId2"/>
          <a:stretch/>
        </p:blipFill>
        <p:spPr>
          <a:xfrm>
            <a:off x="4140360" y="1413000"/>
            <a:ext cx="31924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Существующие техники резьбы по дереву         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                                                     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421080" y="40050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slide_6"/>
          <p:cNvPicPr/>
          <p:nvPr/>
        </p:nvPicPr>
        <p:blipFill>
          <a:blip r:embed="rId5"/>
          <a:stretch/>
        </p:blipFill>
        <p:spPr>
          <a:xfrm>
            <a:off x="263520" y="1698480"/>
            <a:ext cx="3616200" cy="1970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slide_8"/>
          <p:cNvPicPr/>
          <p:nvPr/>
        </p:nvPicPr>
        <p:blipFill>
          <a:blip r:embed="rId6"/>
          <a:stretch/>
        </p:blipFill>
        <p:spPr>
          <a:xfrm>
            <a:off x="4287960" y="1598760"/>
            <a:ext cx="3106440" cy="2171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slide_7"/>
          <p:cNvPicPr/>
          <p:nvPr/>
        </p:nvPicPr>
        <p:blipFill>
          <a:blip r:embed="rId7"/>
          <a:stretch/>
        </p:blipFill>
        <p:spPr>
          <a:xfrm>
            <a:off x="484200" y="3922560"/>
            <a:ext cx="3174840" cy="2173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slide_5"/>
          <p:cNvPicPr/>
          <p:nvPr/>
        </p:nvPicPr>
        <p:blipFill>
          <a:blip r:embed="rId8"/>
          <a:stretch/>
        </p:blipFill>
        <p:spPr>
          <a:xfrm>
            <a:off x="4032360" y="3925800"/>
            <a:ext cx="36176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Резьба по тонированному фону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387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Резьба по тонированному фону выглядит очень выразительно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На черном фоне вырезанные узоры сверкают чистотой древесного срез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6" descr="290330492"/>
          <p:cNvPicPr/>
          <p:nvPr/>
        </p:nvPicPr>
        <p:blipFill>
          <a:blip r:embed="rId3"/>
          <a:stretch/>
        </p:blipFill>
        <p:spPr>
          <a:xfrm>
            <a:off x="4067280" y="1413000"/>
            <a:ext cx="3313080" cy="2357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524_887_880b"/>
          <p:cNvPicPr/>
          <p:nvPr/>
        </p:nvPicPr>
        <p:blipFill>
          <a:blip r:embed="rId4"/>
          <a:stretch/>
        </p:blipFill>
        <p:spPr>
          <a:xfrm>
            <a:off x="4032360" y="4067280"/>
            <a:ext cx="361764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b854"/>
                </a:solidFill>
                <a:latin typeface="Times New Roman"/>
              </a:rPr>
              <a:t>План работы: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24000" y="1350720"/>
            <a:ext cx="3888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1. Подбираем рисун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2. Выбор заготов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и шлифовк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3.  Окрашива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4.  Копировани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5.  Контурная резьб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6.  Основная резьб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0b854"/>
                </a:solidFill>
                <a:latin typeface="Times New Roman"/>
              </a:rPr>
              <a:t>7.  Лакирова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Выбор рисун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Нарисовать самостоятельн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Распечатать любое понравившееся изображение из интернет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Преобразить фото в векторный рисунок с помощью П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s://www.kakprosto.ru/kak-46585-kak-sozdat-vektornyy-risunok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872120" y="4598640"/>
            <a:ext cx="2948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3995640" y="2855880"/>
            <a:ext cx="24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Картинки по запросу векторный рисунок в фотошопе"/>
          <p:cNvPicPr/>
          <p:nvPr/>
        </p:nvPicPr>
        <p:blipFill>
          <a:blip r:embed="rId5"/>
          <a:stretch/>
        </p:blipFill>
        <p:spPr>
          <a:xfrm>
            <a:off x="3995640" y="1370160"/>
            <a:ext cx="35006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Выбор заготовки и Шлифов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1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Фанера без дефектов и сучков по размеру желаемого изображен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Наждачная бумага №150 и 180 </a:t>
            </a:r>
            <a:r>
              <a:rPr b="0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зачистить изделие,  скруглить острые кромки и угл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Убрать пыль и соринк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8" descr="IMG_2742"/>
          <p:cNvPicPr/>
          <p:nvPr/>
        </p:nvPicPr>
        <p:blipFill>
          <a:blip r:embed="rId4"/>
          <a:srcRect l="5549" t="2758" r="9226" b="5529"/>
          <a:stretch/>
        </p:blipFill>
        <p:spPr>
          <a:xfrm>
            <a:off x="4211640" y="1268280"/>
            <a:ext cx="331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351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Загот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Краска акрилова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Валик/кис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Время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5-10 мин – окрашивани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10-20 мин – суш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7" descr="IMG_2745"/>
          <p:cNvPicPr/>
          <p:nvPr/>
        </p:nvPicPr>
        <p:blipFill>
          <a:blip r:embed="rId6"/>
          <a:srcRect l="3747" t="2518" r="6512" b="7634"/>
          <a:stretch/>
        </p:blipFill>
        <p:spPr>
          <a:xfrm>
            <a:off x="4140360" y="1268280"/>
            <a:ext cx="3456000" cy="4753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Окрашив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3516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Материалы и инструмент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Заготов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Копировальная бума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Рисуно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Карандаш/руч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d47d"/>
                </a:solidFill>
                <a:latin typeface="Times New Roman"/>
              </a:rPr>
              <a:t>Зажим канцелярски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581040" y="433440"/>
            <a:ext cx="798192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Times New Roman"/>
              </a:rPr>
              <a:t>Копиров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6" name="Picture 9" descr="IMG_2748"/>
          <p:cNvPicPr/>
          <p:nvPr/>
        </p:nvPicPr>
        <p:blipFill>
          <a:blip r:embed="rId6"/>
          <a:srcRect l="8567" t="4284" r="7643" b="4284"/>
          <a:stretch/>
        </p:blipFill>
        <p:spPr>
          <a:xfrm>
            <a:off x="4356000" y="1341360"/>
            <a:ext cx="316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0T11:53:12Z</dcterms:created>
  <dc:creator>Johny Depp</dc:creator>
  <dc:description/>
  <dc:language>en-US</dc:language>
  <cp:lastModifiedBy>Наталья Анатольевна</cp:lastModifiedBy>
  <dcterms:modified xsi:type="dcterms:W3CDTF">2019-12-01T19:18:39Z</dcterms:modified>
  <cp:revision>31</cp:revision>
  <dc:subject/>
  <dc:title>Слайд 1</dc:title>
</cp:coreProperties>
</file>