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4CC-B7C3-4FED-81DC-0B66E926BF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514-1924-474C-A8DB-768C025250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322-24B8-481C-8332-76DCBC2A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C68-6951-4B75-B0B8-0F3DE7E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7C5-23FC-4C78-A86C-DEAB0D3C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13A-2415-4F2B-BAA3-71FB6D1F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77AB-EF40-4E0E-9079-300906C2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3EE-0E9C-465D-8ECD-A224FE1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307-EEBB-4209-A99D-041D3D5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D44-F307-4619-9074-944AAD5D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BAB-2FB6-42CF-A919-5DB69CA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AA97-1806-4C47-9147-11BA207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5BDE-4199-4153-92A7-8B004B2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767-2819-43BA-9791-DBBCCFE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B314-C8C8-471B-B004-0B390F4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0140-D218-4A4B-BEB7-07B7AFEE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4CA-D0E7-43FF-8003-18349D9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8AE1-B437-45DE-A65D-237FEF60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B91B-798E-4A86-9F4F-EC9CE386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B6C-7605-4163-897C-9D2965CB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F07-1FB3-4F21-B971-3A06613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09-262F-4998-9663-ABB80F80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658-0886-48C0-98FD-F4059E5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74D-AC63-4E5C-AFC7-F1C2D73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501-0963-4F80-9455-92FB066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589-0B06-4203-835A-36E2A88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A945-6402-4665-8D94-38DEFC6FC8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D8C9-AB4D-4182-8F7A-920FA6DFC07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s://www.kakprosto.ru/kak-46585-kak-sozdat-vektornyy-risunok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5351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Резьба по тонированному фону (фанера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втор: Кожевникова Наталья Анатоль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БОУ гимназия №524</a:t>
            </a: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сковского района Санкт-Петербур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rezba"/>
          <p:cNvPicPr/>
          <p:nvPr/>
        </p:nvPicPr>
        <p:blipFill>
          <a:blip r:embed="rId1"/>
          <a:srcRect l="0" t="0" r="0" b="4446"/>
          <a:stretch/>
        </p:blipFill>
        <p:spPr>
          <a:xfrm>
            <a:off x="826920" y="260280"/>
            <a:ext cx="6266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онтурный резец  (стамеска №0,5-2 Татьянка) двигаем резец во все стороны, точно повторяя нанесенный контур изображ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Контурная резь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Picture 9" descr="priblizitelnyy-ugol-naklona-rezaka-k-ploskosti-osnovy"/>
          <p:cNvPicPr/>
          <p:nvPr/>
        </p:nvPicPr>
        <p:blipFill>
          <a:blip r:embed="rId3"/>
          <a:stretch/>
        </p:blipFill>
        <p:spPr>
          <a:xfrm>
            <a:off x="4572000" y="4870440"/>
            <a:ext cx="2448000" cy="1438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"/>
          <p:cNvPicPr/>
          <p:nvPr/>
        </p:nvPicPr>
        <p:blipFill>
          <a:blip r:embed="rId4"/>
          <a:srcRect l="6575" t="24055" r="27887" b="28885"/>
          <a:stretch/>
        </p:blipFill>
        <p:spPr>
          <a:xfrm>
            <a:off x="4140360" y="1374840"/>
            <a:ext cx="338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Основной резец (стамеска №6-12) резьба выполняется движениями вдоль волокон дерев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Основная резь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Picture 10" descr="IMG_2738"/>
          <p:cNvPicPr/>
          <p:nvPr/>
        </p:nvPicPr>
        <p:blipFill>
          <a:blip r:embed="rId3"/>
          <a:srcRect l="0" t="15882" r="3063" b="13618"/>
          <a:stretch/>
        </p:blipFill>
        <p:spPr>
          <a:xfrm>
            <a:off x="4221000" y="4278240"/>
            <a:ext cx="316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"/>
          <p:cNvPicPr/>
          <p:nvPr/>
        </p:nvPicPr>
        <p:blipFill>
          <a:blip r:embed="rId4"/>
          <a:stretch/>
        </p:blipFill>
        <p:spPr>
          <a:xfrm>
            <a:off x="3780000" y="1239840"/>
            <a:ext cx="3916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ак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598760"/>
            <a:ext cx="3444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Лак на водной основе без запах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лярный валик 15см и емко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Покрываем равномерно  в два слоя лака, дать просохнуть между слоями 20 м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Picture 10" descr="Картинки по запросу лак на водной основе для бань без запаха"/>
          <p:cNvPicPr/>
          <p:nvPr/>
        </p:nvPicPr>
        <p:blipFill>
          <a:blip r:embed="rId5"/>
          <a:stretch/>
        </p:blipFill>
        <p:spPr>
          <a:xfrm>
            <a:off x="5195880" y="1046160"/>
            <a:ext cx="2352600" cy="2382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Decola Лак акриловый матовый 50 мл"/>
          <p:cNvPicPr/>
          <p:nvPr/>
        </p:nvPicPr>
        <p:blipFill>
          <a:blip r:embed="rId6"/>
          <a:stretch/>
        </p:blipFill>
        <p:spPr>
          <a:xfrm>
            <a:off x="3778200" y="785880"/>
            <a:ext cx="1417680" cy="19224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2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18" descr="Картинки по запросу валик 15 см  и емкость"/>
          <p:cNvPicPr/>
          <p:nvPr/>
        </p:nvPicPr>
        <p:blipFill>
          <a:blip r:embed="rId7"/>
          <a:stretch/>
        </p:blipFill>
        <p:spPr>
          <a:xfrm>
            <a:off x="3724200" y="3846600"/>
            <a:ext cx="23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аше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История ремес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9160" y="1431720"/>
            <a:ext cx="381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Художественная   резьба по дереву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— один из наиболее древних видов декоративного                          искусства</a:t>
            </a:r>
            <a:r>
              <a:rPr b="0" lang="en-US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(также резьба является одним из видов художественной обработки дерева наряду с выпиливанием, токарным делом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24360" y="5734080"/>
            <a:ext cx="3618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меты домашней утвари из музея г. Нижний Тагил: набор праздничной посуды и ложка возрастом свыше </a:t>
            </a: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 тысяч лет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slide_3"/>
          <p:cNvPicPr/>
          <p:nvPr/>
        </p:nvPicPr>
        <p:blipFill>
          <a:blip r:embed="rId2"/>
          <a:stretch/>
        </p:blipFill>
        <p:spPr>
          <a:xfrm>
            <a:off x="4140360" y="1413000"/>
            <a:ext cx="31924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Существующие техники резьбы по дереву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                                              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421080" y="40050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slide_6"/>
          <p:cNvPicPr/>
          <p:nvPr/>
        </p:nvPicPr>
        <p:blipFill>
          <a:blip r:embed="rId5"/>
          <a:stretch/>
        </p:blipFill>
        <p:spPr>
          <a:xfrm>
            <a:off x="263520" y="1698480"/>
            <a:ext cx="3616200" cy="1970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slide_8"/>
          <p:cNvPicPr/>
          <p:nvPr/>
        </p:nvPicPr>
        <p:blipFill>
          <a:blip r:embed="rId6"/>
          <a:stretch/>
        </p:blipFill>
        <p:spPr>
          <a:xfrm>
            <a:off x="4287960" y="1598760"/>
            <a:ext cx="310644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slide_7"/>
          <p:cNvPicPr/>
          <p:nvPr/>
        </p:nvPicPr>
        <p:blipFill>
          <a:blip r:embed="rId7"/>
          <a:stretch/>
        </p:blipFill>
        <p:spPr>
          <a:xfrm>
            <a:off x="484200" y="3922560"/>
            <a:ext cx="3174840" cy="2173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slide_5"/>
          <p:cNvPicPr/>
          <p:nvPr/>
        </p:nvPicPr>
        <p:blipFill>
          <a:blip r:embed="rId8"/>
          <a:stretch/>
        </p:blipFill>
        <p:spPr>
          <a:xfrm>
            <a:off x="4032360" y="3925800"/>
            <a:ext cx="3617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Резьба по тонированному фон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387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езьба по тонированному фону выглядит очень выразительн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На черном фоне вырезанные узоры сверкают чистотой древесного срез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6" descr="290330492"/>
          <p:cNvPicPr/>
          <p:nvPr/>
        </p:nvPicPr>
        <p:blipFill>
          <a:blip r:embed="rId3"/>
          <a:stretch/>
        </p:blipFill>
        <p:spPr>
          <a:xfrm>
            <a:off x="4067280" y="1413000"/>
            <a:ext cx="3313080" cy="235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524_887_880b"/>
          <p:cNvPicPr/>
          <p:nvPr/>
        </p:nvPicPr>
        <p:blipFill>
          <a:blip r:embed="rId4"/>
          <a:stretch/>
        </p:blipFill>
        <p:spPr>
          <a:xfrm>
            <a:off x="4032360" y="4067280"/>
            <a:ext cx="36176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b854"/>
                </a:solidFill>
                <a:latin typeface="Times New Roman"/>
              </a:rPr>
              <a:t>План работы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24000" y="1350720"/>
            <a:ext cx="3888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1. Подбираем рисун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2. Выбор заготов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и шлифовк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3.  Окраши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4.  Копирова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5.  Контурная резь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6.  Основная резь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7.  Лакир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ыбор рису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Нарисовать самостоятельн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аспечатать любое понравившееся изображение из интерне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Преобразить фото в векторный рисунок с помощью П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s://www.kakprosto.ru/kak-46585-kak-sozdat-vektornyy-risunok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872120" y="4598640"/>
            <a:ext cx="2948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3995640" y="2855880"/>
            <a:ext cx="24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Картинки по запросу векторный рисунок в фотошопе"/>
          <p:cNvPicPr/>
          <p:nvPr/>
        </p:nvPicPr>
        <p:blipFill>
          <a:blip r:embed="rId5"/>
          <a:stretch/>
        </p:blipFill>
        <p:spPr>
          <a:xfrm>
            <a:off x="3995640" y="1370160"/>
            <a:ext cx="3500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Выбор заготовки и Шлифов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Фанера без дефектов и сучков по размеру желаемого изображ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Наждачная бумага №150 и 180 </a:t>
            </a: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чистить изделие,  скруглить острые кромки и угл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брать пыль и сорин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8" descr="IMG_2742"/>
          <p:cNvPicPr/>
          <p:nvPr/>
        </p:nvPicPr>
        <p:blipFill>
          <a:blip r:embed="rId4"/>
          <a:srcRect l="5549" t="2758" r="9226" b="5529"/>
          <a:stretch/>
        </p:blipFill>
        <p:spPr>
          <a:xfrm>
            <a:off x="4211640" y="1268280"/>
            <a:ext cx="331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раска акрилова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Валик/ки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Время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5-10 мин – окрашива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10-20 мин – суш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7" descr="IMG_2745"/>
          <p:cNvPicPr/>
          <p:nvPr/>
        </p:nvPicPr>
        <p:blipFill>
          <a:blip r:embed="rId6"/>
          <a:srcRect l="3747" t="2518" r="6512" b="7634"/>
          <a:stretch/>
        </p:blipFill>
        <p:spPr>
          <a:xfrm>
            <a:off x="4140360" y="1268280"/>
            <a:ext cx="3456000" cy="4753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Окраши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3516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опировальная бума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Рисун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арандаш/руч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жим канцелярск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Коп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9" descr="IMG_2748"/>
          <p:cNvPicPr/>
          <p:nvPr/>
        </p:nvPicPr>
        <p:blipFill>
          <a:blip r:embed="rId6"/>
          <a:srcRect l="8567" t="4284" r="7643" b="4284"/>
          <a:stretch/>
        </p:blipFill>
        <p:spPr>
          <a:xfrm>
            <a:off x="4356000" y="1341360"/>
            <a:ext cx="316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11:53:12Z</dcterms:created>
  <dc:creator>Johny Depp</dc:creator>
  <dc:description/>
  <dc:language>en-US</dc:language>
  <cp:lastModifiedBy>Наталья Анатольевна</cp:lastModifiedBy>
  <dcterms:modified xsi:type="dcterms:W3CDTF">2019-12-01T19:18:39Z</dcterms:modified>
  <cp:revision>31</cp:revision>
  <dc:subject/>
  <dc:title>Слайд 1</dc:title>
</cp:coreProperties>
</file>