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AF3-19C9-4104-8012-76FC8C19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607-5E33-4EFD-B8D0-2021F5ED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DA9-BC1A-4DD0-AF55-354648A5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4BF-FDD3-4459-8AE6-5690F19C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1D6-6308-474D-9700-896385A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160-60C9-4339-8052-661CA1DE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7B2-634E-4B85-A7B8-476B1FE5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6B0-6739-48AB-92CA-D32F4AF5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55A-1651-43D9-9231-2CEC6F1B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D7F-DA93-4953-B768-315E74B3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00E-03D0-4E45-A42B-2B17BB2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441-DC10-499A-A103-2D16E848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5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E79E-E976-45E2-8A3B-E929CE26B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Сфера и ша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445000"/>
            <a:ext cx="6400800" cy="9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43" name="Picture 4" descr="CRCTR112"/>
          <p:cNvPicPr/>
          <p:nvPr/>
        </p:nvPicPr>
        <p:blipFill>
          <a:blip r:embed="rId1"/>
          <a:stretch/>
        </p:blipFill>
        <p:spPr>
          <a:xfrm>
            <a:off x="0" y="0"/>
            <a:ext cx="225756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RCTR112"/>
          <p:cNvPicPr/>
          <p:nvPr/>
        </p:nvPicPr>
        <p:blipFill>
          <a:blip r:embed="rId2"/>
          <a:stretch/>
        </p:blipFill>
        <p:spPr>
          <a:xfrm flipH="1">
            <a:off x="6899040" y="0"/>
            <a:ext cx="2244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572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сть известны диаметр шара и расстояние от центра шара до секущей плоскости. Найдите радиус круга, получившегося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4500720" y="0"/>
            <a:ext cx="4551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885080" y="189000"/>
            <a:ext cx="1008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расстояние от центра шара до плоскости, тем больше радиус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4356000" cy="3889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219640" y="1628640"/>
            <a:ext cx="288144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5292720" y="1700280"/>
                <a:ext cx="2808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1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0"/>
              <p:cNvSpPr txBox="1"/>
              <p:nvPr/>
            </p:nvSpPr>
            <p:spPr>
              <a:xfrm>
                <a:off x="5867280" y="2754360"/>
                <a:ext cx="158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Rectangle 1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2"/>
              <p:cNvSpPr txBox="1"/>
              <p:nvPr/>
            </p:nvSpPr>
            <p:spPr>
              <a:xfrm>
                <a:off x="5867280" y="3429000"/>
                <a:ext cx="1656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4"/>
              <p:cNvSpPr txBox="1"/>
              <p:nvPr/>
            </p:nvSpPr>
            <p:spPr>
              <a:xfrm>
                <a:off x="4427640" y="4309920"/>
                <a:ext cx="1512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6"/>
              <p:cNvSpPr txBox="1"/>
              <p:nvPr/>
            </p:nvSpPr>
            <p:spPr>
              <a:xfrm>
                <a:off x="7559640" y="4437000"/>
                <a:ext cx="1584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AutoShape 18"/>
          <p:cNvSpPr/>
          <p:nvPr/>
        </p:nvSpPr>
        <p:spPr>
          <a:xfrm>
            <a:off x="6156360" y="4581360"/>
            <a:ext cx="1297080" cy="341640"/>
          </a:xfrm>
          <a:prstGeom prst="rightArrow">
            <a:avLst>
              <a:gd name="adj1" fmla="val 50000"/>
              <a:gd name="adj2" fmla="val 94916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ая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сатель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если она имеет со сферой ровно одну общую точку. Такая прямая перпендикулярна радиусу, проведенному в точку касания. Через любую точку сферы можно провести бесчисленное множество касательны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521964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9280" y="188640"/>
            <a:ext cx="382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5292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сфере радиуса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зяты три точки, являющиеся вершинами правильного треугольника со стороной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На каком расстоянии от центра сферы расположена плоскость, проходящая через эти три то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3251160"/>
            <a:ext cx="5292720" cy="3606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5364000" y="2349360"/>
            <a:ext cx="3780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ти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5651640" y="2708280"/>
                <a:ext cx="2663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фер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О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1"/>
              <p:cNvSpPr txBox="1"/>
              <p:nvPr/>
            </p:nvSpPr>
            <p:spPr>
              <a:xfrm>
                <a:off x="4572000" y="3301920"/>
                <a:ext cx="4572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точки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rPr>
                        <m:lit/>
                        <m:nor/>
                      </m:rPr>
                      <m:t xml:space="preserve">сфер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1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3"/>
              <p:cNvSpPr txBox="1"/>
              <p:nvPr/>
            </p:nvSpPr>
            <p:spPr>
              <a:xfrm>
                <a:off x="5003640" y="3860640"/>
                <a:ext cx="3816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5"/>
              <p:cNvSpPr txBox="1"/>
              <p:nvPr/>
            </p:nvSpPr>
            <p:spPr>
              <a:xfrm>
                <a:off x="6012000" y="5043600"/>
                <a:ext cx="25207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O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AutoShape 17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 rot="20856000">
            <a:off x="1547640" y="5877000"/>
            <a:ext cx="976320" cy="331560"/>
          </a:xfrm>
          <a:prstGeom prst="rightArrow">
            <a:avLst>
              <a:gd name="adj1" fmla="val 50000"/>
              <a:gd name="adj2" fmla="val 73616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04722 -0.19954 E">
                                      <p:cBhvr>
                                        <p:cTn id="40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4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смотрим пирамиду с вершиной в центре шара и основанием – данным треуголь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205000"/>
            <a:ext cx="4788000" cy="4208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4238640" y="2303640"/>
                <a:ext cx="4702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Н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ысот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пирамид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4788000" y="2997360"/>
                <a:ext cx="396072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О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ОС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AutoShape 10"/>
          <p:cNvSpPr/>
          <p:nvPr/>
        </p:nvSpPr>
        <p:spPr>
          <a:xfrm rot="5400000">
            <a:off x="6109920" y="4051080"/>
            <a:ext cx="1297080" cy="341280"/>
          </a:xfrm>
          <a:prstGeom prst="rightArrow">
            <a:avLst>
              <a:gd name="adj1" fmla="val 50000"/>
              <a:gd name="adj2" fmla="val 95016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4356000" y="5157720"/>
                <a:ext cx="4788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нт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описанно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AutoShape 13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ем радиус описанной окружности, а затем рассмотрим один из треугольников, образованных радиусом, боковым ребром пирамиды и высотой,. Найдем высоту по теореме Пифаг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2997360"/>
            <a:ext cx="4788000" cy="32446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324000" y="2421000"/>
                <a:ext cx="4321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К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ысот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5580000" y="2081160"/>
                <a:ext cx="19447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К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250920" y="6269040"/>
                <a:ext cx="5364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радиус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описанной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ок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2"/>
              <p:cNvSpPr txBox="1"/>
              <p:nvPr/>
            </p:nvSpPr>
            <p:spPr>
              <a:xfrm>
                <a:off x="4788000" y="3141720"/>
                <a:ext cx="43560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Freeform 14"/>
          <p:cNvSpPr/>
          <p:nvPr/>
        </p:nvSpPr>
        <p:spPr>
          <a:xfrm>
            <a:off x="1219320" y="4076640"/>
            <a:ext cx="3857400" cy="2278080"/>
          </a:xfrm>
          <a:custGeom>
            <a:avLst/>
            <a:gdLst>
              <a:gd name="textAreaLeft" fmla="*/ 0 w 3857400"/>
              <a:gd name="textAreaRight" fmla="*/ 3857760 w 3857400"/>
              <a:gd name="textAreaTop" fmla="*/ 0 h 2278080"/>
              <a:gd name="textAreaBottom" fmla="*/ 2278080 h 2278080"/>
            </a:gdLst>
            <a:ahLst/>
            <a:rect l="textAreaLeft" t="textAreaTop" r="textAreaRight" b="textAreaBottom"/>
            <a:pathLst>
              <a:path w="2430" h="1435">
                <a:moveTo>
                  <a:pt x="0" y="1435"/>
                </a:moveTo>
                <a:lnTo>
                  <a:pt x="2430" y="0"/>
                </a:lnTo>
              </a:path>
            </a:pathLst>
          </a:custGeom>
          <a:noFill/>
          <a:ln w="6660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5"/>
              <p:cNvSpPr txBox="1"/>
              <p:nvPr/>
            </p:nvSpPr>
            <p:spPr>
              <a:xfrm>
                <a:off x="3276720" y="4689360"/>
                <a:ext cx="586728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1" name="Line 17"/>
          <p:cNvSpPr/>
          <p:nvPr/>
        </p:nvSpPr>
        <p:spPr>
          <a:xfrm>
            <a:off x="7236000" y="6165720"/>
            <a:ext cx="1908000" cy="0"/>
          </a:xfrm>
          <a:prstGeom prst="line">
            <a:avLst/>
          </a:prstGeom>
          <a:ln w="66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812000" y="6237360"/>
            <a:ext cx="971640" cy="458640"/>
          </a:xfrm>
          <a:custGeom>
            <a:avLst/>
            <a:gdLst>
              <a:gd name="textAreaLeft" fmla="*/ 29520 w 971640"/>
              <a:gd name="textAreaRight" fmla="*/ 942120 w 9716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45741" h="21600">
                <a:moveTo>
                  <a:pt x="0" y="0"/>
                </a:moveTo>
                <a:lnTo>
                  <a:pt x="45741" y="0"/>
                </a:lnTo>
                <a:lnTo>
                  <a:pt x="45741" y="21600"/>
                </a:lnTo>
                <a:lnTo>
                  <a:pt x="0" y="21600"/>
                </a:lnTo>
                <a:close/>
              </a:path>
              <a:path fill="lightenLess" w="45741" h="21600">
                <a:moveTo>
                  <a:pt x="0" y="0"/>
                </a:moveTo>
                <a:lnTo>
                  <a:pt x="45741" y="0"/>
                </a:lnTo>
                <a:lnTo>
                  <a:pt x="44341" y="1400"/>
                </a:lnTo>
                <a:lnTo>
                  <a:pt x="1400" y="1400"/>
                </a:lnTo>
                <a:close/>
              </a:path>
              <a:path fill="darken" w="45741" h="21600">
                <a:moveTo>
                  <a:pt x="45741" y="0"/>
                </a:moveTo>
                <a:lnTo>
                  <a:pt x="45741" y="21600"/>
                </a:lnTo>
                <a:lnTo>
                  <a:pt x="44341" y="20200"/>
                </a:lnTo>
                <a:lnTo>
                  <a:pt x="44341" y="1400"/>
                </a:lnTo>
                <a:close/>
              </a:path>
              <a:path fill="darkenLess" w="45741" h="21600">
                <a:moveTo>
                  <a:pt x="4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41" y="20200"/>
                </a:lnTo>
                <a:close/>
              </a:path>
              <a:path fill="lighten" w="4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41" h="21600">
                <a:moveTo>
                  <a:pt x="15864" y="10800"/>
                </a:moveTo>
                <a:lnTo>
                  <a:pt x="29877" y="3794"/>
                </a:lnTo>
                <a:lnTo>
                  <a:pt x="2987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00720" y="1052280"/>
            <a:ext cx="46432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ибольший радиус сечения получается, когда плоскость проходит через центр шара. Круг, получаемый в этом случае,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ольшим круг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Большой круг делит шар на дв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луша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7163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оскость и прямая, касательные к сфе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56000" y="2060640"/>
            <a:ext cx="4392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скость, имеющая со сферой только одну общую точку, называется касательной плоскостью. Касательная плоскость перпендикулярна радиусу, проведенному в точку кас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RCTR112"/>
          <p:cNvPicPr/>
          <p:nvPr/>
        </p:nvPicPr>
        <p:blipFill>
          <a:blip r:embed="rId1"/>
          <a:stretch/>
        </p:blipFill>
        <p:spPr>
          <a:xfrm flipH="1">
            <a:off x="7308360" y="0"/>
            <a:ext cx="1474920" cy="2205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109440" y="1989000"/>
            <a:ext cx="453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181080" y="1599840"/>
            <a:ext cx="47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сть шар, радиус которого известен, лежит на горизонтальной плоскости. В этой плоскости через точку касания и точк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оведен отрезок, длина которого известна. Чему равно расстояние от центра шара до противоположного конца отре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643280" cy="36975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8496360" y="2205000"/>
            <a:ext cx="6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18108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н шар, радиус которого известен. Вне шара взята точка, и через нее проведена касательная к шару. Длина отрезка касательной от точки вне шара до точки касания также известна. На каком расстоянии от центра шара расположена внешняя то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216320" y="1197000"/>
            <a:ext cx="4927680" cy="5472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8604360" y="2205000"/>
            <a:ext cx="539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211280" y="593280"/>
            <a:ext cx="4932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фер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ывается поверхность, которая состоит из всех точек пространства, находящихся на заданном расстоянии от данной точки.  Эта точка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тр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 заданное расстояние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диус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феры, или шара – тела, ограниченного сферой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Ш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остоит из всех точек пространства, находящихся на расстоянии не более заданного от данной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511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59040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роны треугольника 13см, 14см и 15см. Найти расстояние от плоскости треугольника до центра шара, касающегося сторон треугольника. Радиус шара равен 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а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79280" y="2631960"/>
            <a:ext cx="4464000" cy="4060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4643280" y="2276640"/>
            <a:ext cx="4500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ти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6372360" y="2421000"/>
                <a:ext cx="21603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300720" y="4724280"/>
                <a:ext cx="2448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FD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AutoShape 11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1258920" y="4365720"/>
            <a:ext cx="1368360" cy="269640"/>
          </a:xfrm>
          <a:prstGeom prst="rightArrow">
            <a:avLst>
              <a:gd name="adj1" fmla="val 50000"/>
              <a:gd name="adj2" fmla="val 126869"/>
            </a:avLst>
          </a:pr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59259E-006 L -4.16667E-006 0.13657 E">
                                      <p:cBhvr>
                                        <p:cTn id="64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515772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чение сферы, проходящее через точки касания, - это вписанная в треугольник АВС окруж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79280" y="68400"/>
            <a:ext cx="5472360" cy="51069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числим радиус окружности, вписанной в тре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0" y="1916280"/>
            <a:ext cx="5435640" cy="3951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3348000" y="1413000"/>
            <a:ext cx="554508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7"/>
              <p:cNvSpPr txBox="1"/>
              <p:nvPr/>
            </p:nvSpPr>
            <p:spPr>
              <a:xfrm>
                <a:off x="3419640" y="1452600"/>
                <a:ext cx="5545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7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5435640" y="2276640"/>
                <a:ext cx="31669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1"/>
              <p:cNvSpPr txBox="1"/>
              <p:nvPr/>
            </p:nvSpPr>
            <p:spPr>
              <a:xfrm>
                <a:off x="6300720" y="3213000"/>
                <a:ext cx="1511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3"/>
              <p:cNvSpPr txBox="1"/>
              <p:nvPr/>
            </p:nvSpPr>
            <p:spPr>
              <a:xfrm>
                <a:off x="6156360" y="4005360"/>
                <a:ext cx="1800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1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5"/>
              <p:cNvSpPr txBox="1"/>
              <p:nvPr/>
            </p:nvSpPr>
            <p:spPr>
              <a:xfrm>
                <a:off x="5651640" y="4869000"/>
                <a:ext cx="2881080" cy="13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AutoShape 17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ная радиус сечения и радиус шара, найдем искомое рас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4537080" cy="4386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4859280" y="1916280"/>
                <a:ext cx="2881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4716360" y="2708280"/>
                <a:ext cx="280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0"/>
              <p:cNvSpPr txBox="1"/>
              <p:nvPr/>
            </p:nvSpPr>
            <p:spPr>
              <a:xfrm>
                <a:off x="4643280" y="3500280"/>
                <a:ext cx="381636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219640" y="5084640"/>
            <a:ext cx="3600360" cy="649440"/>
          </a:xfrm>
          <a:prstGeom prst="rect">
            <a:avLst/>
          </a:prstGeom>
          <a:solidFill>
            <a:srgbClr val="ffe5ff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5"/>
              <p:cNvSpPr txBox="1"/>
              <p:nvPr/>
            </p:nvSpPr>
            <p:spPr>
              <a:xfrm>
                <a:off x="5292720" y="5084640"/>
                <a:ext cx="34560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AutoShape 17"/>
          <p:cNvSpPr/>
          <p:nvPr/>
        </p:nvSpPr>
        <p:spPr>
          <a:xfrm>
            <a:off x="7812000" y="6237360"/>
            <a:ext cx="971640" cy="458640"/>
          </a:xfrm>
          <a:custGeom>
            <a:avLst/>
            <a:gdLst>
              <a:gd name="textAreaLeft" fmla="*/ 29520 w 971640"/>
              <a:gd name="textAreaRight" fmla="*/ 942120 w 9716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45741" h="21600">
                <a:moveTo>
                  <a:pt x="0" y="0"/>
                </a:moveTo>
                <a:lnTo>
                  <a:pt x="45741" y="0"/>
                </a:lnTo>
                <a:lnTo>
                  <a:pt x="45741" y="21600"/>
                </a:lnTo>
                <a:lnTo>
                  <a:pt x="0" y="21600"/>
                </a:lnTo>
                <a:close/>
              </a:path>
              <a:path fill="lightenLess" w="45741" h="21600">
                <a:moveTo>
                  <a:pt x="0" y="0"/>
                </a:moveTo>
                <a:lnTo>
                  <a:pt x="45741" y="0"/>
                </a:lnTo>
                <a:lnTo>
                  <a:pt x="44341" y="1400"/>
                </a:lnTo>
                <a:lnTo>
                  <a:pt x="1400" y="1400"/>
                </a:lnTo>
                <a:close/>
              </a:path>
              <a:path fill="darken" w="45741" h="21600">
                <a:moveTo>
                  <a:pt x="45741" y="0"/>
                </a:moveTo>
                <a:lnTo>
                  <a:pt x="45741" y="21600"/>
                </a:lnTo>
                <a:lnTo>
                  <a:pt x="44341" y="20200"/>
                </a:lnTo>
                <a:lnTo>
                  <a:pt x="44341" y="1400"/>
                </a:lnTo>
                <a:close/>
              </a:path>
              <a:path fill="darkenLess" w="45741" h="21600">
                <a:moveTo>
                  <a:pt x="4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41" y="20200"/>
                </a:lnTo>
                <a:close/>
              </a:path>
              <a:path fill="lighten" w="4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41" h="21600">
                <a:moveTo>
                  <a:pt x="15864" y="10800"/>
                </a:moveTo>
                <a:lnTo>
                  <a:pt x="29877" y="3794"/>
                </a:lnTo>
                <a:lnTo>
                  <a:pt x="2987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заимное расположение двух ша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40000" y="206064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два шара или сферы имеют только одну общую точку, то говорят, что они касаются. Их общая касательная плоскость перпендикулярна линии центров (прямой, соединяющей центры обоих шар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CRCTR112"/>
          <p:cNvPicPr/>
          <p:nvPr/>
        </p:nvPicPr>
        <p:blipFill>
          <a:blip r:embed="rId1"/>
          <a:stretch/>
        </p:blipFill>
        <p:spPr>
          <a:xfrm>
            <a:off x="7885080" y="333360"/>
            <a:ext cx="1258920" cy="187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RCTR112"/>
          <p:cNvPicPr/>
          <p:nvPr/>
        </p:nvPicPr>
        <p:blipFill>
          <a:blip r:embed="rId2"/>
          <a:stretch/>
        </p:blipFill>
        <p:spPr>
          <a:xfrm flipH="1">
            <a:off x="-360" y="333360"/>
            <a:ext cx="1258920" cy="180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0" y="2359080"/>
            <a:ext cx="4572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24360" y="1844640"/>
            <a:ext cx="3610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сание шаров может быть внутренним и внеш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8440" y="189000"/>
            <a:ext cx="58262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245200" y="162864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е сферы пересекаю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 окруж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Линия центров перпендикулярна плоскости этой окружности и проходит через ее цен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563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писанная и описанная сфе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03280" y="1844640"/>
            <a:ext cx="41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ера (шар)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исанн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коло многогранника, если все вершины многогранника лежат на сф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RCTR112"/>
          <p:cNvPicPr/>
          <p:nvPr/>
        </p:nvPicPr>
        <p:blipFill>
          <a:blip r:embed="rId1"/>
          <a:stretch/>
        </p:blipFill>
        <p:spPr>
          <a:xfrm flipH="1">
            <a:off x="-360" y="0"/>
            <a:ext cx="1258920" cy="1800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228680" y="1125360"/>
            <a:ext cx="38959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0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252360" y="1600200"/>
            <a:ext cx="43927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й четырехугольник может лежать в основании пирамиды, вписанной в сфе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3960720" y="0"/>
            <a:ext cx="51818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6"/>
          <p:cNvSpPr/>
          <p:nvPr/>
        </p:nvSpPr>
        <p:spPr>
          <a:xfrm rot="20179800">
            <a:off x="4211640" y="3213000"/>
            <a:ext cx="216000" cy="976320"/>
          </a:xfrm>
          <a:prstGeom prst="downArrow">
            <a:avLst>
              <a:gd name="adj1" fmla="val 50000"/>
              <a:gd name="adj2" fmla="val 11300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 rot="2011200">
            <a:off x="6732360" y="4797000"/>
            <a:ext cx="222120" cy="976320"/>
          </a:xfrm>
          <a:prstGeom prst="downArrow">
            <a:avLst>
              <a:gd name="adj1" fmla="val 50000"/>
              <a:gd name="adj2" fmla="val 109887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076720" y="1125360"/>
            <a:ext cx="40672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ера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писанн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многогранник, в частности, в пирамиду, если она касается всех граней этого многогранника (пирамид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00720" y="665280"/>
            <a:ext cx="46432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ок, соединяющий центр шара с точкой на его поверхности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диусом ша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трезок, соединяющий две точки на поверхности шара и проходящий через центр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аметром ша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 концы этого отрезка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иаметрально противоположными точками ша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10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61927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основании треугольной пирамиды лежит равнобедренный треугольник, основание и боковые стороны известны. Все боковые ребра пирамиды равны 13. Найти радиусы описанного и вписанного ш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а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4330440" cy="4437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4643280" y="2276640"/>
            <a:ext cx="4500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ти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6012000" y="2276640"/>
                <a:ext cx="1368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5364000" y="278136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В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Rectangle 1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5364000" y="3429000"/>
                <a:ext cx="3276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4"/>
              <p:cNvSpPr txBox="1"/>
              <p:nvPr/>
            </p:nvSpPr>
            <p:spPr>
              <a:xfrm>
                <a:off x="4643280" y="4581360"/>
                <a:ext cx="450072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вписанного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шар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6"/>
              <p:cNvSpPr txBox="1"/>
              <p:nvPr/>
            </p:nvSpPr>
            <p:spPr>
              <a:xfrm>
                <a:off x="4535640" y="5300640"/>
                <a:ext cx="4608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описанного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шар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8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8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9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9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9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17050"/>
                            </p:stCondLst>
                            <p:childTnLst>
                              <p:par>
                                <p:cTn id="9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6588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Нахождение радиуса вписанного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9200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) Центр описанного шара удален от всех вершин пирамиды на одинаковое расстояние, равное радиусу шара, и в частности, от вершин треугольника АВС. Поэтому он лежит на перпендикуляре к плоскости основания этого треугольника, который восстановлен из центра описанной окружности. В данном случае этот перпендикуляр совпадает с высотой пирамиды, поскольку ее боковые ребра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0" y="2421000"/>
            <a:ext cx="3924360" cy="3335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284720" y="1773360"/>
                <a:ext cx="40672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ысот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пирамид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356000" y="2276640"/>
                <a:ext cx="24116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1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1"/>
              <p:cNvSpPr txBox="1"/>
              <p:nvPr/>
            </p:nvSpPr>
            <p:spPr>
              <a:xfrm>
                <a:off x="4356000" y="2924280"/>
                <a:ext cx="442764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Н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нт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описанной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около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3"/>
              <p:cNvSpPr txBox="1"/>
              <p:nvPr/>
            </p:nvSpPr>
            <p:spPr>
              <a:xfrm>
                <a:off x="4246560" y="3860640"/>
                <a:ext cx="48974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центр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описанного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шар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1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5"/>
              <p:cNvSpPr txBox="1"/>
              <p:nvPr/>
            </p:nvSpPr>
            <p:spPr>
              <a:xfrm>
                <a:off x="4211640" y="4437000"/>
                <a:ext cx="4643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Н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F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1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7"/>
              <p:cNvSpPr txBox="1"/>
              <p:nvPr/>
            </p:nvSpPr>
            <p:spPr>
              <a:xfrm>
                <a:off x="5651640" y="5229360"/>
                <a:ext cx="154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AutoShape 19">
            <a:hlinkClick r:id="" action="ppaction://hlinkshowjump?jump=nextslide"/>
          </p:cNvPr>
          <p:cNvSpPr/>
          <p:nvPr/>
        </p:nvSpPr>
        <p:spPr>
          <a:xfrm>
            <a:off x="8028000" y="6381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 rot="3290400">
            <a:off x="1130040" y="2549520"/>
            <a:ext cx="226800" cy="976320"/>
          </a:xfrm>
          <a:prstGeom prst="upArrow">
            <a:avLst>
              <a:gd name="adj1" fmla="val 50000"/>
              <a:gd name="adj2" fmla="val 1076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0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95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2222E-006 L 2.77778E-007 0.2625 E">
                                      <p:cBhvr>
                                        <p:cTn id="96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9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Вычислим радиус описанной около основания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79280" y="1968480"/>
            <a:ext cx="4608720" cy="458460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932360" y="1773360"/>
                <a:ext cx="3456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К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4859280" y="2637000"/>
                <a:ext cx="1728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Н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1"/>
              <p:cNvSpPr txBox="1"/>
              <p:nvPr/>
            </p:nvSpPr>
            <p:spPr>
              <a:xfrm>
                <a:off x="4859280" y="3152880"/>
                <a:ext cx="3672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К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3" name="Rectangle 1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3"/>
              <p:cNvSpPr txBox="1"/>
              <p:nvPr/>
            </p:nvSpPr>
            <p:spPr>
              <a:xfrm>
                <a:off x="6084720" y="4149720"/>
                <a:ext cx="12970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) Найдем высоту пирам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0" y="2289240"/>
            <a:ext cx="4788000" cy="43909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6"/>
              <p:cNvSpPr txBox="1"/>
              <p:nvPr/>
            </p:nvSpPr>
            <p:spPr>
              <a:xfrm>
                <a:off x="6156360" y="2303640"/>
                <a:ext cx="20160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AH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5003640" y="3429000"/>
                <a:ext cx="3924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AutoShape 10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 rot="20663400">
            <a:off x="2195640" y="169992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0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0254 L -0.13768 0.32013 E">
                                      <p:cBhvr>
                                        <p:cTn id="108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8 0.32013 L 0.00416 0.37268 E">
                                      <p:cBhvr>
                                        <p:cTn id="109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37269 L 0.00017 0.02361 E">
                                      <p:cBhvr>
                                        <p:cTn id="1095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) Радиус описанного шара найдем из треугольника, образованного радиусом шара и частью высоты, прилежащей к основанию пирам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952800" cy="41497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4643280" y="2254320"/>
                <a:ext cx="1873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НО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9"/>
              <p:cNvSpPr txBox="1"/>
              <p:nvPr/>
            </p:nvSpPr>
            <p:spPr>
              <a:xfrm>
                <a:off x="4643280" y="2752560"/>
                <a:ext cx="19447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1"/>
              <p:cNvSpPr txBox="1"/>
              <p:nvPr/>
            </p:nvSpPr>
            <p:spPr>
              <a:xfrm>
                <a:off x="4643280" y="3213000"/>
                <a:ext cx="2881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3"/>
              <p:cNvSpPr txBox="1"/>
              <p:nvPr/>
            </p:nvSpPr>
            <p:spPr>
              <a:xfrm>
                <a:off x="4643280" y="3789360"/>
                <a:ext cx="4176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5"/>
              <p:cNvSpPr txBox="1"/>
              <p:nvPr/>
            </p:nvSpPr>
            <p:spPr>
              <a:xfrm>
                <a:off x="5292720" y="4508640"/>
                <a:ext cx="2448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nodeType="clickEffect" fill="hold">
                      <p:stCondLst>
                        <p:cond delay="0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35600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единим центр вписанного шара со всеми вершинами пирамиды, тем самым мы разделим ее на несколько меньших пирамид. В данном случае их четыре. Высоты всех пирамид одинаковы  и равны радиусу вписанного шара, а основания – это грани исходной пирам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404640"/>
            <a:ext cx="65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Нахождение радиуса вписанного шара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4570560" cy="515772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8"/>
          <p:cNvSpPr/>
          <p:nvPr/>
        </p:nvSpPr>
        <p:spPr>
          <a:xfrm rot="19907400">
            <a:off x="1907640" y="4508280"/>
            <a:ext cx="360360" cy="976320"/>
          </a:xfrm>
          <a:prstGeom prst="upArrow">
            <a:avLst>
              <a:gd name="adj1" fmla="val 50000"/>
              <a:gd name="adj2" fmla="val 6773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9"/>
          <p:cNvSpPr/>
          <p:nvPr/>
        </p:nvSpPr>
        <p:spPr>
          <a:xfrm rot="19907400">
            <a:off x="1907640" y="4508280"/>
            <a:ext cx="360360" cy="976320"/>
          </a:xfrm>
          <a:prstGeom prst="upArrow">
            <a:avLst>
              <a:gd name="adj1" fmla="val 50000"/>
              <a:gd name="adj2" fmla="val 6773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19907400">
            <a:off x="1907640" y="4508280"/>
            <a:ext cx="360360" cy="976320"/>
          </a:xfrm>
          <a:prstGeom prst="upArrow">
            <a:avLst>
              <a:gd name="adj1" fmla="val 50000"/>
              <a:gd name="adj2" fmla="val 6773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 rot="19907400">
            <a:off x="1908000" y="4508280"/>
            <a:ext cx="360360" cy="1009440"/>
          </a:xfrm>
          <a:prstGeom prst="upArrow">
            <a:avLst>
              <a:gd name="adj1" fmla="val 50000"/>
              <a:gd name="adj2" fmla="val 7003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2"/>
              <p:cNvSpPr txBox="1"/>
              <p:nvPr/>
            </p:nvSpPr>
            <p:spPr>
              <a:xfrm>
                <a:off x="5364000" y="2060640"/>
                <a:ext cx="24847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ирамиды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1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6"/>
              <p:cNvSpPr txBox="1"/>
              <p:nvPr/>
            </p:nvSpPr>
            <p:spPr>
              <a:xfrm>
                <a:off x="5940360" y="2781360"/>
                <a:ext cx="1332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SA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1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8"/>
              <p:cNvSpPr txBox="1"/>
              <p:nvPr/>
            </p:nvSpPr>
            <p:spPr>
              <a:xfrm>
                <a:off x="5940360" y="3357720"/>
                <a:ext cx="12589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SB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2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20"/>
              <p:cNvSpPr txBox="1"/>
              <p:nvPr/>
            </p:nvSpPr>
            <p:spPr>
              <a:xfrm>
                <a:off x="5940360" y="3933720"/>
                <a:ext cx="1368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SA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Rectangle 2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2"/>
              <p:cNvSpPr txBox="1"/>
              <p:nvPr/>
            </p:nvSpPr>
            <p:spPr>
              <a:xfrm>
                <a:off x="5940360" y="4581360"/>
                <a:ext cx="1258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AB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0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22049 0.05255 E">
                                      <p:cBhvr>
                                        <p:cTn id="119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0316 -0.35695 E">
                                      <p:cBhvr>
                                        <p:cTn id="119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-0.16527 0.07361 E">
                                      <p:cBhvr>
                                        <p:cTn id="119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-0.03542 0.20995 E">
                                      <p:cBhvr>
                                        <p:cTn id="120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 Найдем площадь каждой грани пирамиды и ее полную поверх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5257800" cy="359064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6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5651640" y="1916280"/>
                <a:ext cx="30956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9"/>
              <p:cNvSpPr txBox="1"/>
              <p:nvPr/>
            </p:nvSpPr>
            <p:spPr>
              <a:xfrm>
                <a:off x="4716360" y="2708280"/>
                <a:ext cx="4210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5" name="Rectangle 1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1"/>
              <p:cNvSpPr txBox="1"/>
              <p:nvPr/>
            </p:nvSpPr>
            <p:spPr>
              <a:xfrm>
                <a:off x="5219640" y="3573360"/>
                <a:ext cx="367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3"/>
              <p:cNvSpPr txBox="1"/>
              <p:nvPr/>
            </p:nvSpPr>
            <p:spPr>
              <a:xfrm>
                <a:off x="5003640" y="5084640"/>
                <a:ext cx="38163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8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5"/>
              <p:cNvSpPr txBox="1"/>
              <p:nvPr/>
            </p:nvSpPr>
            <p:spPr>
              <a:xfrm>
                <a:off x="1835280" y="6021360"/>
                <a:ext cx="49687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Вычислим объем пирамиды   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и радиус вписанного ш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566880" cy="39607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7"/>
          <p:cNvSpPr/>
          <p:nvPr/>
        </p:nvSpPr>
        <p:spPr>
          <a:xfrm>
            <a:off x="7812000" y="6237360"/>
            <a:ext cx="971640" cy="458640"/>
          </a:xfrm>
          <a:custGeom>
            <a:avLst/>
            <a:gdLst>
              <a:gd name="textAreaLeft" fmla="*/ 29520 w 971640"/>
              <a:gd name="textAreaRight" fmla="*/ 942120 w 9716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45741" h="21600">
                <a:moveTo>
                  <a:pt x="0" y="0"/>
                </a:moveTo>
                <a:lnTo>
                  <a:pt x="45741" y="0"/>
                </a:lnTo>
                <a:lnTo>
                  <a:pt x="45741" y="21600"/>
                </a:lnTo>
                <a:lnTo>
                  <a:pt x="0" y="21600"/>
                </a:lnTo>
                <a:close/>
              </a:path>
              <a:path fill="lightenLess" w="45741" h="21600">
                <a:moveTo>
                  <a:pt x="0" y="0"/>
                </a:moveTo>
                <a:lnTo>
                  <a:pt x="45741" y="0"/>
                </a:lnTo>
                <a:lnTo>
                  <a:pt x="44341" y="1400"/>
                </a:lnTo>
                <a:lnTo>
                  <a:pt x="1400" y="1400"/>
                </a:lnTo>
                <a:close/>
              </a:path>
              <a:path fill="darken" w="45741" h="21600">
                <a:moveTo>
                  <a:pt x="45741" y="0"/>
                </a:moveTo>
                <a:lnTo>
                  <a:pt x="45741" y="21600"/>
                </a:lnTo>
                <a:lnTo>
                  <a:pt x="44341" y="20200"/>
                </a:lnTo>
                <a:lnTo>
                  <a:pt x="44341" y="1400"/>
                </a:lnTo>
                <a:close/>
              </a:path>
              <a:path fill="darkenLess" w="45741" h="21600">
                <a:moveTo>
                  <a:pt x="4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41" y="20200"/>
                </a:lnTo>
                <a:close/>
              </a:path>
              <a:path fill="lighten" w="4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41" h="21600">
                <a:moveTo>
                  <a:pt x="15864" y="10800"/>
                </a:moveTo>
                <a:lnTo>
                  <a:pt x="29877" y="3794"/>
                </a:lnTo>
                <a:lnTo>
                  <a:pt x="2987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84720" y="2276640"/>
                <a:ext cx="1368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0"/>
              <p:cNvSpPr txBox="1"/>
              <p:nvPr/>
            </p:nvSpPr>
            <p:spPr>
              <a:xfrm>
                <a:off x="4643280" y="2852640"/>
                <a:ext cx="3168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2"/>
              <p:cNvSpPr txBox="1"/>
              <p:nvPr/>
            </p:nvSpPr>
            <p:spPr>
              <a:xfrm>
                <a:off x="6588000" y="2276640"/>
                <a:ext cx="15112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4"/>
              <p:cNvSpPr txBox="1"/>
              <p:nvPr/>
            </p:nvSpPr>
            <p:spPr>
              <a:xfrm>
                <a:off x="4284720" y="3716280"/>
                <a:ext cx="43927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лн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Rectangle 20"/>
          <p:cNvSpPr/>
          <p:nvPr/>
        </p:nvSpPr>
        <p:spPr>
          <a:xfrm>
            <a:off x="3059280" y="4869000"/>
            <a:ext cx="5868720" cy="1224000"/>
          </a:xfrm>
          <a:prstGeom prst="rect">
            <a:avLst/>
          </a:prstGeom>
          <a:solidFill>
            <a:srgbClr val="ffe5ff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1"/>
              <p:cNvSpPr txBox="1"/>
              <p:nvPr/>
            </p:nvSpPr>
            <p:spPr>
              <a:xfrm>
                <a:off x="3203640" y="4937040"/>
                <a:ext cx="2016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и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4"/>
              <p:cNvSpPr txBox="1"/>
              <p:nvPr/>
            </p:nvSpPr>
            <p:spPr>
              <a:xfrm>
                <a:off x="5435640" y="4937040"/>
                <a:ext cx="3529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nodeType="clickEffect" fill="hold">
                      <p:stCondLst>
                        <p:cond delay="0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2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606560" y="665280"/>
            <a:ext cx="4537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торой способ вычисления радиуса вписанной сферы основан на том, что центр шара, вписанного в двугранный угол, равноудален от его сторон, и, следовательно, лежит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иссекторной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8182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0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7960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рона основания правильной четырехугольной пирамиды равна 6, а угол между основанием и боковой гранью равен 6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пределить радиус вписанной 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а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0" y="2624040"/>
            <a:ext cx="4932360" cy="42339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4643280" y="2276640"/>
            <a:ext cx="450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ти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5940360" y="2421000"/>
                <a:ext cx="320364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B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авильна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четырехугольна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rPr>
                            <m:lit/>
                            <m:nor/>
                          </m:rPr>
                          <m:t xml:space="preserve">пирамид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0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4932360" y="4076640"/>
                <a:ext cx="136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1"/>
              <p:cNvSpPr txBox="1"/>
              <p:nvPr/>
            </p:nvSpPr>
            <p:spPr>
              <a:xfrm>
                <a:off x="6732720" y="4019400"/>
                <a:ext cx="2087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4" name="Rectangle 1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3"/>
              <p:cNvSpPr txBox="1"/>
              <p:nvPr/>
            </p:nvSpPr>
            <p:spPr>
              <a:xfrm>
                <a:off x="5148360" y="5084640"/>
                <a:ext cx="3743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вписанного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шар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AutoShape 15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0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13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13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165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1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13650"/>
                            </p:stCondLst>
                            <p:childTnLst>
                              <p:par>
                                <p:cTn id="13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1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181080" y="1557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у равно расстояние между диаметрально противоположными точками шара, если известна удаленность точки, лежащей на поверхности шара от цен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199040" y="836640"/>
            <a:ext cx="494964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6659640" y="1052640"/>
            <a:ext cx="100800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ведем сечение через вершину пирамиды и середины двух противоположных сторон ос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87280" y="1557000"/>
            <a:ext cx="525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резок, соединяющий центр сферы с серединой стороны основания, делит пополам двугранный угол при осн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>
            <a:hlinkClick r:id="" action="ppaction://hlinkshowjump?jump=nextslide"/>
          </p:cNvPr>
          <p:cNvSpPr/>
          <p:nvPr/>
        </p:nvSpPr>
        <p:spPr>
          <a:xfrm>
            <a:off x="8101080" y="6165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0" y="2205000"/>
            <a:ext cx="4222800" cy="4653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7"/>
          <p:cNvSpPr/>
          <p:nvPr/>
        </p:nvSpPr>
        <p:spPr>
          <a:xfrm>
            <a:off x="539640" y="386064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4284720" y="4495680"/>
                <a:ext cx="2374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0"/>
              <p:cNvSpPr txBox="1"/>
              <p:nvPr/>
            </p:nvSpPr>
            <p:spPr>
              <a:xfrm>
                <a:off x="6877080" y="4437000"/>
                <a:ext cx="2016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LK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7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2"/>
              <p:cNvSpPr txBox="1"/>
              <p:nvPr/>
            </p:nvSpPr>
            <p:spPr>
              <a:xfrm>
                <a:off x="4140360" y="5002200"/>
                <a:ext cx="5003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LK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4"/>
              <p:cNvSpPr txBox="1"/>
              <p:nvPr/>
            </p:nvSpPr>
            <p:spPr>
              <a:xfrm>
                <a:off x="4356000" y="5661000"/>
                <a:ext cx="3168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HKO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nodeType="clickEffect" fill="hold">
                      <p:stCondLst>
                        <p:cond delay="0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15348 -0.36505 E">
                                      <p:cBhvr>
                                        <p:cTn id="14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347 -0.36505 L 0.31094 0.01296 E">
                                      <p:cBhvr>
                                        <p:cTn id="1437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094 0.01296 L 0.00382 0.01296 E">
                                      <p:cBhvr>
                                        <p:cTn id="144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4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4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смотрим треугольник, полученный в сечении, и найдем искомый радиус из тригонометрических со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859280" y="189000"/>
            <a:ext cx="382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7812000" y="6237360"/>
            <a:ext cx="971640" cy="458640"/>
          </a:xfrm>
          <a:custGeom>
            <a:avLst/>
            <a:gdLst>
              <a:gd name="textAreaLeft" fmla="*/ 29520 w 971640"/>
              <a:gd name="textAreaRight" fmla="*/ 942120 w 971640"/>
              <a:gd name="textAreaTop" fmla="*/ 29520 h 458640"/>
              <a:gd name="textAreaBottom" fmla="*/ 429120 h 458640"/>
            </a:gdLst>
            <a:ahLst/>
            <a:rect l="textAreaLeft" t="textAreaTop" r="textAreaRight" b="textAreaBottom"/>
            <a:pathLst>
              <a:path w="45741" h="21600">
                <a:moveTo>
                  <a:pt x="0" y="0"/>
                </a:moveTo>
                <a:lnTo>
                  <a:pt x="45741" y="0"/>
                </a:lnTo>
                <a:lnTo>
                  <a:pt x="45741" y="21600"/>
                </a:lnTo>
                <a:lnTo>
                  <a:pt x="0" y="21600"/>
                </a:lnTo>
                <a:close/>
              </a:path>
              <a:path fill="lightenLess" w="45741" h="21600">
                <a:moveTo>
                  <a:pt x="0" y="0"/>
                </a:moveTo>
                <a:lnTo>
                  <a:pt x="45741" y="0"/>
                </a:lnTo>
                <a:lnTo>
                  <a:pt x="44341" y="1400"/>
                </a:lnTo>
                <a:lnTo>
                  <a:pt x="1400" y="1400"/>
                </a:lnTo>
                <a:close/>
              </a:path>
              <a:path fill="darken" w="45741" h="21600">
                <a:moveTo>
                  <a:pt x="45741" y="0"/>
                </a:moveTo>
                <a:lnTo>
                  <a:pt x="45741" y="21600"/>
                </a:lnTo>
                <a:lnTo>
                  <a:pt x="44341" y="20200"/>
                </a:lnTo>
                <a:lnTo>
                  <a:pt x="44341" y="1400"/>
                </a:lnTo>
                <a:close/>
              </a:path>
              <a:path fill="darkenLess" w="45741" h="21600">
                <a:moveTo>
                  <a:pt x="4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41" y="20200"/>
                </a:lnTo>
                <a:close/>
              </a:path>
              <a:path fill="lighten" w="4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41" h="21600">
                <a:moveTo>
                  <a:pt x="15864" y="10800"/>
                </a:moveTo>
                <a:lnTo>
                  <a:pt x="29877" y="3794"/>
                </a:lnTo>
                <a:lnTo>
                  <a:pt x="2987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249800" cy="376236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7"/>
          <p:cNvSpPr/>
          <p:nvPr/>
        </p:nvSpPr>
        <p:spPr>
          <a:xfrm rot="13053600">
            <a:off x="1763280" y="4436640"/>
            <a:ext cx="252360" cy="976320"/>
          </a:xfrm>
          <a:prstGeom prst="downArrow">
            <a:avLst>
              <a:gd name="adj1" fmla="val 50000"/>
              <a:gd name="adj2" fmla="val 96719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8"/>
              <p:cNvSpPr txBox="1"/>
              <p:nvPr/>
            </p:nvSpPr>
            <p:spPr>
              <a:xfrm>
                <a:off x="5435640" y="2421000"/>
                <a:ext cx="244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K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0"/>
              <p:cNvSpPr txBox="1"/>
              <p:nvPr/>
            </p:nvSpPr>
            <p:spPr>
              <a:xfrm>
                <a:off x="4643280" y="3500280"/>
                <a:ext cx="2160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ОНК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13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2"/>
              <p:cNvSpPr txBox="1"/>
              <p:nvPr/>
            </p:nvSpPr>
            <p:spPr>
              <a:xfrm>
                <a:off x="4643280" y="4189320"/>
                <a:ext cx="41054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2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4"/>
              <p:cNvSpPr txBox="1"/>
              <p:nvPr/>
            </p:nvSpPr>
            <p:spPr>
              <a:xfrm>
                <a:off x="684360" y="6032520"/>
                <a:ext cx="6840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адиус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вписанного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шар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nodeType="clickEffect" fill="hold">
                      <p:stCondLst>
                        <p:cond delay="0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4444E-006 L 0.00208 0.11805 E">
                                      <p:cBhvr>
                                        <p:cTn id="1499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11805 L 0.15173 0.11805 E">
                                      <p:cBhvr>
                                        <p:cTn id="150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73 0.11805 L 0.00208 0.00254 E">
                                      <p:cBhvr>
                                        <p:cTn id="1505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00" y="160020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ар можно рассматривать как тело, полученное от вращения полукруга вокруг диаметра как 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5070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41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сть известна площадь полукруга. Найдите радиус шара, который получается вращением этого полукруга вокруг диа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1116000" y="333360"/>
            <a:ext cx="1081080" cy="1058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3924360" y="476280"/>
            <a:ext cx="5057640" cy="5977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7956720" y="2708280"/>
            <a:ext cx="100800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еоре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юбое сечение шара плоскостью есть круг. Перпендикуляр, опущенный из центра шара на секущую плоскость, попадает в центр этого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9280" y="2332080"/>
            <a:ext cx="42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2781360"/>
            <a:ext cx="4788000" cy="3762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5003640" y="2924280"/>
                <a:ext cx="3780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ша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секущая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⊥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7"/>
              <p:cNvSpPr txBox="1"/>
              <p:nvPr/>
            </p:nvSpPr>
            <p:spPr>
              <a:xfrm>
                <a:off x="5076720" y="5300640"/>
                <a:ext cx="295272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руг</m:t>
                        </m:r>
                      </m:e>
                      <m:e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нтр</m:t>
                        </m:r>
                        <m:r>
                          <m:rPr>
                            <m:lit/>
                            <m:nor/>
                          </m:rPr>
                          <m:t xml:space="preserve">круг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Доказатель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смотрим прямоугольный треугольник, вершинами которого являются центр шара, основание перпендикуляра, опущенного из центра на плоскость, и произвольная точка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3159000"/>
            <a:ext cx="4932360" cy="369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Object 5"/>
              <p:cNvSpPr txBox="1"/>
              <p:nvPr/>
            </p:nvSpPr>
            <p:spPr>
              <a:xfrm>
                <a:off x="5148360" y="2852640"/>
                <a:ext cx="14396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А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6948360" y="2852640"/>
                <a:ext cx="1584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4932360" y="3429000"/>
                <a:ext cx="3600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4932360" y="4221000"/>
                <a:ext cx="2808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3"/>
              <p:cNvSpPr txBox="1"/>
              <p:nvPr/>
            </p:nvSpPr>
            <p:spPr>
              <a:xfrm>
                <a:off x="4932360" y="4869000"/>
                <a:ext cx="3024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4932360" y="5734080"/>
                <a:ext cx="2376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едств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известны радиус шара и расстояние от центра шара до плоскости сечения, то радиус сечения вычисляется по теореме Пифаг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4716360" cy="3587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4859280" y="2852640"/>
                <a:ext cx="3095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К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7"/>
              <p:cNvSpPr txBox="1"/>
              <p:nvPr/>
            </p:nvSpPr>
            <p:spPr>
              <a:xfrm>
                <a:off x="4859280" y="3716280"/>
                <a:ext cx="3960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4894200" y="5229360"/>
                <a:ext cx="4249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радиус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сечения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0:48:40Z</dcterms:created>
  <dc:creator>Каратанова</dc:creator>
  <dc:description/>
  <dc:language>en-US</dc:language>
  <cp:lastModifiedBy>алла Кочергина</cp:lastModifiedBy>
  <dcterms:modified xsi:type="dcterms:W3CDTF">2019-12-01T19:36:36Z</dcterms:modified>
  <cp:revision>15</cp:revision>
  <dc:subject/>
  <dc:title>Сфера и шар.</dc:title>
</cp:coreProperties>
</file>