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1BA6-658E-4C3A-9A8D-B9DB1789C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6857-B533-4A4C-B174-5AABFBFA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72F2-2083-4AC8-9E75-4918A31D8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8F95-72E3-49AC-A2DA-28F9A166C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9C69-4416-4DF6-AF90-772BCF4D0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4728-0E1D-4386-B842-0AEDFCD8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FF67-CF1C-4673-A4FE-5A6F3431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CB41-D7C4-414C-AD5A-003EB379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AA5D-59A6-4BDB-83E7-28514913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507F2-B746-4308-967A-D604BA0C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7DF7-A023-47E2-8C90-8CE69E97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F5A7-F4D3-4305-8D32-30636F6A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B3E3-62EE-4EB0-86D9-8FCC8B8B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3FDF-D467-4D3F-A0A9-FE86127B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0C5F-43B8-4D9E-9EB0-BA260E2C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68D4-97E4-4163-97B1-A8CD6DE44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7E7D-DD32-453B-9F9E-866EF037F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F2E6-0D12-470F-92F0-FC38CF8F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DAEE-2373-4421-9D50-FEBB3319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DDE8-B75A-4D80-8EBC-BCA70BA3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5821-1AB7-4E07-A8F4-037353F2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A2A0-2987-4324-8DEA-7C11E458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40D5-4D9E-47E1-8528-390044A5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B683-CE9B-4B64-AF7B-956E655D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DB87-04AE-4F68-8F4B-A022DC83D95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4270-6A6A-4C9E-A896-73E5ECE3729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Мастер - класс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75248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«Составление синквейна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Цели проведения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огащает словарный запа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дготавливает к краткому пересказ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ит формулировать идею (ключевую фразу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воляет почувствовать себя хоть на мгновение творц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лучается у все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Что такое синквейн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ереводе с французского слово «синквейн» означает стихотворение, состоящее из пяти строк, которое пишется по определенным правила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Написание синквейна осуществляется по определенным правилам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авила написания синквейн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вая строка - одно слово, обычно существительное, отражающее тему синквей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торая строка-два слова, прилагательные, описывающие основную мыс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етья строка - три слова, глаголы, описывающие действия в рамках тем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твертая строка - фраза из четырех слов, показывающая отношение к тем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ятая строка-слово-резюме или словосочетание, связанное с первым, отражающее сущность темы, выражает личное отношение пишущего к тем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Алгоритм написания синквейна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-я строка   Кто? Что? 1 существительно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-я строка   Какой? 2 прилагательны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-я строка   Что делает? 3 глаго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-я строка   Что автор думает о теме?  Фраза из четырех сл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-я строка   Кто? Что? (новое звучание темы) 1 существительно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ес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еплая, долгожданна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ходит, цветет, пахн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амое прекрасное время го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д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ес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Холодная, мокра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ступает, согревает, уходи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дно из времен го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ро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ам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жная, красива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юбит, воспитывает, согрева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я мама самая лучшая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д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мь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репкая, дружна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ерегает, радует, согрева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Я люблю свою семь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часть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4-03-16T07:45:3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