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3FA-015B-4F4C-9D9F-CF558403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EA7-877D-4A5E-940F-BCBBD976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C76-49D1-43FC-A30D-D3C457BF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5CF-BA7C-40CF-B621-02BAF7FD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CC87-2592-450F-8649-818A8A3B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9F9-9CBF-475F-A212-CFF08C43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1012-60A4-40D5-9989-2A2238EA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C903-EC02-440E-B454-5C9D8373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FD71-26F8-4CD2-A58A-F840BD60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0E7F-8288-49B8-8107-A88E6B18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8255-7368-48BB-9FE3-5A6CDE3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DB1-DDF3-492B-96A8-094D017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6795-3381-4AD8-8963-C02F50A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5F71-700B-4F6A-9BF9-FBFA6F8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715D-D4CB-47B8-A914-D64F352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9FB7-E4AD-4DD5-91E0-9DEC833B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967C-D217-4CBD-83E6-819E749D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36D-BB48-4F80-8FEB-EF19C80D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A04-2D12-43C2-A816-3B33CB44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412-73F5-4497-BB03-340E4F3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C68-6779-4F5B-999F-A253A8C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83D-FD97-4E40-8B99-E2E06362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6BA-5B57-4C37-BE44-B8DEA32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936-DC5E-4538-8B4A-CA12399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62B-45AC-4CB7-A61A-85518D8161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A7C-96C5-4272-9440-68336AC69B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астер - кла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524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Составление синквейн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и проведени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гащает словарный зап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авливает к краткому переска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 формулировать идею (ключевую фраз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воляет почувствовать себя хоть на мгновение творц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учается у все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то такое синквейн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ереводе с французского слово «синквейн» означает стихотворение, состоящее из пяти строк, которое пишется по определенным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Написание синквейна осуществляется по определенным правилам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написания синквей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ая строка - одно слово, обычно существительное, отражающее тему синквей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ая строка-два слова, прилагательные, описывающие основную мыс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ья строка - три слова, глаголы, описывающие действия в рамках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ая строка - фраза из четырех слов, показывающая отношение к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ая строка-слово-резюме или словосочетание, связанное с первым, отражающее сущность темы, выражает личное отношение пишущего к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лгоритм написания синквейна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я строка   Кто? Что? 1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я строка   Какой? 2 прилагатель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я строка   Что делает? 3 глаго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я строка   Что автор думает о теме?  Фраза из четырех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я строка   Кто? Что? (новое звучание темы) 1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плая, долгождан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ходит, цветет, пах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е прекрасное время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д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лодная, мокр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упает, согревает, уход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 из времен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жная, красив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бит, воспитывает, согре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я мама самая лучша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д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епкая, друж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регает, радует, согре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люблю свою сем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част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3-16T07:45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