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6.png" ContentType="image/png"/>
  <Override PartName="/ppt/media/image3.gif" ContentType="image/gif"/>
  <Override PartName="/ppt/media/image12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16.wmf" ContentType="image/x-wmf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4D9-44AA-46D0-8065-D4683248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232-FE53-4D7F-BD2C-912CBB43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488-AAE6-4F73-A1B6-7857C7EF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5B4-0D09-4643-BE2C-A17BFAD5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499-F22C-4B2D-BC26-514F452E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C95-F163-4927-8C79-912EAC79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D09-2372-48F7-91CA-0788D734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C18-C60C-4E5D-ABB4-C6EFC9E9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FD2-5A6E-4FAC-B027-52457FC1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5F7-688B-4876-B16A-6AF4D140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7CC-1F9B-400D-9BBF-46024034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5C7-8D73-4808-BD93-423A00F9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1D86-0E4D-4F25-8073-0A3C768A27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68360" y="2637000"/>
            <a:ext cx="8497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р  похож  на  цветной  луг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5" descr="солнышко"/>
          <p:cNvPicPr/>
          <p:nvPr/>
        </p:nvPicPr>
        <p:blipFill>
          <a:blip r:embed="rId1"/>
          <a:stretch/>
        </p:blipFill>
        <p:spPr>
          <a:xfrm>
            <a:off x="1042920" y="0"/>
            <a:ext cx="27352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08000" y="0"/>
            <a:ext cx="5435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се  звуки  расположены 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есен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00360" y="1699920"/>
            <a:ext cx="61927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ждый  звук  имеет 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258920" y="227664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835280" y="177336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2411280" y="126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2987640" y="76500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3564000" y="26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835280" y="177336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2411280" y="1268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2987640" y="76500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3564000" y="260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630389"/>
          <p:cNvPicPr/>
          <p:nvPr/>
        </p:nvPicPr>
        <p:blipFill>
          <a:blip r:embed="rId1"/>
          <a:stretch/>
        </p:blipFill>
        <p:spPr>
          <a:xfrm>
            <a:off x="1332000" y="1773360"/>
            <a:ext cx="376200" cy="37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630389"/>
          <p:cNvPicPr/>
          <p:nvPr/>
        </p:nvPicPr>
        <p:blipFill>
          <a:blip r:embed="rId2"/>
          <a:stretch/>
        </p:blipFill>
        <p:spPr>
          <a:xfrm>
            <a:off x="1908000" y="1268280"/>
            <a:ext cx="376560" cy="37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630389"/>
          <p:cNvPicPr/>
          <p:nvPr/>
        </p:nvPicPr>
        <p:blipFill>
          <a:blip r:embed="rId3"/>
          <a:stretch/>
        </p:blipFill>
        <p:spPr>
          <a:xfrm>
            <a:off x="2484360" y="765000"/>
            <a:ext cx="376200" cy="373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630389"/>
          <p:cNvPicPr/>
          <p:nvPr/>
        </p:nvPicPr>
        <p:blipFill>
          <a:blip r:embed="rId4"/>
          <a:stretch/>
        </p:blipFill>
        <p:spPr>
          <a:xfrm>
            <a:off x="3059280" y="260280"/>
            <a:ext cx="376200" cy="372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Малыш и Карлсон 1"/>
          <p:cNvPicPr/>
          <p:nvPr/>
        </p:nvPicPr>
        <p:blipFill>
          <a:blip r:embed="rId5"/>
          <a:stretch/>
        </p:blipFill>
        <p:spPr>
          <a:xfrm>
            <a:off x="5940360" y="3192480"/>
            <a:ext cx="3203640" cy="3152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8"/>
          <p:cNvSpPr/>
          <p:nvPr/>
        </p:nvSpPr>
        <p:spPr>
          <a:xfrm>
            <a:off x="0" y="2852640"/>
            <a:ext cx="5689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сстояние  от  одной   границы  до  другой  называется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гистр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0" y="4305240"/>
            <a:ext cx="601200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егистр  быва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сокий, средний, низки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648000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Вот  мы  взяли  краски  в  р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 не  стало  в  доме  ск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 было  весе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ркой  краски  не  жа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пев:  Это  прав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у,  чего  же  тут  скрыв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и  любят,  очень  любят  рис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 бумаге,  на  асфальте,  на  ст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 в  трамвае  на  ок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Вот  вам  тетя  жарит  пыш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ядом  кот,  он  ловит  мыш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 никто  не  разбер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 же  тетя,  где  же  к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пе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Это  что  же  за  зверюш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о  ног,  одна  маку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 ли  зверь  сороконож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 ли  очередь  в  ларек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468360" y="189000"/>
            <a:ext cx="842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ти  любят  рисовать.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Picture 4" descr="imac1999-1"/>
          <p:cNvPicPr/>
          <p:nvPr/>
        </p:nvPicPr>
        <p:blipFill>
          <a:blip r:embed="rId1"/>
          <a:srcRect l="8009" t="4352" r="5572" b="12324"/>
          <a:stretch/>
        </p:blipFill>
        <p:spPr>
          <a:xfrm>
            <a:off x="4680000" y="3716280"/>
            <a:ext cx="4464000" cy="314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j0216588"/>
          <p:cNvPicPr/>
          <p:nvPr/>
        </p:nvPicPr>
        <p:blipFill>
          <a:blip r:embed="rId2"/>
          <a:stretch/>
        </p:blipFill>
        <p:spPr>
          <a:xfrm>
            <a:off x="6732720" y="907920"/>
            <a:ext cx="19890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000"/>
                            </p:stCondLst>
                            <p:childTnLst>
                              <p:par>
                                <p:cTn id="3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000"/>
                            </p:stCondLst>
                            <p:childTnLst>
                              <p:par>
                                <p:cTn id="3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9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714240"/>
            <a:ext cx="4572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Ветер зовёт за собой об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даль, вдаль, вд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ты друга не встретил п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ль, жаль, жал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есня не зря собирает дру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руг, в круг, в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ет хмурый денёк вес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, друг,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п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572000" y="1000080"/>
            <a:ext cx="4572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пев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р похож на цветной луг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рядом с тобой дру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а взять не забудь в путь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у верен всегда будь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Друг для тебя одолеть сто прегра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, рад, ра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другом любая беда – не беда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, да, д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пе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57120" y="0"/>
            <a:ext cx="8497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р  похож  на  цветной  луг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Музыка  состоит 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из  звуков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вуки  быв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шумовые  и  музыкальн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1"/>
          <p:cNvPicPr/>
          <p:nvPr/>
        </p:nvPicPr>
        <p:blipFill>
          <a:blip r:embed="rId1"/>
          <a:stretch/>
        </p:blipFill>
        <p:spPr>
          <a:xfrm>
            <a:off x="324000" y="4700520"/>
            <a:ext cx="3311280" cy="1611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Рисунок16"/>
          <p:cNvPicPr/>
          <p:nvPr/>
        </p:nvPicPr>
        <p:blipFill>
          <a:blip r:embed="rId2"/>
          <a:stretch/>
        </p:blipFill>
        <p:spPr>
          <a:xfrm>
            <a:off x="6516720" y="4437000"/>
            <a:ext cx="1757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5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45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 rot="21156600">
            <a:off x="539280" y="1052640"/>
            <a:ext cx="7920000" cy="24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8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лшебные  свойства  звуков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8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Picture 11" descr="7142009000912_15"/>
          <p:cNvPicPr/>
          <p:nvPr/>
        </p:nvPicPr>
        <p:blipFill>
          <a:blip r:embed="rId1"/>
          <a:stretch/>
        </p:blipFill>
        <p:spPr>
          <a:xfrm>
            <a:off x="6708600" y="2852640"/>
            <a:ext cx="19497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08000" y="549360"/>
            <a:ext cx="54356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се  звуки  расположены 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а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есен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3933720"/>
            <a:ext cx="619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аждый  звук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имеет  сво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со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684360" y="2708280"/>
            <a:ext cx="79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1476360" y="2060640"/>
            <a:ext cx="79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2268360" y="1341360"/>
            <a:ext cx="7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3059280" y="69228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3780000" y="18900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 flipV="1">
            <a:off x="1476360" y="2060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 flipV="1">
            <a:off x="2268360" y="1341360"/>
            <a:ext cx="0" cy="7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1"/>
          <p:cNvSpPr/>
          <p:nvPr/>
        </p:nvSpPr>
        <p:spPr>
          <a:xfrm flipV="1">
            <a:off x="3059280" y="691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 flipV="1">
            <a:off x="3780000" y="18900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5" descr="630389"/>
          <p:cNvPicPr/>
          <p:nvPr/>
        </p:nvPicPr>
        <p:blipFill>
          <a:blip r:embed="rId1"/>
          <a:stretch/>
        </p:blipFill>
        <p:spPr>
          <a:xfrm>
            <a:off x="611280" y="191772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630389"/>
          <p:cNvPicPr/>
          <p:nvPr/>
        </p:nvPicPr>
        <p:blipFill>
          <a:blip r:embed="rId2"/>
          <a:stretch/>
        </p:blipFill>
        <p:spPr>
          <a:xfrm>
            <a:off x="1403280" y="128736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630389"/>
          <p:cNvPicPr/>
          <p:nvPr/>
        </p:nvPicPr>
        <p:blipFill>
          <a:blip r:embed="rId3"/>
          <a:stretch/>
        </p:blipFill>
        <p:spPr>
          <a:xfrm>
            <a:off x="2195640" y="5666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630389"/>
          <p:cNvPicPr/>
          <p:nvPr/>
        </p:nvPicPr>
        <p:blipFill>
          <a:blip r:embed="rId4"/>
          <a:stretch/>
        </p:blipFill>
        <p:spPr>
          <a:xfrm>
            <a:off x="3059280" y="-9360"/>
            <a:ext cx="576000" cy="57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Малыш и Карлсон 1"/>
          <p:cNvPicPr/>
          <p:nvPr/>
        </p:nvPicPr>
        <p:blipFill>
          <a:blip r:embed="rId5"/>
          <a:stretch/>
        </p:blipFill>
        <p:spPr>
          <a:xfrm>
            <a:off x="5940360" y="3192480"/>
            <a:ext cx="32036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2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7143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 крайних  справа  звук выс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удто  птичий  голо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429264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 средних  клавишах  как  ра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от  же  голос,  что  у  нас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714760" y="2421000"/>
            <a:ext cx="642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 крайних  слева  бас  гудит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удто  он  всегда  сердит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14461_prev_98"/>
          <p:cNvPicPr/>
          <p:nvPr/>
        </p:nvPicPr>
        <p:blipFill>
          <a:blip r:embed="rId1"/>
          <a:stretch/>
        </p:blipFill>
        <p:spPr>
          <a:xfrm>
            <a:off x="214200" y="178596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Алиса в стране чудес"/>
          <p:cNvPicPr/>
          <p:nvPr/>
        </p:nvPicPr>
        <p:blipFill>
          <a:blip r:embed="rId2"/>
          <a:stretch/>
        </p:blipFill>
        <p:spPr>
          <a:xfrm>
            <a:off x="6429240" y="3857760"/>
            <a:ext cx="2275200" cy="2531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Простоквашино 1"/>
          <p:cNvPicPr/>
          <p:nvPr/>
        </p:nvPicPr>
        <p:blipFill>
          <a:blip r:embed="rId3"/>
          <a:srcRect l="11842" t="51165" r="55614" b="14756"/>
          <a:stretch/>
        </p:blipFill>
        <p:spPr>
          <a:xfrm>
            <a:off x="6715080" y="214200"/>
            <a:ext cx="19414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800"/>
                            </p:stCondLst>
                            <p:childTnLst>
                              <p:par>
                                <p:cTn id="1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720"/>
                            </p:stCondLst>
                            <p:childTnLst>
                              <p:par>
                                <p:cTn id="1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80"/>
                            </p:stCondLst>
                            <p:childTnLst>
                              <p:par>
                                <p:cTn id="1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76720" y="188640"/>
            <a:ext cx="55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ие  бывают  зву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71960" y="1143000"/>
            <a:ext cx="4214880" cy="20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со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ред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изк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50920" y="4643280"/>
            <a:ext cx="61927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ждый  звук  имеет  сво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соту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Винни Пух"/>
          <p:cNvPicPr/>
          <p:nvPr/>
        </p:nvPicPr>
        <p:blipFill>
          <a:blip r:embed="rId1"/>
          <a:stretch/>
        </p:blipFill>
        <p:spPr>
          <a:xfrm>
            <a:off x="900000" y="54936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Малыш и Карлсон 2"/>
          <p:cNvPicPr/>
          <p:nvPr/>
        </p:nvPicPr>
        <p:blipFill>
          <a:blip r:embed="rId2"/>
          <a:stretch/>
        </p:blipFill>
        <p:spPr>
          <a:xfrm>
            <a:off x="6516720" y="3357720"/>
            <a:ext cx="21495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600"/>
                            </p:stCondLst>
                            <p:childTnLst>
                              <p:par>
                                <p:cTn id="1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350"/>
                            </p:stCondLst>
                            <p:childTnLst>
                              <p:par>
                                <p:cTn id="1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75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стояние  от  одной   границы  до  другой  называетс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егистр.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95640" y="2636640"/>
            <a:ext cx="4835520" cy="32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гистр  б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ысо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ред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из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Пластилин"/>
          <p:cNvPicPr/>
          <p:nvPr/>
        </p:nvPicPr>
        <p:blipFill>
          <a:blip r:embed="rId1"/>
          <a:stretch/>
        </p:blipFill>
        <p:spPr>
          <a:xfrm>
            <a:off x="179280" y="2637000"/>
            <a:ext cx="351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6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8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480"/>
                            </p:stCondLst>
                            <p:childTnLst>
                              <p:par>
                                <p:cTn id="2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3715920"/>
            <a:ext cx="47149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иколай  Андр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имский-Корса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Римский-Корсаков"/>
          <p:cNvPicPr/>
          <p:nvPr/>
        </p:nvPicPr>
        <p:blipFill>
          <a:blip r:embed="rId1"/>
          <a:stretch/>
        </p:blipFill>
        <p:spPr>
          <a:xfrm>
            <a:off x="4643280" y="571680"/>
            <a:ext cx="4260960" cy="55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68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7:49:41Z</dcterms:created>
  <dc:creator>Татьяна</dc:creator>
  <dc:description/>
  <dc:language>en-US</dc:language>
  <cp:lastModifiedBy>User</cp:lastModifiedBy>
  <dcterms:modified xsi:type="dcterms:W3CDTF">2016-09-13T10:18:52Z</dcterms:modified>
  <cp:revision>15</cp:revision>
  <dc:subject/>
  <dc:title>Слайд 1</dc:title>
</cp:coreProperties>
</file>