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6.wmf" ContentType="image/x-wm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6D0-39C4-4739-961B-5EF6D058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38A-8F31-4B1E-B56D-AFB80043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D27-012C-4084-981E-6955BFF4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08C-C1FA-4534-9FC6-EDB92192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05C-31D4-4A40-B1B2-76C787D8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1A3-F85E-4B51-ADE5-352D454E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556-3DF8-4214-AEF1-7D9D57CC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1FD-6E51-4AB1-BED6-62F1B892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6EB-9C6D-402F-BF4F-D31DE118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A76-D5BA-4C0A-B8B5-AD14530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339-946D-4872-B527-33FABE88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DD5-FA0B-447D-BB56-872D6B8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0DC-62A8-44C2-ADA3-6C1FE7961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68360" y="2637000"/>
            <a:ext cx="849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р  похож  на  цветной  луг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5" descr="солнышко"/>
          <p:cNvPicPr/>
          <p:nvPr/>
        </p:nvPicPr>
        <p:blipFill>
          <a:blip r:embed="rId1"/>
          <a:stretch/>
        </p:blipFill>
        <p:spPr>
          <a:xfrm>
            <a:off x="1042920" y="0"/>
            <a:ext cx="27352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5435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е  звуки  расположены 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се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00360" y="1699920"/>
            <a:ext cx="6192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ждый  звук  имеет 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258920" y="227664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835280" y="177336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2411280" y="126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987640" y="76500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3564000" y="26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835280" y="17733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2411280" y="1268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987640" y="76500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3564000" y="260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630389"/>
          <p:cNvPicPr/>
          <p:nvPr/>
        </p:nvPicPr>
        <p:blipFill>
          <a:blip r:embed="rId1"/>
          <a:stretch/>
        </p:blipFill>
        <p:spPr>
          <a:xfrm>
            <a:off x="1332000" y="1773360"/>
            <a:ext cx="376200" cy="37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630389"/>
          <p:cNvPicPr/>
          <p:nvPr/>
        </p:nvPicPr>
        <p:blipFill>
          <a:blip r:embed="rId2"/>
          <a:stretch/>
        </p:blipFill>
        <p:spPr>
          <a:xfrm>
            <a:off x="1908000" y="1268280"/>
            <a:ext cx="376560" cy="37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630389"/>
          <p:cNvPicPr/>
          <p:nvPr/>
        </p:nvPicPr>
        <p:blipFill>
          <a:blip r:embed="rId3"/>
          <a:stretch/>
        </p:blipFill>
        <p:spPr>
          <a:xfrm>
            <a:off x="2484360" y="765000"/>
            <a:ext cx="376200" cy="37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630389"/>
          <p:cNvPicPr/>
          <p:nvPr/>
        </p:nvPicPr>
        <p:blipFill>
          <a:blip r:embed="rId4"/>
          <a:stretch/>
        </p:blipFill>
        <p:spPr>
          <a:xfrm>
            <a:off x="3059280" y="260280"/>
            <a:ext cx="376200" cy="372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Малыш и Карлсон 1"/>
          <p:cNvPicPr/>
          <p:nvPr/>
        </p:nvPicPr>
        <p:blipFill>
          <a:blip r:embed="rId5"/>
          <a:stretch/>
        </p:blipFill>
        <p:spPr>
          <a:xfrm>
            <a:off x="5940360" y="3192480"/>
            <a:ext cx="3203640" cy="3152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8"/>
          <p:cNvSpPr/>
          <p:nvPr/>
        </p:nvSpPr>
        <p:spPr>
          <a:xfrm>
            <a:off x="0" y="2852640"/>
            <a:ext cx="568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тояние  от  одной   границы  до  другой  называется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гистр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0" y="4305240"/>
            <a:ext cx="60120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гистр  быв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ий, средний, низк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64800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Вот  мы  взяли  краски  в 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не  стало  в  доме  ск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 было  вес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кой  краски  не  ж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пев:  Это  прав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,  чего  же  тут  скры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 любят,  очень  любят  рис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 бумаге,  на  асфальте,  на  ст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в  трамвае  на  ок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Вот  вам  тетя  жарит  пыш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 кот,  он  ловит  мыш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 никто  не  разбер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 же  тетя,  где  же  к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пе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то  что  же  за  зверюш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  ног,  одна  мак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ли  зверь  сороконож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ли  очередь  в  ларек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468360" y="189000"/>
            <a:ext cx="842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и  любят  рисовать.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4" descr="imac1999-1"/>
          <p:cNvPicPr/>
          <p:nvPr/>
        </p:nvPicPr>
        <p:blipFill>
          <a:blip r:embed="rId1"/>
          <a:srcRect l="8009" t="4352" r="5572" b="12324"/>
          <a:stretch/>
        </p:blipFill>
        <p:spPr>
          <a:xfrm>
            <a:off x="4680000" y="3716280"/>
            <a:ext cx="4464000" cy="314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j0216588"/>
          <p:cNvPicPr/>
          <p:nvPr/>
        </p:nvPicPr>
        <p:blipFill>
          <a:blip r:embed="rId2"/>
          <a:stretch/>
        </p:blipFill>
        <p:spPr>
          <a:xfrm>
            <a:off x="6732720" y="907920"/>
            <a:ext cx="1989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0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714240"/>
            <a:ext cx="4572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етер зовёт за собой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аль, вдаль, вд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ты друга не встретил п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ль, жаль, жа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есня не зря собирает др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руг, в круг, в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ет хмурый денёк вес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, друг,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п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72000" y="1000080"/>
            <a:ext cx="4572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 похож на цветной луг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рядом с тобой дру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а взять не забудь в пут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у верен всегда будь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Друг для тебя одолеть сто прегра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, рад, ра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ругом любая беда – не бед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, да, д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пе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57120" y="0"/>
            <a:ext cx="8497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р  похож  на  цветной  луг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Музыка  состоит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из  звуков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вуки  быв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шумовые  и  музыкаль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1"/>
          <p:cNvPicPr/>
          <p:nvPr/>
        </p:nvPicPr>
        <p:blipFill>
          <a:blip r:embed="rId1"/>
          <a:stretch/>
        </p:blipFill>
        <p:spPr>
          <a:xfrm>
            <a:off x="324000" y="4700520"/>
            <a:ext cx="3311280" cy="161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Рисунок16"/>
          <p:cNvPicPr/>
          <p:nvPr/>
        </p:nvPicPr>
        <p:blipFill>
          <a:blip r:embed="rId2"/>
          <a:stretch/>
        </p:blipFill>
        <p:spPr>
          <a:xfrm>
            <a:off x="6516720" y="4437000"/>
            <a:ext cx="1757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5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5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 rot="21156600">
            <a:off x="539280" y="1052640"/>
            <a:ext cx="7920000" cy="24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  свойства  звуков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8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11" descr="7142009000912_15"/>
          <p:cNvPicPr/>
          <p:nvPr/>
        </p:nvPicPr>
        <p:blipFill>
          <a:blip r:embed="rId1"/>
          <a:stretch/>
        </p:blipFill>
        <p:spPr>
          <a:xfrm>
            <a:off x="6708600" y="2852640"/>
            <a:ext cx="1949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08000" y="549360"/>
            <a:ext cx="5435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се  звуки  расположены 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есен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3933720"/>
            <a:ext cx="619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ждый  зву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меет  сво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с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684360" y="270828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476360" y="206064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2268360" y="1341360"/>
            <a:ext cx="7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059280" y="69228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3780000" y="18900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V="1">
            <a:off x="1476360" y="2060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V="1">
            <a:off x="2268360" y="134136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 flipV="1">
            <a:off x="3059280" y="691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3780000" y="18900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630389"/>
          <p:cNvPicPr/>
          <p:nvPr/>
        </p:nvPicPr>
        <p:blipFill>
          <a:blip r:embed="rId1"/>
          <a:stretch/>
        </p:blipFill>
        <p:spPr>
          <a:xfrm>
            <a:off x="611280" y="191772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630389"/>
          <p:cNvPicPr/>
          <p:nvPr/>
        </p:nvPicPr>
        <p:blipFill>
          <a:blip r:embed="rId2"/>
          <a:stretch/>
        </p:blipFill>
        <p:spPr>
          <a:xfrm>
            <a:off x="1403280" y="128736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630389"/>
          <p:cNvPicPr/>
          <p:nvPr/>
        </p:nvPicPr>
        <p:blipFill>
          <a:blip r:embed="rId3"/>
          <a:stretch/>
        </p:blipFill>
        <p:spPr>
          <a:xfrm>
            <a:off x="2195640" y="5666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630389"/>
          <p:cNvPicPr/>
          <p:nvPr/>
        </p:nvPicPr>
        <p:blipFill>
          <a:blip r:embed="rId4"/>
          <a:stretch/>
        </p:blipFill>
        <p:spPr>
          <a:xfrm>
            <a:off x="3059280" y="-9360"/>
            <a:ext cx="57600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Малыш и Карлсон 1"/>
          <p:cNvPicPr/>
          <p:nvPr/>
        </p:nvPicPr>
        <p:blipFill>
          <a:blip r:embed="rId5"/>
          <a:stretch/>
        </p:blipFill>
        <p:spPr>
          <a:xfrm>
            <a:off x="5940360" y="3192480"/>
            <a:ext cx="3203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2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143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 крайних  справа  звук выс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удто  птичий  голо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42926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 средних  клавишах  как  ра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т  же  голос,  что  у  нас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714760" y="242100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 крайних  слева  бас  гудит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удто  он  всегда  сердит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14461_prev_98"/>
          <p:cNvPicPr/>
          <p:nvPr/>
        </p:nvPicPr>
        <p:blipFill>
          <a:blip r:embed="rId1"/>
          <a:stretch/>
        </p:blipFill>
        <p:spPr>
          <a:xfrm>
            <a:off x="214200" y="178596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Алиса в стране чудес"/>
          <p:cNvPicPr/>
          <p:nvPr/>
        </p:nvPicPr>
        <p:blipFill>
          <a:blip r:embed="rId2"/>
          <a:stretch/>
        </p:blipFill>
        <p:spPr>
          <a:xfrm>
            <a:off x="6429240" y="3857760"/>
            <a:ext cx="2275200" cy="253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Простоквашино 1"/>
          <p:cNvPicPr/>
          <p:nvPr/>
        </p:nvPicPr>
        <p:blipFill>
          <a:blip r:embed="rId3"/>
          <a:srcRect l="11842" t="51165" r="55614" b="14756"/>
          <a:stretch/>
        </p:blipFill>
        <p:spPr>
          <a:xfrm>
            <a:off x="6715080" y="214200"/>
            <a:ext cx="19414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72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80"/>
                            </p:stCondLst>
                            <p:childTnLst>
                              <p:par>
                                <p:cTn id="1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188640"/>
            <a:ext cx="55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 бывают  зву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71960" y="1143000"/>
            <a:ext cx="421488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со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из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50920" y="4643280"/>
            <a:ext cx="61927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ждый  звук  имеет  сво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соту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Винни Пух"/>
          <p:cNvPicPr/>
          <p:nvPr/>
        </p:nvPicPr>
        <p:blipFill>
          <a:blip r:embed="rId1"/>
          <a:stretch/>
        </p:blipFill>
        <p:spPr>
          <a:xfrm>
            <a:off x="900000" y="54936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Малыш и Карлсон 2"/>
          <p:cNvPicPr/>
          <p:nvPr/>
        </p:nvPicPr>
        <p:blipFill>
          <a:blip r:embed="rId2"/>
          <a:stretch/>
        </p:blipFill>
        <p:spPr>
          <a:xfrm>
            <a:off x="6516720" y="3357720"/>
            <a:ext cx="21495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6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350"/>
                            </p:stCondLst>
                            <p:childTnLst>
                              <p:par>
                                <p:cTn id="1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5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тояние  от  одной   границы  до  другой  называе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гистр.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95640" y="2636640"/>
            <a:ext cx="4835520" cy="32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гистр  б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ред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из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Пластилин"/>
          <p:cNvPicPr/>
          <p:nvPr/>
        </p:nvPicPr>
        <p:blipFill>
          <a:blip r:embed="rId1"/>
          <a:stretch/>
        </p:blipFill>
        <p:spPr>
          <a:xfrm>
            <a:off x="179280" y="2637000"/>
            <a:ext cx="351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6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8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480"/>
                            </p:stCondLst>
                            <p:childTnLst>
                              <p:par>
                                <p:cTn id="2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47149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колай  Андр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имский-Корса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Римский-Корсаков"/>
          <p:cNvPicPr/>
          <p:nvPr/>
        </p:nvPicPr>
        <p:blipFill>
          <a:blip r:embed="rId1"/>
          <a:stretch/>
        </p:blipFill>
        <p:spPr>
          <a:xfrm>
            <a:off x="4643280" y="571680"/>
            <a:ext cx="42609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68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7:49:41Z</dcterms:created>
  <dc:creator>Татьяна</dc:creator>
  <dc:description/>
  <dc:language>en-US</dc:language>
  <cp:lastModifiedBy>User</cp:lastModifiedBy>
  <dcterms:modified xsi:type="dcterms:W3CDTF">2016-09-13T10:18:52Z</dcterms:modified>
  <cp:revision>15</cp:revision>
  <dc:subject/>
  <dc:title>Слайд 1</dc:title>
</cp:coreProperties>
</file>