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DC9E1-C8C5-4FBF-A14F-5B240577BD0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A2096-D167-4D14-8A56-337270E6A9F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6BCAB1-68A6-4271-9134-BA4B6C9800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46F8D-B3AA-4EA4-AD41-F61C9378E1A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EFCFD-7BAE-4E69-9ABD-CC342D4245F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A942-5DFE-49CC-A5B7-4CA2B2C7B6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46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846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92D41-7093-484F-AB5A-4DAA7204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77680" y="39636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22A29-FF63-46D0-A2FD-8710DCAE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0040" y="16002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63240" y="16002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0040" y="39636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63240" y="39636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8D3B3-6260-4E88-A65C-3FBD5197EE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51F72-EF83-4098-AAF8-552ED386AD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846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1AB52-7F3F-4405-82F9-F28CCF85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46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CBBCA-EADF-4CB0-9B8A-C525F2B2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28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3828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D01E3-9934-4F24-81BF-57EA9241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2676D-30D0-49C4-894F-9FF1BA6A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7846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D61A9-221D-4CAC-A709-E7E8DA89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3828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8D968-59D5-46C5-8615-21403B6A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846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EAA2B-6F27-47E3-B576-6932AE34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28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77680" y="39636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80DB7-83F8-4EF6-9FFD-7441C430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846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1C75C-BED7-4B7D-98AB-F990D28C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46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846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A3C46-7B06-41AF-B1A9-8A4104DC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77680" y="39636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00446-54F6-457B-89C7-D814B1DD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10040" y="16002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3240" y="16002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10040" y="39636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3240" y="39636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EDB33-BDFB-4D7E-9104-95D4261F06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46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7CAD1-EE3E-48F1-81DE-F77FA142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28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3828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032D8-51CE-431C-A5FC-A8F31FE3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5994D-5750-4336-8983-91332A2E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7846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5EC88-F109-499E-9285-2D3B223A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3828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A4F23-4686-4AF4-9A97-6056F787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28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7680" y="39636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FB7A4-263F-4614-8C55-68871ACC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846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58BA9-360A-4DFB-BF7E-67EED08B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846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578800" y="226188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 rot="16200000">
            <a:off x="7162560" y="3830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947080" y="5660640"/>
            <a:ext cx="9669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455323-F783-4419-85AE-9905EF5CA7E6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7162920" y="136440"/>
            <a:ext cx="228600" cy="52578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7467480" y="133200"/>
            <a:ext cx="1447920" cy="52578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846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8580600" y="22622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945280" y="5661000"/>
            <a:ext cx="9666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AD0706-AEC2-4BDE-93A2-9E4D28BA1E3F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7296120" y="3698280"/>
            <a:ext cx="293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1403280" y="125280"/>
            <a:ext cx="6656400" cy="33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Уголок России – Отчий дом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 rot="16200000">
            <a:off x="5101920" y="2517120"/>
            <a:ext cx="6156360" cy="1425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07880" y="4869000"/>
            <a:ext cx="665640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МДОУ «Детский сад №16-а «Теремо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35164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380880" y="304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2209680" y="1676520"/>
            <a:ext cx="6705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368360" cy="1231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26701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6701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6701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1512720" cy="1371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800" spc="-1" strike="noStrike">
                <a:solidFill>
                  <a:srgbClr val="1f497d"/>
                </a:solidFill>
                <a:latin typeface="Monotype Corsiva"/>
                <a:ea typeface="Times New Roman"/>
              </a:rPr>
              <a:t>Вывод:</a:t>
            </a:r>
            <a:endParaRPr b="0" lang="en-US" sz="8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1600200"/>
            <a:ext cx="7846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Monotype Corsiva"/>
                <a:ea typeface="Times New Roman"/>
              </a:rPr>
              <a:t>дети имеют возможность в повседневной жизни познакомиться с русскими традициями и обычаями;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Monotype Corsiva"/>
                <a:ea typeface="Times New Roman"/>
              </a:rPr>
              <a:t>своими руками потрогать предметы  народных промыслов и ремёсел;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Monotype Corsiva"/>
                <a:ea typeface="Times New Roman"/>
              </a:rPr>
              <a:t>своими глазами увидеть предметы быта, одежду, обувь, посуду и другую домашнюю утварь;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Monotype Corsiva"/>
                <a:ea typeface="Times New Roman"/>
              </a:rPr>
              <a:t>не чуждо детям и чувство уважения к другим народам и их традициям.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74680"/>
            <a:ext cx="7848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Monotype Corsiva"/>
                <a:ea typeface="Times New Roman"/>
              </a:rPr>
              <a:t>Модель патриотического воспитания 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tretch/>
        </p:blipFill>
        <p:spPr>
          <a:xfrm>
            <a:off x="511200" y="1600200"/>
            <a:ext cx="3738600" cy="4524480"/>
          </a:xfrm>
          <a:prstGeom prst="rect">
            <a:avLst/>
          </a:prstGeom>
          <a:ln w="0">
            <a:noFill/>
          </a:ln>
        </p:spPr>
      </p:pic>
      <p:pic>
        <p:nvPicPr>
          <p:cNvPr id="102" name="Объект 11" descr=""/>
          <p:cNvPicPr/>
          <p:nvPr/>
        </p:nvPicPr>
        <p:blipFill>
          <a:blip r:embed="rId2"/>
          <a:stretch/>
        </p:blipFill>
        <p:spPr>
          <a:xfrm>
            <a:off x="4400640" y="1504800"/>
            <a:ext cx="3957480" cy="4756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5545080" cy="6191280"/>
          </a:xfrm>
          <a:prstGeom prst="rect">
            <a:avLst/>
          </a:prstGeom>
          <a:ln w="0">
            <a:noFill/>
          </a:ln>
        </p:spPr>
      </p:pic>
      <p:pic>
        <p:nvPicPr>
          <p:cNvPr id="104" name="Объект 4" descr=""/>
          <p:cNvPicPr/>
          <p:nvPr/>
        </p:nvPicPr>
        <p:blipFill>
          <a:blip r:embed="rId2"/>
          <a:stretch/>
        </p:blipFill>
        <p:spPr>
          <a:xfrm>
            <a:off x="6443640" y="3938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Объект 4" descr=""/>
          <p:cNvPicPr/>
          <p:nvPr/>
        </p:nvPicPr>
        <p:blipFill>
          <a:blip r:embed="rId3"/>
          <a:stretch/>
        </p:blipFill>
        <p:spPr>
          <a:xfrm>
            <a:off x="5796000" y="4292640"/>
            <a:ext cx="295272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Monotype Corsiva"/>
              </a:rPr>
              <a:t>Игровой уголок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7" name="Picture 5" descr="C:\Documents and Settings\user 1\Рабочий стол\Новая папка (2)\IMG_20180123_073104.jpg"/>
          <p:cNvPicPr/>
          <p:nvPr/>
        </p:nvPicPr>
        <p:blipFill>
          <a:blip r:embed="rId1"/>
          <a:stretch/>
        </p:blipFill>
        <p:spPr>
          <a:xfrm>
            <a:off x="684360" y="1844640"/>
            <a:ext cx="7773840" cy="4373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Monotype Corsiva"/>
              </a:rPr>
              <a:t>Сами пряли, ткали, шили, вязали, плели, вышивали, ткали…вручную!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9" name="Объект 3" descr=""/>
          <p:cNvPicPr/>
          <p:nvPr/>
        </p:nvPicPr>
        <p:blipFill>
          <a:blip r:embed="rId1"/>
          <a:stretch/>
        </p:blipFill>
        <p:spPr>
          <a:xfrm>
            <a:off x="457200" y="1654200"/>
            <a:ext cx="7846920" cy="4416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Monotype Corsiva"/>
              </a:rPr>
              <a:t>Карта мира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11" name="Picture 2" descr="C:\Documents and Settings\user 1\Рабочий стол\Новая папка (2)\IMG_20180123_072526.jpg"/>
          <p:cNvPicPr/>
          <p:nvPr/>
        </p:nvPicPr>
        <p:blipFill>
          <a:blip r:embed="rId1"/>
          <a:stretch/>
        </p:blipFill>
        <p:spPr>
          <a:xfrm>
            <a:off x="457200" y="1655640"/>
            <a:ext cx="7846920" cy="4413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5435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Monotype Corsiva"/>
              </a:rPr>
              <a:t>Просим чаю пить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13" name="Объект 3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052880" cy="2281320"/>
          </a:xfrm>
          <a:prstGeom prst="rect">
            <a:avLst/>
          </a:prstGeom>
          <a:ln w="0">
            <a:noFill/>
          </a:ln>
        </p:spPr>
      </p:pic>
      <p:pic>
        <p:nvPicPr>
          <p:cNvPr id="114" name="Объект 4" descr=""/>
          <p:cNvPicPr/>
          <p:nvPr/>
        </p:nvPicPr>
        <p:blipFill>
          <a:blip r:embed="rId2"/>
          <a:stretch/>
        </p:blipFill>
        <p:spPr>
          <a:xfrm>
            <a:off x="4476600" y="4149720"/>
            <a:ext cx="4187880" cy="2355840"/>
          </a:xfrm>
          <a:prstGeom prst="rect">
            <a:avLst/>
          </a:prstGeom>
          <a:ln w="0">
            <a:noFill/>
          </a:ln>
        </p:spPr>
      </p:pic>
      <p:sp>
        <p:nvSpPr>
          <p:cNvPr id="115" name="Заголовок 2"/>
          <p:cNvSpPr/>
          <p:nvPr/>
        </p:nvSpPr>
        <p:spPr>
          <a:xfrm>
            <a:off x="4500720" y="2997360"/>
            <a:ext cx="46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Monotype Corsiva"/>
              </a:rPr>
              <a:t>Мужичок с гармошкой, поиграй немножко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2286000" y="158256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наш взгляд центральным звеном в макросреде ДОУ является центр краеведения, где подобран материал о Ставрополье, как хлеборобном крае. Содержание отражено фотографиями, альбомами и специальной литератур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формление среды нашло своё отражение и в интерьере детского сада и его участков: русская горница, выставка кукол «Русский костюм», сельское подворье. Что позволило  нашему детскому саду заня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место в районном конкурсе «Дизайн участков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Monotype Corsiva"/>
              </a:rPr>
              <a:t>На каждый случай своя вышивка...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18" name="Объект 5" descr=""/>
          <p:cNvPicPr/>
          <p:nvPr/>
        </p:nvPicPr>
        <p:blipFill>
          <a:blip r:embed="rId1"/>
          <a:stretch/>
        </p:blipFill>
        <p:spPr>
          <a:xfrm>
            <a:off x="457200" y="1654200"/>
            <a:ext cx="7846920" cy="4416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21" name="Рисунок 7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3008160" cy="1873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457200" y="2597040"/>
            <a:ext cx="3178080" cy="3529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3863880" y="750960"/>
            <a:ext cx="453384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7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2:20:37Z</dcterms:created>
  <dc:creator>Admin</dc:creator>
  <dc:description/>
  <dc:language>en-US</dc:language>
  <cp:lastModifiedBy>1</cp:lastModifiedBy>
  <dcterms:modified xsi:type="dcterms:W3CDTF">2019-12-01T18:22:49Z</dcterms:modified>
  <cp:revision>45</cp:revision>
  <dc:subject/>
  <dc:title>История и культура родного кра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9</vt:r8>
  </property>
  <property fmtid="{D5CDD505-2E9C-101B-9397-08002B2CF9AE}" pid="3" name="_Version">
    <vt:lpwstr>12.0.4518</vt:lpwstr>
  </property>
</Properties>
</file>