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9FEF-46F6-4052-8498-A8922C53E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E9DB-3A15-4C1C-B738-30CF2447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6C25-D2B7-45E4-96F7-9FFE527C8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346F-9A52-459E-AD55-6CD92E232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35EB1-FE42-43E5-82B3-8404BAAD4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A8034-90BD-4757-A18E-2213B908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9E8A8-5E4D-44D4-9FC5-69AE8965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CA9887-72D8-440F-9BEB-B58BFB93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ADE24-D6CA-460A-94F0-6E77176C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C2723-89E0-4C05-9E73-2EA44A20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682EA1-93F9-4FCD-B14C-1B1B87FB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9F88-331F-47B9-9BE0-4FC1B87A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1C9362-E6B8-4C80-A445-4A76A0B9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A3EF4-2095-4BBA-90AF-FF50AE90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2B2873-477C-463E-AC34-CDA19C15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7853AA-0274-4ED1-9CBB-C029FD142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79BDD3-957B-44C1-BD8F-CA5104387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1ED9-12A3-4CD7-BC46-6F1432C9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2EB9-548F-4E16-BADB-4A90305A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C0F0-E343-43BD-A41B-4B9460AC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ACF9-BC11-46A8-AB73-9868D8D2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5726-EC9F-48BF-A92A-FB734A73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0D6E-8CD5-444B-A00D-CC094456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DA8D-2892-4ED6-8C28-5D71DF7F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7298-B5CF-4FD9-9F52-0E407AAF27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6348-617F-4184-AC81-76D12B50938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ПРОЕКТ-ПРЕЗЕНТАЦИЯ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«МОЕ ЛЮБИМОЕ ЖИВОТНОЕ»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57040" y="464832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ВЫПОЛНИЛ УЧЕНИК 1 «Д» КЛАССА СОШ №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УЛАНОВ ФЕДО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ПРОЕКТ-ПРЕЗЕНТАЦИЯ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«МОЕ ЛЮБИМОЕ ЖИВОТНОЕ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79520" y="18907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У МЕНЯ ЖИВЕТ КОТ, ЕГО ЗОВУТ ШМОНЯ ЕМУ СЕЙЧАС 4 МЕСЯЦ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ОН ОЧЕНЬ ЛАСКОВЫЙ, УМНЫЙ, ВСЕ ПОНИМА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8" descr="Картинки по запросу полосатые вислоухие шотландские котята черный полосатый коричневый табби окрас фото"/>
          <p:cNvPicPr/>
          <p:nvPr/>
        </p:nvPicPr>
        <p:blipFill>
          <a:blip r:embed="rId1"/>
          <a:stretch/>
        </p:blipFill>
        <p:spPr>
          <a:xfrm>
            <a:off x="4648320" y="194328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Я с детства хотел котенка, и моя мечта сбылась. У меня дома живет британский вислоухий котенок ШМОНЬКА .У ШМОНЬКИ светло-серая мордочка , полосатые ушки , глаза зеленые. Его цвет глаз меняется когда он злит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Котенок мой игривый, но по настроению если у него хорошее настроение, то он будет играть, но если плохое-он предупреждает мяуканье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ШМОНЬКА- серьезный кот. Он научился лапами открывать дверь, а еще он любит позировать перед фотокамеро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Все же он добрый хороший котенок и любит нашу семью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Я очень люблю своего котенка ШМО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ЛЮБИТ МНОГО ИГРАТЬ В РЕЗИНОВЫЙ МЯЧИК. КОГДА Я ПРИХОЖУ СО ШКОЛЫ, ОН МЕНЯ ВСТРЕЧАЕТ, ОБЛИЗЫВА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Рисунок 3" descr=""/>
          <p:cNvPicPr/>
          <p:nvPr/>
        </p:nvPicPr>
        <p:blipFill>
          <a:blip r:embed="rId1"/>
          <a:stretch/>
        </p:blipFill>
        <p:spPr>
          <a:xfrm>
            <a:off x="304920" y="1411200"/>
            <a:ext cx="434340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8T16:09:36Z</dcterms:created>
  <dc:creator>user</dc:creator>
  <dc:description/>
  <dc:language>en-US</dc:language>
  <cp:lastModifiedBy>Уланова Инга Анваровна</cp:lastModifiedBy>
  <cp:lastPrinted>2016-11-11T11:17:35Z</cp:lastPrinted>
  <dcterms:modified xsi:type="dcterms:W3CDTF">2016-11-14T02:59:16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