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0A9-6C0D-4E86-A784-63F19B26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E59-5686-4D46-834E-067545F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E2A-7A6D-4FF6-ADCA-084AD76D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E0E-1015-4483-B85C-4EDA6C86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84DF-9F6E-4303-A84F-AC5231EE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7D14-C368-4EEE-8B9F-7975EAB3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9202F-39CF-4E17-B902-95FB9A1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24E55-373C-4271-9B45-336A44A0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7070B-101F-4BE4-B6E9-99230B5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B9BE6-A0B9-4643-AA76-80A72AA1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0D304-5ADE-4DED-951A-4FE1A3F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6A6-FA9B-4E2A-8E95-2067F85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9E43B-7AAA-4801-BB6A-620B275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D8942-E52F-4A6A-85EF-C508A91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2B639-AADC-4609-9AA5-CB7AE6C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EECFA-3F27-428D-81CD-8A66261B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3F3B2-729C-4D97-A798-1D5A0317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038-9A11-4725-8DF6-98B2551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E8B-B7BA-4B9A-9909-9A7EEED7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A63-7C94-43ED-AE5B-5514E520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D3B-B830-4441-A4B4-0E0773A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8A3-07A7-4DD6-91B8-50BBC19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43-A233-40AF-A032-D6175A6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61E-32C5-4083-8D7B-F67BF7D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3958-D7C4-4422-9921-4BC45B43E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C267-BA53-4B8E-99CC-9096198DB1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ОЕКТ-ПРЕЗЕНТАЦИЯ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ОЕ ЛЮБИМОЕ ЖИВОТНОЕ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040" y="46483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ЫПОЛНИЛ УЧЕНИК 1 «Д» КЛАССА СОШ №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ЛАНОВ ФЕД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ОЕКТ-ПРЕЗЕНТАЦИЯ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ОЕ ЛЮБИМОЕ ЖИВОТНО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9520" y="18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 МЕНЯ ЖИВЕТ КОТ, ЕГО ЗОВУТ ШМОНЯ ЕМУ СЕЙЧАС 4 МЕСЯЦ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Н ОЧЕНЬ ЛАСКОВЫЙ, УМНЫЙ, ВСЕ ПОНИМ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Картинки по запросу полосатые вислоухие шотландские котята черный полосатый коричневый табби окрас фото"/>
          <p:cNvPicPr/>
          <p:nvPr/>
        </p:nvPicPr>
        <p:blipFill>
          <a:blip r:embed="rId1"/>
          <a:stretch/>
        </p:blipFill>
        <p:spPr>
          <a:xfrm>
            <a:off x="4648320" y="19432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Я с детства хотел котенка, и моя мечта сбылась. У меня дома живет британский вислоухий котенок ШМОНЬКА .У ШМОНЬКИ светло-серая мордочка , полосатые ушки , глаза зеленые. Его цвет глаз меняется когда он зл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отенок мой игривый, но по настроению если у него хорошее настроение, то он будет играть, но если плохое-он предупреждает мяукань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ШМОНЬКА- серьезный кот. Он научился лапами открывать дверь, а еще он любит позировать перед фотокамер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се же он добрый хороший котенок и любит нашу сем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Я очень люблю своего котенка ШМ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ЛЮБИТ МНОГО ИГРАТЬ В РЕЗИНОВЫЙ МЯЧИК. КОГДА Я ПРИХОЖУ СО ШКОЛЫ, ОН МЕНЯ ВСТРЕЧАЕТ, ОБЛИЗЫ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304920" y="1411200"/>
            <a:ext cx="43434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6:09:36Z</dcterms:created>
  <dc:creator>user</dc:creator>
  <dc:description/>
  <dc:language>en-US</dc:language>
  <cp:lastModifiedBy>Уланова Инга Анваровна</cp:lastModifiedBy>
  <cp:lastPrinted>2016-11-11T11:17:35Z</cp:lastPrinted>
  <dcterms:modified xsi:type="dcterms:W3CDTF">2016-11-14T02:59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