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154-5B84-4BD0-A8A0-383DB176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A89-507F-4043-83AC-736AAB52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951-E472-4C12-82FD-196ADA69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3F2-185F-4B01-8FE0-FB0974C6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11A-E2BC-4263-9864-86C4B2FE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3C3-FC80-45FB-94C3-E60E2325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2CF-B3EE-47B9-8166-D0A5FAEA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205-48F6-4BF3-A801-8255A77F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5D6-4729-4AB0-9024-FC8E124A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992-D582-492B-9A42-B22FE025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BC0-8407-4684-8EBE-3BCBBD8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879-B30C-48C8-90A9-2B2EB55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76E1-F6A9-4ECF-8BD8-69E767ADF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rod.tomsk.ru/uploads/27793/1235022066/21773903_podsnzhnik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genta-heaven.ru/wp-content/uploads/2011/05/IMG_2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в 10 Г  класс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рок в 10-Г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1773903_podsnzhni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205000"/>
            <a:ext cx="5715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ринова..ые огурцы, распечата..ый конверт, задание выполне..о, деревя..ая ложка, ветре..ый день, ране..ый солдат, ране..ый в бою, комари..ый писк, земля..ой пол, масл..ые краски, масл…ые руки, мужестве..ый человек, кожа..ый диван, краше..ый пол, покраше..ый пол, краше..ый краской пол, журавли..ый крик, конституцио..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 49- пункт №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№284 – ком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з. № 2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Шестое марта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лассная работа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равописание глагол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MG_28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lvl="3" marL="671760" indent="-9576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сна, весна! Как воздух чист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 ясен небосклон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оей лазурию живой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лепит мне очи он.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сна, весна! Как высоко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крыльях ветерка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..скаясь к солнечным лучам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тают облака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Шумят ручьи! Бл..стят ручьи!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зр..вев, река несет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торжествующем хребте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днятый ею лед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ще древа обнажены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 в роще ветхий лист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 прежде под моей ногой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шумен, и душист.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д солнце самое взвился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в яркой вышине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зримый жавронок поет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здравный гимн весне.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 с нею? Что с моей душой?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 ручьем она ручей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с птичкой птичка!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 ним журчит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та..т в небе с ней!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фологический разбор глагола, назвать переходные глаголы, стиль текст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ончание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езж..т утренняя з..ря, отец пил..т дрова, курлыч..т ре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щ..т волны, брызж..т дождик, дремл..т хаты, стел..шь ковёр, вода клокоч..т, трава никн..т, гон..т лошадей, мурлыч..т кошка, точ..т нож, верт..т колесо,он полощ..тся под кра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ряжение глаголов (оконч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722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кроме </a:t>
                      </a: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бри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тели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оть, -уть (ють), -ы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 на – е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мотреть, видеть, ненавидеть, зависеть, терпеть, вертеть, обиде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 е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на –а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ышать, слышать, держать, г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ать (я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Ь в глагол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(Не)спит..ся, няня. 2.Чего (не)представит..ся испуганному воображению! 3.Только мне (не)плачет..ся, на душе светло.4.Нареж.. хлеба и колбасы.5.Уваж..те их. 6.Хоч..ш..- останеш..ся век мужиком, смож..ш..- под небо взовьёш..ся орлом. 7.Нужно береч.. прир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уффиксы глаг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646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нитив, глагол прошедшего врем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  1 лица ед.числа настоящего врем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цевать, танц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ц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проб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го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ю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..г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ы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под..г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ы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..гр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ыв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смеш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в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он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он..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ж..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ж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т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..т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274680"/>
          <a:ext cx="8229600" cy="675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ы повелительного накло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ы изъявительного накло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</a:t>
                      </a: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</a:t>
                      </a: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он</a:t>
                      </a: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он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жь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ж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</a:t>
                      </a: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8:53:40Z</dcterms:created>
  <dc:creator>Владелец</dc:creator>
  <dc:description/>
  <dc:language>en-US</dc:language>
  <cp:lastModifiedBy>teacher28</cp:lastModifiedBy>
  <dcterms:modified xsi:type="dcterms:W3CDTF">2012-03-06T10:41:23Z</dcterms:modified>
  <cp:revision>34</cp:revision>
  <dc:subject/>
  <dc:title>Урок в 10 классе </dc:title>
</cp:coreProperties>
</file>