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0D9-B821-4ABC-A664-FC058928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76C-CE64-45DC-8A57-E46D207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9C2-9E8A-4E3C-B36E-8696275C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C95-E03F-4082-B87E-3345F61B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2E9-484C-4D17-B81F-084A48AD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F52-E975-415A-80D3-5EC2F255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66B-BC93-41B3-8185-F334F9F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B53-48A7-4830-A9FC-E3B6EAA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697-04CA-43AA-8FC6-6E12946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1DA-F374-44D2-A1A7-00A44CA9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41D-4784-49DB-B304-DA3B33A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C69-878E-42CE-AF94-B09B391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FAA-93D0-4973-B6A6-183CBE500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rod.tomsk.ru/uploads/27793/1235022066/21773903_podsnzhni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genta-heaven.ru/wp-content/uploads/2011/05/IMG_2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в 10 Г  класс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Урок в 10-Г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1773903_podsnzhni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205000"/>
            <a:ext cx="5715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ринова..ые огурцы, распечата..ый конверт, задание выполне..о, деревя..ая ложка, ветре..ый день, ране..ый солдат, ране..ый в бою, комари..ый писк, земля..ой пол, масл..ые краски, масл…ые руки, мужестве..ый человек, кожа..ый диван, краше..ый пол, покраше..ый пол, краше..ый краской пол, журавли..ый крик, конституцио..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 49- пункт №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№284 – ком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з. № 2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Шестое марта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ассная работа</a:t>
            </a:r>
            <a:br>
              <a:rPr sz="1800"/>
            </a:b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Правописание глагол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G_2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lvl="3" marL="671760" indent="-9576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сна, весна! Как воздух чист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ясен небосклон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ей лазурию живо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пит мне очи он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сна, весна! Как высоко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крыльях ветерка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..скаясь к солнечным лучам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тают облака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Шумят ручьи! Бл..стят ручьи!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зр..вев, река несет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торжествующем хребт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днятый ею лед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ще древа обнажены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о в роще ветхий лист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прежде под моей ного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шумен, и душист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д солнце самое взвился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в яркой вышине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зримый жавронок поет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здравный гимн весне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с нею? Что с моей душой?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ручьем она ручей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 птичкой птичка!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ним журчит,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та..т в небе с ней!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фологический разбор глагола, назвать переходные глаголы, стиль текст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ончание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езж..т утренняя з..ря, отец пил..т дрова, курлыч..т ре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щ..т волны, брызж..т дождик, дремл..т хаты, стел..шь ковёр, вода клокоч..т, трава никн..т, гон..т лошадей, мурлыч..т кошка, точ..т нож, верт..т колесо,он полощ..тся под кра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яжение глаголов (оконч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722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 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кроме </a:t>
                      </a: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бр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тели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оть, -уть (ють), -ы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 на – е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мотреть, видеть, ненавидеть, зависеть, терпеть, вертеть, обиде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 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на –а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ышать, слышать, держать, г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ать (я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Ь в глаго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Не)спит..ся, няня. 2.Чего (не)представит..ся испуганному воображению! 3.Только мне (не)плачет..ся, на душе светло.4.Нареж.. хлеба и колбасы.5.Уваж..те их. 6.Хоч..ш..- останеш..ся век мужиком, смож..ш..- под небо взовьёш..ся орлом. 7.Нужно береч.. при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уффиксы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646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нитив, глагол прошедшего врем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  1 лица ед.числа настоящего врем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евать, танц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проб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г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ю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..г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под..г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ы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..гр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ыв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сме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в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..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..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т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..те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74680"/>
          <a:ext cx="8229600" cy="675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 повелительного накло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 изъявительного накло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он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ь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ж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8:53:40Z</dcterms:created>
  <dc:creator>Владелец</dc:creator>
  <dc:description/>
  <dc:language>en-US</dc:language>
  <cp:lastModifiedBy>teacher28</cp:lastModifiedBy>
  <dcterms:modified xsi:type="dcterms:W3CDTF">2012-03-06T10:41:23Z</dcterms:modified>
  <cp:revision>34</cp:revision>
  <dc:subject/>
  <dc:title>Урок в 10 классе </dc:title>
</cp:coreProperties>
</file>