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FAA-FBA5-481E-81E7-7DF924E7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2FD-0EE8-41FB-A009-1568832B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BAD-6605-4060-A25B-A9536DFE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FDD-D2EE-4EB3-B7D9-A6721910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77AB-2DA9-4DB0-9C20-D994D880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EF72-E2D3-43ED-B976-F4CF98D6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360A-4CA0-4F42-BD69-46889DBC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6086-D83C-4067-8866-18A75688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4C02-EF81-4933-AB9A-C89E93F8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C12E-7769-4D18-B371-D755C299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3FA5-9641-4C9E-A21B-F84D1056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4EC-9750-4747-835D-85F659C8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D281-B2BA-411E-87CB-DBD7D9EF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DB92-A51E-4940-B9E5-038EC2EE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115B-FCFF-40E5-A981-601A558C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DAD3-6C1C-4F05-8E79-F47300F4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6742-7E5C-4CFE-80EF-1CBE7750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69D4-FE94-462D-9240-1223E40D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BA32-E57D-42BA-AB35-E6D149A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705C-A676-41B9-8B78-BEC634C4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0E47-EC06-4E5B-B669-974B0A2C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0E77-4DED-45FA-9912-CF0E8695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461-A708-45DF-9585-922B1766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2B1E-3B34-4324-88E7-0A3C4147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3951-74FF-46D9-8AD4-78AE557D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8EB46-9DBE-4BE0-9A9B-D800146D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31AB-404E-4034-9D62-B05D4CBB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9A9B-BCFA-4C1E-BF38-CAE8D646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B9DD-A0EC-4609-84B2-5CAC2343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E3A8-AB54-45A6-89F8-9B8323AF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AA38-9F54-4FFF-A9F1-3BBA5473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3FBC-DB0C-4447-908D-6030BED1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B148-0EA9-4F21-B874-6598DCDA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E78-B1BA-44C8-AE12-C8103565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DF0F-DE49-40BD-8574-B26F2942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54480-924C-4CDE-9489-2DDD7CCB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BE96-6A7C-4C61-92FE-CD1EAC36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2D4B2-F4B8-4339-AA83-70AAD2D1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E9AB4-0309-4377-A5DD-CE0B0E6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9F19-17D4-49AD-94D3-7A6134FB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12A38-A4EC-4C04-A300-C044BF46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1110A-7DAF-45AB-B09A-42B4814B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CE079-31A0-4714-8FB1-2AF1CB09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09BDF-993E-4E61-ACDE-C872E4F8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092-BE14-4791-AA96-A53CD06F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2C9A6-DDCE-4F65-B140-94930C10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F3E89-96B5-419D-AA3F-3AE26421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5723-157F-4B5C-B5A8-C70C2F97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9631D-BC2F-41A3-ACE3-711DF105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2C527-FCCD-4927-A7F7-2314C379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04538-B370-47D7-933D-9C41987C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61A00-970B-437D-9076-E7C955F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CC153-61EB-4459-A882-DA967CD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C5F7F-F304-4C73-9C3F-1B36DE22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A70B-770E-4517-B20A-03AE5E7E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9AD-03B5-4641-9257-FCAE5FFF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0EF66-67A1-4A7F-B519-5BBB3F22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7BADE-A511-49B4-BB58-EEBBE76F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C45D3-39BB-4F9B-974D-EBB7ADB0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69D21-2897-4AC3-985E-4436DF12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EC767-D65B-48C9-A5BD-7E86F10E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711D0-6B36-4DC0-B2C0-9945C2A1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78AAC-151F-4C77-B8AB-28B05958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A1A68-696B-4989-9DCE-B892862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33B1-02F2-4ABB-BB4B-8573431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9B871-F442-477A-A771-B85D0B4C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925-2C9D-4A9D-AE87-5C7497D3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902C-6A86-4940-A916-2CF65CDF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A00F9-3A6F-4E30-BA57-09FF8AAE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42FFA-F5A0-4EC4-B2D2-D204F0D3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5C794-A84A-4B61-A143-FD11C540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AA0A6-06A0-4878-BFBA-31174646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9AC72-66F6-4CE3-8813-41A6B4D7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FA278-D606-45B1-A5C3-AA3AB6F8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4E3C-6F14-488D-880B-7E1EC381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E8F28-5142-4031-80DA-E3E27F5B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D5884-7B9F-4083-99D5-796C7125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472-355A-44D7-A477-1CB2329F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6AF48-F4A1-45CE-A001-83147222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C638A-6C72-47A2-96E9-7D54C12B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C95FC-B2F9-481F-BFDD-03DCC2B4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19720-13C1-48B6-A93F-99BB057E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FAD0-2F10-4F0E-BF7F-DDDECA1F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D740F-6A0B-4560-8F21-894F9A39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7F735-3CB3-4191-B300-13EC2346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1A39C-C552-41AE-9863-9A0C10CA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D7C6D-56C8-45A3-8E0E-A87CFF27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39574-F9E6-46D7-BC09-72B9B392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C23-B930-48B9-A66A-482C0D3C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F31EC-F39C-4FDD-BCAB-7012B23D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A6FB3-35B8-477B-819C-6DE2836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859C4-B28A-4DD5-948B-6C18A18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D03A7-E92A-4121-AB61-0520B56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E4398-2EE5-49B3-9D88-B38650AD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6082B-F598-4F96-8638-E0F7254F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99FDD-FF7C-438D-8EF7-AEAF860E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5FD-FDF1-466C-81E8-C89BBCA8B5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B2B9-A26F-4C86-BECE-2F74B66C76F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C173-0BC2-4AFC-A63F-BB7ECA9B2D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755D-07F9-476B-ABB3-08C8C5FBF1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C448-8258-4159-86D3-49976B5B7E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61B9-BF3F-442D-A7B1-B7777E5F57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8305-9C67-4C6F-95AC-BD104E669F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B856-B8B7-4154-AA84-1E788975564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071600" y="3571920"/>
            <a:ext cx="4357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внеклассное мероприятие по теме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«Конвенция о правах ребёнка»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для учащихся 4-класса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Классный руководитель    Марушина Ольга Петровна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2048040" y="281160"/>
            <a:ext cx="6217920" cy="11509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3" descr="1289770092_masha_i_medved_12_seriy_bonus_2010_dvdrip_0.jpg"/>
          <p:cNvPicPr/>
          <p:nvPr/>
        </p:nvPicPr>
        <p:blipFill>
          <a:blip r:embed="rId2"/>
          <a:stretch/>
        </p:blipFill>
        <p:spPr>
          <a:xfrm>
            <a:off x="3286080" y="2000160"/>
            <a:ext cx="29415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Права ребенка_0013_новый размер.jpg"/>
          <p:cNvPicPr/>
          <p:nvPr/>
        </p:nvPicPr>
        <p:blipFill>
          <a:blip r:embed="rId1"/>
          <a:stretch/>
        </p:blipFill>
        <p:spPr>
          <a:xfrm>
            <a:off x="1500120" y="285840"/>
            <a:ext cx="2397240" cy="22860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3" descr="aa8baf9b7f8a79a3211db7b9801.jpg"/>
          <p:cNvPicPr/>
          <p:nvPr/>
        </p:nvPicPr>
        <p:blipFill>
          <a:blip r:embed="rId2"/>
          <a:stretch/>
        </p:blipFill>
        <p:spPr>
          <a:xfrm>
            <a:off x="5429160" y="785880"/>
            <a:ext cx="2006640" cy="163332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3"/>
          <p:cNvSpPr/>
          <p:nvPr/>
        </p:nvSpPr>
        <p:spPr>
          <a:xfrm>
            <a:off x="857160" y="307188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Ребёнок-лицо , не достигшее 18 лет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4"/>
          <p:cNvSpPr/>
          <p:nvPr/>
        </p:nvSpPr>
        <p:spPr>
          <a:xfrm>
            <a:off x="785880" y="4000680"/>
            <a:ext cx="54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Ребёнок имеет право на имя и национальность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1" descr="Права ребенка_0005_новый размер.jpg"/>
          <p:cNvPicPr/>
          <p:nvPr/>
        </p:nvPicPr>
        <p:blipFill>
          <a:blip r:embed="rId1"/>
          <a:stretch/>
        </p:blipFill>
        <p:spPr>
          <a:xfrm>
            <a:off x="857160" y="285840"/>
            <a:ext cx="3380040" cy="22143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2" descr="bd505a202978.jpg"/>
          <p:cNvPicPr/>
          <p:nvPr/>
        </p:nvPicPr>
        <p:blipFill>
          <a:blip r:embed="rId2"/>
          <a:stretch/>
        </p:blipFill>
        <p:spPr>
          <a:xfrm>
            <a:off x="5738760" y="1285920"/>
            <a:ext cx="2262240" cy="178596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4"/>
          <p:cNvSpPr/>
          <p:nvPr/>
        </p:nvSpPr>
        <p:spPr>
          <a:xfrm>
            <a:off x="571680" y="3643200"/>
            <a:ext cx="528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Ребёнок   имеет право на игры, отдых и досуг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1" descr="Права ребенка_0007_новый размер.jpg"/>
          <p:cNvPicPr/>
          <p:nvPr/>
        </p:nvPicPr>
        <p:blipFill>
          <a:blip r:embed="rId3"/>
          <a:stretch/>
        </p:blipFill>
        <p:spPr>
          <a:xfrm>
            <a:off x="5072040" y="4286160"/>
            <a:ext cx="2890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Права ребенка_0011_новый размер.jpg"/>
          <p:cNvPicPr/>
          <p:nvPr/>
        </p:nvPicPr>
        <p:blipFill>
          <a:blip r:embed="rId1"/>
          <a:stretch/>
        </p:blipFill>
        <p:spPr>
          <a:xfrm>
            <a:off x="1071720" y="285840"/>
            <a:ext cx="2781000" cy="192888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3" descr="1286618361_snapshot20101009112420.jpg"/>
          <p:cNvPicPr/>
          <p:nvPr/>
        </p:nvPicPr>
        <p:blipFill>
          <a:blip r:embed="rId2"/>
          <a:stretch/>
        </p:blipFill>
        <p:spPr>
          <a:xfrm>
            <a:off x="5357880" y="928800"/>
            <a:ext cx="2047680" cy="17557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3"/>
          <p:cNvSpPr/>
          <p:nvPr/>
        </p:nvSpPr>
        <p:spPr>
          <a:xfrm>
            <a:off x="928800" y="3143160"/>
            <a:ext cx="671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ёнок имеет право на защиту от физического и психического насилия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1" descr="Права ребенка_0004_новый размер.jpg"/>
          <p:cNvPicPr/>
          <p:nvPr/>
        </p:nvPicPr>
        <p:blipFill>
          <a:blip r:embed="rId1"/>
          <a:stretch/>
        </p:blipFill>
        <p:spPr>
          <a:xfrm>
            <a:off x="1071720" y="428760"/>
            <a:ext cx="3770280" cy="26431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2" descr="1288811020_ac7c6d38e560.jpg"/>
          <p:cNvPicPr/>
          <p:nvPr/>
        </p:nvPicPr>
        <p:blipFill>
          <a:blip r:embed="rId2"/>
          <a:stretch/>
        </p:blipFill>
        <p:spPr>
          <a:xfrm>
            <a:off x="5929200" y="2214720"/>
            <a:ext cx="2222640" cy="183816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3"/>
          <p:cNvSpPr/>
          <p:nvPr/>
        </p:nvSpPr>
        <p:spPr>
          <a:xfrm>
            <a:off x="1000080" y="4286160"/>
            <a:ext cx="56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Ребёнок имеет право на медицинское обслуживание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1" descr="Права ребенка_0008_новый размер.jpg"/>
          <p:cNvPicPr/>
          <p:nvPr/>
        </p:nvPicPr>
        <p:blipFill>
          <a:blip r:embed="rId1"/>
          <a:stretch/>
        </p:blipFill>
        <p:spPr>
          <a:xfrm>
            <a:off x="928800" y="571680"/>
            <a:ext cx="2960640" cy="21430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" descr="masha_2.jpg"/>
          <p:cNvPicPr/>
          <p:nvPr/>
        </p:nvPicPr>
        <p:blipFill>
          <a:blip r:embed="rId2"/>
          <a:stretch/>
        </p:blipFill>
        <p:spPr>
          <a:xfrm>
            <a:off x="6122880" y="2214720"/>
            <a:ext cx="2057400" cy="150012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3"/>
          <p:cNvSpPr/>
          <p:nvPr/>
        </p:nvSpPr>
        <p:spPr>
          <a:xfrm>
            <a:off x="714240" y="3929040"/>
            <a:ext cx="607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Ребёнок имеет право на бесплатное начальное образование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9-12-01T08:57:58Z</dcterms:modified>
  <cp:revision>34</cp:revision>
  <dc:subject/>
  <dc:title>Ваши права, дети!</dc:title>
</cp:coreProperties>
</file>