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3C6E-9415-41D4-B9F5-DA6DB6108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5D08-9386-40E1-8952-96F547A1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55D0-F97A-48B7-BCC4-4DDD0AFB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8258-372F-4FD3-A19C-372D03438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57FD-63F6-46DD-8E4C-C387A5FE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6F60-4564-427F-B70E-F062E1ED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FF50-B600-4B2E-8EB8-580B1D8B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E390-9AD5-46C6-8885-95AFEC3B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F29C-A9AD-4DC5-869F-D19873B9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2EBA-4B63-4338-8577-EE681780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5137-5F65-4588-940D-C7545515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3038-C7F4-45AD-923C-5DEBE412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F35E-CF48-4091-96EC-B2A748FB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EE79-FC6B-49D9-A51F-1725A289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2A4F-D04A-4D31-A0C2-3CE57848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680C-AF98-4A4B-BCC4-30BB8CA4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0721-7186-4422-9D82-7B9F0DEC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B5E1D-D479-4658-9028-DE4B430DB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4E0AF-4437-41C3-86E1-852D1EFA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15D87-E99D-4829-8871-124236F7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D06D6-6EC3-47F8-BB08-A4511FC2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54578-32BE-40C4-910B-DC065F47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0782-05BA-40CF-A7B7-36C1F2B3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6ADFE-AB9A-40D1-A8BA-AD762B57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B3359-2339-47B4-A135-6B971DC2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ED432-8CED-4CEF-8372-74A1DD47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2B967-93F2-4E06-BD01-877A6BC2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09D15-30A4-4E37-9956-C991B8F7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BB9A6-A963-4B98-8276-E0BAC2F8C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2BA74-01BD-471D-BC86-B9836373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F8FFD-B904-4D8A-842F-BE6AC3B6E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3D696-92E6-490E-AC69-54672F5C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978B6-0E00-47F7-AC53-92431544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8273-D3C6-4FED-BE79-90242C6C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9F169-4343-4338-8D7A-D713A8E9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40503-7B4B-4DA0-B6D7-F66D8782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11FAA-4C00-43FC-8998-245A395B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01F91-F65B-4474-8330-8ED7E146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AECC4-6E21-418C-8900-66265025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E0BC1-F686-45F8-8A3C-ADFCCDA1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D8709-24A1-4A28-8C57-AD585C23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231BD-B3AE-47EF-B3C3-A8696C66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B9342-725B-4F3B-A3FF-7BA7F172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08002-5BBB-47F0-9C8E-28C0E0878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8AFA-960A-4625-9258-A61523CD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E8617-21C5-41EB-9430-FFE05461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57000-3878-4C8A-B2EB-D59C266E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2D005-3D2F-4724-A8BB-43375CB5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09D1D-E26F-4C70-B718-AE4867F8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A0415-15F6-4393-B470-17E0F43D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35472-C6A0-4EC3-8016-47523960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4B8D1-B625-4E4E-B48D-0F68784A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DC594-E456-45F4-B4B2-DB414C75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E00BE-4A96-4E9D-99A3-EBF479F4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70704-EFBF-4FD2-8C08-0E335E46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44E0-C2F0-4229-8051-53D9F754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4EEDB-ADE7-4137-8859-8AE141D5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74A5C-E4AF-47DF-99D2-908B6CB4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41295-404C-48B1-9819-11F5FA89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86D8F-E1F0-4DD5-9F0C-6D58FA10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12DC8-FFA2-42C8-8161-5271F9CD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536D0-8CF6-4CF9-9F4B-65E7D241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BA8D9-4ABA-41A1-B13C-9E764E3C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05E54-6F71-490E-8E2B-83A1C3A8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A33A1-AB39-40F5-B916-4970CB42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EDCE8-F56F-4665-9AB8-7F73F4CE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DBE5-670C-4A04-AE4A-BA0BFDF4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B4812-85AE-40C9-BBCC-DC4F4A32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73490-8BFB-4881-8D5B-CB0193D7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071D3-0B3F-4416-971E-60DD54819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C5E40-506B-4A00-B83F-F7B1A888A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3BAF5-4B07-4D61-8E2B-831AF10D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F914D-7A42-4DA6-9233-30698FF7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26E12-D0F0-4E09-A173-4D787322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E45B6-95F1-49D9-A0BB-C96741BF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CEE1D-73AA-45E1-8E61-2E6F932C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D3092-16A9-49BE-BC30-E17C6F9E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A27F-646C-4B07-B80C-16980A4C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CCA77-0810-4ADB-85D5-5F382CCA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7FE7E-B122-43D8-88A3-F1E8AA57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E9CB7-F36F-4474-A3CC-661C4A01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EE6ED-5AB5-414C-9A52-362F891A0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AEDD1-19BE-4F62-BBE4-2889C683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EFB66-2BED-46FE-B40A-36AF8390C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EFD21-9D26-4D2C-BFB2-C29B6B49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A7357-5F18-46B9-B0A8-1C2C1248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209E6-E09B-4EDB-9D94-480442E4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A1FD6-D7AF-49EC-A44E-AA0AACC3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B18E-D7D7-40D0-9D61-713732B1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CB706-7D09-47A9-9C19-D2D35551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AA1E1-C501-40B1-9F68-36B12B8D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F32B3-640D-4C0B-A38B-9F5B889B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5DA07-6DD2-492A-8292-F5882284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714EE-E3C9-4488-8648-C7420DA4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7E959-F671-4E14-8EC2-AE16A927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7406D-D74E-4126-A7B5-D4B2AD130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59A1-270A-495B-988E-2CDB482AA06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c94d00"/>
              </a:gs>
              <a:gs pos="50000">
                <a:srgbClr val="ff8934"/>
              </a:gs>
              <a:gs pos="100000">
                <a:srgbClr val="c94d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fcb79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B710-BEF0-46B3-95EF-9C01082F6C9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e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3ded1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3383-31F9-4673-A3FB-2785B17A295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e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3ded1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23F2-789A-410B-B352-375BF392E4F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F395-7B77-4CCB-9A45-F80CA8BD09D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e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3ded1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5E03-9A6D-4DC2-A546-B2266EF52D3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688F-1833-4994-A379-ABDC376948D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e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3ded1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3E9F-1C46-4405-8E40-012E863B74B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071600" y="3571920"/>
            <a:ext cx="43578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                                                 </a:t>
            </a:r>
            <a:r>
              <a:rPr b="0" i="1" lang="ru-RU" sz="1100" spc="-1" strike="noStrike">
                <a:solidFill>
                  <a:srgbClr val="000000"/>
                </a:solidFill>
                <a:latin typeface="Lucida Sans Unicode"/>
              </a:rPr>
              <a:t>внеклассное мероприятие по теме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                                                  </a:t>
            </a:r>
            <a:r>
              <a:rPr b="0" i="1" lang="ru-RU" sz="1100" spc="-1" strike="noStrike">
                <a:solidFill>
                  <a:srgbClr val="000000"/>
                </a:solidFill>
                <a:latin typeface="Lucida Sans Unicode"/>
              </a:rPr>
              <a:t>«Конвенция о правах ребёнка»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                                                   </a:t>
            </a:r>
            <a:r>
              <a:rPr b="0" i="1" lang="ru-RU" sz="1100" spc="-1" strike="noStrike">
                <a:solidFill>
                  <a:srgbClr val="000000"/>
                </a:solidFill>
                <a:latin typeface="Lucida Sans Unicode"/>
              </a:rPr>
              <a:t>для учащихся 4-класса 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Lucida Sans Unicode"/>
              </a:rPr>
              <a:t>Классный руководитель    Марушина Ольга Петровна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Lucida Sans Unicode"/>
              </a:rPr>
              <a:t>                         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Заголовок 1" descr=""/>
          <p:cNvPicPr/>
          <p:nvPr/>
        </p:nvPicPr>
        <p:blipFill>
          <a:blip r:embed="rId1"/>
          <a:stretch/>
        </p:blipFill>
        <p:spPr>
          <a:xfrm>
            <a:off x="2048040" y="281160"/>
            <a:ext cx="6217920" cy="115092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3" descr="1289770092_masha_i_medved_12_seriy_bonus_2010_dvdrip_0.jpg"/>
          <p:cNvPicPr/>
          <p:nvPr/>
        </p:nvPicPr>
        <p:blipFill>
          <a:blip r:embed="rId2"/>
          <a:stretch/>
        </p:blipFill>
        <p:spPr>
          <a:xfrm>
            <a:off x="3286080" y="2000160"/>
            <a:ext cx="29415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Рисунок 1" descr="Права ребенка_0013_новый размер.jpg"/>
          <p:cNvPicPr/>
          <p:nvPr/>
        </p:nvPicPr>
        <p:blipFill>
          <a:blip r:embed="rId1"/>
          <a:stretch/>
        </p:blipFill>
        <p:spPr>
          <a:xfrm>
            <a:off x="1500120" y="285840"/>
            <a:ext cx="2397240" cy="228600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3" descr="aa8baf9b7f8a79a3211db7b9801.jpg"/>
          <p:cNvPicPr/>
          <p:nvPr/>
        </p:nvPicPr>
        <p:blipFill>
          <a:blip r:embed="rId2"/>
          <a:stretch/>
        </p:blipFill>
        <p:spPr>
          <a:xfrm>
            <a:off x="5429160" y="785880"/>
            <a:ext cx="2006640" cy="1633320"/>
          </a:xfrm>
          <a:prstGeom prst="rect">
            <a:avLst/>
          </a:prstGeom>
          <a:ln w="0">
            <a:noFill/>
          </a:ln>
        </p:spPr>
      </p:pic>
      <p:sp>
        <p:nvSpPr>
          <p:cNvPr id="375" name="Прямоугольник 3"/>
          <p:cNvSpPr/>
          <p:nvPr/>
        </p:nvSpPr>
        <p:spPr>
          <a:xfrm>
            <a:off x="857160" y="3071880"/>
            <a:ext cx="471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Ребёнок-лицо , не достигшее 18 лет»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т.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4"/>
          <p:cNvSpPr/>
          <p:nvPr/>
        </p:nvSpPr>
        <p:spPr>
          <a:xfrm>
            <a:off x="785880" y="4000680"/>
            <a:ext cx="542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Ребёнок имеет право на имя и национальность»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т.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Рисунок 1" descr="Права ребенка_0005_новый размер.jpg"/>
          <p:cNvPicPr/>
          <p:nvPr/>
        </p:nvPicPr>
        <p:blipFill>
          <a:blip r:embed="rId1"/>
          <a:stretch/>
        </p:blipFill>
        <p:spPr>
          <a:xfrm>
            <a:off x="857160" y="285840"/>
            <a:ext cx="3380040" cy="221436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2" descr="bd505a202978.jpg"/>
          <p:cNvPicPr/>
          <p:nvPr/>
        </p:nvPicPr>
        <p:blipFill>
          <a:blip r:embed="rId2"/>
          <a:stretch/>
        </p:blipFill>
        <p:spPr>
          <a:xfrm>
            <a:off x="5738760" y="1285920"/>
            <a:ext cx="2262240" cy="1785960"/>
          </a:xfrm>
          <a:prstGeom prst="rect">
            <a:avLst/>
          </a:prstGeom>
          <a:ln w="0">
            <a:noFill/>
          </a:ln>
        </p:spPr>
      </p:pic>
      <p:sp>
        <p:nvSpPr>
          <p:cNvPr id="379" name="Прямоугольник 4"/>
          <p:cNvSpPr/>
          <p:nvPr/>
        </p:nvSpPr>
        <p:spPr>
          <a:xfrm>
            <a:off x="571680" y="3643200"/>
            <a:ext cx="528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Ребёнок   имеет право на игры, отдых и досуг»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т.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Рисунок 1" descr="Права ребенка_0007_новый размер.jpg"/>
          <p:cNvPicPr/>
          <p:nvPr/>
        </p:nvPicPr>
        <p:blipFill>
          <a:blip r:embed="rId3"/>
          <a:stretch/>
        </p:blipFill>
        <p:spPr>
          <a:xfrm>
            <a:off x="5072040" y="4286160"/>
            <a:ext cx="2890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Рисунок 1" descr="Права ребенка_0011_новый размер.jpg"/>
          <p:cNvPicPr/>
          <p:nvPr/>
        </p:nvPicPr>
        <p:blipFill>
          <a:blip r:embed="rId1"/>
          <a:stretch/>
        </p:blipFill>
        <p:spPr>
          <a:xfrm>
            <a:off x="1071720" y="285840"/>
            <a:ext cx="2781000" cy="192888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3" descr="1286618361_snapshot20101009112420.jpg"/>
          <p:cNvPicPr/>
          <p:nvPr/>
        </p:nvPicPr>
        <p:blipFill>
          <a:blip r:embed="rId2"/>
          <a:stretch/>
        </p:blipFill>
        <p:spPr>
          <a:xfrm>
            <a:off x="5357880" y="928800"/>
            <a:ext cx="2047680" cy="1755720"/>
          </a:xfrm>
          <a:prstGeom prst="rect">
            <a:avLst/>
          </a:prstGeom>
          <a:ln w="0">
            <a:noFill/>
          </a:ln>
        </p:spPr>
      </p:pic>
      <p:sp>
        <p:nvSpPr>
          <p:cNvPr id="383" name="Прямоугольник 3"/>
          <p:cNvSpPr/>
          <p:nvPr/>
        </p:nvSpPr>
        <p:spPr>
          <a:xfrm>
            <a:off x="928800" y="3143160"/>
            <a:ext cx="6715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бёнок имеет право на защиту от физического и психического насилия»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т. 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Рисунок 1" descr="Права ребенка_0004_новый размер.jpg"/>
          <p:cNvPicPr/>
          <p:nvPr/>
        </p:nvPicPr>
        <p:blipFill>
          <a:blip r:embed="rId1"/>
          <a:stretch/>
        </p:blipFill>
        <p:spPr>
          <a:xfrm>
            <a:off x="1071720" y="428760"/>
            <a:ext cx="3770280" cy="264312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2" descr="1288811020_ac7c6d38e560.jpg"/>
          <p:cNvPicPr/>
          <p:nvPr/>
        </p:nvPicPr>
        <p:blipFill>
          <a:blip r:embed="rId2"/>
          <a:stretch/>
        </p:blipFill>
        <p:spPr>
          <a:xfrm>
            <a:off x="5929200" y="2214720"/>
            <a:ext cx="2222640" cy="183816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оугольник 3"/>
          <p:cNvSpPr/>
          <p:nvPr/>
        </p:nvSpPr>
        <p:spPr>
          <a:xfrm>
            <a:off x="1000080" y="4286160"/>
            <a:ext cx="56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Ребёнок имеет право на медицинское обслуживание»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т. 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Рисунок 1" descr="Права ребенка_0008_новый размер.jpg"/>
          <p:cNvPicPr/>
          <p:nvPr/>
        </p:nvPicPr>
        <p:blipFill>
          <a:blip r:embed="rId1"/>
          <a:stretch/>
        </p:blipFill>
        <p:spPr>
          <a:xfrm>
            <a:off x="928800" y="571680"/>
            <a:ext cx="2960640" cy="214308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2" descr="masha_2.jpg"/>
          <p:cNvPicPr/>
          <p:nvPr/>
        </p:nvPicPr>
        <p:blipFill>
          <a:blip r:embed="rId2"/>
          <a:stretch/>
        </p:blipFill>
        <p:spPr>
          <a:xfrm>
            <a:off x="6122880" y="2214720"/>
            <a:ext cx="2057400" cy="1500120"/>
          </a:xfrm>
          <a:prstGeom prst="rect">
            <a:avLst/>
          </a:prstGeom>
          <a:ln w="0">
            <a:noFill/>
          </a:ln>
        </p:spPr>
      </p:pic>
      <p:sp>
        <p:nvSpPr>
          <p:cNvPr id="389" name="Прямоугольник 3"/>
          <p:cNvSpPr/>
          <p:nvPr/>
        </p:nvSpPr>
        <p:spPr>
          <a:xfrm>
            <a:off x="714240" y="3929040"/>
            <a:ext cx="607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Ребёнок имеет право на бесплатное начальное образование»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т.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иколай</cp:lastModifiedBy>
  <dcterms:modified xsi:type="dcterms:W3CDTF">2019-12-01T08:57:58Z</dcterms:modified>
  <cp:revision>34</cp:revision>
  <dc:subject/>
  <dc:title>Ваши права, дети!</dc:title>
</cp:coreProperties>
</file>