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FC4-C506-4B7A-BD7F-412E854D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C0D-DCB9-4372-BCA3-AA98113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00E-EF48-4D6E-8A21-AA8544ED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831-CBDE-4A80-BBCB-8BBC3A47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2D9-E926-4493-B506-ABC9BC2F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E10-9EEF-4889-8F14-65DC4566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44D-BCAF-42F4-BF2B-0BD5119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B04-216C-48DD-BDB4-082CF9A8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7B0-5D89-4986-B4B0-046C602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481-9A3C-4259-9555-8591CD4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2B7-D4CE-470B-AC17-78DB789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295-7947-4234-82E2-356623A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рам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488-467D-4235-BC1C-21DD07274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регул"/>
          <p:cNvPicPr/>
          <p:nvPr/>
        </p:nvPicPr>
        <p:blipFill>
          <a:blip r:embed="rId3"/>
          <a:stretch/>
        </p:blipFill>
        <p:spPr>
          <a:xfrm>
            <a:off x="179280" y="4508640"/>
            <a:ext cx="1657440" cy="2133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пдд2"/>
          <p:cNvPicPr/>
          <p:nvPr/>
        </p:nvPicPr>
        <p:blipFill>
          <a:blip r:embed="rId4"/>
          <a:stretch/>
        </p:blipFill>
        <p:spPr>
          <a:xfrm>
            <a:off x="3708360" y="0"/>
            <a:ext cx="179712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332[1]"/>
          <p:cNvPicPr/>
          <p:nvPr/>
        </p:nvPicPr>
        <p:blipFill>
          <a:blip r:embed="rId1"/>
          <a:stretch/>
        </p:blipFill>
        <p:spPr>
          <a:xfrm>
            <a:off x="1908000" y="765000"/>
            <a:ext cx="5160960" cy="387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71400" y="4642920"/>
            <a:ext cx="70722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Школьный конкурс  по ПД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Ребенок –пешеход,  как участник дорожного дв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регул"/>
          <p:cNvPicPr/>
          <p:nvPr/>
        </p:nvPicPr>
        <p:blipFill>
          <a:blip r:embed="rId2"/>
          <a:stretch/>
        </p:blipFill>
        <p:spPr>
          <a:xfrm>
            <a:off x="0" y="4437000"/>
            <a:ext cx="1881360" cy="24210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3"/>
          <p:cNvSpPr/>
          <p:nvPr/>
        </p:nvSpPr>
        <p:spPr>
          <a:xfrm>
            <a:off x="1500120" y="6143760"/>
            <a:ext cx="578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anfary_na_brejn_ring_-_Mozhno_sdelat_audio-afishu_(iPleer.fm).mp3" descr=""/>
          <p:cNvPicPr/>
          <p:nvPr/>
        </p:nvPicPr>
        <p:blipFill>
          <a:blip r:embed="rId3"/>
          <a:stretch/>
        </p:blipFill>
        <p:spPr>
          <a:xfrm>
            <a:off x="35892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акого возраста, согласно Правилам дорожного движения, разрешено управлять велосипедом при движении по дорогам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680" y="4500360"/>
            <a:ext cx="81151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6084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моложе 14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де можно кататься на роликах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1680" y="2357280"/>
            <a:ext cx="82296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084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юбой ровной поверхности, но обязательно далеко от транспортных средств и скопления пеше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должен выполнять требования Федерального закона «О безопасности дорожного движения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57240" y="4142880"/>
            <a:ext cx="6615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6084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е граждане на  территории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разница между информационно – указательным знаком «Пешеходный переход» и предупреждающим «Пешеходный переход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2356920"/>
            <a:ext cx="751536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6084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 – указательный знак прямоугольной формы, обозначает участок проезжей части, выделенный для движения пешеход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редупреждающий треугольной формы – предупреждает водителей о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лижении к пешеходному пере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User\Desktop\пешеходный переход.jpg"/>
          <p:cNvPicPr/>
          <p:nvPr/>
        </p:nvPicPr>
        <p:blipFill>
          <a:blip r:embed="rId1"/>
          <a:stretch/>
        </p:blipFill>
        <p:spPr>
          <a:xfrm>
            <a:off x="5867280" y="2349360"/>
            <a:ext cx="1225800" cy="11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User\Desktop\пеш. перех. 2.jpg"/>
          <p:cNvPicPr/>
          <p:nvPr/>
        </p:nvPicPr>
        <p:blipFill>
          <a:blip r:embed="rId2"/>
          <a:stretch/>
        </p:blipFill>
        <p:spPr>
          <a:xfrm>
            <a:off x="5661000" y="530064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чего необходимы дорожные знак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08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авливают порядок в дорожном движении, предупреждают об опасности, устанавливают направление движения, вводят необходимые запреты и ограни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138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РАУНД: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499760"/>
            <a:ext cx="828648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пешеходный троту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53960" y="270828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Пользователь\Pictures\i (1).jpg"/>
          <p:cNvPicPr/>
          <p:nvPr/>
        </p:nvPicPr>
        <p:blipFill>
          <a:blip r:embed="rId1"/>
          <a:stretch/>
        </p:blipFill>
        <p:spPr>
          <a:xfrm>
            <a:off x="2928960" y="3000240"/>
            <a:ext cx="3214800" cy="2040120"/>
          </a:xfrm>
          <a:prstGeom prst="rect">
            <a:avLst/>
          </a:prstGeom>
          <a:ln w="0">
            <a:noFill/>
          </a:ln>
        </p:spPr>
      </p:pic>
      <p:pic>
        <p:nvPicPr>
          <p:cNvPr id="53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08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тличие дороги с односторонним движением от дороги с двусторонним движением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00120" y="3071520"/>
            <a:ext cx="73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6084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я - проезжая часть по всей ширине используется для движения транспорта только налево или только напра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я – транспортные средства движутся навстречу друг другу по правой стороне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- 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356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должен поступить учащийся, видя нарушение Правил дорожного движения другими ребятам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6084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учащийся должен удержать своих товарищей от нарушения Правил движения и разъяснять им опасность эт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 пешеход должен ходить по улиц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71760" y="4142880"/>
            <a:ext cx="7300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084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отуару, придерживаясь пра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s://im0-tub-ru.yandex.net/i?id=7cc2ab4e97c04b9235820de81795de67&amp;n=33&amp;h=215&amp;w=336"/>
          <p:cNvPicPr/>
          <p:nvPr/>
        </p:nvPicPr>
        <p:blipFill>
          <a:blip r:embed="rId1"/>
          <a:stretch/>
        </p:blipFill>
        <p:spPr>
          <a:xfrm>
            <a:off x="2627280" y="2476440"/>
            <a:ext cx="6103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должен ходить пешеход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28880" y="3714480"/>
            <a:ext cx="69292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6084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евой обочине навстречу движению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де пешеходы могут переходить ул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8480" y="2928600"/>
            <a:ext cx="7515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6084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екрестках, где есть указатели «пешеходный переход", по пешеходным дорожкам, нанесенным на мостовую белой краской, подземным пешеходным перех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часть улицы, где ходят пешех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Пользователь\Pictures\i (1).jpg"/>
          <p:cNvPicPr/>
          <p:nvPr/>
        </p:nvPicPr>
        <p:blipFill>
          <a:blip r:embed="rId1"/>
          <a:stretch/>
        </p:blipFill>
        <p:spPr>
          <a:xfrm>
            <a:off x="3059280" y="3357720"/>
            <a:ext cx="3214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нельзя появляться внезапно перед близко идущим транспор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43040" y="3428640"/>
            <a:ext cx="7143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6084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шофер не может мгновенно остановить маш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м машинам разрешено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800" y="2786040"/>
            <a:ext cx="72864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6084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ой, "скорой помощи", "полиции", "газовая служба" при включенных световых и звуковых сигна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лицо, находящееся вне транспортного средства на дороге и не производящее на нем работ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6084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ш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немеханическое транспортное средство человек может вести руками по дороге, чтобы приравниваться к пешеходу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6084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s://multiprokat.com/wp-content/uploads/2017/05/764f0aac96d7251f8190d275cf635d8c-848x566.jpg"/>
          <p:cNvPicPr/>
          <p:nvPr/>
        </p:nvPicPr>
        <p:blipFill>
          <a:blip r:embed="rId1"/>
          <a:stretch/>
        </p:blipFill>
        <p:spPr>
          <a:xfrm>
            <a:off x="2340000" y="2708280"/>
            <a:ext cx="4968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м знаком обозначается транспортное средство спереди и сзади, используемое для перевозки детей, показать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6084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s://im0-tub-ru.yandex.net/i?id=fa2aa2ed4767aace29c54f5bc3d6c4fc-l&amp;n=13"/>
          <p:cNvPicPr/>
          <p:nvPr/>
        </p:nvPicPr>
        <p:blipFill>
          <a:blip r:embed="rId1"/>
          <a:stretch/>
        </p:blipFill>
        <p:spPr>
          <a:xfrm>
            <a:off x="2268360" y="3162240"/>
            <a:ext cx="4607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идти, если нет тротуар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Users\Пользователь\Pictures\i (2).jpg"/>
          <p:cNvPicPr/>
          <p:nvPr/>
        </p:nvPicPr>
        <p:blipFill>
          <a:blip r:embed="rId1"/>
          <a:stretch/>
        </p:blipFill>
        <p:spPr>
          <a:xfrm>
            <a:off x="1500120" y="1785960"/>
            <a:ext cx="6215040" cy="3108240"/>
          </a:xfrm>
          <a:prstGeom prst="rect">
            <a:avLst/>
          </a:prstGeom>
          <a:ln w="0">
            <a:noFill/>
          </a:ln>
        </p:spPr>
      </p:pic>
      <p:pic>
        <p:nvPicPr>
          <p:cNvPr id="60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6084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должен быть оборудован велосипед для безопасной ез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57200" y="3357360"/>
            <a:ext cx="7143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6084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осипед должен иметь исправные тормоза, звонок, а с наступлением темноты - зажженный фонарь спереди и красный отражатель света сз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9800" y="571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-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4200" y="1642680"/>
            <a:ext cx="8358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определить, что автомобиль собирается совершить поворот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608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втомобиле должен мигать желтый указатель повор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опасно пересекать проезжую часть наискосок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28800" y="2642760"/>
            <a:ext cx="74721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6084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ь пешехода становится длиннее, кроме того, пешеход поворачивается спиной к транспортным средствам  и не видит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ступить, если при переходе проезжей части, ты уронил какую – нибудь вещ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28440" y="3643200"/>
            <a:ext cx="744372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6084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поднимать опасно. Надо закончить переход проезжей части и попросить взрослого   человека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ешеходного перехода остановился автомобиль. Водитель показывает жестом руки, что переходить можно. Как следует поступить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6084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переходить, убедившись, что этот стоящий автомобиль не объезжают другие транспорт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левой обочине дороги, навстречу движущимся транспортным средства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ds03.infourok.ru/uploads/ex/0fdf/0002a7ee-b5dc04bb/img21.jpg"/>
          <p:cNvPicPr/>
          <p:nvPr/>
        </p:nvPicPr>
        <p:blipFill>
          <a:blip r:embed="rId1"/>
          <a:stretch/>
        </p:blipFill>
        <p:spPr>
          <a:xfrm>
            <a:off x="2556000" y="306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чему перекресток считается одним из самых опасных          мест на дороге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6084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екрестке пересекаются пути движения пешеходов и транспортных средств, которые могут двигаться прямо, поворачиват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значает термин «разделительная полоса»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6084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( полоса) горизонтальной дорожной разметки белого цвета, она разделяет транспортные потоки противоположных напра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означает сочетание красного и желтого сигналов светофора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6084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щение движения и информация о предстоящем включении зеле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означает для пешехода сигнал регулировщика, если у него руки вытянуты в стороны или опущены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3786120"/>
            <a:ext cx="7572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6084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ороны левого и правого бока разрешено переходить проезжую часть. Со стороны груди и         спины 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значает знак: белый круг с красной каймой, внутри которого изображен велосипеди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28840" y="3928680"/>
            <a:ext cx="62863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6084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знак запрещает езду на велосип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следует  переходить улицу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332[1]"/>
          <p:cNvPicPr/>
          <p:nvPr/>
        </p:nvPicPr>
        <p:blipFill>
          <a:blip r:embed="rId1"/>
          <a:stretch/>
        </p:blipFill>
        <p:spPr>
          <a:xfrm>
            <a:off x="2857680" y="2357280"/>
            <a:ext cx="3259080" cy="2449800"/>
          </a:xfrm>
          <a:prstGeom prst="rect">
            <a:avLst/>
          </a:prstGeom>
          <a:ln w="0">
            <a:noFill/>
          </a:ln>
        </p:spPr>
      </p:pic>
      <p:pic>
        <p:nvPicPr>
          <p:cNvPr id="67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8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ть в случае, если пешеход не успел завершить начатый им путь через проезжую часть дороги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4280" y="2357280"/>
            <a:ext cx="7715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6084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остановиться на линии, разделяющей транспортные потоки противоположных направлений. Продолжать переход можно, лишь убедившись в безопасности дальнейшего движения и с учетом сигнала свето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ешеходному пере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rabochy-put.ru/upload/iblock/176/98a4859a8e1473ad1075f9cb24b98cde8c415dca.jpg"/>
          <p:cNvPicPr/>
          <p:nvPr/>
        </p:nvPicPr>
        <p:blipFill>
          <a:blip r:embed="rId1"/>
          <a:stretch/>
        </p:blipFill>
        <p:spPr>
          <a:xfrm>
            <a:off x="2195640" y="2295360"/>
            <a:ext cx="54007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называется площадью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500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6084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ресток, где пересекаются или берут начало несколько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varlamov.me/img/moscow_hotel1/20.jpg"/>
          <p:cNvPicPr/>
          <p:nvPr/>
        </p:nvPicPr>
        <p:blipFill>
          <a:blip r:embed="rId1"/>
          <a:stretch/>
        </p:blipFill>
        <p:spPr>
          <a:xfrm>
            <a:off x="1979640" y="2646360"/>
            <a:ext cx="59706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4:33:55Z</dcterms:created>
  <dc:creator>Сергей Маратканов</dc:creator>
  <dc:description/>
  <dc:language>en-US</dc:language>
  <cp:lastModifiedBy>User</cp:lastModifiedBy>
  <dcterms:modified xsi:type="dcterms:W3CDTF">2019-12-01T16:04:59Z</dcterms:modified>
  <cp:revision>26</cp:revision>
  <dc:subject/>
  <dc:title>Слайд 1</dc:title>
</cp:coreProperties>
</file>