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73FC-8905-40FF-91D8-B3609AD02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6CAA-A583-4CB5-97BB-552F6CBE8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9C09-C75C-4189-A6C8-048B9B253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EF06-017E-43B6-8CDF-6F7AD8A31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CC7F-460E-4BF7-AFEF-124DB2943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B03D-B5F1-4A63-8348-C813CE5FF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991A-0BEA-47DA-A1CF-936377655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8D19-8FDC-4DEA-9CD4-7703E39D0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A47F-BF57-4723-8DD5-3B513507F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DB63-C4AC-4F4B-8AA4-8B1170A4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A11E-3CE5-4513-AA21-EAF7ADD6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777A-96D1-4D65-8D1B-26338861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рамк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A1736-94D2-42B7-BEE3-AD9D26828E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7" descr="регул"/>
          <p:cNvPicPr/>
          <p:nvPr/>
        </p:nvPicPr>
        <p:blipFill>
          <a:blip r:embed="rId3"/>
          <a:stretch/>
        </p:blipFill>
        <p:spPr>
          <a:xfrm>
            <a:off x="179280" y="4508640"/>
            <a:ext cx="1657440" cy="213336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пдд2"/>
          <p:cNvPicPr/>
          <p:nvPr/>
        </p:nvPicPr>
        <p:blipFill>
          <a:blip r:embed="rId4"/>
          <a:stretch/>
        </p:blipFill>
        <p:spPr>
          <a:xfrm>
            <a:off x="3708360" y="0"/>
            <a:ext cx="1797120" cy="671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9" descr="332[1]"/>
          <p:cNvPicPr/>
          <p:nvPr/>
        </p:nvPicPr>
        <p:blipFill>
          <a:blip r:embed="rId1"/>
          <a:stretch/>
        </p:blipFill>
        <p:spPr>
          <a:xfrm>
            <a:off x="1908000" y="765000"/>
            <a:ext cx="5160960" cy="38782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571400" y="4642920"/>
            <a:ext cx="7072200" cy="17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Школьный конкурс  по ПД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«Ребенок –пешеход,  как участник дорожного движе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регул"/>
          <p:cNvPicPr/>
          <p:nvPr/>
        </p:nvPicPr>
        <p:blipFill>
          <a:blip r:embed="rId2"/>
          <a:stretch/>
        </p:blipFill>
        <p:spPr>
          <a:xfrm>
            <a:off x="0" y="4437000"/>
            <a:ext cx="1881360" cy="2421000"/>
          </a:xfrm>
          <a:prstGeom prst="rect">
            <a:avLst/>
          </a:prstGeom>
          <a:ln w="0">
            <a:noFill/>
          </a:ln>
        </p:spPr>
      </p:pic>
      <p:sp>
        <p:nvSpPr>
          <p:cNvPr id="47" name="Нижний колонтитул 3"/>
          <p:cNvSpPr/>
          <p:nvPr/>
        </p:nvSpPr>
        <p:spPr>
          <a:xfrm>
            <a:off x="1500120" y="6143760"/>
            <a:ext cx="5786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Fanfary_na_brejn_ring_-_Mozhno_sdelat_audio-afishu_(iPleer.fm).mp3" descr=""/>
          <p:cNvPicPr/>
          <p:nvPr/>
        </p:nvPicPr>
        <p:blipFill>
          <a:blip r:embed="rId3"/>
          <a:stretch/>
        </p:blipFill>
        <p:spPr>
          <a:xfrm>
            <a:off x="358920" y="333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8792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358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 какого возраста, согласно Правилам дорожного движения, разрешено управлять велосипедом при движении по дорогам?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71680" y="4500360"/>
            <a:ext cx="8115120" cy="16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brejn_ring_-_fragment_2_(iPleer.fm).mp3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04" nodeType="clickEffect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" dur="60840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е моложе 14 л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0040" y="64296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Где можно кататься на роликах?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71680" y="2357280"/>
            <a:ext cx="8229600" cy="26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brejn_ring_-_fragment_2_(iPleer.fm).mp3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10" nodeType="clickEffect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60840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любой ровной поверхности, но обязательно далеко от транспортных средств и скопления пешех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329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то должен выполнять требования Федерального закона «О безопасности дорожного движения»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857240" y="4142880"/>
            <a:ext cx="6615360" cy="18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brejn_ring_-_fragment_2_(iPleer.fm).mp3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16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9" dur="60840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Все граждане на  территории Росс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57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чем разница между информационно – указательным знаком «Пешеходный переход» и предупреждающим «Пешеходный переход»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57200" y="2356920"/>
            <a:ext cx="7515360" cy="382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brejn_ring_-_fragment_2_(iPleer.fm).mp3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30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" dur="60840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720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ормационно – указательный знак прямоугольной формы, обозначает участок проезжей части, выделенный для движения пешеходо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предупреждающий треугольной формы – предупреждает водителей о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ближении к пешеходному перех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C:\Users\User\Desktop\пешеходный переход.jpg"/>
          <p:cNvPicPr/>
          <p:nvPr/>
        </p:nvPicPr>
        <p:blipFill>
          <a:blip r:embed="rId1"/>
          <a:stretch/>
        </p:blipFill>
        <p:spPr>
          <a:xfrm>
            <a:off x="5867280" y="2349360"/>
            <a:ext cx="1225800" cy="1187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C:\Users\User\Desktop\пеш. перех. 2.jpg"/>
          <p:cNvPicPr/>
          <p:nvPr/>
        </p:nvPicPr>
        <p:blipFill>
          <a:blip r:embed="rId2"/>
          <a:stretch/>
        </p:blipFill>
        <p:spPr>
          <a:xfrm>
            <a:off x="5661000" y="5300640"/>
            <a:ext cx="18367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ля чего необходимы дорожные знаки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brejn_ring_-_fragment_2_(iPleer.fm).mp3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36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9" dur="6084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анавливают порядок в дорожном движении, предупреждают об опасности, устанавливают направление движения, вводят необходимые запреты и ограни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71840" y="213840"/>
            <a:ext cx="3929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- РАУНД:</a:t>
            </a:r>
            <a:br>
              <a:rPr sz="48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28760" y="1499760"/>
            <a:ext cx="8286480" cy="15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такое пешеходный тротуар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1353960" y="2708280"/>
            <a:ext cx="7143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C:\Users\Пользователь\Pictures\i (1).jpg"/>
          <p:cNvPicPr/>
          <p:nvPr/>
        </p:nvPicPr>
        <p:blipFill>
          <a:blip r:embed="rId1"/>
          <a:stretch/>
        </p:blipFill>
        <p:spPr>
          <a:xfrm>
            <a:off x="2928960" y="3000240"/>
            <a:ext cx="3214800" cy="2040120"/>
          </a:xfrm>
          <a:prstGeom prst="rect">
            <a:avLst/>
          </a:prstGeom>
          <a:ln w="0">
            <a:noFill/>
          </a:ln>
        </p:spPr>
      </p:pic>
      <p:pic>
        <p:nvPicPr>
          <p:cNvPr id="53" name="brejn_ring_-_fragment_2_(iPleer.fm).mp3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47" nodeType="clickEffect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60840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6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чем отличие дороги с односторонним движением от дороги с двусторонним движением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500120" y="3071520"/>
            <a:ext cx="7329600" cy="32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brejn_ring_-_fragment_2_(iPleer.fm).mp3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50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3" dur="60840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-я - проезжая часть по всей ширине используется для движения транспорта только налево или только направо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-я – транспортные средства движутся навстречу друг другу по правой стороне проезжей ч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2 -  раун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28760" y="1356840"/>
            <a:ext cx="8229600" cy="16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 должен поступить учащийся, видя нарушение Правил дорожного движения другими ребятами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brejn_ring_-_fragment_2_(iPleer.fm).mp3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76" nodeType="clickEffect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" dur="60840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ждый учащийся должен удержать своих товарищей от нарушения Правил движения и разъяснять им опасность эт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28760" y="128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Как пешеход должен ходить по улице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571760" y="4142880"/>
            <a:ext cx="7300800" cy="16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brejn_ring_-_fragment_2_(iPleer.fm).mp3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90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3" dur="60840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тротуару, придерживаясь правой сторо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https://im0-tub-ru.yandex.net/i?id=7cc2ab4e97c04b9235820de81795de67&amp;n=33&amp;h=215&amp;w=336"/>
          <p:cNvPicPr/>
          <p:nvPr/>
        </p:nvPicPr>
        <p:blipFill>
          <a:blip r:embed="rId1"/>
          <a:stretch/>
        </p:blipFill>
        <p:spPr>
          <a:xfrm>
            <a:off x="2627280" y="2476440"/>
            <a:ext cx="610380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8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к должен ходить пешеход при отсутствии тротуар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928880" y="3714480"/>
            <a:ext cx="6929280" cy="19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brejn_ring_-_fragment_2_(iPleer.fm).mp3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204" nodeType="clickEffect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" dur="60840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левой обочине навстречу движению транспор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Где пешеходы могут переходить улиц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428480" y="2928600"/>
            <a:ext cx="751500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brejn_ring_-_fragment_2_(iPleer.fm).mp3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18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1" dur="60840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перекрестках, где есть указатели «пешеходный переход", по пешеходным дорожкам, нанесенным на мостовую белой краской, подземным пешеходным переход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то часть улицы, где ходят пешеход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C:\Users\Пользователь\Pictures\i (1).jpg"/>
          <p:cNvPicPr/>
          <p:nvPr/>
        </p:nvPicPr>
        <p:blipFill>
          <a:blip r:embed="rId1"/>
          <a:stretch/>
        </p:blipFill>
        <p:spPr>
          <a:xfrm>
            <a:off x="3059280" y="3357720"/>
            <a:ext cx="3214440" cy="20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8760" y="99972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чему нельзя появляться внезапно перед близко идущим транспорто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643040" y="3428640"/>
            <a:ext cx="714384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     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brejn_ring_-_fragment_2_(iPleer.fm).mp3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232" nodeType="clickEffect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5" dur="60840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тому что шофер не может мгновенно остановить маши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1680" y="857160"/>
            <a:ext cx="8229600" cy="18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ким машинам разрешено ехать на красный свет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28800" y="2786040"/>
            <a:ext cx="728640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brejn_ring_-_fragment_2_(iPleer.fm).mp3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246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9" dur="60840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жарной, "скорой помощи", "полиции", "газовая служба" при включенных световых и звуковых сигнал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0040" y="999720"/>
            <a:ext cx="8229600" cy="27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 называется лицо, находящееся вне транспортного средства на дороге и не производящее на нем работу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brejn_ring_-_fragment_2_(iPleer.fm).mp3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252" nodeType="clickEffect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5" dur="60840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шех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32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ое немеханическое транспортное средство человек может вести руками по дороге, чтобы приравниваться к пешеходу?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brejn_ring_-_fragment_2_(iPleer.fm).mp3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258" nodeType="clickEffect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1" dur="60840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лосип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https://multiprokat.com/wp-content/uploads/2017/05/764f0aac96d7251f8190d275cf635d8c-848x566.jpg"/>
          <p:cNvPicPr/>
          <p:nvPr/>
        </p:nvPicPr>
        <p:blipFill>
          <a:blip r:embed="rId1"/>
          <a:stretch/>
        </p:blipFill>
        <p:spPr>
          <a:xfrm>
            <a:off x="2340000" y="2708280"/>
            <a:ext cx="496872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0040" y="1143000"/>
            <a:ext cx="822960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им знаком обозначается транспортное средство спереди и сзади, используемое для перевозки детей, показать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brejn_ring_-_fragment_2_(iPleer.fm).mp3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264" nodeType="clickEffect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7" dur="60840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https://im0-tub-ru.yandex.net/i?id=fa2aa2ed4767aace29c54f5bc3d6c4fc-l&amp;n=13"/>
          <p:cNvPicPr/>
          <p:nvPr/>
        </p:nvPicPr>
        <p:blipFill>
          <a:blip r:embed="rId1"/>
          <a:stretch/>
        </p:blipFill>
        <p:spPr>
          <a:xfrm>
            <a:off x="2268360" y="3162240"/>
            <a:ext cx="46072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де идти, если нет тротуара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C:\Users\Пользователь\Pictures\i (2).jpg"/>
          <p:cNvPicPr/>
          <p:nvPr/>
        </p:nvPicPr>
        <p:blipFill>
          <a:blip r:embed="rId1"/>
          <a:stretch/>
        </p:blipFill>
        <p:spPr>
          <a:xfrm>
            <a:off x="1500120" y="1785960"/>
            <a:ext cx="6215040" cy="3108240"/>
          </a:xfrm>
          <a:prstGeom prst="rect">
            <a:avLst/>
          </a:prstGeom>
          <a:ln w="0">
            <a:noFill/>
          </a:ln>
        </p:spPr>
      </p:pic>
      <p:pic>
        <p:nvPicPr>
          <p:cNvPr id="60" name="brejn_ring_-_fragment_2_(iPleer.fm).mp3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70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6084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28760" y="928440"/>
            <a:ext cx="822960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ем должен быть оборудован велосипед для безопасной езды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357200" y="3357360"/>
            <a:ext cx="714384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brejn_ring_-_fragment_2_(iPleer.fm).mp3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7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278" nodeType="clickEffect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1" dur="60840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лосипед должен иметь исправные тормоза, звонок, а с наступлением темноты - зажженный фонарь спереди и красный отражатель света сза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99800" y="5713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3 - раун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14200" y="1642680"/>
            <a:ext cx="835848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 определить, что автомобиль собирается совершить поворот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brejn_ring_-_fragment_2_(iPleer.fm).mp3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7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298" nodeType="clickEffect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1" dur="60840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автомобиле должен мигать желтый указатель поворо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чему опасно пересекать проезжую часть наискосок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928800" y="2642760"/>
            <a:ext cx="747216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brejn_ring_-_fragment_2_(iPleer.fm).mp3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1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312" nodeType="clickEffect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5" dur="60840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ть пешехода становится длиннее, кроме того, пешеход поворачивается спиной к транспортным средствам  и не видит 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285560"/>
            <a:ext cx="822960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 поступить, если при переходе проезжей части, ты уронил какую – нибудь вещь?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928440" y="3643200"/>
            <a:ext cx="7443720" cy="21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brejn_ring_-_fragment_2_(iPleer.fm).mp3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326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9" dur="60840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ому поднимать опасно. Надо закончить переход проезжей части и попросить взрослого   человека помоч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0040" y="999720"/>
            <a:ext cx="8229600" cy="30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 пешеходного перехода остановился автомобиль. Водитель показывает жестом руки, что переходить можно. Как следует поступить?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brejn_ring_-_fragment_2_(iPleer.fm).mp3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332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5" dur="60840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до переходить, убедившись, что этот стоящий автомобиль не объезжают другие транспортные сред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 левой обочине дороги, навстречу движущимся транспортным средствам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https://ds03.infourok.ru/uploads/ex/0fdf/0002a7ee-b5dc04bb/img21.jpg"/>
          <p:cNvPicPr/>
          <p:nvPr/>
        </p:nvPicPr>
        <p:blipFill>
          <a:blip r:embed="rId1"/>
          <a:stretch/>
        </p:blipFill>
        <p:spPr>
          <a:xfrm>
            <a:off x="2556000" y="3068640"/>
            <a:ext cx="4608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6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чему перекресток считается одним из самых опасных          мест на дороге?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brejn_ring_-_fragment_2_(iPleer.fm).mp3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338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1" dur="60840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перекрестке пересекаются пути движения пешеходов и транспортных средств, которые могут двигаться прямо, поворачивать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то означает термин «разделительная полоса»?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brejn_ring_-_fragment_2_(iPleer.fm).mp3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344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7" dur="60840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ния( полоса) горизонтальной дорожной разметки белого цвета, она разделяет транспортные потоки противоположных направл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Что означает сочетание красного и желтого сигналов светофора?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brejn_ring_-_fragment_2_(iPleer.fm).mp3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350" nodeType="clickEffect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3" dur="60840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рещение движения и информация о предстоящем включении зеле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8760" y="928800"/>
            <a:ext cx="8229600" cy="32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то означает для пешехода сигнал регулировщика, если у него руки вытянуты в стороны или опущены?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928800" y="3786120"/>
            <a:ext cx="757224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brejn_ring_-_fragment_2_(iPleer.fm).mp3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3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364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7" dur="60840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 стороны левого и правого бока разрешено переходить проезжую часть. Со стороны груди и         спины запреще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071720"/>
            <a:ext cx="8229600" cy="24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означает знак: белый круг с красной каймой, внутри которого изображен велосипедис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428840" y="3928680"/>
            <a:ext cx="628632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brejn_ring_-_fragment_2_(iPleer.fm).mp3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7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378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1" dur="60840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кой знак запрещает езду на велосипе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004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де следует  переходить улицу?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2356920"/>
            <a:ext cx="82296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332[1]"/>
          <p:cNvPicPr/>
          <p:nvPr/>
        </p:nvPicPr>
        <p:blipFill>
          <a:blip r:embed="rId1"/>
          <a:stretch/>
        </p:blipFill>
        <p:spPr>
          <a:xfrm>
            <a:off x="2857680" y="2357280"/>
            <a:ext cx="3259080" cy="2449800"/>
          </a:xfrm>
          <a:prstGeom prst="rect">
            <a:avLst/>
          </a:prstGeom>
          <a:ln w="0">
            <a:noFill/>
          </a:ln>
        </p:spPr>
      </p:pic>
      <p:pic>
        <p:nvPicPr>
          <p:cNvPr id="67" name="brejn_ring_-_fragment_2_(iPleer.fm).mp3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84" nodeType="clickEffect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60840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делать в случае, если пешеход не успел завершить начатый им путь через проезжую часть дороги?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214280" y="2357280"/>
            <a:ext cx="771552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brejn_ring_-_fragment_2_(iPleer.fm).mp3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1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392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5" dur="60840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ужно остановиться на линии, разделяющей транспортные потоки противоположных направлений. Продолжать переход можно, лишь убедившись в безопасности дальнейшего движения и с учетом сигнала светоф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ведение итог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пешеходному перех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http://www.rabochy-put.ru/upload/iblock/176/98a4859a8e1473ad1075f9cb24b98cde8c415dca.jpg"/>
          <p:cNvPicPr/>
          <p:nvPr/>
        </p:nvPicPr>
        <p:blipFill>
          <a:blip r:embed="rId1"/>
          <a:stretch/>
        </p:blipFill>
        <p:spPr>
          <a:xfrm>
            <a:off x="2195640" y="2295360"/>
            <a:ext cx="5400720" cy="40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004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то называется площадью?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3500280"/>
            <a:ext cx="82296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brejn_ring_-_fragment_2_(iPleer.fm).mp3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98" nodeType="clickEffect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60840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кресток, где пересекаются или берут начало несколько ули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http://varlamov.me/img/moscow_hotel1/20.jpg"/>
          <p:cNvPicPr/>
          <p:nvPr/>
        </p:nvPicPr>
        <p:blipFill>
          <a:blip r:embed="rId1"/>
          <a:stretch/>
        </p:blipFill>
        <p:spPr>
          <a:xfrm>
            <a:off x="1979640" y="2646360"/>
            <a:ext cx="597060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14:33:55Z</dcterms:created>
  <dc:creator>Сергей Маратканов</dc:creator>
  <dc:description/>
  <dc:language>en-US</dc:language>
  <cp:lastModifiedBy>User</cp:lastModifiedBy>
  <dcterms:modified xsi:type="dcterms:W3CDTF">2019-12-01T16:04:59Z</dcterms:modified>
  <cp:revision>26</cp:revision>
  <dc:subject/>
  <dc:title>Слайд 1</dc:title>
</cp:coreProperties>
</file>