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0.jpeg" ContentType="image/jpeg"/>
  <Override PartName="/ppt/media/image43.png" ContentType="image/png"/>
  <Override PartName="/ppt/media/image6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3C1-5BE7-4E4B-8254-CA19C4BE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8DE-2EF9-41BE-ACB4-970A25C0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160-2AA0-4878-B275-DED54016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674-FD67-4758-BFE0-F5A48055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96C7-838A-4346-9B79-503AF4C9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0C40-7C46-47CF-A780-EB898D9C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FA9A-15EA-492A-AFD0-E6794090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2A55-38BF-42FE-BF70-6880CE4E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3CBF-0D81-48EE-8915-C09F87C0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B15-5057-4A03-A095-2E7317B9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4267-79D6-4140-8716-F583DBD1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541-7DDF-4AB1-B148-7C683788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1999-B669-45EE-99E7-C7BFC335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90E9-5382-4ADD-B344-4F30EF9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D823-45C7-4C1C-A057-573BEF9E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DC0A-39B8-430B-950E-DDD3E521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148D-6968-42A1-8DA5-699856E2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B6D-BD09-47C0-AC7A-9677211B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E9E-F693-45A8-A358-CA16F662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141-DD05-4EB9-B0C8-B8F1CC91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AC1-A0C8-4D91-A2C3-0E7D8173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14B-193C-4C69-8768-5394CDC4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AA3-6920-4D33-A4A3-7D199570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D08-FFB7-44B5-A401-5E1C5AC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EFA2-AF8B-40FB-A08D-4B4C0E1978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A077-065F-495D-8766-E3C4EE41B0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5614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ocialising. Summer holidays.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1285696683_w50"/>
          <p:cNvPicPr/>
          <p:nvPr/>
        </p:nvPicPr>
        <p:blipFill>
          <a:blip r:embed="rId1"/>
          <a:stretch/>
        </p:blipFill>
        <p:spPr>
          <a:xfrm rot="20469000">
            <a:off x="324000" y="3789000"/>
            <a:ext cx="3371760" cy="252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17052"/>
          <p:cNvPicPr/>
          <p:nvPr/>
        </p:nvPicPr>
        <p:blipFill>
          <a:blip r:embed="rId2"/>
          <a:stretch/>
        </p:blipFill>
        <p:spPr>
          <a:xfrm>
            <a:off x="2843280" y="2421000"/>
            <a:ext cx="266364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otdyh"/>
          <p:cNvPicPr/>
          <p:nvPr/>
        </p:nvPicPr>
        <p:blipFill>
          <a:blip r:embed="rId3"/>
          <a:stretch/>
        </p:blipFill>
        <p:spPr>
          <a:xfrm>
            <a:off x="6777000" y="0"/>
            <a:ext cx="2367000" cy="30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?id=120114272-53-72&amp;n=21"/>
          <p:cNvPicPr/>
          <p:nvPr/>
        </p:nvPicPr>
        <p:blipFill>
          <a:blip r:embed="rId4"/>
          <a:stretch/>
        </p:blipFill>
        <p:spPr>
          <a:xfrm rot="20529600">
            <a:off x="5076720" y="3644640"/>
            <a:ext cx="3095640" cy="193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5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What is the author’s purpose? (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цель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автора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.3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502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tertain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(развлеч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suade (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беди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ise (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оветовать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rrate or describe (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сказать или описа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2" descr="i?id=3849324-48-72&amp;n=21"/>
          <p:cNvPicPr/>
          <p:nvPr/>
        </p:nvPicPr>
        <p:blipFill>
          <a:blip r:embed="rId1"/>
          <a:stretch/>
        </p:blipFill>
        <p:spPr>
          <a:xfrm>
            <a:off x="1258920" y="4695840"/>
            <a:ext cx="3271680" cy="204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4" descr="94272228_camomile1"/>
          <p:cNvPicPr/>
          <p:nvPr/>
        </p:nvPicPr>
        <p:blipFill>
          <a:blip r:embed="rId2"/>
          <a:stretch/>
        </p:blipFill>
        <p:spPr>
          <a:xfrm>
            <a:off x="5651640" y="4670280"/>
            <a:ext cx="3271680" cy="201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5" descr="i?id=67729918-22-72&amp;n=21"/>
          <p:cNvPicPr/>
          <p:nvPr/>
        </p:nvPicPr>
        <p:blipFill>
          <a:blip r:embed="rId3"/>
          <a:stretch/>
        </p:blipFill>
        <p:spPr>
          <a:xfrm>
            <a:off x="6021360" y="1052640"/>
            <a:ext cx="2987640" cy="187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2" descr="1407559890_ad371a5bc1_z"/>
          <p:cNvPicPr/>
          <p:nvPr/>
        </p:nvPicPr>
        <p:blipFill>
          <a:blip r:embed="rId1"/>
          <a:stretch/>
        </p:blipFill>
        <p:spPr>
          <a:xfrm>
            <a:off x="247680" y="4581360"/>
            <a:ext cx="2590920" cy="1741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42870"/>
          <p:cNvPicPr/>
          <p:nvPr/>
        </p:nvPicPr>
        <p:blipFill>
          <a:blip r:embed="rId2"/>
          <a:stretch/>
        </p:blipFill>
        <p:spPr>
          <a:xfrm>
            <a:off x="6227640" y="4581360"/>
            <a:ext cx="2779920" cy="1876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How to start the answer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18640" y="1327320"/>
            <a:ext cx="8007480" cy="31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think             the author’s purpose is to … becaus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y mind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авая фигурная скобка 5"/>
          <p:cNvSpPr/>
          <p:nvPr/>
        </p:nvSpPr>
        <p:spPr>
          <a:xfrm>
            <a:off x="2455920" y="1892160"/>
            <a:ext cx="790560" cy="1224000"/>
          </a:xfrm>
          <a:custGeom>
            <a:avLst/>
            <a:gdLst>
              <a:gd name="textAreaLeft" fmla="*/ 0 w 790560"/>
              <a:gd name="textAreaRight" fmla="*/ 285480 w 790560"/>
              <a:gd name="textAreaTop" fmla="*/ 20520 h 1224000"/>
              <a:gd name="textAreaBottom" fmla="*/ 12034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2"/>
                  <a:pt x="10800" y="1163"/>
                </a:cubicBezTo>
                <a:lnTo>
                  <a:pt x="10800" y="9637"/>
                </a:lnTo>
                <a:cubicBezTo>
                  <a:pt x="10800" y="10219"/>
                  <a:pt x="16200" y="10800"/>
                  <a:pt x="21600" y="10800"/>
                </a:cubicBezTo>
                <a:cubicBezTo>
                  <a:pt x="16200" y="10800"/>
                  <a:pt x="10800" y="11382"/>
                  <a:pt x="10800" y="11963"/>
                </a:cubicBezTo>
                <a:lnTo>
                  <a:pt x="10800" y="20437"/>
                </a:lnTo>
                <a:cubicBezTo>
                  <a:pt x="10800" y="210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8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5" descr=""/>
          <p:cNvPicPr/>
          <p:nvPr/>
        </p:nvPicPr>
        <p:blipFill>
          <a:blip r:embed="rId3"/>
          <a:stretch/>
        </p:blipFill>
        <p:spPr>
          <a:xfrm>
            <a:off x="3002040" y="3267000"/>
            <a:ext cx="3095640" cy="2316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511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Character adjectiv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ptim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nsi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i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asy-go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ci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Hon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eli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tub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lfis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nero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ncere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983680" y="1052640"/>
            <a:ext cx="23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тимистич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7560" y="1484280"/>
            <a:ext cx="59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ительный, впечатлительный, неж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986920" y="184464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рпелив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984040" y="227664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ёгкий в общ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82960" y="2637000"/>
            <a:ext cx="35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тельный, друж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986920" y="306864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ст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982240" y="3500280"/>
            <a:ext cx="49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ёжный, заслуживающий дове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987640" y="3860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ям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982240" y="422100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любивый, эгоистич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982240" y="4581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стенчивый, скром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913480" y="501336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душный, благородный, щедр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2909160" y="544500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ибкий, податливый, мяг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913480" y="5877000"/>
            <a:ext cx="27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ренний, чест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 rot="1647000">
            <a:off x="7380000" y="189000"/>
            <a:ext cx="1201680" cy="1203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928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Sort the words into two columns – positive and negative adjectiv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3456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ptimis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ensi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sinc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ati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sy-go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oc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on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l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tubbo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elfis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Unsoc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sensi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Genero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mpati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inc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Unrel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essimis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635280" y="981000"/>
          <a:ext cx="5210280" cy="5543640"/>
        </p:xfrm>
        <a:graphic>
          <a:graphicData uri="http://schemas.openxmlformats.org/drawingml/2006/table">
            <a:tbl>
              <a:tblPr/>
              <a:tblGrid>
                <a:gridCol w="2605320"/>
                <a:gridCol w="2604960"/>
              </a:tblGrid>
              <a:tr h="554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ositiv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mis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y-goin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b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ne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o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c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eg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inc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bbor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is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sociab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n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ti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reliab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ssimi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630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Arial Black"/>
              </a:rPr>
              <a:t>Read the sentences and say if the speaker likes or dislikes the people she/he is talking about.</a:t>
            </a:r>
            <a:r>
              <a:rPr b="1" lang="ru-RU" sz="4000" spc="-1" strike="noStrike">
                <a:solidFill>
                  <a:srgbClr val="ffff66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6662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Sarah is usually sensi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 think Jack is nos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ndy is easy-go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Lisa’s sometimes genero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on’t you think Kate is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arrog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сокомерный, надменный)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Molly is reliable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Translate the words into English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3640" y="981000"/>
            <a:ext cx="85215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Терпелив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Застенчив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дёж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Общительн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Чувствитель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Оптимистичн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озможность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ближаться, Упрямы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звивать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еликодушный,  Гибки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Яркий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бегать,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Красне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Complete the sentences with the correct words. 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Shy, patient, reliable, sensitive, selfish, sociable, honest, easy-going, stubborn,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34100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 likes meeting new people. She is ________and 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 always does what he says he will do and you can trust him. He is _____________ and ____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en always wants to do things her own way. She is ___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e doesn’t feel comfortable with people. She is _____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ke is caring and he understands how other people feel. He is 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k always stays calm in difficult situations. He is very ____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doesn’t care about other people’s feelings. She is ______________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44080"/>
            <a:ext cx="74167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Let’s learn a poem about summer.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he summer sun in the sk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Shining, shining up so hig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akes it warm for outside fu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o play at the park and ru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To swim and hike and fis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nd to go on a picnic if you wish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0" descr="attachment"/>
          <p:cNvPicPr/>
          <p:nvPr/>
        </p:nvPicPr>
        <p:blipFill>
          <a:blip r:embed="rId1"/>
          <a:stretch/>
        </p:blipFill>
        <p:spPr>
          <a:xfrm>
            <a:off x="6732720" y="3141720"/>
            <a:ext cx="2261880" cy="169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8hswJRpgq40"/>
          <p:cNvPicPr/>
          <p:nvPr/>
        </p:nvPicPr>
        <p:blipFill>
          <a:blip r:embed="rId2"/>
          <a:stretch/>
        </p:blipFill>
        <p:spPr>
          <a:xfrm>
            <a:off x="7164360" y="18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851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Answer the questions about your summer holidays.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id you spend your holiday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did you go there wi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d you do the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1" descr="otdih"/>
          <p:cNvPicPr/>
          <p:nvPr/>
        </p:nvPicPr>
        <p:blipFill>
          <a:blip r:embed="rId1"/>
          <a:stretch/>
        </p:blipFill>
        <p:spPr>
          <a:xfrm>
            <a:off x="1332000" y="4508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HLG_SummerVacation"/>
          <p:cNvPicPr/>
          <p:nvPr/>
        </p:nvPicPr>
        <p:blipFill>
          <a:blip r:embed="rId2"/>
          <a:stretch/>
        </p:blipFill>
        <p:spPr>
          <a:xfrm>
            <a:off x="5724360" y="907920"/>
            <a:ext cx="3240360" cy="1839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voronov_elisey"/>
          <p:cNvPicPr/>
          <p:nvPr/>
        </p:nvPicPr>
        <p:blipFill>
          <a:blip r:embed="rId3"/>
          <a:stretch/>
        </p:blipFill>
        <p:spPr>
          <a:xfrm>
            <a:off x="4932360" y="4797360"/>
            <a:ext cx="244800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f0ffdbc9e8"/>
          <p:cNvPicPr/>
          <p:nvPr/>
        </p:nvPicPr>
        <p:blipFill>
          <a:blip r:embed="rId1"/>
          <a:stretch/>
        </p:blipFill>
        <p:spPr>
          <a:xfrm>
            <a:off x="395280" y="189000"/>
            <a:ext cx="2232000" cy="167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otdyx1"/>
          <p:cNvPicPr/>
          <p:nvPr/>
        </p:nvPicPr>
        <p:blipFill>
          <a:blip r:embed="rId2"/>
          <a:stretch/>
        </p:blipFill>
        <p:spPr>
          <a:xfrm>
            <a:off x="3132000" y="115920"/>
            <a:ext cx="2832120" cy="180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?id=316029301-45-72&amp;n=21"/>
          <p:cNvPicPr/>
          <p:nvPr/>
        </p:nvPicPr>
        <p:blipFill>
          <a:blip r:embed="rId3"/>
          <a:stretch/>
        </p:blipFill>
        <p:spPr>
          <a:xfrm>
            <a:off x="250920" y="2708280"/>
            <a:ext cx="223812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port_177-crop"/>
          <p:cNvPicPr/>
          <p:nvPr/>
        </p:nvPicPr>
        <p:blipFill>
          <a:blip r:embed="rId4"/>
          <a:stretch/>
        </p:blipFill>
        <p:spPr>
          <a:xfrm>
            <a:off x="395280" y="4653000"/>
            <a:ext cx="2190600" cy="1639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i?id=51441985-50-72&amp;n=21"/>
          <p:cNvPicPr/>
          <p:nvPr/>
        </p:nvPicPr>
        <p:blipFill>
          <a:blip r:embed="rId5"/>
          <a:stretch/>
        </p:blipFill>
        <p:spPr>
          <a:xfrm>
            <a:off x="3348000" y="25653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i?id=269594526-65-72&amp;n=21"/>
          <p:cNvPicPr/>
          <p:nvPr/>
        </p:nvPicPr>
        <p:blipFill>
          <a:blip r:embed="rId6"/>
          <a:stretch/>
        </p:blipFill>
        <p:spPr>
          <a:xfrm>
            <a:off x="6804000" y="115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letod2"/>
          <p:cNvPicPr/>
          <p:nvPr/>
        </p:nvPicPr>
        <p:blipFill>
          <a:blip r:embed="rId7"/>
          <a:stretch/>
        </p:blipFill>
        <p:spPr>
          <a:xfrm>
            <a:off x="6372360" y="2205000"/>
            <a:ext cx="2233440" cy="178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001"/>
          <p:cNvPicPr/>
          <p:nvPr/>
        </p:nvPicPr>
        <p:blipFill>
          <a:blip r:embed="rId8"/>
          <a:stretch/>
        </p:blipFill>
        <p:spPr>
          <a:xfrm>
            <a:off x="3276720" y="4581360"/>
            <a:ext cx="2305080" cy="1731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familyhotel"/>
          <p:cNvPicPr/>
          <p:nvPr/>
        </p:nvPicPr>
        <p:blipFill>
          <a:blip r:embed="rId9"/>
          <a:stretch/>
        </p:blipFill>
        <p:spPr>
          <a:xfrm>
            <a:off x="6156360" y="4581360"/>
            <a:ext cx="2400120" cy="1606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380160" y="20080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 volley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74360" y="20080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m in the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7096320" y="17002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94720" y="40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f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3834720" y="4168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cyc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6426720" y="4097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449640" y="62564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raf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3546000" y="6256440"/>
            <a:ext cx="18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e on the gr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6138000" y="63295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it a theme p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640x480_crop_thumb_9196948091278385481"/>
          <p:cNvPicPr/>
          <p:nvPr/>
        </p:nvPicPr>
        <p:blipFill>
          <a:blip r:embed="rId1"/>
          <a:stretch/>
        </p:blipFill>
        <p:spPr>
          <a:xfrm>
            <a:off x="179280" y="11592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0112948"/>
          <p:cNvPicPr/>
          <p:nvPr/>
        </p:nvPicPr>
        <p:blipFill>
          <a:blip r:embed="rId2"/>
          <a:stretch/>
        </p:blipFill>
        <p:spPr>
          <a:xfrm>
            <a:off x="2843280" y="333360"/>
            <a:ext cx="2592360" cy="194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1275726050_205900s"/>
          <p:cNvPicPr/>
          <p:nvPr/>
        </p:nvPicPr>
        <p:blipFill>
          <a:blip r:embed="rId3"/>
          <a:stretch/>
        </p:blipFill>
        <p:spPr>
          <a:xfrm>
            <a:off x="6084720" y="40464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1349248236_summer_fails_25"/>
          <p:cNvPicPr/>
          <p:nvPr/>
        </p:nvPicPr>
        <p:blipFill>
          <a:blip r:embed="rId4"/>
          <a:stretch/>
        </p:blipFill>
        <p:spPr>
          <a:xfrm>
            <a:off x="539640" y="3141720"/>
            <a:ext cx="2808360" cy="1587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22172685"/>
          <p:cNvPicPr/>
          <p:nvPr/>
        </p:nvPicPr>
        <p:blipFill>
          <a:blip r:embed="rId5"/>
          <a:stretch/>
        </p:blipFill>
        <p:spPr>
          <a:xfrm>
            <a:off x="5148360" y="2852640"/>
            <a:ext cx="2477880" cy="1393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?id=170986521-21-72&amp;n=21"/>
          <p:cNvPicPr/>
          <p:nvPr/>
        </p:nvPicPr>
        <p:blipFill>
          <a:blip r:embed="rId6"/>
          <a:stretch/>
        </p:blipFill>
        <p:spPr>
          <a:xfrm>
            <a:off x="6443640" y="5229360"/>
            <a:ext cx="2276640" cy="1428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i?id=30621532-58-72&amp;n=21"/>
          <p:cNvPicPr/>
          <p:nvPr/>
        </p:nvPicPr>
        <p:blipFill>
          <a:blip r:embed="rId7"/>
          <a:stretch/>
        </p:blipFill>
        <p:spPr>
          <a:xfrm>
            <a:off x="3203640" y="5229360"/>
            <a:ext cx="2286000" cy="142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i?id=124765231-06-72&amp;n=21"/>
          <p:cNvPicPr/>
          <p:nvPr/>
        </p:nvPicPr>
        <p:blipFill>
          <a:blip r:embed="rId8"/>
          <a:stretch/>
        </p:blipFill>
        <p:spPr>
          <a:xfrm>
            <a:off x="250920" y="5229360"/>
            <a:ext cx="228600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90000" y="27288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k food on a fi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187440" y="2368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di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067800" y="21528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 sand cast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5222520" y="436572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for walks in the w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306360" y="46735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 computer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weather lik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meet new people / make new frien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you socialize with them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enjoy your holidays? (Why yes / no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0_65388_4a71c88b_XL"/>
          <p:cNvPicPr/>
          <p:nvPr/>
        </p:nvPicPr>
        <p:blipFill>
          <a:blip r:embed="rId1"/>
          <a:stretch/>
        </p:blipFill>
        <p:spPr>
          <a:xfrm>
            <a:off x="5508720" y="189000"/>
            <a:ext cx="2544840" cy="1695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?id=180148633-22-72&amp;n=21"/>
          <p:cNvPicPr/>
          <p:nvPr/>
        </p:nvPicPr>
        <p:blipFill>
          <a:blip r:embed="rId2"/>
          <a:stretch/>
        </p:blipFill>
        <p:spPr>
          <a:xfrm>
            <a:off x="7524720" y="306864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img4bab3ee5ebe05"/>
          <p:cNvPicPr/>
          <p:nvPr/>
        </p:nvPicPr>
        <p:blipFill>
          <a:blip r:embed="rId3"/>
          <a:stretch/>
        </p:blipFill>
        <p:spPr>
          <a:xfrm>
            <a:off x="539640" y="4437000"/>
            <a:ext cx="3097440" cy="2046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1349276542_summer_fails-21"/>
          <p:cNvPicPr/>
          <p:nvPr/>
        </p:nvPicPr>
        <p:blipFill>
          <a:blip r:embed="rId4"/>
          <a:stretch/>
        </p:blipFill>
        <p:spPr>
          <a:xfrm>
            <a:off x="5435640" y="4365720"/>
            <a:ext cx="178128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Reading p.10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the title of the text mea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ould you start a conversation with someone you don’t know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I would ask … / introduce myself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. 2 T / F / 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280" y="1989000"/>
            <a:ext cx="33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reaking the 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i?id=172998231-69-72&amp;n=21"/>
          <p:cNvPicPr/>
          <p:nvPr/>
        </p:nvPicPr>
        <p:blipFill>
          <a:blip r:embed="rId1"/>
          <a:stretch/>
        </p:blipFill>
        <p:spPr>
          <a:xfrm>
            <a:off x="6948360" y="115920"/>
            <a:ext cx="1944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439236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New words to lear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215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portunity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lms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до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weat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потеть, запоте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ush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расне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p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ет, подска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sure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бедить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ncy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иться, люб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ach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ближ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versation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гово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y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стенчивый, скром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ion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астное увлечение, стра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ght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р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ьза, помощь, поддерж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в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бег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1319395021_1300523630_spring"/>
          <p:cNvPicPr/>
          <p:nvPr/>
        </p:nvPicPr>
        <p:blipFill>
          <a:blip r:embed="rId1"/>
          <a:stretch/>
        </p:blipFill>
        <p:spPr>
          <a:xfrm>
            <a:off x="6372360" y="4724280"/>
            <a:ext cx="2333520" cy="174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V48P"/>
          <p:cNvPicPr/>
          <p:nvPr/>
        </p:nvPicPr>
        <p:blipFill>
          <a:blip r:embed="rId2"/>
          <a:stretch/>
        </p:blipFill>
        <p:spPr>
          <a:xfrm>
            <a:off x="6300720" y="189000"/>
            <a:ext cx="2376720" cy="1785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ce0e64b114c"/>
          <p:cNvPicPr/>
          <p:nvPr/>
        </p:nvPicPr>
        <p:blipFill>
          <a:blip r:embed="rId3"/>
          <a:stretch/>
        </p:blipFill>
        <p:spPr>
          <a:xfrm>
            <a:off x="6372360" y="2349360"/>
            <a:ext cx="2406600" cy="180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31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3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7"/>
          <p:cNvSpPr/>
          <p:nvPr/>
        </p:nvSpPr>
        <p:spPr>
          <a:xfrm>
            <a:off x="2886120" y="2162160"/>
            <a:ext cx="337176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Match the words to their definitions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288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u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64000" y="907560"/>
            <a:ext cx="547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Get help, improve sth / s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Become red in the face because you feel embarras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Feel attracted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Situation in which it is possible to do s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Go up to spe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) Grow or change over a period of ti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) Keep away of sb / s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) Positive, full of li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2484360" y="1197000"/>
            <a:ext cx="1224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56"/>
          <p:cNvSpPr/>
          <p:nvPr/>
        </p:nvSpPr>
        <p:spPr>
          <a:xfrm flipV="1">
            <a:off x="1692360" y="1557360"/>
            <a:ext cx="19429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2195640" y="2133720"/>
            <a:ext cx="151272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 flipV="1">
            <a:off x="1692360" y="2204640"/>
            <a:ext cx="2016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1692360" y="2924280"/>
            <a:ext cx="2016000" cy="10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 flipV="1">
            <a:off x="1835280" y="1197000"/>
            <a:ext cx="187308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61"/>
          <p:cNvSpPr/>
          <p:nvPr/>
        </p:nvSpPr>
        <p:spPr>
          <a:xfrm flipV="1">
            <a:off x="1979640" y="3284640"/>
            <a:ext cx="1655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 flipV="1">
            <a:off x="1619280" y="3715920"/>
            <a:ext cx="20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3" descr="i?id=132035034-49-72&amp;n=21"/>
          <p:cNvPicPr/>
          <p:nvPr/>
        </p:nvPicPr>
        <p:blipFill>
          <a:blip r:embed="rId1"/>
          <a:stretch/>
        </p:blipFill>
        <p:spPr>
          <a:xfrm>
            <a:off x="7596360" y="0"/>
            <a:ext cx="1295280" cy="127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4" descr="badff5281e6a"/>
          <p:cNvPicPr/>
          <p:nvPr/>
        </p:nvPicPr>
        <p:blipFill>
          <a:blip r:embed="rId2"/>
          <a:stretch/>
        </p:blipFill>
        <p:spPr>
          <a:xfrm>
            <a:off x="1042920" y="4724280"/>
            <a:ext cx="2521080" cy="188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5" descr="i?id=337025481-08-72&amp;n=21"/>
          <p:cNvPicPr/>
          <p:nvPr/>
        </p:nvPicPr>
        <p:blipFill>
          <a:blip r:embed="rId3"/>
          <a:stretch/>
        </p:blipFill>
        <p:spPr>
          <a:xfrm>
            <a:off x="5148360" y="4653000"/>
            <a:ext cx="309564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8:16:56Z</dcterms:created>
  <dc:creator/>
  <dc:description/>
  <dc:language>en-US</dc:language>
  <cp:lastModifiedBy>User</cp:lastModifiedBy>
  <dcterms:modified xsi:type="dcterms:W3CDTF">2019-11-24T09:10:52Z</dcterms:modified>
  <cp:revision>20</cp:revision>
  <dc:subject/>
  <dc:title>Socialising. Summer holidays. </dc:title>
</cp:coreProperties>
</file>