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DF8-E1A6-429F-A1D9-2B908B7F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B76-4129-4B05-A2C7-B5B4704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6BF-8681-48AA-AA93-AD65FC49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650-9CB0-4F38-9ADE-FB2EA1C1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D7F-B0EC-4106-8C53-3FC9223D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7A93-355D-4642-9EED-D3410D6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7B8-E4B1-45CE-ACBB-ECDCD3E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CED-51EE-4B23-A1C7-9F9423F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018A-1255-4E5C-8579-878717CE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F49-F902-4F24-90ED-464EC5C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61DB-5B43-43F4-962E-46929B9F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115-D0E2-4B11-B275-9FD20C77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9429-5A09-4CB2-8363-CAADE57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7A8D-8600-4C6F-B206-3BEA724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4BA7-383B-4368-80C6-DAF1E98E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D98-892C-4DEB-A612-1C4390FA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A7F-D8F2-4E97-83E2-CED370DC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E41-27A5-4E03-88CD-282B719E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7BC-A7A2-484B-9216-6626B004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2C9-4820-46DF-B8A6-927BDBC4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806-7BEB-42C7-B20F-F7362DB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939-2928-4983-BB5E-7EF68FE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08D-2ECE-477D-8DB9-C7E1F20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7DB-496F-4DC5-A103-C7921AE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2FB5-44B5-40AD-A4D7-092C5D366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CB1-1C59-4B49-B83C-FB479ED1E5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5614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ocialising. Summer holidays.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1285696683_w50"/>
          <p:cNvPicPr/>
          <p:nvPr/>
        </p:nvPicPr>
        <p:blipFill>
          <a:blip r:embed="rId1"/>
          <a:stretch/>
        </p:blipFill>
        <p:spPr>
          <a:xfrm rot="20469000">
            <a:off x="324000" y="3789000"/>
            <a:ext cx="3371760" cy="252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17052"/>
          <p:cNvPicPr/>
          <p:nvPr/>
        </p:nvPicPr>
        <p:blipFill>
          <a:blip r:embed="rId2"/>
          <a:stretch/>
        </p:blipFill>
        <p:spPr>
          <a:xfrm>
            <a:off x="2843280" y="2421000"/>
            <a:ext cx="266364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otdyh"/>
          <p:cNvPicPr/>
          <p:nvPr/>
        </p:nvPicPr>
        <p:blipFill>
          <a:blip r:embed="rId3"/>
          <a:stretch/>
        </p:blipFill>
        <p:spPr>
          <a:xfrm>
            <a:off x="6777000" y="0"/>
            <a:ext cx="236700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?id=120114272-53-72&amp;n=21"/>
          <p:cNvPicPr/>
          <p:nvPr/>
        </p:nvPicPr>
        <p:blipFill>
          <a:blip r:embed="rId4"/>
          <a:stretch/>
        </p:blipFill>
        <p:spPr>
          <a:xfrm rot="20529600">
            <a:off x="5076720" y="3644640"/>
            <a:ext cx="3095640" cy="193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5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What is the author’s purpose? (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цель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втора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.3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50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tertain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развлеч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uade (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беди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e (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оветовать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rrate or describe (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сказать или опис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2" descr="i?id=3849324-48-72&amp;n=21"/>
          <p:cNvPicPr/>
          <p:nvPr/>
        </p:nvPicPr>
        <p:blipFill>
          <a:blip r:embed="rId1"/>
          <a:stretch/>
        </p:blipFill>
        <p:spPr>
          <a:xfrm>
            <a:off x="1258920" y="4695840"/>
            <a:ext cx="3271680" cy="204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4" descr="94272228_camomile1"/>
          <p:cNvPicPr/>
          <p:nvPr/>
        </p:nvPicPr>
        <p:blipFill>
          <a:blip r:embed="rId2"/>
          <a:stretch/>
        </p:blipFill>
        <p:spPr>
          <a:xfrm>
            <a:off x="5651640" y="4670280"/>
            <a:ext cx="3271680" cy="201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5" descr="i?id=67729918-22-72&amp;n=21"/>
          <p:cNvPicPr/>
          <p:nvPr/>
        </p:nvPicPr>
        <p:blipFill>
          <a:blip r:embed="rId3"/>
          <a:stretch/>
        </p:blipFill>
        <p:spPr>
          <a:xfrm>
            <a:off x="6021360" y="1052640"/>
            <a:ext cx="2987640" cy="187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2" descr="1407559890_ad371a5bc1_z"/>
          <p:cNvPicPr/>
          <p:nvPr/>
        </p:nvPicPr>
        <p:blipFill>
          <a:blip r:embed="rId1"/>
          <a:stretch/>
        </p:blipFill>
        <p:spPr>
          <a:xfrm>
            <a:off x="247680" y="458136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42870"/>
          <p:cNvPicPr/>
          <p:nvPr/>
        </p:nvPicPr>
        <p:blipFill>
          <a:blip r:embed="rId2"/>
          <a:stretch/>
        </p:blipFill>
        <p:spPr>
          <a:xfrm>
            <a:off x="6227640" y="4581360"/>
            <a:ext cx="2779920" cy="1876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How to start the answer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18640" y="1327320"/>
            <a:ext cx="800748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think             the author’s purpose is to … becaus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y mind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авая фигурная скобка 5"/>
          <p:cNvSpPr/>
          <p:nvPr/>
        </p:nvSpPr>
        <p:spPr>
          <a:xfrm>
            <a:off x="2455920" y="1892160"/>
            <a:ext cx="790560" cy="1224000"/>
          </a:xfrm>
          <a:custGeom>
            <a:avLst/>
            <a:gdLst>
              <a:gd name="textAreaLeft" fmla="*/ 0 w 790560"/>
              <a:gd name="textAreaRight" fmla="*/ 285480 w 790560"/>
              <a:gd name="textAreaTop" fmla="*/ 20520 h 1224000"/>
              <a:gd name="textAreaBottom" fmla="*/ 12034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5" descr=""/>
          <p:cNvPicPr/>
          <p:nvPr/>
        </p:nvPicPr>
        <p:blipFill>
          <a:blip r:embed="rId3"/>
          <a:stretch/>
        </p:blipFill>
        <p:spPr>
          <a:xfrm>
            <a:off x="3002040" y="3267000"/>
            <a:ext cx="309564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511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haracter adjectiv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nsi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asy-go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ci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on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li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tub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lfi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ner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ncer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983680" y="105264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тимистич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7560" y="1484280"/>
            <a:ext cx="59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ительный, впечатлительный, неж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986920" y="184464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елив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984040" y="227664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ёгкий в общ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82960" y="263700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тельный, друж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986920" y="306864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с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982240" y="3500280"/>
            <a:ext cx="49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ёжный, заслуживающий дове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87640" y="3860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ям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982240" y="422100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любивый, эгоистич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982240" y="4581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енчивый, скром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913480" y="501336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душный, благородный, щедр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2909160" y="544500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ибкий, податливый, мяг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913480" y="587700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ренний, чест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 rot="1647000">
            <a:off x="7380000" y="189000"/>
            <a:ext cx="1201680" cy="1203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Sort the words into two columns – positive and negative adjectiv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345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timis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ensi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sinc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ati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sy-go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oc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on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l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tubbo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elfis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soc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sensi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Genero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mpati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inc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rel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ssimis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635280" y="981000"/>
          <a:ext cx="5210280" cy="5543640"/>
        </p:xfrm>
        <a:graphic>
          <a:graphicData uri="http://schemas.openxmlformats.org/drawingml/2006/table">
            <a:tbl>
              <a:tblPr/>
              <a:tblGrid>
                <a:gridCol w="2605320"/>
                <a:gridCol w="2604960"/>
              </a:tblGrid>
              <a:tr h="55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osit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mis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y-go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ne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c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inc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bbor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is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ocia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n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ti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relia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sim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63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Read the sentences and say if the speaker likes or dislikes the people she/he is talking about.</a:t>
            </a: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662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arah is usually sensi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 think Jack is nos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ndy is easy-go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Lisa’s sometimes genero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on’t you think Kate is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arrog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окомерный, надменный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Molly is reliable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ranslate the words into English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3640" y="981000"/>
            <a:ext cx="85215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Терпелив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Застенчив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дёж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бщительн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Чувствитель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птимистичн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озможность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ближаться, Упрям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звивать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еликодушный,  Гибки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Ярки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бегать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Красне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Complete the sentences with the correct words. 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Shy, patient, reliable, sensitive, selfish, sociable, honest, easy-going, stubborn,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likes meeting new people. She is ________and 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 always does what he says he will do and you can trust him. He is _____________ and _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en always wants to do things her own way. She is 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e doesn’t feel comfortable with people. She is __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is caring and he understands how other people feel. He is 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lways stays calm in difficult situations. He is very _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doesn’t care about other people’s feelings. She is 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44080"/>
            <a:ext cx="74167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Let’s learn a poem about summer.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he summer sun in the sk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Shining, shining up so hi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akes it warm for outside fu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o play at the park and ru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o swim and hike and fis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nd to go on a picnic if you wish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0" descr="attachment"/>
          <p:cNvPicPr/>
          <p:nvPr/>
        </p:nvPicPr>
        <p:blipFill>
          <a:blip r:embed="rId1"/>
          <a:stretch/>
        </p:blipFill>
        <p:spPr>
          <a:xfrm>
            <a:off x="6732720" y="3141720"/>
            <a:ext cx="2261880" cy="169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8hswJRpgq40"/>
          <p:cNvPicPr/>
          <p:nvPr/>
        </p:nvPicPr>
        <p:blipFill>
          <a:blip r:embed="rId2"/>
          <a:stretch/>
        </p:blipFill>
        <p:spPr>
          <a:xfrm>
            <a:off x="7164360" y="18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Answer the questions about your summer holidays.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id you spend your holiday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did you go there wi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d you do the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1" descr="otdih"/>
          <p:cNvPicPr/>
          <p:nvPr/>
        </p:nvPicPr>
        <p:blipFill>
          <a:blip r:embed="rId1"/>
          <a:stretch/>
        </p:blipFill>
        <p:spPr>
          <a:xfrm>
            <a:off x="1332000" y="450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HLG_SummerVacation"/>
          <p:cNvPicPr/>
          <p:nvPr/>
        </p:nvPicPr>
        <p:blipFill>
          <a:blip r:embed="rId2"/>
          <a:stretch/>
        </p:blipFill>
        <p:spPr>
          <a:xfrm>
            <a:off x="5724360" y="907920"/>
            <a:ext cx="3240360" cy="1839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voronov_elisey"/>
          <p:cNvPicPr/>
          <p:nvPr/>
        </p:nvPicPr>
        <p:blipFill>
          <a:blip r:embed="rId3"/>
          <a:stretch/>
        </p:blipFill>
        <p:spPr>
          <a:xfrm>
            <a:off x="4932360" y="4797360"/>
            <a:ext cx="244800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0ffdbc9e8"/>
          <p:cNvPicPr/>
          <p:nvPr/>
        </p:nvPicPr>
        <p:blipFill>
          <a:blip r:embed="rId1"/>
          <a:stretch/>
        </p:blipFill>
        <p:spPr>
          <a:xfrm>
            <a:off x="395280" y="189000"/>
            <a:ext cx="223200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otdyx1"/>
          <p:cNvPicPr/>
          <p:nvPr/>
        </p:nvPicPr>
        <p:blipFill>
          <a:blip r:embed="rId2"/>
          <a:stretch/>
        </p:blipFill>
        <p:spPr>
          <a:xfrm>
            <a:off x="3132000" y="115920"/>
            <a:ext cx="2832120" cy="180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?id=316029301-45-72&amp;n=21"/>
          <p:cNvPicPr/>
          <p:nvPr/>
        </p:nvPicPr>
        <p:blipFill>
          <a:blip r:embed="rId3"/>
          <a:stretch/>
        </p:blipFill>
        <p:spPr>
          <a:xfrm>
            <a:off x="250920" y="2708280"/>
            <a:ext cx="223812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port_177-crop"/>
          <p:cNvPicPr/>
          <p:nvPr/>
        </p:nvPicPr>
        <p:blipFill>
          <a:blip r:embed="rId4"/>
          <a:stretch/>
        </p:blipFill>
        <p:spPr>
          <a:xfrm>
            <a:off x="395280" y="4653000"/>
            <a:ext cx="2190600" cy="1639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i?id=51441985-50-72&amp;n=21"/>
          <p:cNvPicPr/>
          <p:nvPr/>
        </p:nvPicPr>
        <p:blipFill>
          <a:blip r:embed="rId5"/>
          <a:stretch/>
        </p:blipFill>
        <p:spPr>
          <a:xfrm>
            <a:off x="3348000" y="25653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?id=269594526-65-72&amp;n=21"/>
          <p:cNvPicPr/>
          <p:nvPr/>
        </p:nvPicPr>
        <p:blipFill>
          <a:blip r:embed="rId6"/>
          <a:stretch/>
        </p:blipFill>
        <p:spPr>
          <a:xfrm>
            <a:off x="6804000" y="115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letod2"/>
          <p:cNvPicPr/>
          <p:nvPr/>
        </p:nvPicPr>
        <p:blipFill>
          <a:blip r:embed="rId7"/>
          <a:stretch/>
        </p:blipFill>
        <p:spPr>
          <a:xfrm>
            <a:off x="6372360" y="2205000"/>
            <a:ext cx="223344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001"/>
          <p:cNvPicPr/>
          <p:nvPr/>
        </p:nvPicPr>
        <p:blipFill>
          <a:blip r:embed="rId8"/>
          <a:stretch/>
        </p:blipFill>
        <p:spPr>
          <a:xfrm>
            <a:off x="3276720" y="4581360"/>
            <a:ext cx="2305080" cy="173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familyhotel"/>
          <p:cNvPicPr/>
          <p:nvPr/>
        </p:nvPicPr>
        <p:blipFill>
          <a:blip r:embed="rId9"/>
          <a:stretch/>
        </p:blipFill>
        <p:spPr>
          <a:xfrm>
            <a:off x="6156360" y="4581360"/>
            <a:ext cx="2400120" cy="1606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380160" y="20080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 volley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74360" y="20080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m in the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7096320" y="17002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94720" y="40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3834720" y="4168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cyc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426720" y="409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449640" y="6256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raf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546000" y="6256440"/>
            <a:ext cx="18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e on the gr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6138000" y="63295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t a theme p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640x480_crop_thumb_9196948091278385481"/>
          <p:cNvPicPr/>
          <p:nvPr/>
        </p:nvPicPr>
        <p:blipFill>
          <a:blip r:embed="rId1"/>
          <a:stretch/>
        </p:blipFill>
        <p:spPr>
          <a:xfrm>
            <a:off x="179280" y="11592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0112948"/>
          <p:cNvPicPr/>
          <p:nvPr/>
        </p:nvPicPr>
        <p:blipFill>
          <a:blip r:embed="rId2"/>
          <a:stretch/>
        </p:blipFill>
        <p:spPr>
          <a:xfrm>
            <a:off x="2843280" y="333360"/>
            <a:ext cx="2592360" cy="194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275726050_205900s"/>
          <p:cNvPicPr/>
          <p:nvPr/>
        </p:nvPicPr>
        <p:blipFill>
          <a:blip r:embed="rId3"/>
          <a:stretch/>
        </p:blipFill>
        <p:spPr>
          <a:xfrm>
            <a:off x="6084720" y="40464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1349248236_summer_fails_25"/>
          <p:cNvPicPr/>
          <p:nvPr/>
        </p:nvPicPr>
        <p:blipFill>
          <a:blip r:embed="rId4"/>
          <a:stretch/>
        </p:blipFill>
        <p:spPr>
          <a:xfrm>
            <a:off x="539640" y="3141720"/>
            <a:ext cx="2808360" cy="1587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22172685"/>
          <p:cNvPicPr/>
          <p:nvPr/>
        </p:nvPicPr>
        <p:blipFill>
          <a:blip r:embed="rId5"/>
          <a:stretch/>
        </p:blipFill>
        <p:spPr>
          <a:xfrm>
            <a:off x="5148360" y="2852640"/>
            <a:ext cx="2477880" cy="139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?id=170986521-21-72&amp;n=21"/>
          <p:cNvPicPr/>
          <p:nvPr/>
        </p:nvPicPr>
        <p:blipFill>
          <a:blip r:embed="rId6"/>
          <a:stretch/>
        </p:blipFill>
        <p:spPr>
          <a:xfrm>
            <a:off x="6443640" y="5229360"/>
            <a:ext cx="2276640" cy="142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?id=30621532-58-72&amp;n=21"/>
          <p:cNvPicPr/>
          <p:nvPr/>
        </p:nvPicPr>
        <p:blipFill>
          <a:blip r:embed="rId7"/>
          <a:stretch/>
        </p:blipFill>
        <p:spPr>
          <a:xfrm>
            <a:off x="3203640" y="5229360"/>
            <a:ext cx="2286000" cy="142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?id=124765231-06-72&amp;n=21"/>
          <p:cNvPicPr/>
          <p:nvPr/>
        </p:nvPicPr>
        <p:blipFill>
          <a:blip r:embed="rId8"/>
          <a:stretch/>
        </p:blipFill>
        <p:spPr>
          <a:xfrm>
            <a:off x="250920" y="5229360"/>
            <a:ext cx="228600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90000" y="27288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k food on a f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187440" y="2368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di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067800" y="21528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sand cast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5222520" y="436572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for walks in the w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06360" y="46735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 computer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weather lik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meet new people / make new frien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you socialize with them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enjoy your holidays? (Why yes / no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0_65388_4a71c88b_XL"/>
          <p:cNvPicPr/>
          <p:nvPr/>
        </p:nvPicPr>
        <p:blipFill>
          <a:blip r:embed="rId1"/>
          <a:stretch/>
        </p:blipFill>
        <p:spPr>
          <a:xfrm>
            <a:off x="5508720" y="189000"/>
            <a:ext cx="2544840" cy="1695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?id=180148633-22-72&amp;n=21"/>
          <p:cNvPicPr/>
          <p:nvPr/>
        </p:nvPicPr>
        <p:blipFill>
          <a:blip r:embed="rId2"/>
          <a:stretch/>
        </p:blipFill>
        <p:spPr>
          <a:xfrm>
            <a:off x="7524720" y="306864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mg4bab3ee5ebe05"/>
          <p:cNvPicPr/>
          <p:nvPr/>
        </p:nvPicPr>
        <p:blipFill>
          <a:blip r:embed="rId3"/>
          <a:stretch/>
        </p:blipFill>
        <p:spPr>
          <a:xfrm>
            <a:off x="539640" y="4437000"/>
            <a:ext cx="3097440" cy="2046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1349276542_summer_fails-21"/>
          <p:cNvPicPr/>
          <p:nvPr/>
        </p:nvPicPr>
        <p:blipFill>
          <a:blip r:embed="rId4"/>
          <a:stretch/>
        </p:blipFill>
        <p:spPr>
          <a:xfrm>
            <a:off x="5435640" y="4365720"/>
            <a:ext cx="17812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Reading p.10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the title of the text mea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ould you start a conversation with someone you don’t know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 would ask … / introduce myself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. 2 T / F / 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280" y="198900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eaking the 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i?id=172998231-69-72&amp;n=21"/>
          <p:cNvPicPr/>
          <p:nvPr/>
        </p:nvPicPr>
        <p:blipFill>
          <a:blip r:embed="rId1"/>
          <a:stretch/>
        </p:blipFill>
        <p:spPr>
          <a:xfrm>
            <a:off x="6948360" y="115920"/>
            <a:ext cx="1944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439236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New words to lear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21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y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lms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до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weat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потеть, запоте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ush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расне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p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ет, под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sure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бедить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ncy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иться, люб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ach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ближ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versation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гово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y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енчивый, скром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ion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астное увлечение, стр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ght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р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ьза, помощь, поддерж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в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бег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1319395021_1300523630_spring"/>
          <p:cNvPicPr/>
          <p:nvPr/>
        </p:nvPicPr>
        <p:blipFill>
          <a:blip r:embed="rId1"/>
          <a:stretch/>
        </p:blipFill>
        <p:spPr>
          <a:xfrm>
            <a:off x="6372360" y="4724280"/>
            <a:ext cx="2333520" cy="174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V48P"/>
          <p:cNvPicPr/>
          <p:nvPr/>
        </p:nvPicPr>
        <p:blipFill>
          <a:blip r:embed="rId2"/>
          <a:stretch/>
        </p:blipFill>
        <p:spPr>
          <a:xfrm>
            <a:off x="6300720" y="189000"/>
            <a:ext cx="2376720" cy="1785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ce0e64b114c"/>
          <p:cNvPicPr/>
          <p:nvPr/>
        </p:nvPicPr>
        <p:blipFill>
          <a:blip r:embed="rId3"/>
          <a:stretch/>
        </p:blipFill>
        <p:spPr>
          <a:xfrm>
            <a:off x="6372360" y="2349360"/>
            <a:ext cx="2406600" cy="180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31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3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7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Match the words to their definitions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288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Get help, improve sth / s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Become red in the face because you feel embarras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Feel attracte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Situation in which it is possible to do s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Go up to spe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) Grow or change over a period of ti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) Keep away of sb / s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) Positive, full of l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2484360" y="1197000"/>
            <a:ext cx="1224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56"/>
          <p:cNvSpPr/>
          <p:nvPr/>
        </p:nvSpPr>
        <p:spPr>
          <a:xfrm flipV="1">
            <a:off x="1692360" y="1557360"/>
            <a:ext cx="194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2195640" y="2133720"/>
            <a:ext cx="151272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 flipV="1">
            <a:off x="1692360" y="2204640"/>
            <a:ext cx="20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1692360" y="2924280"/>
            <a:ext cx="2016000" cy="10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V="1">
            <a:off x="1835280" y="1197000"/>
            <a:ext cx="1873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 flipV="1">
            <a:off x="1979640" y="328464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 flipV="1">
            <a:off x="1619280" y="3715920"/>
            <a:ext cx="20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3" descr="i?id=132035034-49-72&amp;n=21"/>
          <p:cNvPicPr/>
          <p:nvPr/>
        </p:nvPicPr>
        <p:blipFill>
          <a:blip r:embed="rId1"/>
          <a:stretch/>
        </p:blipFill>
        <p:spPr>
          <a:xfrm>
            <a:off x="7596360" y="0"/>
            <a:ext cx="1295280" cy="127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4" descr="badff5281e6a"/>
          <p:cNvPicPr/>
          <p:nvPr/>
        </p:nvPicPr>
        <p:blipFill>
          <a:blip r:embed="rId2"/>
          <a:stretch/>
        </p:blipFill>
        <p:spPr>
          <a:xfrm>
            <a:off x="1042920" y="472428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5" descr="i?id=337025481-08-72&amp;n=21"/>
          <p:cNvPicPr/>
          <p:nvPr/>
        </p:nvPicPr>
        <p:blipFill>
          <a:blip r:embed="rId3"/>
          <a:stretch/>
        </p:blipFill>
        <p:spPr>
          <a:xfrm>
            <a:off x="5148360" y="465300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8:16:56Z</dcterms:created>
  <dc:creator/>
  <dc:description/>
  <dc:language>en-US</dc:language>
  <cp:lastModifiedBy>User</cp:lastModifiedBy>
  <dcterms:modified xsi:type="dcterms:W3CDTF">2019-11-24T09:10:52Z</dcterms:modified>
  <cp:revision>20</cp:revision>
  <dc:subject/>
  <dc:title>Socialising. Summer holidays. </dc:title>
</cp:coreProperties>
</file>