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2E4A-6EC3-48C3-AE09-F66C998F7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CF9-DB3A-49E2-A33E-A18D54EE68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9F9-822E-4AF3-97E8-8A55E262AA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57B-43A7-4F3D-ABFA-70EA30F155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2B8-9E99-4965-B04C-3D15BA1A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CDC-2409-4B21-A70C-5A32688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B4A-9CF7-4CD0-AE47-5F63C610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DC1-04C6-4390-B30F-EBEAEB9B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701-F567-459D-A96B-A5069CA4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98A-60D4-44B6-B568-A695A6E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EA8-06A0-4D64-B06F-0E25B45C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B3E-EB26-4A2F-8560-EA413B3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79E-7510-428B-B714-0F93106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CDD-56DE-4AC5-A0DA-E774757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9AC-D2AE-4D22-A355-5CFDAA4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274-6CCE-4863-BEE6-EB81FE8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AC5E-13DE-4AF8-B96D-7AB3AAEBC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im8-tub-ru.yandex.net/i?id=171101336-18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ttp://im4-tub-ru.yandex.net/i?id=498194843-55-72"/>
          <p:cNvPicPr/>
          <p:nvPr/>
        </p:nvPicPr>
        <p:blipFill>
          <a:blip r:embed="rId1"/>
          <a:stretch/>
        </p:blipFill>
        <p:spPr>
          <a:xfrm>
            <a:off x="0" y="357120"/>
            <a:ext cx="3286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im7-tub-ru.yandex.net/i?id=186065397-45-72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2703600"/>
            <a:ext cx="9144000" cy="411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началу 1925 года в СССР насчитывалось до полутора миллионов пионеров. Пионерское движение в СССР было массовым. Пионерами становились дети, начиная с 9-летнего возраста, обычно в 2-4 классах советской средней школы, и состояли в ней до 13-14 летнего возраста, когда начинался приём в комсомол. Сначала - отличники и активисты, затем остальные дети. Формально приём осуществлялся на добровольной основе, но в 1950-1980-х фактически все школьники по достижению соответствующего возраста принимались в пионеры. Не брали в пионеры редко, обычно только отпетых хулиганов. Случались отказы по религиозным сообра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219 из 6320"/>
          <p:cNvPicPr/>
          <p:nvPr/>
        </p:nvPicPr>
        <p:blipFill>
          <a:blip r:embed="rId1"/>
          <a:stretch/>
        </p:blipFill>
        <p:spPr>
          <a:xfrm>
            <a:off x="857160" y="0"/>
            <a:ext cx="6786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а 13 из 15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2" descr="Картинка 726 из 7459"/>
          <p:cNvPicPr/>
          <p:nvPr/>
        </p:nvPicPr>
        <p:blipFill>
          <a:blip r:embed="rId1"/>
          <a:stretch/>
        </p:blipFill>
        <p:spPr>
          <a:xfrm>
            <a:off x="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5143680" y="117360"/>
            <a:ext cx="4000320" cy="667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ионер верен рабочему классу и коммуниз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ионер — друг и брат всякому другому пионеру и комсомольц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ионер честен и правдив. Его слово — как гран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Пионер дисциплиниров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Пионер ежедневно помогает трудовым собратьям в строительствекоммунистического общест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Пионер трудолюбив и уважает полезный тру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Пионер чист в мыслях, словах и 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ычаи пионе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ионер не валяется в постели утром, а поднимается сразу, к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нька-встань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ионеры стелют постели своими, а не чужими рук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ионеры моются тщательно, не забывая мыть шею и уши, чистят зубы и помнят, что зубы — друзья желуд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Пионеры точны и аккурат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Пионеры стоят и сидят прямо, не горбяс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Пионеры не боятся предлагать свои услуги людя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Пионеры не курят; курящий пионер уже не пионер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Пионеры не держат руки в карманах; держащий руки в карманах не всегда г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Пионеры охраняют полез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Пионеры помнят всегда свои обычаи и зако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Пьяный пионер позорит дружин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Картинка 182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а 354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Картинка 613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http://im0-tub-ru.yandex.net/i?id=403311720-34-72"/>
          <p:cNvPicPr/>
          <p:nvPr/>
        </p:nvPicPr>
        <p:blipFill>
          <a:blip r:embed="rId1"/>
          <a:stretch/>
        </p:blipFill>
        <p:spPr>
          <a:xfrm>
            <a:off x="6143760" y="9288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690 из 74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4" descr="Картинка 1423 из 7459"/>
          <p:cNvPicPr/>
          <p:nvPr/>
        </p:nvPicPr>
        <p:blipFill>
          <a:blip r:embed="rId1"/>
          <a:stretch/>
        </p:blipFill>
        <p:spPr>
          <a:xfrm>
            <a:off x="21420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286160" y="500040"/>
            <a:ext cx="4500720" cy="5946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я создания пионерской организации была сформулирована Н. К. Крупс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торая в 1921 году несколько раз в разных местах выступила с докладом «О бойскаутизме». В своем докладе «РКСМ и бойскаутизм» «бабушка пионерии» предложила комсомолу взять на вооружение скаутские методы и создать детскую организацию,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каутскую по форме и коммунистическую по содержанию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127 из 10759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oner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3286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ая Отечественная Война кардинальным образом изменила деятельность пионерской организации. Пионеры стремились во всем помогать взрослым в борьбе с врагом. Уже в первые дни войны при защите Брестской крепости отличился воспитанник музыкального вз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-летний Петя Клы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4"/>
          <p:cNvPicPr/>
          <p:nvPr/>
        </p:nvPicPr>
        <p:blipFill>
          <a:blip r:embed="rId1"/>
          <a:stretch/>
        </p:blipFill>
        <p:spPr>
          <a:xfrm>
            <a:off x="4214880" y="3286080"/>
            <a:ext cx="4929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0" y="0"/>
            <a:ext cx="49291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етя Клы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Школа\Гриша\пионеры\Пионеры-герои\Изображение 021.jpg"/>
          <p:cNvPicPr/>
          <p:nvPr/>
        </p:nvPicPr>
        <p:blipFill>
          <a:blip r:embed="rId1"/>
          <a:srcRect l="0" t="11693" r="0" b="11693"/>
          <a:stretch/>
        </p:blipFill>
        <p:spPr>
          <a:xfrm>
            <a:off x="0" y="1000080"/>
            <a:ext cx="485784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239360" y="5715000"/>
            <a:ext cx="489276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0d0d"/>
                </a:solidFill>
                <a:latin typeface="Times New Roman"/>
              </a:rPr>
              <a:t>Зина Портн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2_01_04"/>
          <p:cNvPicPr/>
          <p:nvPr/>
        </p:nvPicPr>
        <p:blipFill>
          <a:blip r:embed="rId2"/>
          <a:stretch/>
        </p:blipFill>
        <p:spPr>
          <a:xfrm>
            <a:off x="4929120" y="857160"/>
            <a:ext cx="4214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1160" y="0"/>
            <a:ext cx="350316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аля Кот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ValaKotyk"/>
          <p:cNvPicPr/>
          <p:nvPr/>
        </p:nvPicPr>
        <p:blipFill>
          <a:blip r:embed="rId1"/>
          <a:stretch/>
        </p:blipFill>
        <p:spPr>
          <a:xfrm>
            <a:off x="0" y="1000080"/>
            <a:ext cx="4929120" cy="5429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018760" y="5786280"/>
            <a:ext cx="390852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арат Каз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az[1]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5786280" cy="354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тверо пионеров-героев были удостоены звания Героя Советского Сою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ёня Гол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рат Каз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ля Кот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ина Портн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звезда"/>
          <p:cNvPicPr/>
          <p:nvPr/>
        </p:nvPicPr>
        <p:blipFill>
          <a:blip r:embed="rId1"/>
          <a:stretch/>
        </p:blipFill>
        <p:spPr>
          <a:xfrm>
            <a:off x="5784840" y="500040"/>
            <a:ext cx="314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0"/>
            <a:ext cx="5643720" cy="558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тни пионеров были награждены медалью «Партизану Великой отечественной войны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ыше 15 000 — медал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За оборону Ленинграда»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ыше 20 000 медал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За оборону Москвы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1233051221_medal_leningrad_ussr"/>
          <p:cNvPicPr/>
          <p:nvPr/>
        </p:nvPicPr>
        <p:blipFill>
          <a:blip r:embed="rId1"/>
          <a:stretch/>
        </p:blipFill>
        <p:spPr>
          <a:xfrm>
            <a:off x="5762520" y="1214280"/>
            <a:ext cx="3381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Картинка 318 из 7459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Пионерская организация появилась в селе Северном в 1929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ыми пионерами бы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еркина Ел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аркова Фе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огословский Стеф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лешко Ан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оспоминания учителя 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И.В. Юрченко (1934-193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ионеры старались хорошо уч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тупали перед населением с концертами и лекц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них были свои поля, и они выращивали картофель, пшеницу, ухаживали за ско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Сельские пионеры  в годы войны </a:t>
            </a:r>
            <a:br>
              <a:rPr sz="3600"/>
            </a:b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(1941-194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1942-1943 годах в школе было 27 пион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ряду с учебой они помогали взрослым на полях ухаживать и собирать урож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бирали металлолом, лекарственные травы, пух и перья для подушек раненых солдат в госпит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ченики 6-х классов работали в поле на каникулах – 55 дней, 7-х классов – 75 дн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имуровцы помогали семьям фронтов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357800" y="333360"/>
            <a:ext cx="4786200" cy="6492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6 мая в Москве открылась II Всероссийская конференция РКСМ. На одной из секций обсуждался опыт московских комсомольцев по созданию отрядов юных пионеров. 19 мая 1922 года конференция специальным постановлением одобрила этот опыт и решила распространить его на всю страну. Этот день стал днем рождения пионер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ttp://im2-tub-ru.yandex.net/i?id=185634751-23-72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Пионерская дружина 1964-19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школе 286 пионеров, 9 отря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имуровцы помогают старушкам и инвалидам: рубят дрова, носят воду из колодца, приносят книги из библиот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ионеры помогают колхозу: пропалывают кукурузу и свеклу, помогают в их убор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ращивают тутовый шелкопряд для производства ше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хаживают за кролик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Принятие в пионеры возле памятника В.И. Лен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DSC02642"/>
          <p:cNvPicPr/>
          <p:nvPr/>
        </p:nvPicPr>
        <p:blipFill>
          <a:blip r:embed="rId1"/>
          <a:stretch/>
        </p:blipFill>
        <p:spPr>
          <a:xfrm>
            <a:off x="250920" y="1557360"/>
            <a:ext cx="3870360" cy="4776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SC02643"/>
          <p:cNvPicPr/>
          <p:nvPr/>
        </p:nvPicPr>
        <p:blipFill>
          <a:blip r:embed="rId2"/>
          <a:stretch/>
        </p:blipFill>
        <p:spPr>
          <a:xfrm>
            <a:off x="3924360" y="2205000"/>
            <a:ext cx="47116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ионеры села Север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SC02639"/>
          <p:cNvPicPr/>
          <p:nvPr/>
        </p:nvPicPr>
        <p:blipFill>
          <a:blip r:embed="rId1"/>
          <a:stretch/>
        </p:blipFill>
        <p:spPr>
          <a:xfrm>
            <a:off x="4761000" y="2421000"/>
            <a:ext cx="4383000" cy="4079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SC02641"/>
          <p:cNvPicPr/>
          <p:nvPr/>
        </p:nvPicPr>
        <p:blipFill>
          <a:blip r:embed="rId2"/>
          <a:stretch/>
        </p:blipFill>
        <p:spPr>
          <a:xfrm>
            <a:off x="0" y="1341360"/>
            <a:ext cx="442440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3933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ктябре, 5-й Всероссийский съезд РКСМ постановил объединить все пионерские отряды в детскую коммунистическую организацию  «Юные пионеры  имени Спартака». 21 января 1924 г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ень смерти Ленина, решением ЦК РКСМ организации было присвоено имя Ленина, а в марте 1926 года установлено официальное название — Всесоюзная пионерская организация им. В. И. Ленина, сохранявшееся до конца её существован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-ru.yandex.net/i?id=93764439-55-72"/>
          <p:cNvPicPr/>
          <p:nvPr/>
        </p:nvPicPr>
        <p:blipFill>
          <a:blip r:embed="rId1"/>
          <a:stretch/>
        </p:blipFill>
        <p:spPr>
          <a:xfrm>
            <a:off x="1714680" y="4071960"/>
            <a:ext cx="63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3-tub-ru.yandex.net/i?id=280091671-07-72"/>
          <p:cNvPicPr/>
          <p:nvPr/>
        </p:nvPicPr>
        <p:blipFill>
          <a:blip r:embed="rId1"/>
          <a:stretch/>
        </p:blipFill>
        <p:spPr>
          <a:xfrm>
            <a:off x="4714920" y="1000080"/>
            <a:ext cx="4429080" cy="585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4-tub-ru.yandex.net/i?id=407897217-06-72"/>
          <p:cNvPicPr/>
          <p:nvPr/>
        </p:nvPicPr>
        <p:blipFill>
          <a:blip r:embed="rId2"/>
          <a:stretch/>
        </p:blipFill>
        <p:spPr>
          <a:xfrm>
            <a:off x="0" y="92880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5643720" y="5857920"/>
            <a:ext cx="25286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алст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98400" y="0"/>
            <a:ext cx="633924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имволы Пионер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im6-tub-ru.yandex.net/i?id=56432424-41-72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6-tub-ru.yandex.net/i?id=19081241-07-7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715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285920" y="5643720"/>
            <a:ext cx="307188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13 из 7460"/>
          <p:cNvPicPr/>
          <p:nvPr/>
        </p:nvPicPr>
        <p:blipFill>
          <a:blip r:embed="rId1"/>
          <a:stretch/>
        </p:blipFill>
        <p:spPr>
          <a:xfrm>
            <a:off x="0" y="0"/>
            <a:ext cx="8572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7052760" y="6027840"/>
            <a:ext cx="1595160" cy="825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ор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5-tub-ru.yandex.net/i?id=34043667-49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2600" y="6087960"/>
            <a:ext cx="2221200" cy="764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раб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0-tub-ru.yandex.net/i?id=390516877-27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8:01:04Z</dcterms:created>
  <dc:creator>Татьяна</dc:creator>
  <dc:description/>
  <dc:language>en-US</dc:language>
  <cp:lastModifiedBy>библиотека</cp:lastModifiedBy>
  <dcterms:modified xsi:type="dcterms:W3CDTF">2019-10-28T08:12:08Z</dcterms:modified>
  <cp:revision>15</cp:revision>
  <dc:subject/>
  <dc:title>Слайд 1</dc:title>
</cp:coreProperties>
</file>