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0" y="942660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49840" y="942660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9B864E-8C42-46C9-B3C9-4E11F5A441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9840" y="942660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4D1C86-AE01-4381-A56C-73A325EA8E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660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002214-CCF8-49A1-A7A3-C78DEBBE31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660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7CA81A-67BB-41CD-87DB-0A94D2E3DB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Какие проблемы возникли у ваших детей с переходом в 5 класс?» -вопрос родителям. Список дополняется ответами на этот вопрос учителями и деть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660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B972BA-89F8-4054-8DFD-44F5158673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42660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D6C2D5-1ECC-4609-9AB6-2EAD80C6D2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49840" y="942660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4BC5EC-52B6-491F-979C-5A76A88BD8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B2AF-F841-475D-AA21-DBCB3951C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1DC4-17A6-4FE1-BC24-85F7EFF1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382D-77D1-4A22-88D8-0A0C615D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1564-1CE8-4397-9DC3-8E5EA5EE2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F090-46BE-4452-ACA7-DF53DD079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7AE2-AC2E-40B7-BBFF-DFCB251C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85E2-9A60-4142-B276-5C6133D8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5D38-692D-4A40-B43E-366879BE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8FD1-E0BE-460A-9F4B-8D8B4453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2943-8797-4473-A727-0C83712E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CF63-9B9E-4BB3-AFB8-F832C78D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299F-06B3-42F0-9C49-BCD44761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6254-C6BC-477C-B491-B21C3201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525F-9B05-4E9F-BD64-EAD64672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D13D-A557-4239-9C8B-C9A0BF3B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7158-7899-4C39-AF8C-688206F6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0759-2A8F-47B7-B910-572A0784D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ADBB-B016-4734-A614-472D4F05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7C6A-E67A-4334-8F1D-2F396A6B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9EED-A9D0-4245-B959-A8D355AF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1C5B-0D11-4FCB-BECD-12125241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3175-05AF-40E0-8AD5-905F464F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7DE6-AB42-48C1-A5E0-3DE7F68E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67BC-5F0A-4415-8840-9A02EE8A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09C745-B331-4EF5-AD25-35B1DD841E7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-39240" y="-338400"/>
            <a:ext cx="9405720" cy="7194960"/>
            <a:chOff x="-39240" y="-338400"/>
            <a:chExt cx="9405720" cy="7194960"/>
          </a:xfrm>
        </p:grpSpPr>
        <p:grpSp>
          <p:nvGrpSpPr>
            <p:cNvPr id="42" name="Group 2"/>
            <p:cNvGrpSpPr/>
            <p:nvPr/>
          </p:nvGrpSpPr>
          <p:grpSpPr>
            <a:xfrm>
              <a:off x="4833720" y="-338400"/>
              <a:ext cx="4532760" cy="6543360"/>
              <a:chOff x="4833720" y="-338400"/>
              <a:chExt cx="4532760" cy="6543360"/>
            </a:xfrm>
          </p:grpSpPr>
          <p:sp>
            <p:nvSpPr>
              <p:cNvPr id="43" name="Freeform 3"/>
              <p:cNvSpPr/>
              <p:nvPr/>
            </p:nvSpPr>
            <p:spPr>
              <a:xfrm flipV="1" rot="12000000">
                <a:off x="6247800" y="62280"/>
                <a:ext cx="2780280" cy="2467800"/>
              </a:xfrm>
              <a:custGeom>
                <a:avLst/>
                <a:gdLst>
                  <a:gd name="textAreaLeft" fmla="*/ 0 w 2780280"/>
                  <a:gd name="textAreaRight" fmla="*/ 2780640 w 2780280"/>
                  <a:gd name="textAreaTop" fmla="*/ -360 h 2467800"/>
                  <a:gd name="textAreaBottom" fmla="*/ 2467800 h 246780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"/>
              <p:cNvSpPr/>
              <p:nvPr/>
            </p:nvSpPr>
            <p:spPr>
              <a:xfrm flipV="1" rot="12000000">
                <a:off x="7352280" y="1752480"/>
                <a:ext cx="1190160" cy="881640"/>
              </a:xfrm>
              <a:custGeom>
                <a:avLst/>
                <a:gdLst>
                  <a:gd name="textAreaLeft" fmla="*/ 0 w 1190160"/>
                  <a:gd name="textAreaRight" fmla="*/ 1190520 w 1190160"/>
                  <a:gd name="textAreaTop" fmla="*/ -360 h 881640"/>
                  <a:gd name="textAreaBottom" fmla="*/ 881640 h 88164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5"/>
              <p:cNvSpPr/>
              <p:nvPr/>
            </p:nvSpPr>
            <p:spPr>
              <a:xfrm flipV="1" rot="12000000">
                <a:off x="6570000" y="2414520"/>
                <a:ext cx="576000" cy="412560"/>
              </a:xfrm>
              <a:custGeom>
                <a:avLst/>
                <a:gdLst>
                  <a:gd name="textAreaLeft" fmla="*/ 0 w 576000"/>
                  <a:gd name="textAreaRight" fmla="*/ 576360 w 576000"/>
                  <a:gd name="textAreaTop" fmla="*/ 360 h 412560"/>
                  <a:gd name="textAreaBottom" fmla="*/ 413280 h 41256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Freeform 6"/>
              <p:cNvSpPr/>
              <p:nvPr/>
            </p:nvSpPr>
            <p:spPr>
              <a:xfrm flipV="1" rot="12000000">
                <a:off x="7128360" y="403200"/>
                <a:ext cx="509400" cy="574920"/>
              </a:xfrm>
              <a:custGeom>
                <a:avLst/>
                <a:gdLst>
                  <a:gd name="textAreaLeft" fmla="*/ 0 w 509400"/>
                  <a:gd name="textAreaRight" fmla="*/ 509760 w 509400"/>
                  <a:gd name="textAreaTop" fmla="*/ 0 h 574920"/>
                  <a:gd name="textAreaBottom" fmla="*/ 574920 h 57492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Freeform 7"/>
              <p:cNvSpPr/>
              <p:nvPr/>
            </p:nvSpPr>
            <p:spPr>
              <a:xfrm flipV="1" rot="12000000">
                <a:off x="7001280" y="2467800"/>
                <a:ext cx="212760" cy="34560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Freeform 8"/>
              <p:cNvSpPr/>
              <p:nvPr/>
            </p:nvSpPr>
            <p:spPr>
              <a:xfrm flipV="1" rot="12000000">
                <a:off x="6980760" y="995400"/>
                <a:ext cx="248400" cy="14796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-360 h 147960"/>
                  <a:gd name="textAreaBottom" fmla="*/ 147960 h 1479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Freeform 9"/>
              <p:cNvSpPr/>
              <p:nvPr/>
            </p:nvSpPr>
            <p:spPr>
              <a:xfrm flipV="1" rot="12000000">
                <a:off x="5398560" y="2768040"/>
                <a:ext cx="686880" cy="3422160"/>
              </a:xfrm>
              <a:custGeom>
                <a:avLst/>
                <a:gdLst>
                  <a:gd name="textAreaLeft" fmla="*/ 0 w 686880"/>
                  <a:gd name="textAreaRight" fmla="*/ 687240 w 686880"/>
                  <a:gd name="textAreaTop" fmla="*/ 360 h 3422160"/>
                  <a:gd name="textAreaBottom" fmla="*/ 3422880 h 342216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Freeform 10"/>
            <p:cNvSpPr/>
            <p:nvPr/>
          </p:nvSpPr>
          <p:spPr>
            <a:xfrm flipH="1" rot="360000">
              <a:off x="12960" y="3107880"/>
              <a:ext cx="512280" cy="102924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29240"/>
                <a:gd name="textAreaBottom" fmla="*/ 1029600 h 102924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1"/>
            <p:cNvSpPr/>
            <p:nvPr/>
          </p:nvSpPr>
          <p:spPr>
            <a:xfrm>
              <a:off x="246600" y="2000160"/>
              <a:ext cx="2001240" cy="2430720"/>
            </a:xfrm>
            <a:custGeom>
              <a:avLst/>
              <a:gdLst>
                <a:gd name="textAreaLeft" fmla="*/ 0 w 2001240"/>
                <a:gd name="textAreaRight" fmla="*/ 2001600 w 2001240"/>
                <a:gd name="textAreaTop" fmla="*/ 0 h 2430720"/>
                <a:gd name="textAreaBottom" fmla="*/ 2431080 h 243072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2"/>
            <p:cNvSpPr/>
            <p:nvPr/>
          </p:nvSpPr>
          <p:spPr>
            <a:xfrm>
              <a:off x="-20520" y="4143240"/>
              <a:ext cx="1272960" cy="727200"/>
            </a:xfrm>
            <a:custGeom>
              <a:avLst/>
              <a:gdLst>
                <a:gd name="textAreaLeft" fmla="*/ 0 w 1272960"/>
                <a:gd name="textAreaRight" fmla="*/ 1273320 w 1272960"/>
                <a:gd name="textAreaTop" fmla="*/ 0 h 727200"/>
                <a:gd name="textAreaBottom" fmla="*/ 727560 h 72720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3"/>
            <p:cNvSpPr/>
            <p:nvPr/>
          </p:nvSpPr>
          <p:spPr>
            <a:xfrm flipH="1" rot="360000">
              <a:off x="1407960" y="4533480"/>
              <a:ext cx="561600" cy="73512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4"/>
            <p:cNvSpPr/>
            <p:nvPr/>
          </p:nvSpPr>
          <p:spPr>
            <a:xfrm flipH="1" rot="360000">
              <a:off x="1248120" y="4730400"/>
              <a:ext cx="136440" cy="433800"/>
            </a:xfrm>
            <a:custGeom>
              <a:avLst/>
              <a:gdLst>
                <a:gd name="textAreaLeft" fmla="*/ -360 w 136440"/>
                <a:gd name="textAreaRight" fmla="*/ 136440 w 136440"/>
                <a:gd name="textAreaTop" fmla="*/ 0 h 433800"/>
                <a:gd name="textAreaBottom" fmla="*/ 434160 h 43380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5"/>
            <p:cNvSpPr/>
            <p:nvPr/>
          </p:nvSpPr>
          <p:spPr>
            <a:xfrm>
              <a:off x="1872720" y="5195880"/>
              <a:ext cx="1761120" cy="1660680"/>
            </a:xfrm>
            <a:custGeom>
              <a:avLst/>
              <a:gdLst>
                <a:gd name="textAreaLeft" fmla="*/ 0 w 1761120"/>
                <a:gd name="textAreaRight" fmla="*/ 1761480 w 1761120"/>
                <a:gd name="textAreaTop" fmla="*/ 0 h 1660680"/>
                <a:gd name="textAreaBottom" fmla="*/ 1661040 h 166068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" name="Group 16"/>
            <p:cNvGrpSpPr/>
            <p:nvPr/>
          </p:nvGrpSpPr>
          <p:grpSpPr>
            <a:xfrm>
              <a:off x="3988440" y="920520"/>
              <a:ext cx="1271160" cy="1391040"/>
              <a:chOff x="3988440" y="920520"/>
              <a:chExt cx="1271160" cy="1391040"/>
            </a:xfrm>
          </p:grpSpPr>
          <p:sp>
            <p:nvSpPr>
              <p:cNvPr id="57" name="Freeform 17"/>
              <p:cNvSpPr/>
              <p:nvPr/>
            </p:nvSpPr>
            <p:spPr>
              <a:xfrm rot="3240000">
                <a:off x="4538520" y="939240"/>
                <a:ext cx="304200" cy="5050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505080"/>
                  <a:gd name="textAreaBottom" fmla="*/ 505440 h 50508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18"/>
              <p:cNvSpPr/>
              <p:nvPr/>
            </p:nvSpPr>
            <p:spPr>
              <a:xfrm rot="3240000">
                <a:off x="4676400" y="1520280"/>
                <a:ext cx="522000" cy="417240"/>
              </a:xfrm>
              <a:custGeom>
                <a:avLst/>
                <a:gdLst>
                  <a:gd name="textAreaLeft" fmla="*/ 0 w 522000"/>
                  <a:gd name="textAreaRight" fmla="*/ 522360 w 522000"/>
                  <a:gd name="textAreaTop" fmla="*/ 0 h 417240"/>
                  <a:gd name="textAreaBottom" fmla="*/ 417600 h 417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19"/>
              <p:cNvSpPr/>
              <p:nvPr/>
            </p:nvSpPr>
            <p:spPr>
              <a:xfrm rot="3240000">
                <a:off x="3961800" y="1922400"/>
                <a:ext cx="546120" cy="212040"/>
              </a:xfrm>
              <a:custGeom>
                <a:avLst/>
                <a:gdLst>
                  <a:gd name="textAreaLeft" fmla="*/ 0 w 546120"/>
                  <a:gd name="textAreaRight" fmla="*/ 546480 w 546120"/>
                  <a:gd name="textAreaTop" fmla="*/ 0 h 212040"/>
                  <a:gd name="textAreaBottom" fmla="*/ 212400 h 2120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20"/>
            <p:cNvGrpSpPr/>
            <p:nvPr/>
          </p:nvGrpSpPr>
          <p:grpSpPr>
            <a:xfrm>
              <a:off x="5615280" y="280080"/>
              <a:ext cx="969120" cy="916200"/>
              <a:chOff x="5615280" y="280080"/>
              <a:chExt cx="969120" cy="916200"/>
            </a:xfrm>
          </p:grpSpPr>
          <p:sp>
            <p:nvSpPr>
              <p:cNvPr id="61" name="Freeform 21"/>
              <p:cNvSpPr/>
              <p:nvPr/>
            </p:nvSpPr>
            <p:spPr>
              <a:xfrm rot="14880000">
                <a:off x="5736960" y="835560"/>
                <a:ext cx="194040" cy="393480"/>
              </a:xfrm>
              <a:custGeom>
                <a:avLst/>
                <a:gdLst>
                  <a:gd name="textAreaLeft" fmla="*/ 0 w 194040"/>
                  <a:gd name="textAreaRight" fmla="*/ 194400 w 194040"/>
                  <a:gd name="textAreaTop" fmla="*/ 0 h 393480"/>
                  <a:gd name="textAreaBottom" fmla="*/ 393840 h 39348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Freeform 22"/>
              <p:cNvSpPr/>
              <p:nvPr/>
            </p:nvSpPr>
            <p:spPr>
              <a:xfrm rot="14880000">
                <a:off x="5680440" y="484200"/>
                <a:ext cx="335520" cy="325800"/>
              </a:xfrm>
              <a:custGeom>
                <a:avLst/>
                <a:gdLst>
                  <a:gd name="textAreaLeft" fmla="*/ 0 w 335520"/>
                  <a:gd name="textAreaRight" fmla="*/ 335880 w 335520"/>
                  <a:gd name="textAreaTop" fmla="*/ 0 h 325800"/>
                  <a:gd name="textAreaBottom" fmla="*/ 325800 h 3258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23"/>
              <p:cNvSpPr/>
              <p:nvPr/>
            </p:nvSpPr>
            <p:spPr>
              <a:xfrm rot="14880000">
                <a:off x="6266520" y="390960"/>
                <a:ext cx="351000" cy="164520"/>
              </a:xfrm>
              <a:custGeom>
                <a:avLst/>
                <a:gdLst>
                  <a:gd name="textAreaLeft" fmla="*/ 0 w 351000"/>
                  <a:gd name="textAreaRight" fmla="*/ 351360 w 351000"/>
                  <a:gd name="textAreaTop" fmla="*/ 0 h 164520"/>
                  <a:gd name="textAreaBottom" fmla="*/ 164520 h 1645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24"/>
            <p:cNvGrpSpPr/>
            <p:nvPr/>
          </p:nvGrpSpPr>
          <p:grpSpPr>
            <a:xfrm>
              <a:off x="932400" y="5155560"/>
              <a:ext cx="1162800" cy="1063080"/>
              <a:chOff x="932400" y="5155560"/>
              <a:chExt cx="1162800" cy="1063080"/>
            </a:xfrm>
          </p:grpSpPr>
          <p:sp>
            <p:nvSpPr>
              <p:cNvPr id="65" name="Freeform 25"/>
              <p:cNvSpPr/>
              <p:nvPr/>
            </p:nvSpPr>
            <p:spPr>
              <a:xfrm rot="8520000">
                <a:off x="1731240" y="5484240"/>
                <a:ext cx="266040" cy="408600"/>
              </a:xfrm>
              <a:custGeom>
                <a:avLst/>
                <a:gdLst>
                  <a:gd name="textAreaLeft" fmla="*/ 0 w 266040"/>
                  <a:gd name="textAreaRight" fmla="*/ 266400 w 266040"/>
                  <a:gd name="textAreaTop" fmla="*/ 0 h 408600"/>
                  <a:gd name="textAreaBottom" fmla="*/ 408960 h 4086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26"/>
              <p:cNvSpPr/>
              <p:nvPr/>
            </p:nvSpPr>
            <p:spPr>
              <a:xfrm rot="8520000">
                <a:off x="1184400" y="5775480"/>
                <a:ext cx="454320" cy="339120"/>
              </a:xfrm>
              <a:custGeom>
                <a:avLst/>
                <a:gdLst>
                  <a:gd name="textAreaLeft" fmla="*/ 0 w 454320"/>
                  <a:gd name="textAreaRight" fmla="*/ 454680 w 454320"/>
                  <a:gd name="textAreaTop" fmla="*/ 0 h 339120"/>
                  <a:gd name="textAreaBottom" fmla="*/ 339480 h 3391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27"/>
              <p:cNvSpPr/>
              <p:nvPr/>
            </p:nvSpPr>
            <p:spPr>
              <a:xfrm rot="8520000">
                <a:off x="934920" y="5283000"/>
                <a:ext cx="474840" cy="172440"/>
              </a:xfrm>
              <a:custGeom>
                <a:avLst/>
                <a:gdLst>
                  <a:gd name="textAreaLeft" fmla="*/ 0 w 474840"/>
                  <a:gd name="textAreaRight" fmla="*/ 475200 w 47484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28"/>
            <p:cNvGrpSpPr/>
            <p:nvPr/>
          </p:nvGrpSpPr>
          <p:grpSpPr>
            <a:xfrm>
              <a:off x="222120" y="369000"/>
              <a:ext cx="1863360" cy="1271880"/>
              <a:chOff x="222120" y="369000"/>
              <a:chExt cx="1863360" cy="1271880"/>
            </a:xfrm>
          </p:grpSpPr>
          <p:sp>
            <p:nvSpPr>
              <p:cNvPr id="69" name="Freeform 29"/>
              <p:cNvSpPr/>
              <p:nvPr/>
            </p:nvSpPr>
            <p:spPr>
              <a:xfrm flipH="1" rot="4140000">
                <a:off x="1545120" y="1059840"/>
                <a:ext cx="393480" cy="584640"/>
              </a:xfrm>
              <a:custGeom>
                <a:avLst/>
                <a:gdLst>
                  <a:gd name="textAreaLeft" fmla="*/ -360 w 393480"/>
                  <a:gd name="textAreaRight" fmla="*/ 393480 w 393480"/>
                  <a:gd name="textAreaTop" fmla="*/ 0 h 584640"/>
                  <a:gd name="textAreaBottom" fmla="*/ 585000 h 584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30"/>
              <p:cNvSpPr/>
              <p:nvPr/>
            </p:nvSpPr>
            <p:spPr>
              <a:xfrm flipH="1" rot="4140000">
                <a:off x="931680" y="528120"/>
                <a:ext cx="676080" cy="486360"/>
              </a:xfrm>
              <a:custGeom>
                <a:avLst/>
                <a:gdLst>
                  <a:gd name="textAreaLeft" fmla="*/ 360 w 676080"/>
                  <a:gd name="textAreaRight" fmla="*/ 676800 w 676080"/>
                  <a:gd name="textAreaTop" fmla="*/ 0 h 486360"/>
                  <a:gd name="textAreaBottom" fmla="*/ 486720 h 486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31"/>
              <p:cNvSpPr/>
              <p:nvPr/>
            </p:nvSpPr>
            <p:spPr>
              <a:xfrm flipH="1" rot="4140000">
                <a:off x="110880" y="1102320"/>
                <a:ext cx="706320" cy="247320"/>
              </a:xfrm>
              <a:custGeom>
                <a:avLst/>
                <a:gdLst>
                  <a:gd name="textAreaLeft" fmla="*/ 360 w 706320"/>
                  <a:gd name="textAreaRight" fmla="*/ 707040 w 70632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32"/>
            <p:cNvGrpSpPr/>
            <p:nvPr/>
          </p:nvGrpSpPr>
          <p:grpSpPr>
            <a:xfrm>
              <a:off x="7333560" y="3620520"/>
              <a:ext cx="1260720" cy="1719360"/>
              <a:chOff x="7333560" y="3620520"/>
              <a:chExt cx="1260720" cy="1719360"/>
            </a:xfrm>
          </p:grpSpPr>
          <p:sp>
            <p:nvSpPr>
              <p:cNvPr id="73" name="Freeform 33"/>
              <p:cNvSpPr/>
              <p:nvPr/>
            </p:nvSpPr>
            <p:spPr>
              <a:xfrm flipH="1" rot="10020000">
                <a:off x="7391880" y="4739040"/>
                <a:ext cx="387000" cy="564480"/>
              </a:xfrm>
              <a:custGeom>
                <a:avLst/>
                <a:gdLst>
                  <a:gd name="textAreaLeft" fmla="*/ -360 w 387000"/>
                  <a:gd name="textAreaRight" fmla="*/ 387000 w 387000"/>
                  <a:gd name="textAreaTop" fmla="*/ 0 h 564480"/>
                  <a:gd name="textAreaBottom" fmla="*/ 564840 h 56448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Freeform 34"/>
              <p:cNvSpPr/>
              <p:nvPr/>
            </p:nvSpPr>
            <p:spPr>
              <a:xfrm flipH="1" rot="10020000">
                <a:off x="7885440" y="4417200"/>
                <a:ext cx="664560" cy="470160"/>
              </a:xfrm>
              <a:custGeom>
                <a:avLst/>
                <a:gdLst>
                  <a:gd name="textAreaLeft" fmla="*/ 360 w 664560"/>
                  <a:gd name="textAreaRight" fmla="*/ 665280 w 664560"/>
                  <a:gd name="textAreaTop" fmla="*/ 0 h 470160"/>
                  <a:gd name="textAreaBottom" fmla="*/ 470520 h 4701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Freeform 35"/>
              <p:cNvSpPr/>
              <p:nvPr/>
            </p:nvSpPr>
            <p:spPr>
              <a:xfrm flipH="1" rot="10020000">
                <a:off x="7553520" y="3695400"/>
                <a:ext cx="694080" cy="239040"/>
              </a:xfrm>
              <a:custGeom>
                <a:avLst/>
                <a:gdLst>
                  <a:gd name="textAreaLeft" fmla="*/ 360 w 694080"/>
                  <a:gd name="textAreaRight" fmla="*/ 694800 w 694080"/>
                  <a:gd name="textAreaTop" fmla="*/ 0 h 239040"/>
                  <a:gd name="textAreaBottom" fmla="*/ 239400 h 2390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" name="Freeform 36"/>
            <p:cNvSpPr/>
            <p:nvPr/>
          </p:nvSpPr>
          <p:spPr>
            <a:xfrm>
              <a:off x="1915920" y="3240"/>
              <a:ext cx="1369440" cy="1404720"/>
            </a:xfrm>
            <a:custGeom>
              <a:avLst/>
              <a:gdLst>
                <a:gd name="textAreaLeft" fmla="*/ 0 w 1369440"/>
                <a:gd name="textAreaRight" fmla="*/ 1369800 w 1369440"/>
                <a:gd name="textAreaTop" fmla="*/ 0 h 1404720"/>
                <a:gd name="textAreaBottom" fmla="*/ 1405080 h 14047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37"/>
            <p:cNvSpPr/>
            <p:nvPr/>
          </p:nvSpPr>
          <p:spPr>
            <a:xfrm flipV="1" rot="9840000">
              <a:off x="3414240" y="164160"/>
              <a:ext cx="1081440" cy="939600"/>
            </a:xfrm>
            <a:custGeom>
              <a:avLst/>
              <a:gdLst>
                <a:gd name="textAreaLeft" fmla="*/ 0 w 1081440"/>
                <a:gd name="textAreaRight" fmla="*/ 1081800 w 1081440"/>
                <a:gd name="textAreaTop" fmla="*/ 360 h 939600"/>
                <a:gd name="textAreaBottom" fmla="*/ 940320 h 9396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38"/>
            <p:cNvSpPr/>
            <p:nvPr/>
          </p:nvSpPr>
          <p:spPr>
            <a:xfrm flipV="1" rot="9840000">
              <a:off x="3158280" y="1361880"/>
              <a:ext cx="523080" cy="43920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360 h 439200"/>
                <a:gd name="textAreaBottom" fmla="*/ 439920 h 4392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39"/>
            <p:cNvSpPr/>
            <p:nvPr/>
          </p:nvSpPr>
          <p:spPr>
            <a:xfrm flipV="1" rot="9840000">
              <a:off x="3519360" y="1285200"/>
              <a:ext cx="194040" cy="36828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-360 h 368280"/>
                <a:gd name="textAreaBottom" fmla="*/ 368280 h 3682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40"/>
            <p:cNvSpPr/>
            <p:nvPr/>
          </p:nvSpPr>
          <p:spPr>
            <a:xfrm>
              <a:off x="2530080" y="0"/>
              <a:ext cx="195480" cy="19044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41"/>
            <p:cNvSpPr/>
            <p:nvPr/>
          </p:nvSpPr>
          <p:spPr>
            <a:xfrm flipV="1" rot="9840000">
              <a:off x="3439080" y="1964520"/>
              <a:ext cx="623520" cy="365004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0040"/>
                <a:gd name="textAreaBottom" fmla="*/ 3650040 h 365004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42"/>
            <p:cNvSpPr/>
            <p:nvPr/>
          </p:nvSpPr>
          <p:spPr>
            <a:xfrm>
              <a:off x="-20520" y="2933640"/>
              <a:ext cx="55440" cy="20808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99C9DB8-AD3F-4DDA-9BBE-CBCAA343BBFB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128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Родительское собрание в 5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7416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"Адапт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ятикласс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 новы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слови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чёбы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40561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знаки успешной адапта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овлетворенность ребенка процессом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енок легко справляется с программ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пень самостоятельности ребенка при выполнении им учебных заданий, готовность прибегнуть к помощи взрослого лишь ПОСЛЕ попыток выполнить задание само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овлетворенность межличностными отношениями – с одноклассниками и учи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6081840" y="4437000"/>
            <a:ext cx="286200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зникающие пробл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ень много разных уч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ивычное распис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 новых кабине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ые дети в класс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ый классный руководите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росший темп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росший объем работ в классе и д/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сть на каждом уроке приспосабливаться к своеобразно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пу, особенностям речи учителей;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амостоятельность в работе с текст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зкий уровень развития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бое развитие навыков самостоятельной работ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6372360" y="1052640"/>
            <a:ext cx="2217600" cy="260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изнаки дезадапт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лый, утомлённый внешний вид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желание ребёнка делиться своими впечатлениями о проведённом д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мление отвлечь взрослого от школьных событий, переключить внимание на другие 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желания выполнять домашние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гативные характеристики в адрес школы, учителей, однокласс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алобы на те или иные события, связанные со шко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покойный с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ности утреннего пробуждения, вял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оянные жалобы на плохое самочув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1150920" cy="93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м можно помо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е условие школьного успеха пятиклассника —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езусловное принятие ребенка, несмотря на те неудачи, с которыми он уже столкнулся или может столкнутьс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ас, что-то беспокоит в поведении ребенка, постарайтесь, как можно скорее встретиться и обсудить это с классным руководителем или психоло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 семье произошли какие то события, повлиявшие на психологическое состояние ребенка (развод, отъезд в долгую командировку кого-то из родителей, рождение еще одного ребенка и тд.) сообщите об этом классному руководит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яйте интерес к школьным делам, обсуждайте сложные ситуации, вместе ищите выход из конфликтов. Неформальное общение со своим ребенком после прошедшего школьного д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гите ребенку выучить имена новых уч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ледует сразу ослаблять контроль за учебной деятельностью ребенка, если в период начальной школы он привык к вашему контро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учайте его к самостоятельности постеп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1724040" cy="149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м можно помо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допустимость физических мер воздействия, запугивания, критики в адрес ребенка, особенно в присутствии других людей (бабушек, дедушек, сверстников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т темперамента ребенка в период адаптации к школьному обучению. Медлительные и малообщительные дети гораздо труднее привыкают к новой обстановке, быстро теряют к нему интер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вайте условия для развит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амостоятельности в поведении ребенка. У пятиклассника непременно должны быть домашние обязанности, за выполнение которых он несет ответствен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ощрение ребенка, и не только за учебные успехи. Моральное стимулирование достижений ребе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ми помощниками родителей в сложных ситуациях являются терпение, внимание и понимание. Постарайтесь создать благоприятный климат в семье для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смотря на кажущуюся взрослость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ятиклассник нуждается в ненавязчивом контроле со стороны родителей, поскольку не всегда может сам сориентироваться в новых требованиях школьной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1724040" cy="149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30:51Z</dcterms:created>
  <dc:creator>Мама</dc:creator>
  <dc:description/>
  <dc:language>en-US</dc:language>
  <cp:lastModifiedBy>PalaginaMN</cp:lastModifiedBy>
  <dcterms:modified xsi:type="dcterms:W3CDTF">2014-09-26T05:10:51Z</dcterms:modified>
  <cp:revision>147</cp:revision>
  <dc:subject/>
  <dc:title>Родительское собрание в 5 классе</dc:title>
</cp:coreProperties>
</file>