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0A5328-DD87-455A-BEB7-F8A4E49C4C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FB0ADF-5800-4C68-A21B-E2FAE8362D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10D97B-49DF-4197-9001-BDC505BA53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813FB5-C85F-4F3A-903E-6B11FAD20F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Какие проблемы возникли у ваших детей с переходом в 5 класс?» -вопрос родителям. Список дополняется ответами на этот вопрос учителями и деть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0175F1-0639-4FD5-82CB-DA64168ED2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474697-7192-4E61-81B8-27805A9510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82B035-AED8-4B7E-B5A9-89D6BC9567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1318-7865-44E4-ADA7-B97D7F06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BDB-C345-40E1-B1C3-737E7C47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A45-FABE-433B-B855-8931C7B4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974-2DE4-4071-B5FE-E653D030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4819-4C64-4B6E-A1E8-32097929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9357-4645-48E5-A21D-8F6FDFE6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18C6-A5F3-4AB6-968C-9630653D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3192-1552-4902-BEAD-7C19F835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CCDB-F1A0-463C-9811-0901458F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8DF0-4B72-4F65-9CCB-6FE02720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8DC1-D802-46E9-9C78-0DB4D4E7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D8B5-CCDD-4198-89AA-406D93A6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C997-4C81-4AA5-B08E-BFEE01B2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D4F2-66C6-4264-8BF6-D0FF367B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041C-D093-4799-9419-448BFBE5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76F6-3B2C-4470-B446-F69AD35D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A882-EF8F-4658-B492-3547C3D1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C6E8-340A-49A7-8F90-6CA35C21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9CA0-25B3-47B9-B4A5-CA87E3C5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70B-DE7A-49BC-8682-AD23B76C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1A7C-E22E-439F-B0EB-B54C418B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D2B-51AB-4CB1-8B62-DF37F8A5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193-770A-464E-99BF-1541AABE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72A-5521-419A-AEFA-1B5E228B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6ED06F-5972-4BCD-8E16-781871F1024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39240" y="-338400"/>
            <a:ext cx="9405720" cy="7194960"/>
            <a:chOff x="-39240" y="-338400"/>
            <a:chExt cx="9405720" cy="7194960"/>
          </a:xfrm>
        </p:grpSpPr>
        <p:grpSp>
          <p:nvGrpSpPr>
            <p:cNvPr id="42" name="Group 2"/>
            <p:cNvGrpSpPr/>
            <p:nvPr/>
          </p:nvGrpSpPr>
          <p:grpSpPr>
            <a:xfrm>
              <a:off x="4833720" y="-338400"/>
              <a:ext cx="4532760" cy="6543360"/>
              <a:chOff x="4833720" y="-338400"/>
              <a:chExt cx="4532760" cy="6543360"/>
            </a:xfrm>
          </p:grpSpPr>
          <p:sp>
            <p:nvSpPr>
              <p:cNvPr id="43" name="Freeform 3"/>
              <p:cNvSpPr/>
              <p:nvPr/>
            </p:nvSpPr>
            <p:spPr>
              <a:xfrm flipV="1" rot="12000000">
                <a:off x="6247800" y="62280"/>
                <a:ext cx="2780280" cy="2467800"/>
              </a:xfrm>
              <a:custGeom>
                <a:avLst/>
                <a:gdLst>
                  <a:gd name="textAreaLeft" fmla="*/ 0 w 2780280"/>
                  <a:gd name="textAreaRight" fmla="*/ 2780640 w 2780280"/>
                  <a:gd name="textAreaTop" fmla="*/ -360 h 2467800"/>
                  <a:gd name="textAreaBottom" fmla="*/ 2467800 h 246780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"/>
              <p:cNvSpPr/>
              <p:nvPr/>
            </p:nvSpPr>
            <p:spPr>
              <a:xfrm flipV="1" rot="12000000">
                <a:off x="7352280" y="1752480"/>
                <a:ext cx="1190160" cy="881640"/>
              </a:xfrm>
              <a:custGeom>
                <a:avLst/>
                <a:gdLst>
                  <a:gd name="textAreaLeft" fmla="*/ 0 w 1190160"/>
                  <a:gd name="textAreaRight" fmla="*/ 1190520 w 1190160"/>
                  <a:gd name="textAreaTop" fmla="*/ -360 h 881640"/>
                  <a:gd name="textAreaBottom" fmla="*/ 881640 h 8816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5"/>
              <p:cNvSpPr/>
              <p:nvPr/>
            </p:nvSpPr>
            <p:spPr>
              <a:xfrm flipV="1" rot="12000000">
                <a:off x="6570000" y="2414520"/>
                <a:ext cx="576000" cy="412560"/>
              </a:xfrm>
              <a:custGeom>
                <a:avLst/>
                <a:gdLst>
                  <a:gd name="textAreaLeft" fmla="*/ 0 w 576000"/>
                  <a:gd name="textAreaRight" fmla="*/ 576360 w 576000"/>
                  <a:gd name="textAreaTop" fmla="*/ 360 h 412560"/>
                  <a:gd name="textAreaBottom" fmla="*/ 413280 h 41256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Freeform 6"/>
              <p:cNvSpPr/>
              <p:nvPr/>
            </p:nvSpPr>
            <p:spPr>
              <a:xfrm flipV="1" rot="12000000">
                <a:off x="7128360" y="403200"/>
                <a:ext cx="509400" cy="57492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574920"/>
                  <a:gd name="textAreaBottom" fmla="*/ 574920 h 57492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7"/>
              <p:cNvSpPr/>
              <p:nvPr/>
            </p:nvSpPr>
            <p:spPr>
              <a:xfrm flipV="1" rot="12000000">
                <a:off x="7001280" y="2467800"/>
                <a:ext cx="212760" cy="34560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8"/>
              <p:cNvSpPr/>
              <p:nvPr/>
            </p:nvSpPr>
            <p:spPr>
              <a:xfrm flipV="1" rot="12000000">
                <a:off x="6980760" y="995400"/>
                <a:ext cx="248400" cy="14796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-360 h 147960"/>
                  <a:gd name="textAreaBottom" fmla="*/ 147960 h 1479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9"/>
              <p:cNvSpPr/>
              <p:nvPr/>
            </p:nvSpPr>
            <p:spPr>
              <a:xfrm flipV="1" rot="12000000">
                <a:off x="5398560" y="2768040"/>
                <a:ext cx="686880" cy="3422160"/>
              </a:xfrm>
              <a:custGeom>
                <a:avLst/>
                <a:gdLst>
                  <a:gd name="textAreaLeft" fmla="*/ 0 w 686880"/>
                  <a:gd name="textAreaRight" fmla="*/ 687240 w 686880"/>
                  <a:gd name="textAreaTop" fmla="*/ 360 h 3422160"/>
                  <a:gd name="textAreaBottom" fmla="*/ 3422880 h 342216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Freeform 10"/>
            <p:cNvSpPr/>
            <p:nvPr/>
          </p:nvSpPr>
          <p:spPr>
            <a:xfrm flipH="1" rot="360000">
              <a:off x="12960" y="3107880"/>
              <a:ext cx="512280" cy="102924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29240"/>
                <a:gd name="textAreaBottom" fmla="*/ 1029600 h 102924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>
              <a:off x="246600" y="2000160"/>
              <a:ext cx="2001240" cy="2430720"/>
            </a:xfrm>
            <a:custGeom>
              <a:avLst/>
              <a:gdLst>
                <a:gd name="textAreaLeft" fmla="*/ 0 w 2001240"/>
                <a:gd name="textAreaRight" fmla="*/ 2001600 w 2001240"/>
                <a:gd name="textAreaTop" fmla="*/ 0 h 2430720"/>
                <a:gd name="textAreaBottom" fmla="*/ 2431080 h 243072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2"/>
            <p:cNvSpPr/>
            <p:nvPr/>
          </p:nvSpPr>
          <p:spPr>
            <a:xfrm>
              <a:off x="-20520" y="4143240"/>
              <a:ext cx="1272960" cy="727200"/>
            </a:xfrm>
            <a:custGeom>
              <a:avLst/>
              <a:gdLst>
                <a:gd name="textAreaLeft" fmla="*/ 0 w 1272960"/>
                <a:gd name="textAreaRight" fmla="*/ 1273320 w 127296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3"/>
            <p:cNvSpPr/>
            <p:nvPr/>
          </p:nvSpPr>
          <p:spPr>
            <a:xfrm flipH="1" rot="360000">
              <a:off x="1407960" y="4533480"/>
              <a:ext cx="561600" cy="73512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4"/>
            <p:cNvSpPr/>
            <p:nvPr/>
          </p:nvSpPr>
          <p:spPr>
            <a:xfrm flipH="1" rot="360000">
              <a:off x="1248120" y="4730400"/>
              <a:ext cx="136440" cy="43380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433800"/>
                <a:gd name="textAreaBottom" fmla="*/ 434160 h 43380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5"/>
            <p:cNvSpPr/>
            <p:nvPr/>
          </p:nvSpPr>
          <p:spPr>
            <a:xfrm>
              <a:off x="1872720" y="5195880"/>
              <a:ext cx="1761120" cy="1660680"/>
            </a:xfrm>
            <a:custGeom>
              <a:avLst/>
              <a:gdLst>
                <a:gd name="textAreaLeft" fmla="*/ 0 w 1761120"/>
                <a:gd name="textAreaRight" fmla="*/ 1761480 w 1761120"/>
                <a:gd name="textAreaTop" fmla="*/ 0 h 1660680"/>
                <a:gd name="textAreaBottom" fmla="*/ 1661040 h 166068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" name="Group 16"/>
            <p:cNvGrpSpPr/>
            <p:nvPr/>
          </p:nvGrpSpPr>
          <p:grpSpPr>
            <a:xfrm>
              <a:off x="3988440" y="920520"/>
              <a:ext cx="1271160" cy="1391040"/>
              <a:chOff x="3988440" y="920520"/>
              <a:chExt cx="1271160" cy="1391040"/>
            </a:xfrm>
          </p:grpSpPr>
          <p:sp>
            <p:nvSpPr>
              <p:cNvPr id="57" name="Freeform 17"/>
              <p:cNvSpPr/>
              <p:nvPr/>
            </p:nvSpPr>
            <p:spPr>
              <a:xfrm rot="3240000">
                <a:off x="4538520" y="939240"/>
                <a:ext cx="304200" cy="505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505080"/>
                  <a:gd name="textAreaBottom" fmla="*/ 505440 h 5050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8"/>
              <p:cNvSpPr/>
              <p:nvPr/>
            </p:nvSpPr>
            <p:spPr>
              <a:xfrm rot="3240000">
                <a:off x="4676400" y="1520280"/>
                <a:ext cx="522000" cy="41724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417240"/>
                  <a:gd name="textAreaBottom" fmla="*/ 417600 h 417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19"/>
              <p:cNvSpPr/>
              <p:nvPr/>
            </p:nvSpPr>
            <p:spPr>
              <a:xfrm rot="3240000">
                <a:off x="3961800" y="1922400"/>
                <a:ext cx="546120" cy="212040"/>
              </a:xfrm>
              <a:custGeom>
                <a:avLst/>
                <a:gdLst>
                  <a:gd name="textAreaLeft" fmla="*/ 0 w 546120"/>
                  <a:gd name="textAreaRight" fmla="*/ 546480 w 54612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20"/>
            <p:cNvGrpSpPr/>
            <p:nvPr/>
          </p:nvGrpSpPr>
          <p:grpSpPr>
            <a:xfrm>
              <a:off x="5615280" y="280080"/>
              <a:ext cx="969120" cy="916200"/>
              <a:chOff x="5615280" y="280080"/>
              <a:chExt cx="969120" cy="916200"/>
            </a:xfrm>
          </p:grpSpPr>
          <p:sp>
            <p:nvSpPr>
              <p:cNvPr id="61" name="Freeform 21"/>
              <p:cNvSpPr/>
              <p:nvPr/>
            </p:nvSpPr>
            <p:spPr>
              <a:xfrm rot="14880000">
                <a:off x="5736960" y="835560"/>
                <a:ext cx="194040" cy="39348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393480"/>
                  <a:gd name="textAreaBottom" fmla="*/ 393840 h 3934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22"/>
              <p:cNvSpPr/>
              <p:nvPr/>
            </p:nvSpPr>
            <p:spPr>
              <a:xfrm rot="14880000">
                <a:off x="5680440" y="484200"/>
                <a:ext cx="335520" cy="325800"/>
              </a:xfrm>
              <a:custGeom>
                <a:avLst/>
                <a:gdLst>
                  <a:gd name="textAreaLeft" fmla="*/ 0 w 335520"/>
                  <a:gd name="textAreaRight" fmla="*/ 335880 w 335520"/>
                  <a:gd name="textAreaTop" fmla="*/ 0 h 325800"/>
                  <a:gd name="textAreaBottom" fmla="*/ 325800 h 3258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23"/>
              <p:cNvSpPr/>
              <p:nvPr/>
            </p:nvSpPr>
            <p:spPr>
              <a:xfrm rot="14880000">
                <a:off x="6266520" y="390960"/>
                <a:ext cx="351000" cy="164520"/>
              </a:xfrm>
              <a:custGeom>
                <a:avLst/>
                <a:gdLst>
                  <a:gd name="textAreaLeft" fmla="*/ 0 w 351000"/>
                  <a:gd name="textAreaRight" fmla="*/ 351360 w 351000"/>
                  <a:gd name="textAreaTop" fmla="*/ 0 h 164520"/>
                  <a:gd name="textAreaBottom" fmla="*/ 164520 h 1645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24"/>
            <p:cNvGrpSpPr/>
            <p:nvPr/>
          </p:nvGrpSpPr>
          <p:grpSpPr>
            <a:xfrm>
              <a:off x="932400" y="5155560"/>
              <a:ext cx="1162800" cy="1063080"/>
              <a:chOff x="932400" y="5155560"/>
              <a:chExt cx="1162800" cy="1063080"/>
            </a:xfrm>
          </p:grpSpPr>
          <p:sp>
            <p:nvSpPr>
              <p:cNvPr id="65" name="Freeform 25"/>
              <p:cNvSpPr/>
              <p:nvPr/>
            </p:nvSpPr>
            <p:spPr>
              <a:xfrm rot="8520000">
                <a:off x="1731240" y="5484240"/>
                <a:ext cx="266040" cy="4086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408600"/>
                  <a:gd name="textAreaBottom" fmla="*/ 408960 h 408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26"/>
              <p:cNvSpPr/>
              <p:nvPr/>
            </p:nvSpPr>
            <p:spPr>
              <a:xfrm rot="8520000">
                <a:off x="1184400" y="5775480"/>
                <a:ext cx="454320" cy="339120"/>
              </a:xfrm>
              <a:custGeom>
                <a:avLst/>
                <a:gdLst>
                  <a:gd name="textAreaLeft" fmla="*/ 0 w 454320"/>
                  <a:gd name="textAreaRight" fmla="*/ 454680 w 454320"/>
                  <a:gd name="textAreaTop" fmla="*/ 0 h 339120"/>
                  <a:gd name="textAreaBottom" fmla="*/ 339480 h 33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27"/>
              <p:cNvSpPr/>
              <p:nvPr/>
            </p:nvSpPr>
            <p:spPr>
              <a:xfrm rot="8520000">
                <a:off x="934920" y="5283000"/>
                <a:ext cx="474840" cy="172440"/>
              </a:xfrm>
              <a:custGeom>
                <a:avLst/>
                <a:gdLst>
                  <a:gd name="textAreaLeft" fmla="*/ 0 w 474840"/>
                  <a:gd name="textAreaRight" fmla="*/ 475200 w 47484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28"/>
            <p:cNvGrpSpPr/>
            <p:nvPr/>
          </p:nvGrpSpPr>
          <p:grpSpPr>
            <a:xfrm>
              <a:off x="222120" y="369000"/>
              <a:ext cx="1863360" cy="1271880"/>
              <a:chOff x="222120" y="369000"/>
              <a:chExt cx="1863360" cy="1271880"/>
            </a:xfrm>
          </p:grpSpPr>
          <p:sp>
            <p:nvSpPr>
              <p:cNvPr id="69" name="Freeform 29"/>
              <p:cNvSpPr/>
              <p:nvPr/>
            </p:nvSpPr>
            <p:spPr>
              <a:xfrm flipH="1" rot="4140000">
                <a:off x="1545120" y="1059840"/>
                <a:ext cx="393480" cy="584640"/>
              </a:xfrm>
              <a:custGeom>
                <a:avLst/>
                <a:gdLst>
                  <a:gd name="textAreaLeft" fmla="*/ -360 w 393480"/>
                  <a:gd name="textAreaRight" fmla="*/ 393480 w 393480"/>
                  <a:gd name="textAreaTop" fmla="*/ 0 h 584640"/>
                  <a:gd name="textAreaBottom" fmla="*/ 585000 h 584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30"/>
              <p:cNvSpPr/>
              <p:nvPr/>
            </p:nvSpPr>
            <p:spPr>
              <a:xfrm flipH="1" rot="4140000">
                <a:off x="931680" y="528120"/>
                <a:ext cx="676080" cy="486360"/>
              </a:xfrm>
              <a:custGeom>
                <a:avLst/>
                <a:gdLst>
                  <a:gd name="textAreaLeft" fmla="*/ 360 w 676080"/>
                  <a:gd name="textAreaRight" fmla="*/ 676800 w 676080"/>
                  <a:gd name="textAreaTop" fmla="*/ 0 h 486360"/>
                  <a:gd name="textAreaBottom" fmla="*/ 486720 h 486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31"/>
              <p:cNvSpPr/>
              <p:nvPr/>
            </p:nvSpPr>
            <p:spPr>
              <a:xfrm flipH="1" rot="4140000">
                <a:off x="110880" y="1102320"/>
                <a:ext cx="706320" cy="247320"/>
              </a:xfrm>
              <a:custGeom>
                <a:avLst/>
                <a:gdLst>
                  <a:gd name="textAreaLeft" fmla="*/ 360 w 706320"/>
                  <a:gd name="textAreaRight" fmla="*/ 707040 w 70632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32"/>
            <p:cNvGrpSpPr/>
            <p:nvPr/>
          </p:nvGrpSpPr>
          <p:grpSpPr>
            <a:xfrm>
              <a:off x="7333560" y="3620520"/>
              <a:ext cx="1260720" cy="1719360"/>
              <a:chOff x="7333560" y="3620520"/>
              <a:chExt cx="1260720" cy="1719360"/>
            </a:xfrm>
          </p:grpSpPr>
          <p:sp>
            <p:nvSpPr>
              <p:cNvPr id="73" name="Freeform 33"/>
              <p:cNvSpPr/>
              <p:nvPr/>
            </p:nvSpPr>
            <p:spPr>
              <a:xfrm flipH="1" rot="10020000">
                <a:off x="7391880" y="4739040"/>
                <a:ext cx="387000" cy="564480"/>
              </a:xfrm>
              <a:custGeom>
                <a:avLst/>
                <a:gdLst>
                  <a:gd name="textAreaLeft" fmla="*/ -360 w 387000"/>
                  <a:gd name="textAreaRight" fmla="*/ 387000 w 387000"/>
                  <a:gd name="textAreaTop" fmla="*/ 0 h 564480"/>
                  <a:gd name="textAreaBottom" fmla="*/ 564840 h 5644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Freeform 34"/>
              <p:cNvSpPr/>
              <p:nvPr/>
            </p:nvSpPr>
            <p:spPr>
              <a:xfrm flipH="1" rot="10020000">
                <a:off x="7885440" y="4417200"/>
                <a:ext cx="664560" cy="470160"/>
              </a:xfrm>
              <a:custGeom>
                <a:avLst/>
                <a:gdLst>
                  <a:gd name="textAreaLeft" fmla="*/ 360 w 664560"/>
                  <a:gd name="textAreaRight" fmla="*/ 665280 w 664560"/>
                  <a:gd name="textAreaTop" fmla="*/ 0 h 470160"/>
                  <a:gd name="textAreaBottom" fmla="*/ 470520 h 4701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Freeform 35"/>
              <p:cNvSpPr/>
              <p:nvPr/>
            </p:nvSpPr>
            <p:spPr>
              <a:xfrm flipH="1" rot="10020000">
                <a:off x="7553520" y="3695400"/>
                <a:ext cx="694080" cy="239040"/>
              </a:xfrm>
              <a:custGeom>
                <a:avLst/>
                <a:gdLst>
                  <a:gd name="textAreaLeft" fmla="*/ 360 w 694080"/>
                  <a:gd name="textAreaRight" fmla="*/ 694800 w 694080"/>
                  <a:gd name="textAreaTop" fmla="*/ 0 h 239040"/>
                  <a:gd name="textAreaBottom" fmla="*/ 239400 h 2390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" name="Freeform 36"/>
            <p:cNvSpPr/>
            <p:nvPr/>
          </p:nvSpPr>
          <p:spPr>
            <a:xfrm>
              <a:off x="1915920" y="3240"/>
              <a:ext cx="1369440" cy="1404720"/>
            </a:xfrm>
            <a:custGeom>
              <a:avLst/>
              <a:gdLst>
                <a:gd name="textAreaLeft" fmla="*/ 0 w 1369440"/>
                <a:gd name="textAreaRight" fmla="*/ 1369800 w 1369440"/>
                <a:gd name="textAreaTop" fmla="*/ 0 h 1404720"/>
                <a:gd name="textAreaBottom" fmla="*/ 1405080 h 14047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37"/>
            <p:cNvSpPr/>
            <p:nvPr/>
          </p:nvSpPr>
          <p:spPr>
            <a:xfrm flipV="1" rot="9840000">
              <a:off x="3414240" y="164160"/>
              <a:ext cx="1081440" cy="939600"/>
            </a:xfrm>
            <a:custGeom>
              <a:avLst/>
              <a:gdLst>
                <a:gd name="textAreaLeft" fmla="*/ 0 w 1081440"/>
                <a:gd name="textAreaRight" fmla="*/ 1081800 w 1081440"/>
                <a:gd name="textAreaTop" fmla="*/ 360 h 939600"/>
                <a:gd name="textAreaBottom" fmla="*/ 940320 h 9396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 flipV="1" rot="9840000">
              <a:off x="3158280" y="1361880"/>
              <a:ext cx="523080" cy="4392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360 h 439200"/>
                <a:gd name="textAreaBottom" fmla="*/ 439920 h 4392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39"/>
            <p:cNvSpPr/>
            <p:nvPr/>
          </p:nvSpPr>
          <p:spPr>
            <a:xfrm flipV="1" rot="9840000">
              <a:off x="3519360" y="1285200"/>
              <a:ext cx="194040" cy="36828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-360 h 368280"/>
                <a:gd name="textAreaBottom" fmla="*/ 368280 h 3682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0"/>
            <p:cNvSpPr/>
            <p:nvPr/>
          </p:nvSpPr>
          <p:spPr>
            <a:xfrm>
              <a:off x="2530080" y="0"/>
              <a:ext cx="195480" cy="1904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1"/>
            <p:cNvSpPr/>
            <p:nvPr/>
          </p:nvSpPr>
          <p:spPr>
            <a:xfrm flipV="1" rot="9840000">
              <a:off x="3439080" y="1964520"/>
              <a:ext cx="623520" cy="365004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0040"/>
                <a:gd name="textAreaBottom" fmla="*/ 3650040 h 365004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2"/>
            <p:cNvSpPr/>
            <p:nvPr/>
          </p:nvSpPr>
          <p:spPr>
            <a:xfrm>
              <a:off x="-20520" y="2933640"/>
              <a:ext cx="55440" cy="2080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482505-26BA-4796-9A0E-5C1AB63AB1E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128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Родительское собрание в 5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7416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"Адап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ятикласс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 нов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лов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чёбы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40561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овлетворенность ребенка процессом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легко справляется с программ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овлетворенность межличностными отношениями – с одноклассниками и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6081840" y="4437000"/>
            <a:ext cx="286200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зникающие пробл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много разных уч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ивычное распис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 новых кабине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е дети в клас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й классный руководите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осший темп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осший объем работ в классе и д/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сть на каждом уроке приспосабливаться к своеобразн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у, особенностям речи учителей;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амостоятельность в работе с текс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зкий уровень развития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бое развитие навыков самостоятельной 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372360" y="1052640"/>
            <a:ext cx="2217600" cy="26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знаки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ативные характеристики в адрес школы, учителей, однокласс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окойный с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1150920" cy="93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е условие школьного успеха пятиклассника —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езусловное принятие ребенка, несмотря на те неудачи, с которыми он уже столкнулся или может столкнуть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ас, что-то беспокоит в поведении ребенка, постарайтесь, как можно скорее встретиться и обсудить это с классным руководителем или психоло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 семье произошли какие то события, повлиявшие на психологическое состояние ребенка (развод, отъезд в долгую командировку кого-то из родителей, рождение еще одного ребенка и тд.) сообщите об этом классному руководит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йте интерес к школьным делам, обсуждайте сложные ситуации, вместе ищите выход из конфликтов. Неформальное общение со своим ребенком после прошедшего школьного д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гите ребенку выучить имена новых уч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ледует сразу ослаблять контроль за учебной деятельностью ребенка, если в период начальной школы он привык к вашему контро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учайте его к самостоятельности постеп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пустимость физических мер воздействия, запугивания, критики в адрес ребенка, особенно в присутствии других людей (бабушек, дедушек, сверстников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т темперамента ребенка в период адаптации к школьному обучению. Медлительные и малообщительные дети гораздо труднее привыкают к новой обстановке, быстро теряют к нему интер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вайте условия для развит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амостоятельности в поведении ребенка. У пятиклассника непременно должны быть домашние обязанности, за выполнение которых он несет ответствен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ение ребенка, и не только за учебные успехи. Моральное стимулирование достижений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ми помощниками родителей в сложных ситуациях являются терпение, внимание и понимание. Постарайтесь создать благоприятный климат в семье для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смотря на кажущуюся взрослость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ятиклассник нуждается в ненавязчивом контроле со стороны родителей, поскольку не всегда может сам сориентироваться в новых требованиях школьной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30:51Z</dcterms:created>
  <dc:creator>Мама</dc:creator>
  <dc:description/>
  <dc:language>en-US</dc:language>
  <cp:lastModifiedBy>PalaginaMN</cp:lastModifiedBy>
  <dcterms:modified xsi:type="dcterms:W3CDTF">2014-09-26T05:10:51Z</dcterms:modified>
  <cp:revision>147</cp:revision>
  <dc:subject/>
  <dc:title>Родительское собрание в 5 классе</dc:title>
</cp:coreProperties>
</file>