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F4B-55B9-43D2-9A3D-ED58F7430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0D18-C74D-460F-8DD2-2F846ED0B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5AE-A56C-484A-A839-48C2CD967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05E-F1E2-4116-A4B6-25B86FFD8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36A-306D-4CB4-A54F-4AE8B5D3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22C-4657-4967-B359-E7B06E0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B09-22D0-40AE-950C-14C183C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D8D-F7A8-4B78-8B9F-1C6BDBF5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B32-A89E-4F83-AE09-AD8E7AB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93C-3FA6-4373-A26E-F73935FB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859-5D0D-4867-A4DB-BC8E17A9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E99-519F-4AD7-8681-D3299CBB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513C-957B-4400-ADB1-F23DAE35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A2A-D6B5-47AA-8169-A7F2CDE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54C-8613-4565-9BAC-3EF06E7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64D-0BB6-4BC7-9DC3-52252415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8CE-7B7D-40F5-A1FB-F7FF9E84D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2280" y="286560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2453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e82453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82453"/>
                </a:solidFill>
                <a:latin typeface="Arial"/>
              </a:rPr>
              <a:t>[æ]</a:t>
            </a:r>
            <a:br>
              <a:rPr sz="60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A little c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, a little c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,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A little c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 is not very f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It is not f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t, because it is s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d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It is very, very s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676520" y="20520"/>
            <a:ext cx="5715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Future Simple» (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е будущее время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80880" y="14479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будущее время обычно используется с обстоятельствами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тра)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yea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ем году)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ive year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ять лет)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35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35 году) и т.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38080" y="4343400"/>
            <a:ext cx="6553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-76320"/>
            <a:ext cx="931536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5160" y="837720"/>
            <a:ext cx="792504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Я пишу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Я буду писать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752480" y="440208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writ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2209680" y="2698920"/>
            <a:ext cx="41911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Буду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w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576360" y="3662280"/>
            <a:ext cx="8163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лежащие  +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глагол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984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22268"/>
                </a:solidFill>
                <a:latin typeface="Arial"/>
              </a:rPr>
              <a:t>Say what you and your family will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609480"/>
          <a:ext cx="8798040" cy="6126120"/>
        </p:xfrm>
        <a:graphic>
          <a:graphicData uri="http://schemas.openxmlformats.org/drawingml/2006/table">
            <a:tbl>
              <a:tblPr/>
              <a:tblGrid>
                <a:gridCol w="2925720"/>
                <a:gridCol w="2303640"/>
                <a:gridCol w="3568680"/>
              </a:tblGrid>
              <a:tr h="61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Mumm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Da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Grann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sis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My bro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bebe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ebebeb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   </a:t>
                      </a:r>
                      <a:r>
                        <a:rPr b="1" lang="en-US" sz="4000" spc="-1" strike="noStrike">
                          <a:solidFill>
                            <a:srgbClr val="c00000"/>
                          </a:solidFill>
                          <a:latin typeface="inherit"/>
                        </a:rPr>
                        <a:t>wi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go to the par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walk out a do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read a boo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play ga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listen to mus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cook dinn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ebebeb"/>
                      </a:solidFill>
                    </a:lnR>
                    <a:lnT>
                      <a:noFill/>
                    </a:lnT>
                    <a:lnB w="4320">
                      <a:solidFill>
                        <a:srgbClr val="ebebeb"/>
                      </a:solidFill>
                    </a:lnB>
                    <a:solidFill>
                      <a:srgbClr val="badd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24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Fill in the gaps with auxiliary verb from i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we_________  two return tickets. (to bu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  ___________ tomorrow. (to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aunt    _________  to Canada next summer. (t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_____________ you in the evening. (to ph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year I _________   university. (to finis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______         in next May. (to trav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’re very tired. I ­_____         you. (to hel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552760" y="1463760"/>
            <a:ext cx="18288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7391520" y="144792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981080" y="2057400"/>
            <a:ext cx="18288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1"/>
          <a:stretch/>
        </p:blipFill>
        <p:spPr>
          <a:xfrm>
            <a:off x="5867280" y="2063880"/>
            <a:ext cx="160020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8"/>
          <p:cNvSpPr/>
          <p:nvPr/>
        </p:nvSpPr>
        <p:spPr>
          <a:xfrm>
            <a:off x="2552760" y="2627280"/>
            <a:ext cx="18288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9" descr=""/>
          <p:cNvPicPr/>
          <p:nvPr/>
        </p:nvPicPr>
        <p:blipFill>
          <a:blip r:embed="rId2"/>
          <a:stretch/>
        </p:blipFill>
        <p:spPr>
          <a:xfrm>
            <a:off x="623880" y="3048120"/>
            <a:ext cx="152388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"/>
          <p:cNvPicPr/>
          <p:nvPr/>
        </p:nvPicPr>
        <p:blipFill>
          <a:blip r:embed="rId3"/>
          <a:stretch/>
        </p:blipFill>
        <p:spPr>
          <a:xfrm>
            <a:off x="6705720" y="4168800"/>
            <a:ext cx="1734840" cy="669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4"/>
          <a:stretch/>
        </p:blipFill>
        <p:spPr>
          <a:xfrm>
            <a:off x="7078680" y="359712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2" descr=""/>
          <p:cNvPicPr/>
          <p:nvPr/>
        </p:nvPicPr>
        <p:blipFill>
          <a:blip r:embed="rId5"/>
          <a:stretch/>
        </p:blipFill>
        <p:spPr>
          <a:xfrm>
            <a:off x="6719760" y="5421240"/>
            <a:ext cx="1873440" cy="64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"/>
          <p:cNvPicPr/>
          <p:nvPr/>
        </p:nvPicPr>
        <p:blipFill>
          <a:blip r:embed="rId6"/>
          <a:stretch/>
        </p:blipFill>
        <p:spPr>
          <a:xfrm>
            <a:off x="6126120" y="480384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4"/>
          <p:cNvSpPr/>
          <p:nvPr/>
        </p:nvSpPr>
        <p:spPr>
          <a:xfrm>
            <a:off x="1523880" y="3679920"/>
            <a:ext cx="20574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ph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2760840" y="4305240"/>
            <a:ext cx="209844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fin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1846440" y="4879800"/>
            <a:ext cx="196344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7"/>
          <p:cNvSpPr/>
          <p:nvPr/>
        </p:nvSpPr>
        <p:spPr>
          <a:xfrm>
            <a:off x="4114800" y="5519880"/>
            <a:ext cx="17524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will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457200"/>
          <a:ext cx="9144000" cy="5815080"/>
        </p:xfrm>
        <a:graphic>
          <a:graphicData uri="http://schemas.openxmlformats.org/drawingml/2006/table">
            <a:tbl>
              <a:tblPr/>
              <a:tblGrid>
                <a:gridCol w="1981080"/>
                <a:gridCol w="2590920"/>
                <a:gridCol w="2286000"/>
                <a:gridCol w="228600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ew [dru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a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ew [nju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w [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ught [bɔ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ugh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уп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ught [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ɔ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ough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33520" y="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99"/>
                </a:solidFill>
                <a:uFillTx/>
                <a:latin typeface="Calibri"/>
              </a:rPr>
              <a:t>H/T</a:t>
            </a:r>
            <a:r>
              <a:rPr b="1" lang="ru-RU" sz="3600" spc="-1" strike="noStrike" u="sng">
                <a:solidFill>
                  <a:srgbClr val="cc3399"/>
                </a:solidFill>
                <a:uFillTx/>
                <a:latin typeface="Calibri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B p. ex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http://img1.labirint.ru/books/241997/scrn_big_1.jpg"/>
          <p:cNvPicPr/>
          <p:nvPr/>
        </p:nvPicPr>
        <p:blipFill>
          <a:blip r:embed="rId1"/>
          <a:stretch/>
        </p:blipFill>
        <p:spPr>
          <a:xfrm>
            <a:off x="2793960" y="2786040"/>
            <a:ext cx="6350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8:20:46Z</dcterms:created>
  <dc:creator>Вероника</dc:creator>
  <dc:description/>
  <dc:language>en-US</dc:language>
  <cp:lastModifiedBy>Admin</cp:lastModifiedBy>
  <dcterms:modified xsi:type="dcterms:W3CDTF">2017-10-18T16:18:20Z</dcterms:modified>
  <cp:revision>1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