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4773-09A7-40DA-8677-2481F58F8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4AF3-DD71-447C-B799-B58FCAAB3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79A9-851D-4F03-81D4-0F72B7B15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6B2F-D05F-405F-8BDD-80E03CED9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16BA-152F-451A-93AA-568EAE013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FBD9-DE02-415B-9B61-8C3E0AD6F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977A-84D5-4DD2-9141-BCFA90636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1B49-160A-4FDC-B3CD-F3222ECAB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FDE7-0CFD-4E6D-84FF-D47D95DF0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FF65-9A8B-4586-A8CB-D4ABD3B2A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804B-59D6-4B43-80DC-82FD18E71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D7C3-35E0-4E2C-8A78-89FCDBAFF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5800" cy="6848640"/>
            <a:chOff x="1440" y="0"/>
            <a:chExt cx="9145800" cy="6848640"/>
          </a:xfrm>
        </p:grpSpPr>
        <p:sp>
          <p:nvSpPr>
            <p:cNvPr id="1" name="AutoShape 2"/>
            <p:cNvSpPr/>
            <p:nvPr/>
          </p:nvSpPr>
          <p:spPr>
            <a:xfrm>
              <a:off x="8008920" y="4168800"/>
              <a:ext cx="1138320" cy="267984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2679840"/>
                <a:gd name="textAreaBottom" fmla="*/ 2680200 h 267984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8550360" y="6022800"/>
              <a:ext cx="596880" cy="825840"/>
            </a:xfrm>
            <a:custGeom>
              <a:avLst/>
              <a:gdLst>
                <a:gd name="textAreaLeft" fmla="*/ 0 w 596880"/>
                <a:gd name="textAreaRight" fmla="*/ 596880 w 5968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9016920" y="6689880"/>
              <a:ext cx="130320" cy="158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89920" cy="6848640"/>
              <a:chOff x="457200" y="0"/>
              <a:chExt cx="8089920" cy="684864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4427640" y="0"/>
                <a:ext cx="110880" cy="68486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4903920" y="0"/>
                <a:ext cx="272880" cy="684864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5330880" y="0"/>
                <a:ext cx="531720" cy="68486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5835600" y="0"/>
                <a:ext cx="674640" cy="684864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6264360" y="0"/>
                <a:ext cx="882720" cy="6848640"/>
              </a:xfrm>
              <a:custGeom>
                <a:avLst/>
                <a:gdLst>
                  <a:gd name="textAreaLeft" fmla="*/ 0 w 882720"/>
                  <a:gd name="textAreaRight" fmla="*/ 883080 w 882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6740640" y="0"/>
                <a:ext cx="1092240" cy="6848640"/>
              </a:xfrm>
              <a:custGeom>
                <a:avLst/>
                <a:gdLst>
                  <a:gd name="textAreaLeft" fmla="*/ 0 w 1092240"/>
                  <a:gd name="textAreaRight" fmla="*/ 1092600 w 10922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7178760" y="0"/>
                <a:ext cx="1368360" cy="6848640"/>
              </a:xfrm>
              <a:custGeom>
                <a:avLst/>
                <a:gdLst>
                  <a:gd name="textAreaLeft" fmla="*/ 0 w 1368360"/>
                  <a:gd name="textAreaRight" fmla="*/ 1368360 w 136836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3808440" y="0"/>
                <a:ext cx="235080" cy="684864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AutoShape 14"/>
              <p:cNvSpPr/>
              <p:nvPr/>
            </p:nvSpPr>
            <p:spPr>
              <a:xfrm>
                <a:off x="3122640" y="0"/>
                <a:ext cx="473040" cy="684864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AutoShape 15"/>
              <p:cNvSpPr/>
              <p:nvPr/>
            </p:nvSpPr>
            <p:spPr>
              <a:xfrm>
                <a:off x="2486160" y="0"/>
                <a:ext cx="671400" cy="684864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AutoShape 16"/>
              <p:cNvSpPr/>
              <p:nvPr/>
            </p:nvSpPr>
            <p:spPr>
              <a:xfrm>
                <a:off x="1790640" y="0"/>
                <a:ext cx="909720" cy="684864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AutoShape 17"/>
              <p:cNvSpPr/>
              <p:nvPr/>
            </p:nvSpPr>
            <p:spPr>
              <a:xfrm>
                <a:off x="1114560" y="0"/>
                <a:ext cx="1166760" cy="684864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AutoShape 18"/>
              <p:cNvSpPr/>
              <p:nvPr/>
            </p:nvSpPr>
            <p:spPr>
              <a:xfrm>
                <a:off x="457200" y="0"/>
                <a:ext cx="1330200" cy="6848640"/>
              </a:xfrm>
              <a:custGeom>
                <a:avLst/>
                <a:gdLst>
                  <a:gd name="textAreaLeft" fmla="*/ 0 w 1330200"/>
                  <a:gd name="textAreaRight" fmla="*/ 1330560 w 1330200"/>
                  <a:gd name="textAreaTop" fmla="*/ 0 h 6848640"/>
                  <a:gd name="textAreaBottom" fmla="*/ 6849000 h 684864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AutoShape 19"/>
            <p:cNvSpPr/>
            <p:nvPr/>
          </p:nvSpPr>
          <p:spPr>
            <a:xfrm>
              <a:off x="9360" y="4605480"/>
              <a:ext cx="959040" cy="22431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2243160"/>
                <a:gd name="textAreaBottom" fmla="*/ 2243160 h 22431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9360" y="6175440"/>
              <a:ext cx="358920" cy="6732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7581960" y="0"/>
              <a:ext cx="1558800" cy="283212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2832120"/>
                <a:gd name="textAreaBottom" fmla="*/ 2832480 h 283212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8002440" y="0"/>
              <a:ext cx="1138320" cy="133812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338120"/>
                <a:gd name="textAreaBottom" fmla="*/ 1338480 h 13381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8496360" y="0"/>
              <a:ext cx="644400" cy="65412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9360" y="0"/>
              <a:ext cx="1359000" cy="223344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233440"/>
                <a:gd name="textAreaBottom" fmla="*/ 2233800 h 22334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9360" y="0"/>
              <a:ext cx="930600" cy="9478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9360" y="0"/>
              <a:ext cx="425520" cy="3967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788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7880" cy="0"/>
            </a:xfrm>
            <a:prstGeom prst="line">
              <a:avLst/>
            </a:prstGeom>
            <a:ln cap="sq"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7880" cy="2490480"/>
              <a:chOff x="1440" y="622440"/>
              <a:chExt cx="9137880" cy="249048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80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292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940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7880" cy="0"/>
              </a:xfrm>
              <a:prstGeom prst="line">
                <a:avLst/>
              </a:prstGeom>
              <a:ln cap="sq"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7880" cy="0"/>
            </a:xfrm>
            <a:prstGeom prst="line">
              <a:avLst/>
            </a:prstGeom>
            <a:ln cap="sq"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Text Box 3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Text Box 4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7D9ADF-7B12-4625-A03B-4F6888587943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?lr=38&amp;source=wi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39528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езентация на тем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«Достопримечательности Лондона»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4832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БОУ Ольховская средняя общеобразовательная школ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втор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рмоленко Наталья Владимировна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итель английского и немецкого языков и учащиеся 5 в клас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24000" y="1844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places of interest of Lond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7920"/>
            <a:ext cx="83628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he Houses of Parliament stand beside the River Thames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дания парламента находятся около реки Темз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850160" cy="49640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Houses of Parliament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дание Парламента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use of Lords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алата лордо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use of Commons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алата общин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5" descr="House_of_Commons[1]"/>
          <p:cNvPicPr/>
          <p:nvPr/>
        </p:nvPicPr>
        <p:blipFill>
          <a:blip r:embed="rId1"/>
          <a:stretch/>
        </p:blipFill>
        <p:spPr>
          <a:xfrm>
            <a:off x="4645080" y="2884320"/>
            <a:ext cx="4041720" cy="253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0" name="Picture 4" descr="16"/>
          <p:cNvPicPr/>
          <p:nvPr/>
        </p:nvPicPr>
        <p:blipFill>
          <a:blip r:embed="rId2"/>
          <a:stretch/>
        </p:blipFill>
        <p:spPr>
          <a:xfrm>
            <a:off x="457200" y="2803680"/>
            <a:ext cx="404028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estmister Abbey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is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not far from the Houses of  Parliament.It is a symbol of England. It is a working church and a great monument to the history of Englan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Вестминстерское Аббатство находится недалеко от здания Парламента. Это символ Англии. Это церковь и большой памятник истории Англ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35164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t. Paul’s Cathedral.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Собор Святого Павл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1773000"/>
            <a:ext cx="8219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Buckingham Palace is the official residence of the Royal fami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укингемский дворец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официальная резиденция королевской семьи в Лондон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410160" cy="397656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estminster Abbey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Вестминстерское Аббатство-место коронации монархов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246640" cy="48672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London Shakespeare’s Globe theatre  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Театр В. Шекспира «Глобус» в Лондон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1" name="Picture 2" descr="C:\Users\Музей\Desktop\1_1275140255.jpg"/>
          <p:cNvPicPr/>
          <p:nvPr/>
        </p:nvPicPr>
        <p:blipFill>
          <a:blip r:embed="rId1"/>
          <a:stretch/>
        </p:blipFill>
        <p:spPr>
          <a:xfrm>
            <a:off x="1736640" y="1739880"/>
            <a:ext cx="56674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263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ritish Museum.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Британский музей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" name="Picture 2" descr="C:\Users\Музей\Desktop\британский музей\300px-British_Museum_from_NE_2.JPG"/>
          <p:cNvPicPr/>
          <p:nvPr/>
        </p:nvPicPr>
        <p:blipFill>
          <a:blip r:embed="rId1"/>
          <a:stretch/>
        </p:blipFill>
        <p:spPr>
          <a:xfrm>
            <a:off x="1835280" y="1695600"/>
            <a:ext cx="5761080" cy="41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eddy-bear museum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Музей плюшевого мишки в Лондоне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5" name="Picture 2" descr="C:\Users\Музей\Desktop\плюшевый мишка\1bde82c5179a51a29a2cb183fa36f429a05d5c8d_show.jpg"/>
          <p:cNvPicPr/>
          <p:nvPr/>
        </p:nvPicPr>
        <p:blipFill>
          <a:blip r:embed="rId1"/>
          <a:stretch/>
        </p:blipFill>
        <p:spPr>
          <a:xfrm>
            <a:off x="1116000" y="1628640"/>
            <a:ext cx="67071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he London Eye is a giant wheel which is situated on the bank of the River Tham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лесо обозрения огромного размера ,которое находится на берегу реки Темз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0" y="1557360"/>
            <a:ext cx="4041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039920" cy="3030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map and places of interest of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Карта и достопримечательности Лондон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7" name="Picture 7" descr="G:\Английский язык\Английский язык\Английский яз\МО ин яз\Районное МО\14.03.14\Достопримечательности Лондона\2135678.jpg"/>
          <p:cNvPicPr/>
          <p:nvPr/>
        </p:nvPicPr>
        <p:blipFill>
          <a:blip r:embed="rId1"/>
          <a:stretch/>
        </p:blipFill>
        <p:spPr>
          <a:xfrm>
            <a:off x="5219640" y="1844640"/>
            <a:ext cx="3170160" cy="452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:\Английский язык\Английский язык\Английский яз\МО ин яз\Районное МО\14.03.14\Достопримечательности Лондона\karta.jpg"/>
          <p:cNvPicPr/>
          <p:nvPr/>
        </p:nvPicPr>
        <p:blipFill>
          <a:blip r:embed="rId2"/>
          <a:stretch/>
        </p:blipFill>
        <p:spPr>
          <a:xfrm>
            <a:off x="250920" y="2276640"/>
            <a:ext cx="4575240" cy="26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ources.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сточники информ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ебник «Английский с удовольствием» 5 класс, автор М.З.Биболетова и другие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Журналы «Иностранные языки в школе»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оварь англо-русский и русско-английский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сылки на изображения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mages.yandex.ru</a:t>
            </a: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›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зображения достопримечательности Лонд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tourister.ru›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нформация о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c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ране›Лондон›Достопримечательности 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Verdana"/>
              </a:rPr>
              <a:t>http://www.infohome.com.ua/gallery-news-8391-15.htm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parajita"/>
              </a:rPr>
              <a:t>London is situated on the river Thames.</a:t>
            </a:r>
            <a:br>
              <a:rPr sz="3200"/>
            </a:br>
            <a:r>
              <a:rPr b="1" lang="ru-RU" sz="2400" spc="-1" strike="noStrike">
                <a:solidFill>
                  <a:srgbClr val="ccecff"/>
                </a:solidFill>
                <a:latin typeface="Aparajita"/>
              </a:rPr>
              <a:t>Лондон расположен на реке Темзе</a:t>
            </a:r>
            <a:r>
              <a:rPr b="1" lang="ru-RU" sz="2800" spc="-1" strike="noStrike">
                <a:solidFill>
                  <a:srgbClr val="ccecff"/>
                </a:solidFill>
                <a:latin typeface="Aparajit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8960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ouble-decker is the bus in London.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вухэтажный автобус в Лондон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" name="Picture 2" descr="C:\Users\Музей\Desktop\автобус\aec-routemaster-0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3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:\Английский язык\Английский язык\Английский яз\МО ин яз\Районное МО\14.03.14\Достопримечательности Лондона\C146h-500x500.jpg"/>
          <p:cNvPicPr/>
          <p:nvPr/>
        </p:nvPicPr>
        <p:blipFill>
          <a:blip r:embed="rId2"/>
          <a:stretch/>
        </p:blipFill>
        <p:spPr>
          <a:xfrm>
            <a:off x="4646520" y="1846440"/>
            <a:ext cx="40370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22636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afalgar square and Nelson column. </a:t>
            </a:r>
            <a:br>
              <a:rPr sz="32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Трафальгарская площадь и колонна Нельсон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" name="Picture 3" descr="G:\Английский язык\Английский язык\Английский яз\МО ин яз\Районное МО\14.03.14\Достопримечательности Лондона\50fb3edbc24de.jpg"/>
          <p:cNvPicPr/>
          <p:nvPr/>
        </p:nvPicPr>
        <p:blipFill>
          <a:blip r:embed="rId1"/>
          <a:stretch/>
        </p:blipFill>
        <p:spPr>
          <a:xfrm>
            <a:off x="1522440" y="1844640"/>
            <a:ext cx="6095880" cy="403848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You can see the Tower of London from the River Thames. Today it’s a museum. But it was a fortress a royal palace and a prison.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ы можете видеть Тауэр  с реки Темзы. Сейчас это музей. Но там была крепость, королевский дворец и тюрь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Next to the Tower there’s the famous Tower Bridge.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Рядом с Тауэр находится известный Тауэрский мос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5113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10,Downing street is the official residence of the Prime Minister of the United Kingdom.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Даунинг стрит №10 –официальная резиденция Премьер-министра Соединенного Королевства 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1" name="Picture 6" descr="G:\Английский язык\Английский язык\Английский яз\МО ин яз\Районное МО\14.03.14\Премьер министр Англии\0904014d823e833b3f8b146285d5b4f3_73953.jpg"/>
          <p:cNvPicPr/>
          <p:nvPr/>
        </p:nvPicPr>
        <p:blipFill>
          <a:blip r:embed="rId1"/>
          <a:stretch/>
        </p:blipFill>
        <p:spPr>
          <a:xfrm>
            <a:off x="1332000" y="175104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he famous bell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Big Ben stands near the Houses of Parliament. Big B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n is a symbol of London and of Brita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Знаменитый Биг Бен находится около здания Парламен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Биг Бен-символ Лондона и Великобритан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8360" y="1731960"/>
            <a:ext cx="8136000" cy="49370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4T13:54:14Z</dcterms:created>
  <dc:creator>1</dc:creator>
  <dc:description/>
  <dc:language>en-US</dc:language>
  <cp:lastModifiedBy>Музей</cp:lastModifiedBy>
  <dcterms:modified xsi:type="dcterms:W3CDTF">2014-06-06T08:52:16Z</dcterms:modified>
  <cp:revision>53</cp:revision>
  <dc:subject/>
  <dc:title>Достопримечательности  Лондона </dc:title>
</cp:coreProperties>
</file>