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5ECDA-E085-42C6-AC63-632253875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91C1-552A-4665-B283-DB85B8B4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3156F-4D18-4221-AD98-376E7DAC2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DD547-0FD4-4A5D-A2B9-AE9B00DFD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E1479-7358-4B61-9AB0-27DB2B383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03AE5-5F29-4445-BAA2-C3830E0B3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89766-20D4-4964-A270-FDF23AD9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5057-B8FE-48A3-AE28-5433BEF28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2AB91-6070-46F2-8F29-76479B25B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66364-DEE3-4983-AAF7-F316172A1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84AE1-0015-4654-B701-440B66A43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C011D-0B32-4ACA-9373-67E30DA22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BB72-0921-4C9A-A8A4-36A3BDD77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2FD6A-C1B6-4503-A568-EC60099D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B301-E0BF-4DCB-9CAE-D8C63BC53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27DD3-BB42-428A-88A9-1D8C7953E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06C66-6633-4F76-8481-8893BC14B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FAFBE9-7C5D-4BBB-8A52-659715B2F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5231F-4E21-4715-93AC-F213B184C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07657-59E2-4185-BF45-37391F191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04CF5-EF2B-493E-A3AA-CE9E644F0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CF3BF-C519-4FFF-B3D3-A926C2B45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C112B-4AEC-4DBB-9143-5D6EF7E7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7F9E8-1AE7-4517-BE6D-70966BCD3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CE13A-377B-4956-B0CE-A56CA150B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DA8AB-EB6A-4AA7-8B1A-4337AA733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64C1C-6680-4CD0-8444-9D2D6BEEC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0FDB6-0DDF-415B-BC7C-519DE396E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706AC-8874-43D6-B342-441095EEF6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6AEFC-857D-4CF7-8FB5-BE24655883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A7ADA9-F094-4F36-AB12-392D90E37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908F0-667C-4438-9FC8-25A4ECAB1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70926-8B28-4E4C-8045-4E4B89532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816BF-6906-42F0-9720-8034D77D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564DC-6BA3-4E45-B558-5B3472E47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C8192-4DE5-44FA-994B-CEEF55445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6208A-48F5-49B2-B2E9-B320DF8F4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9A2262-8465-4597-B98C-241B35A04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7140E-2965-479F-9B6D-77DA314C3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DE7AA-69ED-40A6-86B9-5FFA21133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9D906-2D59-42AE-B413-DACE89B42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6D93FC-40CE-46EE-9841-F3B526506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98CF66-AD19-474A-8FD7-C9F10F427B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EAB3-F52B-49EF-A675-4B3F5E04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9F6C-8CBF-49AC-8F24-725893DA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E2889-07C8-42D7-96BB-B14C28CE7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06CE-7260-4351-AC5A-44B582D1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4E31-5E1A-4C8A-AF42-BBF34176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9CBB-236D-4795-B58D-7F66D2BAAD79}"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CB7-6FE0-4956-9F89-960E63E040D6}"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923C-798E-4641-B5B4-D8B1A3615EB5}"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7E42-D01D-4221-8EA6-36D48F479413}" type="slidenum">
              <a:rPr b="0" lang="ru-RU"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0c226"/>
                </a:solidFill>
                <a:latin typeface="Times New Roman"/>
                <a:ea typeface="Times New Roman"/>
              </a:rPr>
              <a:t>21  февраль – Халы</a:t>
            </a:r>
            <a:r>
              <a:rPr b="1" lang="ba-RU" sz="3600" spc="-1" strike="noStrike">
                <a:solidFill>
                  <a:srgbClr val="90c226"/>
                </a:solidFill>
                <a:latin typeface="Times New Roman"/>
                <a:ea typeface="Times New Roman"/>
              </a:rPr>
              <a:t>ҡ-</a:t>
            </a:r>
            <a:r>
              <a:rPr b="1" lang="ru-RU" sz="3600" spc="-1" strike="noStrike">
                <a:solidFill>
                  <a:srgbClr val="90c226"/>
                </a:solidFill>
                <a:latin typeface="Times New Roman"/>
                <a:ea typeface="Times New Roman"/>
              </a:rPr>
              <a:t>ара туған тел көнө.</a:t>
            </a:r>
            <a:endParaRPr b="0" lang="en-US" sz="3600" spc="-1" strike="noStrike">
              <a:solidFill>
                <a:srgbClr val="90c226"/>
              </a:solidFill>
              <a:latin typeface="Trebuchet MS"/>
            </a:endParaRPr>
          </a:p>
        </p:txBody>
      </p:sp>
      <p:pic>
        <p:nvPicPr>
          <p:cNvPr id="213" name="Picture 2" descr=""/>
          <p:cNvPicPr/>
          <p:nvPr/>
        </p:nvPicPr>
        <p:blipFill>
          <a:blip r:embed="rId1"/>
          <a:stretch/>
        </p:blipFill>
        <p:spPr>
          <a:xfrm>
            <a:off x="179280" y="2060640"/>
            <a:ext cx="756144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ерләшкән Милләттәр ойошмаһы (БМО) ҡарары буйынса 21 февраль Халыҡ-ара туған тел көнө булараҡ билдәләп үтелә</a:t>
            </a:r>
            <a:endParaRPr b="0" lang="en-US" sz="3200" spc="-1" strike="noStrike">
              <a:solidFill>
                <a:srgbClr val="90c226"/>
              </a:solidFill>
              <a:latin typeface="Trebuchet MS"/>
            </a:endParaRPr>
          </a:p>
        </p:txBody>
      </p:sp>
      <p:pic>
        <p:nvPicPr>
          <p:cNvPr id="215" name="Picture 2" descr=""/>
          <p:cNvPicPr/>
          <p:nvPr/>
        </p:nvPicPr>
        <p:blipFill>
          <a:blip r:embed="rId1"/>
          <a:stretch/>
        </p:blipFill>
        <p:spPr>
          <a:xfrm>
            <a:off x="2700360" y="3141720"/>
            <a:ext cx="4498920" cy="305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0" y="765000"/>
            <a:ext cx="7308720" cy="527688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404040"/>
                </a:solidFill>
                <a:latin typeface="Times New Roman"/>
                <a:ea typeface="Times New Roman"/>
              </a:rPr>
              <a:t>1999  йылдың ноябрендә, ЮНЕСКО Генераль конференцияһы, ЮНЕСКО ға кергән илдәр һәм Берләшкән Милләттәр ойошмаһы 21 февраль көнөн Туған тел көнө тип иғлан итте. Беренсе тапҡыр ул 2000 се йылдың 21 февралендә Парижда ЮНЕСКО штаб-квартираһында тантаналы рәүештә билдәләп үтелде.</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3600" spc="-1" strike="noStrike">
                <a:solidFill>
                  <a:srgbClr val="90c226"/>
                </a:solidFill>
                <a:latin typeface="Trebuchet MS"/>
              </a:rPr>
              <a:t>Рәми Ғарипов. Туған тел.</a:t>
            </a:r>
            <a:endParaRPr b="0" lang="en-US" sz="3600" spc="-1" strike="noStrike">
              <a:solidFill>
                <a:srgbClr val="90c226"/>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Мин халҡымдың сәскә күңеленә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Бал ҡортондай ынйы йыямы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Йыямын да — йәнле ынйыларҙан</a:t>
            </a:r>
            <a:endParaRPr b="0" lang="en-US" sz="2800" spc="-1" strike="noStrike">
              <a:solidFill>
                <a:srgbClr val="404040"/>
              </a:solidFill>
              <a:latin typeface="Trebuchet MS"/>
            </a:endParaRPr>
          </a:p>
          <a:p>
            <a:pPr marL="457200" indent="-342720" algn="just">
              <a:lnSpc>
                <a:spcPct val="115000"/>
              </a:lnSpc>
              <a:spcBef>
                <a:spcPts val="1001"/>
              </a:spcBef>
              <a:spcAft>
                <a:spcPts val="125"/>
              </a:spcAft>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222222"/>
                </a:solidFill>
                <a:latin typeface="Arial"/>
                <a:ea typeface="Times New Roman"/>
              </a:rPr>
              <a:t>Хуш еҫле бер кәрәҙ ҡоямын</a:t>
            </a:r>
            <a:r>
              <a:rPr b="0" lang="ru-RU" sz="1800" spc="-1" strike="noStrike">
                <a:solidFill>
                  <a:srgbClr val="222222"/>
                </a:solidFill>
                <a:latin typeface="Arial"/>
                <a:ea typeface="Times New Roman"/>
              </a:rPr>
              <a:t>.</a:t>
            </a:r>
            <a:endParaRPr b="0" lang="en-US" sz="1800" spc="-1" strike="noStrike">
              <a:solidFill>
                <a:srgbClr val="404040"/>
              </a:solidFill>
              <a:latin typeface="Trebuchet MS"/>
            </a:endParaRPr>
          </a:p>
          <a:p>
            <a:pPr marL="457200" indent="-342720">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Прямоугольник 3"/>
          <p:cNvSpPr/>
          <p:nvPr/>
        </p:nvSpPr>
        <p:spPr>
          <a:xfrm>
            <a:off x="539640" y="1996920"/>
            <a:ext cx="712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л – күңелдең көҙгөһө»,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Татлы тел таш ярыр»,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Тел яҙмышы – ил яҙмышы»,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Әсә теле бер булы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 </a:t>
            </a:r>
            <a:r>
              <a:rPr b="0" lang="ru-RU" sz="3600" spc="-1" strike="noStrike">
                <a:solidFill>
                  <a:srgbClr val="000000"/>
                </a:solidFill>
                <a:latin typeface="Arial"/>
                <a:ea typeface="Arial"/>
              </a:rPr>
              <a:t>«Күңеле буштың теле бу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a:t>
            </a:r>
            <a:r>
              <a:rPr b="0" lang="ru-RU" sz="3600" spc="-1" strike="noStrike">
                <a:solidFill>
                  <a:srgbClr val="000000"/>
                </a:solidFill>
                <a:latin typeface="Arial"/>
                <a:ea typeface="Arial"/>
              </a:rPr>
              <a:t>«Иләк һорарға ла тел кәрәк»,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600" spc="-1" strike="noStrike">
              <a:solidFill>
                <a:srgbClr val="90c226"/>
              </a:solidFill>
              <a:latin typeface="Trebuchet MS"/>
            </a:endParaRPr>
          </a:p>
        </p:txBody>
      </p:sp>
      <p:pic>
        <p:nvPicPr>
          <p:cNvPr id="221" name="Picture 2" descr=""/>
          <p:cNvPicPr/>
          <p:nvPr/>
        </p:nvPicPr>
        <p:blipFill>
          <a:blip r:embed="rId1"/>
          <a:stretch/>
        </p:blipFill>
        <p:spPr>
          <a:xfrm>
            <a:off x="428760" y="500040"/>
            <a:ext cx="8929440" cy="59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90c226"/>
                </a:solidFill>
                <a:latin typeface="Trebuchet MS"/>
              </a:rPr>
              <a:t>Рәми Ғарипов.</a:t>
            </a:r>
            <a:br>
              <a:rPr sz="5400"/>
            </a:br>
            <a:endParaRPr b="0" lang="en-US" sz="54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Мин халҡымдың сәскә күңеленә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Бал ҡортондай ынйы йыямы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Йыямын да — йәнле ынйыларҙа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404040"/>
                </a:solidFill>
                <a:latin typeface="Trebuchet MS"/>
              </a:rPr>
              <a:t>Хуш еҫле бер кәрәҙ ҡоямын.</a:t>
            </a:r>
            <a:endParaRPr b="0" lang="en-US" sz="32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3600" spc="-1" strike="noStrike">
                <a:solidFill>
                  <a:srgbClr val="90c226"/>
                </a:solidFill>
                <a:latin typeface="Trebuchet MS"/>
              </a:rPr>
              <a:t>Ғ абдулла Туҡай. Туған тел.</a:t>
            </a:r>
            <a:endParaRPr b="0" lang="en-US" sz="3600" spc="-1" strike="noStrike">
              <a:solidFill>
                <a:srgbClr val="90c226"/>
              </a:solidFill>
              <a:latin typeface="Trebuchet MS"/>
            </a:endParaRPr>
          </a:p>
        </p:txBody>
      </p:sp>
      <p:sp>
        <p:nvSpPr>
          <p:cNvPr id="225" name=""/>
          <p:cNvSpPr txBox="1"/>
          <p:nvPr/>
        </p:nvSpPr>
        <p:spPr>
          <a:xfrm>
            <a:off x="323640" y="1628640"/>
            <a:ext cx="7272360" cy="4896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Эй туған тел, эй матур тел, атам-әсәмдең теле.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Донъяла күп нәмә белдем, һин туған тел арҡылы.</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Иң элек был тел аша, әсәм бишек көйләгән,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Унан һуң төнәр төндәр буйына әкиәттәр һөйләгән.</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Эй туған тел, эй матур тел, атам-әсәмдең теле.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a-RU" sz="2400" spc="-1" strike="noStrike">
                <a:solidFill>
                  <a:srgbClr val="404040"/>
                </a:solidFill>
                <a:latin typeface="Trebuchet MS"/>
              </a:rPr>
              <a:t>Донъяла күп нәмә белдем, һин туған тел арҡылы.</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26" name="Детские Татарские - Туган тел (minus).mp3" descr=""/>
          <p:cNvPicPr/>
          <p:nvPr/>
        </p:nvPicPr>
        <p:blipFill>
          <a:blip r:embed="rId1"/>
          <a:stretch/>
        </p:blipFill>
        <p:spPr>
          <a:xfrm>
            <a:off x="4267080" y="312408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6"/>
                    </p:tgtEl>
                  </p:cond>
                </p:stCondLst>
                <p:childTnLst>
                  <p:par>
                    <p:cTn id="3" nodeType="clickEffect" fill="hold">
                      <p:stCondLst>
                        <p:cond evt="onClick">
                          <p:tgtEl>
                            <p:spTgt spid="22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9:04:24Z</dcterms:created>
  <dc:creator>admin</dc:creator>
  <dc:description/>
  <dc:language>en-US</dc:language>
  <cp:lastModifiedBy>Admin</cp:lastModifiedBy>
  <dcterms:modified xsi:type="dcterms:W3CDTF">2019-12-03T20:42:35Z</dcterms:modified>
  <cp:revision>15</cp:revision>
  <dc:subject/>
  <dc:title>Слайд 1</dc:title>
</cp:coreProperties>
</file>