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AD7-E7FF-4CD5-9DE3-76E18B2A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4E1-E8BE-4651-AA1D-097FA78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015-9F3F-4259-BD2B-655A8FED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57D-2CD3-4DFA-89DC-0491B3F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D581-C510-487C-AFAC-05928CB8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256-29D3-4825-B525-FEC2B842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0274-6BDF-49B3-8A6F-D39CFBD5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5D1E-A8A9-4EAF-904D-B6C25AC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A708-27F2-403E-8F2C-1CF31C55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723-B797-46DD-985B-F71DEFD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CC56-F00A-4411-83DA-CC550AE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653-45B3-46CD-B153-811D8121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EB0-89C1-4C30-B916-C8173D8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EAA-2F75-4C06-AEC9-0E42D76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26B-B548-456A-9EA2-7FB4837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BE7-9C5A-4FEA-9704-593C6E48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C8B-87AA-4AD2-99E0-3ABF4763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81F5-EAC4-4D50-ADAB-964CAEBA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BF98-B41F-4332-86B4-15FF0251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274A-F384-4AAA-A2F7-0984E46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3AC9-8037-49E5-8812-C98744A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F20E-3322-4861-9E16-47AFF66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ACC-2B17-46AD-A101-4D7FF94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469A-77AC-4D66-8570-C5F2C5C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082BD-1BDF-49C6-B1A6-C010F41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D4EE-14AE-4647-8904-31EB01E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A922-72B0-44E4-82B6-0358B28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D124-C69B-458F-96A5-2C3918EA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1B23-EEAB-4147-8456-209E8E33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D1A0-91B6-4686-B294-892110EE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ED83-7918-4994-BC51-C52E3E2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961C-6698-4ACF-8924-20F0E20D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4A87-619B-4745-BE74-D50E8640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654-1173-4C21-B288-0790B195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B10B-F5D7-4BEA-846F-76530F5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7DB1-AF1D-4BEA-8656-288F09AD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3FBF-10B4-4A5B-BB8F-7179CFCF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C9E2-16E1-4F33-9973-D2DCD80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7DE8-98FC-4433-A6C1-046AA0F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6F6B-5EDD-4D91-941A-2EF674B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79C1-C568-4A9F-A8EF-5DF2132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90DF-BCDD-47BE-863F-6AEA6E42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FFB1-F4B0-4CC5-A8FB-A018F06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3CC8-CEB3-436E-9A42-F6367C5B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2FA-39D8-4947-A994-8091A75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07FA-100D-4651-A714-0E3BA27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99BC-E830-43FC-BBCF-54E80F3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A906-5606-469C-9668-E2201B1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17D6-B896-455E-907D-49924A5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DF2F-0E77-4DA8-A623-76E7606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7891-DB68-4CAA-A62F-A2939A6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8592-19B5-4C5C-9C20-7C1B0D4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B10E-11B3-4A8D-A2D2-4A45F16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6626-610E-4CA0-8E8D-69FAA3F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F917-88B3-4D47-8262-38F3EDA6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D21-199F-47F2-8940-E42B7C4E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9CA4-781E-4F40-854C-9070C066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5EFE-2DBC-4A5F-B509-A6AA0BD5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058E-46B0-49CD-8EBF-2568809D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D066-8B09-46FC-8C45-16C83EE1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2253-F6A2-49D7-9C7C-C7535F5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77AE-5171-41E9-80C0-7B68D60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2362-726B-470A-8B32-3B5A562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9019-E716-4A02-908E-E926F56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F3699-FE6C-4F9F-8D19-221AB16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F1C3-5E98-476B-80DF-963222A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5BE-C657-408B-BEA4-AE05366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1625-DCE0-4A43-B79A-CD3B98B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BFAD5-D17A-4135-A189-37CDA28A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063E-4CA6-4C00-B940-07BE5723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CCBD5-393A-440C-A63E-58777BB1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DF4A-6FB3-4A26-9539-57A45B60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E59BD-9A42-4FF1-86E7-2461166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5FE31-D5A2-4532-B0E0-23CE62AA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1B388-62F9-43F1-ADE9-6A8C567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DDBE8-6570-4F68-AEC6-9FFAB04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DDB3-08D0-4577-A74B-D73683C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3E6-B69E-4F3E-8DA8-552925BE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7C0E-A0A4-4C76-A167-709B0E8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10459-212A-4892-8EBA-82A4BE7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7F2C-CB7D-4C22-A55E-3E179EC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66496-58F9-4EC2-8A25-6625C0C7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4B4CC-2869-4A90-A8E9-78BAED8F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689-4D25-4B45-9A3E-0AF4057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B204-BDDC-4910-AE6F-218F049FCE04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BD9-4F36-4C67-904D-10D7C1045E38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fb83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746-A51E-4AA8-A466-2DBD06CB3EAD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D033-02C9-4BD2-90EA-7B5D3C55C59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BD8-6398-4D44-9476-8ACCAA9DE5AA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BE4-C746-460E-8312-9DF971848B82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aec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AFA-02BC-498D-9415-82F1CC27BBF9}" type="slidenum">
              <a:rPr b="0" lang="ru-RU" sz="1200" spc="-1" strike="noStrike">
                <a:solidFill>
                  <a:srgbClr val="8dae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4143240" y="3230640"/>
            <a:ext cx="5691240" cy="3913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47640" y="4214880"/>
            <a:ext cx="7345440" cy="202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53143"/>
                </a:solidFill>
                <a:latin typeface="Corbel"/>
              </a:rPr>
              <a:t>5 клас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856800" y="0"/>
            <a:ext cx="79074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95a74"/>
                </a:solidFill>
                <a:latin typeface="Corbel"/>
              </a:rPr>
              <a:t>Интеллектуальная игра по математике и информатике</a:t>
            </a:r>
            <a:endParaRPr b="0" lang="en-US" sz="66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4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гадайте ребу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Рисунок 4" descr=""/>
          <p:cNvPicPr/>
          <p:nvPr/>
        </p:nvPicPr>
        <p:blipFill>
          <a:blip r:embed="rId1"/>
          <a:srcRect l="8017" t="30690" r="39232" b="31786"/>
          <a:stretch/>
        </p:blipFill>
        <p:spPr>
          <a:xfrm>
            <a:off x="1285920" y="2286000"/>
            <a:ext cx="74293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информати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ÐÐ°ÑÑÐ¸Ð½ÐºÐ¸ Ð¿Ð¾ Ð·Ð°Ð¿ÑÐ¾ÑÑ Ð¿Ð°ÑÐº Ð¸ Ð¼ÑÑÐ°"/>
          <p:cNvPicPr/>
          <p:nvPr/>
        </p:nvPicPr>
        <p:blipFill>
          <a:blip r:embed="rId1"/>
          <a:stretch/>
        </p:blipFill>
        <p:spPr>
          <a:xfrm>
            <a:off x="4000680" y="3286080"/>
            <a:ext cx="5143320" cy="3214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5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мухи 6 лапок, у паука – 8. Две мухи и три паука вместе имеют столько же лапок, сколько 10 попугаев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2 кош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3 бел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4 соба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5 зайце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601200" indent="-222120">
              <a:spcBef>
                <a:spcPts val="55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 лисиц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соба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*6=12 лапок  у двух му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*8=24 лапок у трех паук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*2=20 лапок у 10 попугае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2+24-20=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кошки, белки, собаки, зайца, лису по 4 лапки, т.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:4=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6029280" y="2428920"/>
            <a:ext cx="3114720" cy="3892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1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713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тыре из пяти цифр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, 2, 3, 4, 5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ужно вставить в схему справа так, чтобы получились верные равенства. Какая цифра не будет использован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Рисунок 3" descr="https://shkolnaiapora.ru/wp-content/uploads/2018/06/kenguru-2018-5-6kl-11.jpg"/>
          <p:cNvPicPr/>
          <p:nvPr/>
        </p:nvPicPr>
        <p:blipFill>
          <a:blip r:embed="rId2"/>
          <a:stretch/>
        </p:blipFill>
        <p:spPr>
          <a:xfrm>
            <a:off x="1214280" y="3857760"/>
            <a:ext cx="5072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будет использована цифра 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Рисунок 3" descr="https://shkolnaiapora.ru/wp-content/uploads/2018/06/kenguru-2018-5-6kl-11.jpg"/>
          <p:cNvPicPr/>
          <p:nvPr/>
        </p:nvPicPr>
        <p:blipFill>
          <a:blip r:embed="rId1"/>
          <a:stretch/>
        </p:blipFill>
        <p:spPr>
          <a:xfrm>
            <a:off x="1714680" y="2824200"/>
            <a:ext cx="6643440" cy="374796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"/>
          <p:cNvGrpSpPr/>
          <p:nvPr/>
        </p:nvGrpSpPr>
        <p:grpSpPr>
          <a:xfrm>
            <a:off x="1857240" y="3357720"/>
            <a:ext cx="5071320" cy="2928600"/>
            <a:chOff x="1857240" y="3357720"/>
            <a:chExt cx="5071320" cy="2928600"/>
          </a:xfrm>
        </p:grpSpPr>
        <p:sp>
          <p:nvSpPr>
            <p:cNvPr id="367" name="Text Box 3"/>
            <p:cNvSpPr/>
            <p:nvPr/>
          </p:nvSpPr>
          <p:spPr>
            <a:xfrm>
              <a:off x="1857240" y="4334040"/>
              <a:ext cx="924480" cy="9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4"/>
            <p:cNvSpPr/>
            <p:nvPr/>
          </p:nvSpPr>
          <p:spPr>
            <a:xfrm>
              <a:off x="3945240" y="5310000"/>
              <a:ext cx="894960" cy="9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6033600" y="4334040"/>
              <a:ext cx="894960" cy="9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3945240" y="3357720"/>
              <a:ext cx="894960" cy="9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2 Задача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72" name="Содержимое 3" descr=""/>
          <p:cNvPicPr/>
          <p:nvPr/>
        </p:nvPicPr>
        <p:blipFill>
          <a:blip r:embed="rId1"/>
          <a:srcRect l="26051" t="20000" r="23980" b="35194"/>
          <a:stretch/>
        </p:blipFill>
        <p:spPr>
          <a:xfrm>
            <a:off x="1214280" y="1143000"/>
            <a:ext cx="7643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86240" y="1447560"/>
            <a:ext cx="3648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бук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-во глас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-во соглас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обратном поряд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Содержимое 3" descr=""/>
          <p:cNvPicPr/>
          <p:nvPr/>
        </p:nvPicPr>
        <p:blipFill>
          <a:blip r:embed="rId1"/>
          <a:srcRect l="26051" t="39294" r="42660" b="35194"/>
          <a:stretch/>
        </p:blipFill>
        <p:spPr>
          <a:xfrm>
            <a:off x="428760" y="1428840"/>
            <a:ext cx="4786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3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квадратик надо добавить, чтобы в получившемся квадрате была закрашена ровно половина площад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Рисунок 3" descr="https://xn--j1ahfl.xn--p1ai/data/images/u132442/t1516007406ac.png"/>
          <p:cNvPicPr/>
          <p:nvPr/>
        </p:nvPicPr>
        <p:blipFill>
          <a:blip r:embed="rId1"/>
          <a:stretch/>
        </p:blipFill>
        <p:spPr>
          <a:xfrm>
            <a:off x="2286000" y="3114720"/>
            <a:ext cx="5357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исунок </a:t>
            </a: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Рисунок 3" descr="https://xn--j1ahfl.xn--p1ai/data/images/u132442/t1516007406ac.png"/>
          <p:cNvPicPr/>
          <p:nvPr/>
        </p:nvPicPr>
        <p:blipFill>
          <a:blip r:embed="rId1"/>
          <a:srcRect l="24688" t="70617" r="51391" b="0"/>
          <a:stretch/>
        </p:blipFill>
        <p:spPr>
          <a:xfrm>
            <a:off x="3929040" y="2500200"/>
            <a:ext cx="2500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50007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eea"/>
                </a:solidFill>
                <a:latin typeface="Corbel"/>
              </a:rPr>
              <a:t>Блиц турнир</a:t>
            </a:r>
            <a:endParaRPr b="0" lang="en-US" sz="66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4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83" name="Содержимое 3" descr=""/>
          <p:cNvPicPr/>
          <p:nvPr/>
        </p:nvPicPr>
        <p:blipFill>
          <a:blip r:embed="rId1"/>
          <a:srcRect l="25656" t="23565" r="24320" b="26854"/>
          <a:stretch/>
        </p:blipFill>
        <p:spPr>
          <a:xfrm>
            <a:off x="1357200" y="1500120"/>
            <a:ext cx="7215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ы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499920" y="1447560"/>
            <a:ext cx="5434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с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мен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ссет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ниж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ск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леш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инчестер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Рисунок 3" descr=""/>
          <p:cNvPicPr/>
          <p:nvPr/>
        </p:nvPicPr>
        <p:blipFill>
          <a:blip r:embed="rId1"/>
          <a:srcRect l="25656" t="30091" r="63640" b="26854"/>
          <a:stretch/>
        </p:blipFill>
        <p:spPr>
          <a:xfrm>
            <a:off x="1357200" y="1428840"/>
            <a:ext cx="2143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5 Задание в 2 балла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числите длины сторон квадрат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Рисунок 3" descr="https://xn--j1ahfl.xn--p1ai/data/images/u132442/t1516007406aa.jpg"/>
          <p:cNvPicPr/>
          <p:nvPr/>
        </p:nvPicPr>
        <p:blipFill>
          <a:blip r:embed="rId1"/>
          <a:stretch/>
        </p:blipFill>
        <p:spPr>
          <a:xfrm>
            <a:off x="2571840" y="2143080"/>
            <a:ext cx="4643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pic>
        <p:nvPicPr>
          <p:cNvPr id="391" name="Рисунок 3" descr="https://xn--j1ahfl.xn--p1ai/data/images/u132442/t1516007406ab.jpg"/>
          <p:cNvPicPr/>
          <p:nvPr/>
        </p:nvPicPr>
        <p:blipFill>
          <a:blip r:embed="rId1"/>
          <a:stretch/>
        </p:blipFill>
        <p:spPr>
          <a:xfrm>
            <a:off x="1643040" y="1357200"/>
            <a:ext cx="6500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ÐÐ¾ÑÐ¾Ð¶ÐµÐµ Ð¸Ð·Ð¾Ð±ÑÐ°Ð¶ÐµÐ½Ð¸Ðµ"/>
          <p:cNvPicPr/>
          <p:nvPr/>
        </p:nvPicPr>
        <p:blipFill>
          <a:blip r:embed="rId1"/>
          <a:srcRect l="0" t="0" r="16455" b="0"/>
          <a:stretch/>
        </p:blipFill>
        <p:spPr>
          <a:xfrm>
            <a:off x="4357800" y="1214280"/>
            <a:ext cx="4714920" cy="5643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143000" y="1285920"/>
            <a:ext cx="7129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виату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ой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ор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3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11 – 1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з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7*9+12):3 – 2=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и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04000" indent="-504000">
              <a:spcBef>
                <a:spcPts val="601"/>
              </a:spcBef>
              <a:buClr>
                <a:srgbClr val="7fd13b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95a74"/>
                </a:solidFill>
                <a:latin typeface="Corbel"/>
              </a:rPr>
              <a:t>Ответы на вопросы блиц турнира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1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рик бросал дротики в мишень. В первый раз он набрал 14 очков, во второй - 16 очков. Сколько очков набрал Ярик в третий раз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3" descr="https://shkolnaiapora.ru/wp-content/uploads/2018/06/kenguru-2018-5-6kl-2.jpg"/>
          <p:cNvPicPr/>
          <p:nvPr/>
        </p:nvPicPr>
        <p:blipFill>
          <a:blip r:embed="rId1"/>
          <a:stretch/>
        </p:blipFill>
        <p:spPr>
          <a:xfrm>
            <a:off x="1643040" y="357192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ÐÐ°ÑÑÐ¸Ð½ÐºÐ¸ Ð¿Ð¾ Ð·Ð°Ð¿ÑÐ¾ÑÑ Ð°Ð½Ð¸Ð¼Ð°ÑÐºÐ¸ ÑÐµÐ»Ð¾Ð²ÐµÑÐºÐ¸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38131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</a:t>
            </a: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https://shkolnaiapora.ru/wp-content/uploads/2018/06/kenguru-2018-5-6kl-2.jpg"/>
          <p:cNvPicPr/>
          <p:nvPr/>
        </p:nvPicPr>
        <p:blipFill>
          <a:blip r:embed="rId2"/>
          <a:stretch/>
        </p:blipFill>
        <p:spPr>
          <a:xfrm>
            <a:off x="1214280" y="3571920"/>
            <a:ext cx="7572600" cy="3105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1285920" y="32860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071880" y="32860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3643200" y="3357720"/>
            <a:ext cx="18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6-7=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5786280" y="350028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6429240" y="33577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7643880" y="3214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2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42640" y="1447920"/>
            <a:ext cx="779148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мотри на таблицу кодировок некоторых букв русского алфавита и расшифруй слово, представленное в двоичных код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1101 1011 0100 0110 1010 0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2760" indent="-23436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00120" y="4071960"/>
          <a:ext cx="6929640" cy="2743200"/>
        </p:xfrm>
        <a:graphic>
          <a:graphicData uri="http://schemas.openxmlformats.org/drawingml/2006/table">
            <a:tbl>
              <a:tblPr/>
              <a:tblGrid>
                <a:gridCol w="871560"/>
                <a:gridCol w="1486080"/>
                <a:gridCol w="503280"/>
                <a:gridCol w="1996920"/>
                <a:gridCol w="631800"/>
                <a:gridCol w="14400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2428560"/>
            <a:ext cx="7499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Родин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3 Задание в 1 балл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римере на вычисление Алиса закрасила две цифры. Какова сумма закрашенных циф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Рисунок 3" descr="https://shkolnaiapora.ru/wp-content/uploads/2018/06/kenguru-2018-5-6kl-4.jpg"/>
          <p:cNvPicPr/>
          <p:nvPr/>
        </p:nvPicPr>
        <p:blipFill>
          <a:blip r:embed="rId1"/>
          <a:stretch/>
        </p:blipFill>
        <p:spPr>
          <a:xfrm>
            <a:off x="1714680" y="3057480"/>
            <a:ext cx="62863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95a74"/>
                </a:solidFill>
                <a:latin typeface="Corbel"/>
              </a:rPr>
              <a:t>Ответ 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3 – 2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 = 25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  <a:ea typeface="Calibri"/>
              </a:rPr>
              <a:t>5+8=</a:t>
            </a:r>
            <a:r>
              <a:rPr b="1" lang="ru-RU" sz="8800" spc="-1" strike="noStrike">
                <a:solidFill>
                  <a:srgbClr val="007eea"/>
                </a:solidFill>
                <a:latin typeface="Calibri"/>
                <a:ea typeface="Calibri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8-11-18T10:10:06Z</dcterms:modified>
  <cp:revision>71</cp:revision>
  <dc:subject/>
  <dc:title>Слайд 1</dc:title>
</cp:coreProperties>
</file>