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660-7602-4879-BB4C-D3D8E30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D41-28AC-400D-8666-050AA8B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D72-7FF0-4256-8BBF-D3024463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7E3-C1C7-46EA-93CC-AA931AD3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F6A8-9C49-48A2-B481-DF1F9D83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489A-50F3-4C29-B5B8-54DF6843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2CE6-3E30-4C8E-B2BF-71470E62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50A-7867-4052-932C-115B7BD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C899-4A75-4ABF-9394-EBF7ED2A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D5DF-3781-4CB6-B161-EEAF895F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A2D8-A6C8-4739-87DE-606FB79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1DC-C604-43B7-9E8F-C36765E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7A9-B35B-4F00-BC84-864050D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3E88-828A-4864-9806-FC4C8AD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FBB-DD32-46FC-9E7E-4B7A563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A382-B3CE-4541-8A14-63D69730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FC52-1F92-4D6C-8E6F-899F3E0A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C657-130C-4743-BE14-8EF7ACBF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63C3-05CE-4450-95B3-443D974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5357-D769-4ED2-AB4D-C46A120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6E72-96F1-4CB6-A08F-32659AE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A33C-A09C-4974-BE14-7588FF8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EE-3B33-4862-A9E1-7EF98655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77BF-8328-45EF-AA9E-8CCA766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8B97-01A2-4AA8-98EC-A81B506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129A-891F-45B0-9FCE-30DCE1F2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4618-7C35-4800-97A5-CB552F45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C1C3-AC16-4522-A325-71D80C8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2930-1AA6-42C0-8864-E3EB09DA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7479-5261-4425-B8CE-E77396B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3E23-F952-41B2-A6E3-965051F7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5DC8-3DBB-4E50-9382-D97D4AA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9022-3384-4380-80DF-5CEF2C99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491-A1F3-4BCA-8398-287ED9F5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28B0-AD34-4E7D-8B58-EBD21FF6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F0EA-E682-4A38-AE11-DB6720E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7CAC-512B-4717-B587-D52273BC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5A81-48AE-4AE0-AC5F-FF4A3FB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1242-C772-4E93-8356-1DEEA40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6A1F-1001-485D-A73C-FFDD06F6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1F513-135E-4183-AC6E-406AF6FE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9AB8-3657-44AB-A994-ECDFD53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A729-DA22-4A5C-A18A-99745F6B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252E-98C0-4770-9159-97D3D7E3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F58-B930-45D4-BC63-E4D013E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339B-6A2D-4E59-A4AF-05E928E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CAAC-AF4C-487C-B1D2-34F70DEE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6A2F2-F028-4951-846C-E5DF24F1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29D0-CD28-4AB8-92E2-4764D0E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3907-BD89-40E8-883C-36D8DD2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106C-83E6-4319-BC92-3FA72A2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F6D76-1A37-46F5-84CC-5375F952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4247-2DED-45C8-A7B0-AEBEF16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A7E5-691E-419A-9B1C-ED674BD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486D-E906-4DE2-BA56-F862BB32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8B0-0AAC-452C-8D7C-77970D80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A80C-C08B-4635-9667-3D06F0F3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EF31-BCCC-4AB2-8DA4-6C155194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3528-88AB-4DA1-AB35-8039B91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B47EB-E4FF-4236-9BA4-59F8CF6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11E1-B556-43A5-8295-13E63A37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7D1A-524B-4A18-BD68-3873439E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A1DB-D33C-4774-BD74-592664AA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3CF1-5BA0-4BCB-A1EC-F94D2F6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2B0F-0D64-4DD8-B9D6-3FDC2C0C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0640-ABA9-4EA4-900F-705193C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E0D-25D1-48A6-BBF9-72BD1B0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516F-4DD3-411E-99BF-55FAA7B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1615-35BC-47B5-B338-81F97A2D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D7BA-868F-4E50-A5AC-7630BFD0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4C7A-1A1D-42FC-8B57-55D04F6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A86D-E12A-4887-A9B8-F21D293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F9B86-D32D-432C-8427-5EE29516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C8D8-CB63-46EC-A3F0-0D6E6E61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BDFF3-47DB-4018-AFC7-C4872B2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86071-8CF2-4CE5-A835-D59C8BD7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0256-DB63-4022-B4B2-1422267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55D-49DD-4D55-9BB4-C359197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FEC9-D8D3-4E00-9DA8-01576CD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5ACD6-FA32-4AE1-8C05-8AFFA83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0CC4-92C5-4657-A860-03913FF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2DF8-D5D5-4CE0-BEA4-2172A40D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8E6A2-4DDC-43AF-A943-E3814F12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BD8-CE04-4C2B-8B70-75884CB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283-1A5D-450C-B517-A610AAA50060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9A7-AC46-4D1F-8F56-EA0A34739517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CC8-84C3-41F4-B23F-70297D3729E7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273-4008-4784-B1BB-C89DF8F947E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161-CA6F-4F71-9ABB-08616583D7CC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A3E-81DF-4B24-BE85-DA67203F1166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51A-07BE-4B14-B98F-5C45645C6919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4143240" y="3230640"/>
            <a:ext cx="5691240" cy="3913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47640" y="4214880"/>
            <a:ext cx="7345440" cy="202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53143"/>
                </a:solidFill>
                <a:latin typeface="Corbel"/>
              </a:rPr>
              <a:t>5 кла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856800" y="0"/>
            <a:ext cx="79074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95a74"/>
                </a:solidFill>
                <a:latin typeface="Corbel"/>
              </a:rPr>
              <a:t>Интеллектуальная игра по математике и информатике</a:t>
            </a:r>
            <a:endParaRPr b="0" lang="en-US" sz="66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4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гадайте ребу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Рисунок 4" descr=""/>
          <p:cNvPicPr/>
          <p:nvPr/>
        </p:nvPicPr>
        <p:blipFill>
          <a:blip r:embed="rId1"/>
          <a:srcRect l="8017" t="30690" r="39232" b="31786"/>
          <a:stretch/>
        </p:blipFill>
        <p:spPr>
          <a:xfrm>
            <a:off x="1285920" y="2286000"/>
            <a:ext cx="74293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информати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ÐÐ°ÑÑÐ¸Ð½ÐºÐ¸ Ð¿Ð¾ Ð·Ð°Ð¿ÑÐ¾ÑÑ Ð¿Ð°ÑÐº Ð¸ Ð¼ÑÑÐ°"/>
          <p:cNvPicPr/>
          <p:nvPr/>
        </p:nvPicPr>
        <p:blipFill>
          <a:blip r:embed="rId1"/>
          <a:stretch/>
        </p:blipFill>
        <p:spPr>
          <a:xfrm>
            <a:off x="4000680" y="3286080"/>
            <a:ext cx="5143320" cy="3214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5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мухи 6 лапок, у паука – 8. Две мухи и три паука вместе имеют столько же лапок, сколько 10 попугаев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2 кош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3 бел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4 соба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5 зайце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 лиси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соба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*6=12 лапок  у двух му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*8=24 лапок у трех паук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*2=20 лапок у 10 попугае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2+24-20=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кошки, белки, собаки, зайца, лису по 4 лапки, т.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:4=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6029280" y="2428920"/>
            <a:ext cx="3114720" cy="3892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1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713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тыре из пяти цифр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, 2, 3, 4, 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ужно вставить в схему справа так, чтобы получились верные равенства. Какая цифра не будет использован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Рисунок 3" descr="https://shkolnaiapora.ru/wp-content/uploads/2018/06/kenguru-2018-5-6kl-11.jpg"/>
          <p:cNvPicPr/>
          <p:nvPr/>
        </p:nvPicPr>
        <p:blipFill>
          <a:blip r:embed="rId2"/>
          <a:stretch/>
        </p:blipFill>
        <p:spPr>
          <a:xfrm>
            <a:off x="1214280" y="3857760"/>
            <a:ext cx="5072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будет использована цифра 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Рисунок 3" descr="https://shkolnaiapora.ru/wp-content/uploads/2018/06/kenguru-2018-5-6kl-11.jpg"/>
          <p:cNvPicPr/>
          <p:nvPr/>
        </p:nvPicPr>
        <p:blipFill>
          <a:blip r:embed="rId1"/>
          <a:stretch/>
        </p:blipFill>
        <p:spPr>
          <a:xfrm>
            <a:off x="1714680" y="2824200"/>
            <a:ext cx="6643440" cy="374796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"/>
          <p:cNvGrpSpPr/>
          <p:nvPr/>
        </p:nvGrpSpPr>
        <p:grpSpPr>
          <a:xfrm>
            <a:off x="1857240" y="3357720"/>
            <a:ext cx="5071320" cy="2928600"/>
            <a:chOff x="1857240" y="3357720"/>
            <a:chExt cx="5071320" cy="2928600"/>
          </a:xfrm>
        </p:grpSpPr>
        <p:sp>
          <p:nvSpPr>
            <p:cNvPr id="367" name="Text Box 3"/>
            <p:cNvSpPr/>
            <p:nvPr/>
          </p:nvSpPr>
          <p:spPr>
            <a:xfrm>
              <a:off x="1857240" y="4334040"/>
              <a:ext cx="924480" cy="9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4"/>
            <p:cNvSpPr/>
            <p:nvPr/>
          </p:nvSpPr>
          <p:spPr>
            <a:xfrm>
              <a:off x="3945240" y="5310000"/>
              <a:ext cx="894960" cy="9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6033600" y="4334040"/>
              <a:ext cx="894960" cy="9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3945240" y="3357720"/>
              <a:ext cx="894960" cy="9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2 Задача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72" name="Содержимое 3" descr=""/>
          <p:cNvPicPr/>
          <p:nvPr/>
        </p:nvPicPr>
        <p:blipFill>
          <a:blip r:embed="rId1"/>
          <a:srcRect l="26051" t="20000" r="23980" b="35194"/>
          <a:stretch/>
        </p:blipFill>
        <p:spPr>
          <a:xfrm>
            <a:off x="1214280" y="1143000"/>
            <a:ext cx="7643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86240" y="1447560"/>
            <a:ext cx="3648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бук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-во глас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-во соглас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обратном поряд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Содержимое 3" descr=""/>
          <p:cNvPicPr/>
          <p:nvPr/>
        </p:nvPicPr>
        <p:blipFill>
          <a:blip r:embed="rId1"/>
          <a:srcRect l="26051" t="39294" r="42660" b="35194"/>
          <a:stretch/>
        </p:blipFill>
        <p:spPr>
          <a:xfrm>
            <a:off x="428760" y="1428840"/>
            <a:ext cx="4786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3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квадратик надо добавить, чтобы в получившемся квадрате была закрашена ровно половина площад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Рисунок 3" descr="https://xn--j1ahfl.xn--p1ai/data/images/u132442/t1516007406ac.png"/>
          <p:cNvPicPr/>
          <p:nvPr/>
        </p:nvPicPr>
        <p:blipFill>
          <a:blip r:embed="rId1"/>
          <a:stretch/>
        </p:blipFill>
        <p:spPr>
          <a:xfrm>
            <a:off x="2286000" y="3114720"/>
            <a:ext cx="5357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исунок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Рисунок 3" descr="https://xn--j1ahfl.xn--p1ai/data/images/u132442/t1516007406ac.png"/>
          <p:cNvPicPr/>
          <p:nvPr/>
        </p:nvPicPr>
        <p:blipFill>
          <a:blip r:embed="rId1"/>
          <a:srcRect l="24688" t="70617" r="51391" b="0"/>
          <a:stretch/>
        </p:blipFill>
        <p:spPr>
          <a:xfrm>
            <a:off x="3929040" y="2500200"/>
            <a:ext cx="2500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50007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eea"/>
                </a:solidFill>
                <a:latin typeface="Corbel"/>
              </a:rPr>
              <a:t>Блиц турнир</a:t>
            </a:r>
            <a:endParaRPr b="0" lang="en-US" sz="66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4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83" name="Содержимое 3" descr=""/>
          <p:cNvPicPr/>
          <p:nvPr/>
        </p:nvPicPr>
        <p:blipFill>
          <a:blip r:embed="rId1"/>
          <a:srcRect l="25656" t="23565" r="24320" b="26854"/>
          <a:stretch/>
        </p:blipFill>
        <p:spPr>
          <a:xfrm>
            <a:off x="1357200" y="1500120"/>
            <a:ext cx="7215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ы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499920" y="1447560"/>
            <a:ext cx="5434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мен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ссет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ниж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ск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леш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инчестер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Рисунок 3" descr=""/>
          <p:cNvPicPr/>
          <p:nvPr/>
        </p:nvPicPr>
        <p:blipFill>
          <a:blip r:embed="rId1"/>
          <a:srcRect l="25656" t="30091" r="63640" b="26854"/>
          <a:stretch/>
        </p:blipFill>
        <p:spPr>
          <a:xfrm>
            <a:off x="1357200" y="1428840"/>
            <a:ext cx="2143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5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числите длины сторон квадрат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Рисунок 3" descr="https://xn--j1ahfl.xn--p1ai/data/images/u132442/t1516007406aa.jpg"/>
          <p:cNvPicPr/>
          <p:nvPr/>
        </p:nvPicPr>
        <p:blipFill>
          <a:blip r:embed="rId1"/>
          <a:stretch/>
        </p:blipFill>
        <p:spPr>
          <a:xfrm>
            <a:off x="2571840" y="2143080"/>
            <a:ext cx="464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91" name="Рисунок 3" descr="https://xn--j1ahfl.xn--p1ai/data/images/u132442/t1516007406ab.jpg"/>
          <p:cNvPicPr/>
          <p:nvPr/>
        </p:nvPicPr>
        <p:blipFill>
          <a:blip r:embed="rId1"/>
          <a:stretch/>
        </p:blipFill>
        <p:spPr>
          <a:xfrm>
            <a:off x="1643040" y="1357200"/>
            <a:ext cx="6500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ÐÐ¾ÑÐ¾Ð¶ÐµÐµ Ð¸Ð·Ð¾Ð±ÑÐ°Ð¶ÐµÐ½Ð¸Ðµ"/>
          <p:cNvPicPr/>
          <p:nvPr/>
        </p:nvPicPr>
        <p:blipFill>
          <a:blip r:embed="rId1"/>
          <a:srcRect l="0" t="0" r="16455" b="0"/>
          <a:stretch/>
        </p:blipFill>
        <p:spPr>
          <a:xfrm>
            <a:off x="4357800" y="1214280"/>
            <a:ext cx="4714920" cy="5643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143000" y="1285920"/>
            <a:ext cx="7129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виату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ой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ор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3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11 – 1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з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7*9+12):3 – 2=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и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Ответы на вопросы блиц турнира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1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рик бросал дротики в мишень. В первый раз он набрал 14 очков, во второй - 16 очков. Сколько очков набрал Ярик в третий раз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3" descr="https://shkolnaiapora.ru/wp-content/uploads/2018/06/kenguru-2018-5-6kl-2.jpg"/>
          <p:cNvPicPr/>
          <p:nvPr/>
        </p:nvPicPr>
        <p:blipFill>
          <a:blip r:embed="rId1"/>
          <a:stretch/>
        </p:blipFill>
        <p:spPr>
          <a:xfrm>
            <a:off x="1643040" y="357192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38131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https://shkolnaiapora.ru/wp-content/uploads/2018/06/kenguru-2018-5-6kl-2.jpg"/>
          <p:cNvPicPr/>
          <p:nvPr/>
        </p:nvPicPr>
        <p:blipFill>
          <a:blip r:embed="rId2"/>
          <a:stretch/>
        </p:blipFill>
        <p:spPr>
          <a:xfrm>
            <a:off x="1214280" y="3571920"/>
            <a:ext cx="7572600" cy="3105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1285920" y="32860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071880" y="32860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3643200" y="3357720"/>
            <a:ext cx="18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6-7=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5786280" y="35002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6429240" y="33577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7643880" y="3214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2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42640" y="1447920"/>
            <a:ext cx="779148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мотри на таблицу кодировок некоторых букв русского алфавита и расшифруй слово, представленное в двоичных код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1101 1011 0100 0110 1010 0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00120" y="4071960"/>
          <a:ext cx="6929640" cy="2743200"/>
        </p:xfrm>
        <a:graphic>
          <a:graphicData uri="http://schemas.openxmlformats.org/drawingml/2006/table">
            <a:tbl>
              <a:tblPr/>
              <a:tblGrid>
                <a:gridCol w="871560"/>
                <a:gridCol w="1486080"/>
                <a:gridCol w="503280"/>
                <a:gridCol w="1996920"/>
                <a:gridCol w="631800"/>
                <a:gridCol w="14400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2428560"/>
            <a:ext cx="7499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Родин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3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римере на вычисление Алиса закрасила две цифры. Какова сумма закрашенных циф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Рисунок 3" descr="https://shkolnaiapora.ru/wp-content/uploads/2018/06/kenguru-2018-5-6kl-4.jpg"/>
          <p:cNvPicPr/>
          <p:nvPr/>
        </p:nvPicPr>
        <p:blipFill>
          <a:blip r:embed="rId1"/>
          <a:stretch/>
        </p:blipFill>
        <p:spPr>
          <a:xfrm>
            <a:off x="1714680" y="3057480"/>
            <a:ext cx="62863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3 – 2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 = 25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5+8=</a:t>
            </a:r>
            <a:r>
              <a:rPr b="1" lang="ru-RU" sz="8800" spc="-1" strike="noStrike">
                <a:solidFill>
                  <a:srgbClr val="007eea"/>
                </a:solidFill>
                <a:latin typeface="Calibri"/>
                <a:ea typeface="Calibri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8-11-18T10:10:06Z</dcterms:modified>
  <cp:revision>71</cp:revision>
  <dc:subject/>
  <dc:title>Слайд 1</dc:title>
</cp:coreProperties>
</file>