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3DB-A65C-4363-A7F8-86CE37F6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64B-E80D-460B-9FE5-E8E1E7C4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5008-5B6E-4302-8EF1-A19013CA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F831-ED06-4114-8858-E91B55D5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935-7870-46F5-BFDD-F36B8B2B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C83-212D-4077-AE0D-15243094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737-CBAA-482E-8A55-B73B5C75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39D-388E-43DD-92BC-A8A7C1B6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459-9A9A-4C80-9600-A5B0F0EC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C48-162D-48C7-B71B-F5B6E00A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8D9E-5BEB-4537-9A04-DAD4B592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1F4-9D8D-4757-9C8F-5D20AC03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ACCF-8F00-4403-A6F8-628A4554DF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yandex.ru/images/?redircnt=143038551.2&amp;uinfo=sw-1366-sh-768-ww-1366-wh-659-pd-1-wp-16x9_1366x768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"/>
          <p:cNvPicPr/>
          <p:nvPr/>
        </p:nvPicPr>
        <p:blipFill>
          <a:blip r:embed="rId1"/>
          <a:stretch/>
        </p:blipFill>
        <p:spPr>
          <a:xfrm>
            <a:off x="2786040" y="2357280"/>
            <a:ext cx="3429000" cy="2428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684360" y="1434960"/>
            <a:ext cx="777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00"/>
                </a:solidFill>
                <a:latin typeface="Ravie"/>
              </a:rPr>
              <a:t>The Best of all Possible Worlds.</a:t>
            </a:r>
            <a:r>
              <a:rPr b="1" i="1" lang="ru-RU" sz="3800" spc="-1" strike="noStrike">
                <a:solidFill>
                  <a:srgbClr val="ffff00"/>
                </a:solidFill>
                <a:latin typeface="Ravie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508720" y="5078160"/>
            <a:ext cx="246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Ravie"/>
              </a:rPr>
              <a:t>Prepared by Alina Chapranskaya ,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Ravie"/>
              </a:rPr>
              <a:t>10 grade (2015),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Ravie"/>
              </a:rPr>
              <a:t>School 49,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Ravie"/>
              </a:rPr>
              <a:t>Pechora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4723920"/>
            <a:ext cx="42480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Where  you can enjoy your favorite pastime and talk to your friends. I think everyone has his own world, the best of all the world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2000160" y="571680"/>
            <a:ext cx="5977080" cy="3957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Ravie"/>
              </a:rPr>
              <a:t>Thank you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llustr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s://yandex.ru/images/?redircnt=143038551.2&amp;uinfo=sw-1366-sh-768-ww-1366-wh-659-pd-1-wp-16x9_1366x768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79912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Our common world is very big and the environment is rich and diverse. Our planet seems to be cozy for every tas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hot deserts                                       and eternal snow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i"/>
          <p:cNvPicPr/>
          <p:nvPr/>
        </p:nvPicPr>
        <p:blipFill>
          <a:blip r:embed="rId1"/>
          <a:stretch/>
        </p:blipFill>
        <p:spPr>
          <a:xfrm>
            <a:off x="952560" y="1928880"/>
            <a:ext cx="3630600" cy="295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6" name="Picture 5" descr="025_ice0"/>
          <p:cNvPicPr/>
          <p:nvPr/>
        </p:nvPicPr>
        <p:blipFill>
          <a:blip r:embed="rId2"/>
          <a:stretch/>
        </p:blipFill>
        <p:spPr>
          <a:xfrm>
            <a:off x="5040360" y="2071800"/>
            <a:ext cx="3533760" cy="2801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4038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rugged mountains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0" y="47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and</a:t>
            </a:r>
            <a:r>
              <a:rPr b="0" lang="en-US" sz="2400" spc="-1" strike="noStrike">
                <a:solidFill>
                  <a:srgbClr val="ff00ff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soft plains,</a:t>
            </a:r>
            <a:r>
              <a:rPr b="0" lang="ru-RU" sz="2400" spc="-1" strike="noStrike">
                <a:solidFill>
                  <a:srgbClr val="e5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7" descr="PersEmilia"/>
          <p:cNvPicPr/>
          <p:nvPr/>
        </p:nvPicPr>
        <p:blipFill>
          <a:blip r:embed="rId1"/>
          <a:stretch/>
        </p:blipFill>
        <p:spPr>
          <a:xfrm rot="20722800">
            <a:off x="439560" y="2352240"/>
            <a:ext cx="4391280" cy="3861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0" name="Picture 8" descr="1340270915_2437"/>
          <p:cNvPicPr/>
          <p:nvPr/>
        </p:nvPicPr>
        <p:blipFill>
          <a:blip r:embed="rId2"/>
          <a:stretch/>
        </p:blipFill>
        <p:spPr>
          <a:xfrm rot="1127400">
            <a:off x="4571640" y="1557360"/>
            <a:ext cx="4032360" cy="3806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25304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majestic se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43280" y="5949720"/>
            <a:ext cx="252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and quiet river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9" descr="0_5630c_18b39882_xxxl"/>
          <p:cNvPicPr/>
          <p:nvPr/>
        </p:nvPicPr>
        <p:blipFill>
          <a:blip r:embed="rId1"/>
          <a:stretch/>
        </p:blipFill>
        <p:spPr>
          <a:xfrm>
            <a:off x="2627280" y="189000"/>
            <a:ext cx="6264360" cy="3619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4" name="Picture 10" descr="P1010121"/>
          <p:cNvPicPr/>
          <p:nvPr/>
        </p:nvPicPr>
        <p:blipFill>
          <a:blip r:embed="rId2"/>
          <a:stretch/>
        </p:blipFill>
        <p:spPr>
          <a:xfrm>
            <a:off x="250920" y="3357720"/>
            <a:ext cx="5761080" cy="33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84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Some people want to live by the sea, where the sun always shines and there are beautiful palm tre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9280" y="5373720"/>
            <a:ext cx="403848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The others want to live in the mountains and admire the geyser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7" descr="a_2962_010605_HuvahendhooIsland_Aerial_WaterVillas"/>
          <p:cNvPicPr/>
          <p:nvPr/>
        </p:nvPicPr>
        <p:blipFill>
          <a:blip r:embed="rId1"/>
          <a:stretch/>
        </p:blipFill>
        <p:spPr>
          <a:xfrm>
            <a:off x="214200" y="1989000"/>
            <a:ext cx="4357800" cy="4083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8" name="Picture 8" descr="repphoto_6490_8648"/>
          <p:cNvPicPr/>
          <p:nvPr/>
        </p:nvPicPr>
        <p:blipFill>
          <a:blip r:embed="rId2"/>
          <a:stretch/>
        </p:blipFill>
        <p:spPr>
          <a:xfrm>
            <a:off x="4857840" y="857160"/>
            <a:ext cx="4070160" cy="4143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00" y="259920"/>
            <a:ext cx="40388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Somebody would like to have a big hous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4652640"/>
            <a:ext cx="37432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Some people like to live in the city, admiring  bright lights and being in the thick of things.</a:t>
            </a:r>
            <a:r>
              <a:rPr b="0" lang="ru-RU" sz="2400" spc="-1" strike="noStrike">
                <a:solidFill>
                  <a:srgbClr val="e5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8" descr="e589099cf693"/>
          <p:cNvPicPr/>
          <p:nvPr/>
        </p:nvPicPr>
        <p:blipFill>
          <a:blip r:embed="rId1"/>
          <a:stretch/>
        </p:blipFill>
        <p:spPr>
          <a:xfrm rot="20767800">
            <a:off x="468000" y="691920"/>
            <a:ext cx="4632120" cy="3416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2" name="Picture 9" descr="093471f1c4de0d1255922e6df2dfe93b"/>
          <p:cNvPicPr/>
          <p:nvPr/>
        </p:nvPicPr>
        <p:blipFill>
          <a:blip r:embed="rId2"/>
          <a:stretch/>
        </p:blipFill>
        <p:spPr>
          <a:xfrm>
            <a:off x="3995640" y="3213000"/>
            <a:ext cx="4896000" cy="3454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I would like to live in a small town on the banks of a river or a lake. In the morning, I'd like to watch from the window as the sun rises over the water and how it sets. As the moon leaves the light on the water track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93769123_9331877_c3cfc30"/>
          <p:cNvPicPr/>
          <p:nvPr/>
        </p:nvPicPr>
        <p:blipFill>
          <a:blip r:embed="rId1"/>
          <a:stretch/>
        </p:blipFill>
        <p:spPr>
          <a:xfrm>
            <a:off x="2714760" y="2500200"/>
            <a:ext cx="3887640" cy="291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13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I love our land because nature is perfect itself. Clean air is just dizzy, and the taiga is blue, the sky seems to be fabulo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0_8dae8_fc8ded5b_XL"/>
          <p:cNvPicPr/>
          <p:nvPr/>
        </p:nvPicPr>
        <p:blipFill>
          <a:blip r:embed="rId1"/>
          <a:stretch/>
        </p:blipFill>
        <p:spPr>
          <a:xfrm>
            <a:off x="2500200" y="2286000"/>
            <a:ext cx="4391280" cy="3973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4724280"/>
            <a:ext cx="86421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I think that's the best world, this is the place where you feel comfortable and safe, where you can realize your dreams</a:t>
            </a:r>
            <a:r>
              <a:rPr b="0" lang="ru-RU" sz="2400" spc="-1" strike="noStrike">
                <a:solidFill>
                  <a:srgbClr val="e5ffff"/>
                </a:solidFill>
                <a:latin typeface="Georgia"/>
              </a:rPr>
              <a:t>,</a:t>
            </a: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 where you are happy. Where you can sit silent together and look at the fire, and on holidays there is your family</a:t>
            </a:r>
            <a:r>
              <a:rPr b="0" lang="ru-RU" sz="2400" spc="-1" strike="noStrike">
                <a:solidFill>
                  <a:srgbClr val="e5ffff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 around yo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9671b"/>
          <p:cNvPicPr/>
          <p:nvPr/>
        </p:nvPicPr>
        <p:blipFill>
          <a:blip r:embed="rId1"/>
          <a:stretch/>
        </p:blipFill>
        <p:spPr>
          <a:xfrm>
            <a:off x="2071800" y="1000080"/>
            <a:ext cx="4714920" cy="3583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00:30:24Z</dcterms:created>
  <dc:creator>User</dc:creator>
  <dc:description/>
  <dc:language>en-US</dc:language>
  <cp:lastModifiedBy>www.PHILka.RU</cp:lastModifiedBy>
  <dcterms:modified xsi:type="dcterms:W3CDTF">2019-12-02T14:38:10Z</dcterms:modified>
  <cp:revision>31</cp:revision>
  <dc:subject/>
  <dc:title>Слайд 1</dc:title>
</cp:coreProperties>
</file>