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178-F13E-4E28-86BC-41B97BE9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8BA-9772-4034-87B6-18A4DCD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9D7-C07E-4CEF-9A6E-98C70DD3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350-D62D-4941-B8FB-BADFCC36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3C42-BA55-4BC1-BF85-B7179AE3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AF23-4E04-433E-80FE-92FD617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2CF-E0A3-4B3D-B710-F8BBF7F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7631-4C30-42D5-AF2C-510ADC18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6CA1-5EF4-4F5E-87CE-CCC8D57A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9B7F-9869-43CA-B1AF-551E1116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BC92-C44F-49E4-9CD3-2807A78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3DE-0F84-4290-BF19-9D0E89D1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FFE7-CB9C-4B89-9C5A-106849B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E13E-0F42-4ED0-AB27-188F5D5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67A6-3D7A-4E85-8E21-EFEB941E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C5B8-8DFE-4C11-BEEB-2821B3B7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2EB2-C78B-4A0D-8AF6-7A666378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5D95B-7D81-4909-BF90-6E2A7D8E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8AA6E-E601-4581-BE86-A01B1847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CB25F-2F59-4322-A1C1-82E43EE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18434-37E2-4CFD-BF99-7602F64B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D42BF-F18E-41AD-8B5A-8425D508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CEA-941C-4EF2-8494-C87C767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BC38A-EE30-4F0F-88D5-5B6A18B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4B260-6795-4E5E-9CCD-7A32916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83B27-EC84-4F89-940B-26EE202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6D22B-6B79-4C68-A930-D635960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AB6B8-6C7C-44C2-99C6-29E52567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F9D99-A565-4DA6-8E74-F6AB721C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AD9CE-3144-47AB-A80C-8175CE7E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628B-62B9-4E02-A79D-E4E73A9C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A1F4-B4DE-488D-8ADF-9DC56571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063C-3C1E-4856-A9D3-C538D1F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9FC-6A28-4C94-AA29-C513B539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7BEF-5A6D-45F7-8973-2410268C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025E-2272-47AF-A066-D1E12CF4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5AE8-0599-4AE0-94CF-D0EFB422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7019-C5B0-4F64-8F9A-9D9C7001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15AC-81E9-4907-BFCF-7F39A44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44AF-4883-42E7-9077-C97F09F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25F7-1367-4EC5-99B9-F8DEC88F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E060-B2DA-4183-8FF0-D7402ABA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0354-361E-4F3A-A8D6-129532AD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336AD-65BF-47DE-AB01-DC9C583C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C99-5BD1-45E4-8726-A469201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BC0A0-F066-4D8D-8A2A-9E006F56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0C529-92F1-48B1-B050-2AAA5ED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3221C-4FCA-4F79-AB8C-3CEE006B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8ED24-2B90-4CD6-9C84-9C5A126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052A3-5D7A-46ED-92E8-38C33A57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DF8DD-3043-4819-A2E7-B0D5E5D9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57318-7955-4E8F-9C6A-0D4C6DEE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1D72B-F36F-4140-BEE3-D97BB14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FDFB5-2E43-49DE-97F0-5B951CA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1875D-FC68-4BFE-88B6-7FB3165D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528-3100-40A9-9534-64ECB75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019A6-5630-4991-B83C-FDDE9888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B7A61-E812-4EBB-9646-9CB94AF5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E21B0-5078-446A-981F-B04615DA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80907-9EA8-4CC9-A8B5-1E941166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17F2C-5162-443F-B4A6-870E463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6B7A4-5542-4896-805B-587DC1EC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CA8C1-2B6F-4C6F-91A4-E38534C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D0DC9-45BB-441E-BB20-434EEF47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B9D10-1860-493A-A713-00184E4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0D003-3DD5-477A-9017-F26D5A8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164-C5AC-421D-9B94-80F12DFD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CE8EA-F52B-4758-BDBC-6C68BA8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620DD-1FF4-4F04-BDAB-D290222C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EF21F-E5C8-4C0F-8D4E-99A988F0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66D71-030F-4B0C-B69E-60B18F43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043CD-C90E-444C-8FD1-F069D53A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834E4-A1F7-4090-B6D0-9C9EB37E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4912D-EE6A-4A10-9874-2328EFB8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7EAB1-86A4-4C7E-A638-CB19DDCD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82D09-1F7D-44C8-9224-202B3458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EF5B7-63FA-4663-97F0-1950375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6BF-5433-4101-AAC6-6520437C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807FE-9447-4A13-B241-64C30773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6ADC6-512B-4888-BB41-1B5EA350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78D16-641F-4CCA-AC49-CC3393E9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A91B0-FB71-4967-8DBE-4C1C8C0D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75C82-203B-4411-A090-08306E7A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C31-EA35-4E0A-9910-51484C7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5" name="Прямая соединительная линия 14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9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4d4d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4d4d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2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3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5"/>
          <p:cNvSpPr txBox="1"/>
          <p:nvPr/>
        </p:nvSpPr>
        <p:spPr>
          <a:xfrm>
            <a:off x="5810400" y="4786200"/>
            <a:ext cx="333360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a6378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5a6378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2857680" y="21420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МОУ «СОШ им. А. П. Чехова»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928800" y="18572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313c"/>
                </a:solidFill>
                <a:latin typeface="Century Schoolbook"/>
                <a:ea typeface="Arial"/>
              </a:rPr>
              <a:t>Тема работы: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130"/>
                </a:solidFill>
                <a:latin typeface="Century Schoolbook"/>
                <a:ea typeface="Arial"/>
              </a:rPr>
              <a:t>«Мёд и его качество»</a:t>
            </a:r>
            <a:endParaRPr b="0" lang="en-US" sz="5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54" name="Прямоугольник 6"/>
          <p:cNvSpPr/>
          <p:nvPr/>
        </p:nvSpPr>
        <p:spPr>
          <a:xfrm>
            <a:off x="3571920" y="550080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Автор: </a:t>
            </a:r>
            <a:r>
              <a:rPr b="0" lang="ru-RU" sz="2400" spc="-1" strike="noStrike">
                <a:solidFill>
                  <a:srgbClr val="2d313c"/>
                </a:solidFill>
                <a:latin typeface="Century Schoolbook"/>
                <a:ea typeface="Arial"/>
              </a:rPr>
              <a:t>Курносова Вероника</a:t>
            </a: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,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ученица 8 класса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Руководитель: </a:t>
            </a:r>
            <a:r>
              <a:rPr b="0" lang="ru-RU" sz="2400" spc="-1" strike="noStrike">
                <a:solidFill>
                  <a:srgbClr val="2d313c"/>
                </a:solidFill>
                <a:latin typeface="Century Schoolbook"/>
                <a:ea typeface="Arial"/>
              </a:rPr>
              <a:t>Матросова И.В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2695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57120" y="1369800"/>
            <a:ext cx="8286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</a:rPr>
              <a:t>По цвету 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мёд делят на светлый и тёмный с многочисленными переходным оттенками от белого до красновато-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коричневого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57120" y="3577320"/>
            <a:ext cx="48578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</a:rPr>
              <a:t>Прозрачность 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жидкого мёда зависит прежде всего от количества попавшей в мёд при откачке перги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143000" y="2232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Виды мёда по цвету и прозрачности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07" name="Picture 7" descr="http://im.haberturk.com/galeri/2011/02/28/405748/0cbf6bc38167d0ad26dfbe562d396d5a_k.jpg"/>
          <p:cNvPicPr/>
          <p:nvPr/>
        </p:nvPicPr>
        <p:blipFill>
          <a:blip r:embed="rId1"/>
          <a:stretch/>
        </p:blipFill>
        <p:spPr>
          <a:xfrm>
            <a:off x="5286240" y="2786040"/>
            <a:ext cx="3429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69958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МЁД ЗРЕЛЫЙ И НЕЗРЕЛЫЙ</a:t>
            </a:r>
            <a:endParaRPr b="0" lang="en-US" sz="32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2" descr="&amp;Pcy;&amp;rcy;&amp;ocy;&amp;dcy;&amp;ucy;&amp;kcy;&amp;tcy;&amp;ycy; &amp;pcy;&amp;chcy;&amp;iecy;&amp;lcy;&amp;ocy;&amp;vcy;&amp;ocy;&amp;dcy;&amp;scy;&amp;tcy;&amp;vcy;&amp;acy; - &amp;zcy;&amp;acy;&amp;bcy;&amp;rcy;&amp;ucy;&amp;scy;"/>
          <p:cNvPicPr/>
          <p:nvPr/>
        </p:nvPicPr>
        <p:blipFill>
          <a:blip r:embed="rId1"/>
          <a:stretch/>
        </p:blipFill>
        <p:spPr>
          <a:xfrm>
            <a:off x="1214280" y="1143000"/>
            <a:ext cx="6667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7" descr="http://www.kundeneingang.net/files/306/1/modulefiles/pic_306112750articles.jpg"/>
          <p:cNvPicPr/>
          <p:nvPr/>
        </p:nvPicPr>
        <p:blipFill>
          <a:blip r:embed="rId1"/>
          <a:stretch/>
        </p:blipFill>
        <p:spPr>
          <a:xfrm>
            <a:off x="0" y="0"/>
            <a:ext cx="4038480" cy="26956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"/>
          <p:cNvSpPr/>
          <p:nvPr/>
        </p:nvSpPr>
        <p:spPr>
          <a:xfrm>
            <a:off x="3143160" y="27936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Полезные свойства натурального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13" name="Picture 9" descr="http://img0.liveinternet.ru/images/attach/c/11/114/774/114774154_trunggab56d8.jpg"/>
          <p:cNvPicPr/>
          <p:nvPr/>
        </p:nvPicPr>
        <p:blipFill>
          <a:blip r:embed="rId2"/>
          <a:stretch/>
        </p:blipFill>
        <p:spPr>
          <a:xfrm>
            <a:off x="500040" y="3929040"/>
            <a:ext cx="3562200" cy="2666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http://botinok.co.il/sites/default/files/images/c17f6db154138c1236aa90cb23b90ad3_m_70186.jpg"/>
          <p:cNvPicPr/>
          <p:nvPr/>
        </p:nvPicPr>
        <p:blipFill>
          <a:blip r:embed="rId3"/>
          <a:stretch/>
        </p:blipFill>
        <p:spPr>
          <a:xfrm>
            <a:off x="4286160" y="1714680"/>
            <a:ext cx="2857680" cy="2219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3" descr="http://www.med-inform72.ru/assets/images/zdorovye%20i%20krasota/6.jpg"/>
          <p:cNvPicPr/>
          <p:nvPr/>
        </p:nvPicPr>
        <p:blipFill>
          <a:blip r:embed="rId4"/>
          <a:stretch/>
        </p:blipFill>
        <p:spPr>
          <a:xfrm>
            <a:off x="5572080" y="4286160"/>
            <a:ext cx="3214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6"/>
          <p:cNvSpPr/>
          <p:nvPr/>
        </p:nvSpPr>
        <p:spPr>
          <a:xfrm>
            <a:off x="428760" y="574920"/>
            <a:ext cx="79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Исследуемые образцы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8718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74674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Методики определения качества мёда</a:t>
            </a:r>
            <a:br>
              <a:rPr sz="3200"/>
            </a:br>
            <a:endParaRPr b="0" lang="en-US" sz="3600" spc="-1" strike="noStrike">
              <a:solidFill>
                <a:srgbClr val="5a6378"/>
              </a:solidFill>
              <a:latin typeface="Century Schoolbook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4344840" cy="52862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00720" y="713880"/>
            <a:ext cx="464328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Century Schoolbook"/>
                <a:ea typeface="Tahoma"/>
              </a:rPr>
              <a:t>Органолептический анализ</a:t>
            </a:r>
            <a:r>
              <a:rPr b="0" lang="ru-RU" sz="3200" spc="-1" strike="noStrike">
                <a:solidFill>
                  <a:srgbClr val="672020"/>
                </a:solidFill>
                <a:latin typeface="Century Schoolbook"/>
                <a:ea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Включает оценку цвета, запаха, вкуса и консистенции продукта, а также оценивает наличие примесей.</a:t>
            </a:r>
            <a:br>
              <a:rPr sz="3200"/>
            </a:br>
            <a:endParaRPr b="0" lang="en-US" sz="2800" spc="-1" strike="noStrike">
              <a:solidFill>
                <a:srgbClr val="5a6378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9" descr="http://supercook.ru/honey/images-honey/honey-02.jpg"/>
          <p:cNvPicPr/>
          <p:nvPr/>
        </p:nvPicPr>
        <p:blipFill>
          <a:blip r:embed="rId1"/>
          <a:stretch/>
        </p:blipFill>
        <p:spPr>
          <a:xfrm>
            <a:off x="285840" y="428760"/>
            <a:ext cx="4279680" cy="477504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2"/>
          <p:cNvSpPr/>
          <p:nvPr/>
        </p:nvSpPr>
        <p:spPr>
          <a:xfrm>
            <a:off x="4643280" y="714240"/>
            <a:ext cx="41436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Свежий зрелый мёд стекает с ложки густыми непрерывающимися лентами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643280" y="1857240"/>
            <a:ext cx="4131000" cy="4673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4127400" cy="4662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642960" y="428760"/>
            <a:ext cx="82152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В нашем опыте из жидких образцов более вязким оказался гречишный мёд (№3), но и он не вполне соответствует норме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4500720" y="642960"/>
            <a:ext cx="4471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Зимой мёд должен быть закристаллизованным.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 Образцы №4 и №5 образовали снизу закристаллизовавшийся слой, а сверху — сиропообразный. Это указывает на то, что </a:t>
            </a:r>
            <a:r>
              <a:rPr b="1" i="1" lang="ru-RU" sz="2800" spc="-1" strike="noStrike">
                <a:solidFill>
                  <a:srgbClr val="434a5a"/>
                </a:solidFill>
                <a:latin typeface="Tahoma"/>
              </a:rPr>
              <a:t>мёд незрелый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. Такой мёд долго не хранится, начинает бродить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0" y="3956040"/>
            <a:ext cx="3857760" cy="2901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642960" y="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42920"/>
          <a:ext cx="9144000" cy="6361200"/>
        </p:xfrm>
        <a:graphic>
          <a:graphicData uri="http://schemas.openxmlformats.org/drawingml/2006/table">
            <a:tbl>
              <a:tblPr/>
              <a:tblGrid>
                <a:gridCol w="755640"/>
                <a:gridCol w="1511280"/>
                <a:gridCol w="1587600"/>
                <a:gridCol w="2292120"/>
                <a:gridCol w="1258920"/>
                <a:gridCol w="1738440"/>
              </a:tblGrid>
              <a:tr h="63972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ца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т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кость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липовы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ин Ул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желтый, почти прозрачн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ишком сладкий,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або выраж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ки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засахар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цветочный "Медовый Спас"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лтый, полупрозрачн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ишком сладкий,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более выраж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кий.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засахар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гречишный «Медовый край»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коричневый.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сутствует карамельный привкус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ается небольшое першение в горле.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хорошо выражен.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язкий,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засахар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липовый натуральный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адкий с кислым   привкусом.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пах       кислый, неприятн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дки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слоился: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низу частично засахарен, сверху жидкая прослойка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ёд липовый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ус не похож на медовый, кислый.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пах       брожения, спиртово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дки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слоился: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низу частично засахарен, сверху жидкая прослойка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84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Мёд донниковый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Бледно-желтый, почти белый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Сладкий, приятный на вкус. Дает приятное жжение в горле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Запах медовый, хорошо выраж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Полностью засахарен, плотной консистенции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32480" cy="53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67202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Гипотеза</a:t>
            </a:r>
            <a:r>
              <a:rPr b="1" lang="ru-RU" sz="3200" spc="-1" strike="noStrike">
                <a:solidFill>
                  <a:srgbClr val="672020"/>
                </a:solidFill>
                <a:latin typeface="Calibri"/>
              </a:rPr>
              <a:t>:</a:t>
            </a:r>
            <a:r>
              <a:rPr b="1" lang="ru-RU" sz="2600" spc="-1" strike="noStrike">
                <a:solidFill>
                  <a:srgbClr val="5a6378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343437"/>
                </a:solidFill>
                <a:latin typeface="Tahoma"/>
                <a:ea typeface="Tahoma"/>
              </a:rPr>
              <a:t>не весь мёд, представленный в рыночной сети, настоящий. </a:t>
            </a:r>
            <a:br>
              <a:rPr sz="2600"/>
            </a:br>
            <a:br>
              <a:rPr sz="2600"/>
            </a:b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Цель работы:</a:t>
            </a:r>
            <a:r>
              <a:rPr b="1" lang="ru-RU" sz="3200" spc="-1" strike="noStrike">
                <a:solidFill>
                  <a:srgbClr val="5a6378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343437"/>
                </a:solidFill>
                <a:latin typeface="Tahoma"/>
                <a:ea typeface="Tahoma"/>
              </a:rPr>
              <a:t>провести анализы образцов мёда, сделать вывод о его качестве, составить памятку для покупателей. </a:t>
            </a:r>
            <a:br>
              <a:rPr sz="2600"/>
            </a:br>
            <a:endParaRPr b="0" lang="en-US" sz="2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71880" y="414324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219560" cy="609624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2"/>
          <p:cNvSpPr/>
          <p:nvPr/>
        </p:nvSpPr>
        <p:spPr>
          <a:xfrm>
            <a:off x="4572000" y="642960"/>
            <a:ext cx="4000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Из 6 образцов только 1 кристаллизовался правильно и представляет собой однородную массу (N6). </a:t>
            </a:r>
            <a:r>
              <a:rPr b="1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Донниковый мёд 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из Саратовской области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3071880" y="500040"/>
            <a:ext cx="2725560" cy="3286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357120" y="142920"/>
            <a:ext cx="2500560" cy="3703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3"/>
          <a:stretch/>
        </p:blipFill>
        <p:spPr>
          <a:xfrm>
            <a:off x="6000840" y="428760"/>
            <a:ext cx="2984400" cy="330192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5"/>
          <p:cNvSpPr/>
          <p:nvPr/>
        </p:nvSpPr>
        <p:spPr>
          <a:xfrm>
            <a:off x="500040" y="4071960"/>
            <a:ext cx="8286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Образцы под № 1, 2, 3 представляют собой жидкий мёд, а значит, это или фальсификат, или они подвергались нагреванию перед продажей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642960" y="2786040"/>
            <a:ext cx="7620120" cy="389592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2"/>
          <p:cNvSpPr/>
          <p:nvPr/>
        </p:nvSpPr>
        <p:spPr>
          <a:xfrm>
            <a:off x="428760" y="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Tahoma"/>
              </a:rPr>
              <a:t>Химический анализ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Нам понадобились следующие реактивы: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дистиллированная вода, йод, нашатырный спирт,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р-р нитрата серебра, фенолфталеин,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р-р едкого натра, уксусная и соляная кислоты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39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4859280" cy="43578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2"/>
          <p:cNvSpPr/>
          <p:nvPr/>
        </p:nvSpPr>
        <p:spPr>
          <a:xfrm>
            <a:off x="5286240" y="642960"/>
            <a:ext cx="33577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Проведенные мной химический анализы не показали наличия в образцах мела, крахмала, избытка сахарозы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7619760" cy="254304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2"/>
          <p:cNvSpPr/>
          <p:nvPr/>
        </p:nvSpPr>
        <p:spPr>
          <a:xfrm>
            <a:off x="285840" y="4071960"/>
            <a:ext cx="8572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</a:rPr>
              <a:t>Анализ показал, что в образцах под N2 и 5 содержание кислот сильно превышает норму, что говорит о незрелости мёда. Образец N3 также изменил окраску с малиновой на бледно-розовую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43" name="Прямоугольник 3"/>
          <p:cNvSpPr/>
          <p:nvPr/>
        </p:nvSpPr>
        <p:spPr>
          <a:xfrm>
            <a:off x="285840" y="21420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130"/>
                </a:solidFill>
                <a:latin typeface="Century Schoolbook"/>
                <a:ea typeface="Tahoma"/>
              </a:rPr>
              <a:t>Анализ на кислотность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57120" y="3857760"/>
            <a:ext cx="8229600" cy="27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Образцы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N 2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и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5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, которые начали бродить, в пищу лучше не употребля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Остальные,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N 1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,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3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и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4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есть можно, но пользы они не принесут, т.к. были нагреты перед продажей, а значит, потеряли большую часть полезных вещест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Picture 5" descr="http://supergreen.ru/upload/shop_catalog/products/large/25b2916b5c49db617f52fa5ea48efee7887614685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4071960" y="142884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Очень достойно прошёл  все испытания и стал победителем донниковый мёд, купленный в Саратовской области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4143240" y="57168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130"/>
                </a:solidFill>
                <a:latin typeface="Century Schoolbook"/>
              </a:rPr>
              <a:t>Выводы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130"/>
                </a:solidFill>
                <a:latin typeface="Century Schoolbook"/>
              </a:rPr>
              <a:t>Памятка покупателю мёд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87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1071720" y="1125360"/>
            <a:ext cx="7642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3357720" y="1214280"/>
            <a:ext cx="382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3130"/>
                </a:solidFill>
                <a:latin typeface="Century Schoolbook"/>
              </a:rPr>
              <a:t>Спасибо за внимание!</a:t>
            </a:r>
            <a:endParaRPr b="0" lang="en-US" sz="4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928800" y="350028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3130"/>
                </a:solidFill>
                <a:latin typeface="Century Schoolbook"/>
              </a:rPr>
              <a:t>Будьте внимательны при выборе мёда!</a:t>
            </a:r>
            <a:endParaRPr b="0" lang="en-US" sz="40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53" name="Picture 5" descr="&amp;rcy;&amp;acy;&amp;zcy;&amp;vcy;&amp;iecy;&amp;dcy;&amp;iecy;&amp;ncy;&amp;icy;&amp;iecy; &amp;dcy;&amp;ocy;&amp;mcy;&amp;acy; &amp;ZHcy;&amp;icy;&amp;vcy;&amp;ocy;&amp;tcy;&amp;ncy;&amp;ocy;&amp;vcy;&amp;ocy;&amp;dcy;&amp;scy;&amp;tcy;&amp;vcy;&amp;ocy;"/>
          <p:cNvPicPr/>
          <p:nvPr/>
        </p:nvPicPr>
        <p:blipFill>
          <a:blip r:embed="rId1"/>
          <a:stretch/>
        </p:blipFill>
        <p:spPr>
          <a:xfrm>
            <a:off x="357120" y="214200"/>
            <a:ext cx="2857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Задачи исследования: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3840" y="85716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1. Изучить литературу о составе натурального меда и его свойствах.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2. Рассмотреть требования к натуральности мёда.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3. Выяснить основные способы фальсификации мёда.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4. Провести необходимые анализы проб меда, включающие органолептическую оценку и физико-химический анализ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155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34a5a"/>
                </a:solidFill>
                <a:latin typeface="Tahoma"/>
                <a:ea typeface="Tahoma"/>
              </a:rPr>
              <a:t>На Руси мёд впервые отмечен летописью в 880 г.</a:t>
            </a:r>
            <a:endParaRPr b="0" lang="en-US" sz="25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a6378"/>
              </a:solidFill>
              <a:latin typeface="Century Schoolbook"/>
            </a:endParaRPr>
          </a:p>
        </p:txBody>
      </p:sp>
      <p:pic>
        <p:nvPicPr>
          <p:cNvPr id="362" name="Picture 2" descr="http://sr.gallerix.ru/2037947957/_EX/580157470/"/>
          <p:cNvPicPr/>
          <p:nvPr/>
        </p:nvPicPr>
        <p:blipFill>
          <a:blip r:embed="rId1"/>
          <a:stretch/>
        </p:blipFill>
        <p:spPr>
          <a:xfrm>
            <a:off x="571680" y="1214280"/>
            <a:ext cx="7929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6"/>
          <p:cNvSpPr/>
          <p:nvPr/>
        </p:nvSpPr>
        <p:spPr>
          <a:xfrm>
            <a:off x="592200" y="1531800"/>
            <a:ext cx="815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920" y="3714480"/>
            <a:ext cx="492912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4a5a"/>
                </a:solidFill>
                <a:latin typeface="Tahoma"/>
                <a:ea typeface="Tahoma"/>
              </a:rPr>
              <a:t>С целью наживы к мёду подмешивают: сахарный сироп, сахарин, свекловичную или крахмальную патоку, муку, мел и т.д.</a:t>
            </a:r>
            <a:endParaRPr b="0" lang="en-US" sz="2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785880" y="2948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Способы фальсификации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66" name="Picture 6" descr="http://www.tataram.ru/uploads/foto/med_2.jpg"/>
          <p:cNvPicPr/>
          <p:nvPr/>
        </p:nvPicPr>
        <p:blipFill>
          <a:blip r:embed="rId1"/>
          <a:stretch/>
        </p:blipFill>
        <p:spPr>
          <a:xfrm>
            <a:off x="5000760" y="2286000"/>
            <a:ext cx="3786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4286160" y="2894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Состав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9680" y="857160"/>
            <a:ext cx="8372520" cy="57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Вода (18%) 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Глюкоза (35%)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Фруктоза (40%)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Сахароза (до 5 %)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Органические и неорганические кислоты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Белки, ферменты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Минеральные вещества: калий, натрий, магний, железо, фосфор, алюминий, медь, марганец, цинк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Витамины: В</a:t>
            </a:r>
            <a:r>
              <a:rPr b="0" lang="ru-RU" sz="2800" spc="-1" strike="noStrike" baseline="-30000">
                <a:solidFill>
                  <a:srgbClr val="2d313c"/>
                </a:solidFill>
                <a:latin typeface="Tahoma"/>
                <a:ea typeface="Tahoma"/>
              </a:rPr>
              <a:t>1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, В</a:t>
            </a:r>
            <a:r>
              <a:rPr b="0" lang="ru-RU" sz="2800" spc="-1" strike="noStrike" baseline="-30000">
                <a:solidFill>
                  <a:srgbClr val="2d313c"/>
                </a:solidFill>
                <a:latin typeface="Tahoma"/>
                <a:ea typeface="Tahoma"/>
              </a:rPr>
              <a:t>2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, В</a:t>
            </a:r>
            <a:r>
              <a:rPr b="0" lang="ru-RU" sz="2800" spc="-1" strike="noStrike" baseline="-30000">
                <a:solidFill>
                  <a:srgbClr val="2d313c"/>
                </a:solidFill>
                <a:latin typeface="Tahoma"/>
                <a:ea typeface="Tahoma"/>
              </a:rPr>
              <a:t>3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, РР, С, фолиевая кислота и др.</a:t>
            </a:r>
            <a:endParaRPr b="0" lang="en-US" sz="2800" spc="-1" strike="noStrike">
              <a:solidFill>
                <a:srgbClr val="5a6378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6"/>
          <p:cNvSpPr/>
          <p:nvPr/>
        </p:nvSpPr>
        <p:spPr>
          <a:xfrm flipH="1">
            <a:off x="2643120" y="1643040"/>
            <a:ext cx="720720" cy="863640"/>
          </a:xfrm>
          <a:prstGeom prst="line">
            <a:avLst/>
          </a:prstGeom>
          <a:ln w="31680">
            <a:solidFill>
              <a:srgbClr val="0a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5857920" y="1714680"/>
            <a:ext cx="647640" cy="86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57120" y="2428920"/>
            <a:ext cx="3749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цветочный мёд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оизводится пчелами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процессе сбора и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ереработки нектара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118120" y="2428920"/>
            <a:ext cx="3556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падевый мёд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челы вырабатывают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обирая падь и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двяную росу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2071800" y="215280"/>
            <a:ext cx="5357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Виды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Натуральный мёд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74" name="Picture 8" descr="http://www.vashsad.ua/downloads/image/7534/rosa_3.JPG"/>
          <p:cNvPicPr/>
          <p:nvPr/>
        </p:nvPicPr>
        <p:blipFill>
          <a:blip r:embed="rId1"/>
          <a:stretch/>
        </p:blipFill>
        <p:spPr>
          <a:xfrm>
            <a:off x="5857920" y="4357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https://g1b2i3.files.wordpress.com/2012/06/istock_lindenflower.jpg"/>
          <p:cNvPicPr/>
          <p:nvPr/>
        </p:nvPicPr>
        <p:blipFill>
          <a:blip r:embed="rId2"/>
          <a:stretch/>
        </p:blipFill>
        <p:spPr>
          <a:xfrm>
            <a:off x="1071720" y="4105440"/>
            <a:ext cx="2857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1928880" y="43200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Цветочный мёд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2857680" y="1285920"/>
            <a:ext cx="720720" cy="863640"/>
          </a:xfrm>
          <a:prstGeom prst="line">
            <a:avLst/>
          </a:prstGeom>
          <a:ln w="31680">
            <a:solidFill>
              <a:srgbClr val="0a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5357880" y="1214280"/>
            <a:ext cx="642960" cy="928800"/>
          </a:xfrm>
          <a:prstGeom prst="line">
            <a:avLst/>
          </a:prstGeom>
          <a:ln w="31680">
            <a:solidFill>
              <a:srgbClr val="0a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9" name="Text Box 42"/>
          <p:cNvSpPr/>
          <p:nvPr/>
        </p:nvSpPr>
        <p:spPr>
          <a:xfrm>
            <a:off x="1000080" y="235728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Century Schoolbook"/>
              </a:rPr>
              <a:t>Монофлёрный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5403960" y="23572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Century Schoolbook"/>
              </a:rPr>
              <a:t>Полифлёрный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81" name="Picture 2" descr="http://www.prekrasana.ru/images/stories/donnik.jpg"/>
          <p:cNvPicPr/>
          <p:nvPr/>
        </p:nvPicPr>
        <p:blipFill>
          <a:blip r:embed="rId1"/>
          <a:stretch/>
        </p:blipFill>
        <p:spPr>
          <a:xfrm>
            <a:off x="285840" y="3286080"/>
            <a:ext cx="4500360" cy="3014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ksk-ajar.kz/images/dscn4093.jpg"/>
          <p:cNvPicPr/>
          <p:nvPr/>
        </p:nvPicPr>
        <p:blipFill>
          <a:blip r:embed="rId2"/>
          <a:stretch/>
        </p:blipFill>
        <p:spPr>
          <a:xfrm>
            <a:off x="4929120" y="3286080"/>
            <a:ext cx="4000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4"/>
          <p:cNvSpPr/>
          <p:nvPr/>
        </p:nvSpPr>
        <p:spPr>
          <a:xfrm flipH="1">
            <a:off x="1928880" y="3643200"/>
            <a:ext cx="1079280" cy="7923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97080" y="465300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АКАЦИЕ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5" name="Line 10"/>
          <p:cNvSpPr/>
          <p:nvPr/>
        </p:nvSpPr>
        <p:spPr>
          <a:xfrm flipH="1">
            <a:off x="3642840" y="3714840"/>
            <a:ext cx="360360" cy="10713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2500920" y="4929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КАШТАН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7" name="Line 12"/>
          <p:cNvSpPr/>
          <p:nvPr/>
        </p:nvSpPr>
        <p:spPr>
          <a:xfrm flipH="1" flipV="1">
            <a:off x="3071880" y="1999800"/>
            <a:ext cx="714240" cy="1071720"/>
          </a:xfrm>
          <a:prstGeom prst="line">
            <a:avLst/>
          </a:prstGeom>
          <a:ln w="3816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8" name="Line 13"/>
          <p:cNvSpPr/>
          <p:nvPr/>
        </p:nvSpPr>
        <p:spPr>
          <a:xfrm flipV="1">
            <a:off x="6215040" y="2142720"/>
            <a:ext cx="642960" cy="78588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9" name="Text Box 15"/>
          <p:cNvSpPr/>
          <p:nvPr/>
        </p:nvSpPr>
        <p:spPr>
          <a:xfrm>
            <a:off x="1792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5216400" y="471492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ГРЕЧИШН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1" name="Line 18"/>
          <p:cNvSpPr/>
          <p:nvPr/>
        </p:nvSpPr>
        <p:spPr>
          <a:xfrm>
            <a:off x="6643800" y="3357720"/>
            <a:ext cx="714240" cy="1425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5429160" y="3571920"/>
            <a:ext cx="571680" cy="8571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3" name="Line 37"/>
          <p:cNvSpPr/>
          <p:nvPr/>
        </p:nvSpPr>
        <p:spPr>
          <a:xfrm flipV="1">
            <a:off x="5214960" y="1785600"/>
            <a:ext cx="142920" cy="114300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576720" y="150012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ПОДСОЛНЕЧНИК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4010040" y="128592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ДОННИК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6" name="Line 40"/>
          <p:cNvSpPr/>
          <p:nvPr/>
        </p:nvSpPr>
        <p:spPr>
          <a:xfrm flipH="1" flipV="1">
            <a:off x="1714680" y="3000240"/>
            <a:ext cx="769680" cy="28440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144000" y="264312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РАПС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6501960" y="16430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КЛЕН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2000160" y="29325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Цветочный мёд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365600" y="32860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ЛИП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01" name="Picture 29" descr="http://image.subscribe.ru/list/digest/health/im_20110509110002_350.jpg"/>
          <p:cNvPicPr/>
          <p:nvPr/>
        </p:nvPicPr>
        <p:blipFill>
          <a:blip r:embed="rId1"/>
          <a:stretch/>
        </p:blipFill>
        <p:spPr>
          <a:xfrm>
            <a:off x="6000840" y="5214960"/>
            <a:ext cx="2857320" cy="142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1" descr="http://pechot-francois.com/topic3/bv000005.jpg"/>
          <p:cNvPicPr/>
          <p:nvPr/>
        </p:nvPicPr>
        <p:blipFill>
          <a:blip r:embed="rId2"/>
          <a:stretch/>
        </p:blipFill>
        <p:spPr>
          <a:xfrm>
            <a:off x="0" y="0"/>
            <a:ext cx="2286000" cy="1514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3" descr="http://www.buero-biene.de/bienelinks.jpg"/>
          <p:cNvPicPr/>
          <p:nvPr/>
        </p:nvPicPr>
        <p:blipFill>
          <a:blip r:embed="rId3"/>
          <a:stretch/>
        </p:blipFill>
        <p:spPr>
          <a:xfrm>
            <a:off x="6858000" y="0"/>
            <a:ext cx="1928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3:40:18Z</dcterms:created>
  <dc:creator>NOCH</dc:creator>
  <dc:description/>
  <dc:language>en-US</dc:language>
  <cp:lastModifiedBy>Asus</cp:lastModifiedBy>
  <dcterms:modified xsi:type="dcterms:W3CDTF">2019-12-02T19:17:24Z</dcterms:modified>
  <cp:revision>158</cp:revision>
  <dc:subject/>
  <dc:title>Классификация меда</dc:title>
</cp:coreProperties>
</file>