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13.wmf" ContentType="image/x-wm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BD7-9BAA-40B7-8A11-097C921A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327-57D7-4D5B-B419-51FE7EE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AE2-0724-4F18-A42C-39EAEFB0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D2-3404-4FA1-8D10-379FFDDB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AB09-0FC2-407B-9EC0-691FE4C2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A1D3-1D1F-4644-B5D0-7502C4E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CB5-367A-4DF6-B3ED-FB82A91E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8C0-B84E-465A-8EA5-B91387FB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A52E-5FF1-4D95-9E2E-90871EE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D2FE-5D3A-4E7A-B59E-58BC29FC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508-1842-492F-B70F-BB9BC85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8D9-9C2C-4C60-A24D-9C51ED3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0568-46A3-4292-BD54-8BB4057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28E6-B9F0-4ADA-9410-6A80EFD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1F84-ADB1-457C-BA55-3764CE93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43D-147C-49AF-BE3A-04AB2796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E905-B6F9-435A-A015-4E84CAFB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989-8B5A-47FF-95AE-8A917F8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FA2-9B57-4A71-8FC8-29828AE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27F-C58B-44F9-B676-4C50C13F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4DB-879A-437F-B8A3-0A30D326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CB2-BE80-476E-9FA1-62C4B0B1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143-E9D4-4310-9777-B1E8B6E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5D5-A6CB-4E00-9559-4BB860D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95F5-9F50-47F6-9628-46DC116AB8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D80-1057-4D48-A85C-FF06BF5AD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25D-07D5-4CDD-BE49-084585A063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achishich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BB7-35E2-4FA8-B341-CA9B344A9F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Чистописание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СПГ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2438280" y="4094280"/>
            <a:ext cx="4800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означают согласные зв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0E2-31DD-4D09-A7BD-C40C88005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Фразеолагизм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533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вести вокруг паль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ржать язык за зуб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3452760" y="5257800"/>
            <a:ext cx="3024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3102120" y="3657600"/>
            <a:ext cx="3646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Обманут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Молча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37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694b6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694b6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a1bd69"/>
              </a:gs>
            </a:gsLst>
            <a:lin ang="4848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a1bd69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efde3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3447.wav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1"/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12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4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8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97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9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</a:rPr>
              <a:t>Девиз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Дружно – не грузно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 врозь- хоть брось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661-AD19-45B1-90DB-B7C197B3C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оч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1523880"/>
            <a:ext cx="4041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у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г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C1D-69E7-4EED-8467-0AD353FC11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666880" y="380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3276720" y="23623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164840" y="4191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117320" y="57150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BOOK2"/>
          <p:cNvPicPr/>
          <p:nvPr/>
        </p:nvPicPr>
        <p:blipFill>
          <a:blip r:embed="rId1"/>
          <a:stretch/>
        </p:blipFill>
        <p:spPr>
          <a:xfrm>
            <a:off x="4876920" y="4038480"/>
            <a:ext cx="187632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Тема. Наречие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160" y="5638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нова  Светлана Юрье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1</dc:creator>
  <dc:description/>
  <dc:language>en-US</dc:language>
  <cp:lastModifiedBy>Admin</cp:lastModifiedBy>
  <dcterms:modified xsi:type="dcterms:W3CDTF">2019-11-20T21:24:19Z</dcterms:modified>
  <cp:revision>213</cp:revision>
  <dc:subject/>
  <dc:title>ТЕСТ  ПО РУССКОМУ ЯЗЫКУ по теме «ПРЕДЛОЖЕНИЕ»</dc:title>
</cp:coreProperties>
</file>