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13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6ED-5CEF-44E0-90B4-228B7049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043-C5AA-4913-A86D-9EE08377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169-284B-4EF3-8402-B14381C8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6BC-C04A-4399-B4D7-9F7DF17E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0DFC-ABAE-466D-94FF-36AB91D9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D994-CA97-42DE-9CA2-F946DE97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D06C-C758-47CA-9509-35CB32A0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BA9A-21F9-4110-8430-FB6BB27D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2EF3-3F9B-46D6-A8EB-B1FC901C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D6EC-F98C-4BC7-86D1-6E489480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57CB-39BA-4C24-BBE2-63D1D41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DF3-8C18-44C5-856A-718CD97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57E1-0A99-46B5-9AF7-874F18D9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542F-0539-4CF4-A0C6-AEF8B494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EDB-ECF5-4061-A6CB-53B42C8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08B3-A930-4C59-BCA5-6B4AE90A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DBA1-09ED-43F3-9DD5-3311F324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28C-401A-4D5F-BAD7-2D05152B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0DF-7219-445B-9A42-0624239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834-4A10-494E-A8F4-55E7F31C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505-BD10-4619-8676-7D48BC8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C54-7239-4C5C-8986-B40845B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270-A25A-4BC4-BBB5-BBD16610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076-F61E-461D-885A-AA722861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9AD-FDF5-4B4B-9790-236003A2C80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achishich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3DAE-6193-4B47-9F9E-A412EB93F7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BE1-3F5F-4B3C-B0B7-146754F272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achishich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08B0-9327-4F3C-AE7D-194AEEE796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Чистописание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ПГ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2438280" y="4094280"/>
            <a:ext cx="4800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Обозначают согласные зв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CA5-A50D-4FDD-AE20-85CFD3FBB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Фразеолагизм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533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вести вокруг паль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ржать язык за зуб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3"/>
          <p:cNvSpPr/>
          <p:nvPr/>
        </p:nvSpPr>
        <p:spPr>
          <a:xfrm>
            <a:off x="3452760" y="5257800"/>
            <a:ext cx="3024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3102120" y="3657600"/>
            <a:ext cx="3646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Обманут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Молч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37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694b6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694b6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a1bd69"/>
              </a:gs>
            </a:gsLst>
            <a:lin ang="4848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a1bd69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3447.wav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1"/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2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8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1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197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19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</a:rPr>
              <a:t>Девиз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Дружно – не грузно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 врозь- хоть брось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063-9B9A-43B1-900A-C1007CA808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оч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1523880"/>
            <a:ext cx="4041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у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ог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2FE9-1F18-4B45-87EE-4F679C607E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666880" y="3808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й  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3276720" y="23623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164840" y="4191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117320" y="57150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BOOK2"/>
          <p:cNvPicPr/>
          <p:nvPr/>
        </p:nvPicPr>
        <p:blipFill>
          <a:blip r:embed="rId1"/>
          <a:stretch/>
        </p:blipFill>
        <p:spPr>
          <a:xfrm>
            <a:off x="4876920" y="4038480"/>
            <a:ext cx="1876320" cy="914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Тема. Наречие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3160" y="5638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анова  Светлана Юрье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1</dc:creator>
  <dc:description/>
  <dc:language>en-US</dc:language>
  <cp:lastModifiedBy>Admin</cp:lastModifiedBy>
  <dcterms:modified xsi:type="dcterms:W3CDTF">2019-11-20T21:24:19Z</dcterms:modified>
  <cp:revision>213</cp:revision>
  <dc:subject/>
  <dc:title>ТЕСТ  ПО РУССКОМУ ЯЗЫКУ по теме «ПРЕДЛОЖЕНИЕ»</dc:title>
</cp:coreProperties>
</file>