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4.jpeg" ContentType="image/jpe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42D5-FB1E-420A-ADAC-69A1EE04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1595-402F-4C58-A3FC-EC4F1045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7463-519E-4D49-BD8A-E4C75D67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463-BC72-4275-A2F2-775D9F68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3B05-EB1C-4CA5-9058-66AE0B56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9428-A5BB-4FB0-A6F3-45D5A33E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7445-F7FF-4283-8038-E1698B70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48AC-5F2D-4282-94E5-6F7D1563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4235-208F-4384-A209-6329D0C7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A965-2434-416C-A601-1620F9F1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4B32-4B20-4BB2-923B-2F597E02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59E0-B77A-461E-8A82-E529CE57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5F92-4A21-458F-93E3-DE7EB830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9A24-F20A-4249-BD39-68242011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8D20-436F-48A9-9D98-25FA45DC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CC15-8DD4-47AD-8AA0-BF2FCF24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23DC-BED7-4DD6-A1F2-5B4385DC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DE736-2DF3-4F14-ABBC-3E96D558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A39FF-8C71-4A3A-B769-3B05135A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54E7D-D645-4A4E-B0AB-9F47BC59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04707-130C-4C67-AA8F-7CDFE823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836A4-32ED-44E0-B0AF-97C24992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ACC-B49E-4394-8396-5B2D4CAC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984B8-C4F8-4F4F-8196-32CF241D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D7E57-8CBD-4AD0-8EF2-D26D0E32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1BE95-1710-41CD-96B8-EDCCD580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7B770-BD6F-4AD5-BBE3-2C1236BF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89F6D-548E-4576-B0F9-729EC846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511B9-9EE1-4A16-8891-814D83F3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82CA8-8838-45F4-AE94-6853DDA5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F547-3A63-48BE-A4DD-BEBE1935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9BD-572D-4D48-B902-821A75A9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B13-C358-4F2A-ABA4-567CF285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BD29-EFF4-4F98-BA92-2B6D4419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E3FE-C1AF-4095-8DE0-6C49FEDE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EAAC-A3CF-449E-B522-EA14D981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5516-767B-4EF5-AD81-03F6C52DFA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C91E-F576-4003-BFA6-32F609DFC0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63AE-EEC9-4CC1-A96D-146BE0DC81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1066680" y="8380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Тем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990720" y="1676520"/>
            <a:ext cx="78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00b050"/>
                </a:solidFill>
                <a:latin typeface="Times New Roman"/>
              </a:rPr>
              <a:t>Неравенства второй степени с одной переменной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3886200" y="43434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КОУ Филоновская С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воаннинского  района Волгоград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итова Татьяна Михайл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71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1"/>
          <p:cNvGraphicFramePr/>
          <p:nvPr/>
        </p:nvGraphicFramePr>
        <p:xfrm>
          <a:off x="5867280" y="1600200"/>
          <a:ext cx="281952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600200"/>
                    <a:ext cx="28195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Прямоугольник 3"/>
          <p:cNvSpPr/>
          <p:nvPr/>
        </p:nvSpPr>
        <p:spPr>
          <a:xfrm>
            <a:off x="1066680" y="278280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исунке изображен график 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=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я график, решите неравенств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≥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2666880" y="55627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[0;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2522520" y="556272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(-∞;0]U[3; ∞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152388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38080" y="1371240"/>
            <a:ext cx="792504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66831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766831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766831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ите неравенство графическ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4х² +4х -15 &gt;0   б) 2х² -5х -12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6831"/>
                </a:solidFill>
                <a:latin typeface="Times New Roman"/>
              </a:rPr>
              <a:t>№</a:t>
            </a:r>
            <a:r>
              <a:rPr b="1" lang="ru-RU" sz="2400" spc="-1" strike="noStrike">
                <a:solidFill>
                  <a:srgbClr val="766831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766831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ите неравенство  методом интервал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( х-3)(х+1)≤0; б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+9)(x-5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66831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766831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ите неравенство а)                          ;  б)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66831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766831"/>
                </a:solidFill>
                <a:latin typeface="Times New Roman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ите неравен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Заголовок 2" descr=""/>
          <p:cNvPicPr/>
          <p:nvPr/>
        </p:nvPicPr>
        <p:blipFill>
          <a:blip r:embed="rId1"/>
          <a:stretch/>
        </p:blipFill>
        <p:spPr>
          <a:xfrm>
            <a:off x="1066680" y="274680"/>
            <a:ext cx="7620120" cy="865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0" name="Object 3"/>
              <p:cNvSpPr txBox="1"/>
              <p:nvPr/>
            </p:nvSpPr>
            <p:spPr>
              <a:xfrm>
                <a:off x="4572000" y="3276720"/>
                <a:ext cx="1752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2"/>
              <p:cNvSpPr txBox="1"/>
              <p:nvPr/>
            </p:nvSpPr>
            <p:spPr>
              <a:xfrm>
                <a:off x="3962520" y="4267080"/>
                <a:ext cx="14475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TextBox 12"/>
          <p:cNvSpPr/>
          <p:nvPr/>
        </p:nvSpPr>
        <p:spPr>
          <a:xfrm>
            <a:off x="1828800" y="4800600"/>
            <a:ext cx="2209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71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14"/>
              <p:cNvSpPr txBox="1"/>
              <p:nvPr/>
            </p:nvSpPr>
            <p:spPr>
              <a:xfrm>
                <a:off x="6858000" y="3200400"/>
                <a:ext cx="1143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2"/>
          <p:cNvSpPr/>
          <p:nvPr/>
        </p:nvSpPr>
        <p:spPr>
          <a:xfrm>
            <a:off x="2590920" y="762120"/>
            <a:ext cx="4681440" cy="1584360"/>
          </a:xfrm>
          <a:prstGeom prst="flowChartAlternateProcess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2701800" y="907920"/>
            <a:ext cx="382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Times New Roman"/>
              </a:rPr>
              <a:t>НЕЛЬЗЯ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1143000" y="2590920"/>
            <a:ext cx="5689440" cy="1800000"/>
          </a:xfrm>
          <a:prstGeom prst="flowChartAlternateProcess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066680" y="2492280"/>
            <a:ext cx="609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50"/>
                </a:solidFill>
                <a:latin typeface="Times New Roman"/>
              </a:rPr>
              <a:t>Домножать 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50"/>
                </a:solidFill>
                <a:latin typeface="Times New Roman"/>
              </a:rPr>
              <a:t>знаменатель, содержащий неизвест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8"/>
          <p:cNvSpPr/>
          <p:nvPr/>
        </p:nvSpPr>
        <p:spPr>
          <a:xfrm rot="10800000">
            <a:off x="1447920" y="1599840"/>
            <a:ext cx="1141200" cy="863640"/>
          </a:xfrm>
          <a:custGeom>
            <a:avLst/>
            <a:gdLst>
              <a:gd name="textAreaLeft" fmla="*/ 0 w 1141200"/>
              <a:gd name="textAreaRight" fmla="*/ 978120 w 1141200"/>
              <a:gd name="textAreaTop" fmla="*/ 57600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7c8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2d050"/>
                </a:solidFill>
                <a:latin typeface="Times New Roman"/>
              </a:rPr>
              <a:t>Решите неравенство</a:t>
            </a:r>
            <a:r>
              <a:rPr b="0" lang="ru-RU" sz="3600" spc="-1" strike="noStrike">
                <a:solidFill>
                  <a:srgbClr val="92d05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1066680" y="2349360"/>
                <a:ext cx="2514600" cy="19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3"/>
              <p:cNvSpPr txBox="1"/>
              <p:nvPr/>
            </p:nvSpPr>
            <p:spPr>
              <a:xfrm>
                <a:off x="4819680" y="2492280"/>
                <a:ext cx="2560680" cy="18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6477120" y="260280"/>
                <a:ext cx="1981080" cy="18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7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1066680" y="155736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10"/>
          <p:cNvGrpSpPr/>
          <p:nvPr/>
        </p:nvGrpSpPr>
        <p:grpSpPr>
          <a:xfrm>
            <a:off x="1116000" y="4941720"/>
            <a:ext cx="7699320" cy="954360"/>
            <a:chOff x="1116000" y="4941720"/>
            <a:chExt cx="7699320" cy="954360"/>
          </a:xfrm>
        </p:grpSpPr>
        <p:sp>
          <p:nvSpPr>
            <p:cNvPr id="239" name="AutoShape 11"/>
            <p:cNvSpPr/>
            <p:nvPr/>
          </p:nvSpPr>
          <p:spPr>
            <a:xfrm>
              <a:off x="1116000" y="4941720"/>
              <a:ext cx="769932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12"/>
            <p:cNvSpPr/>
            <p:nvPr/>
          </p:nvSpPr>
          <p:spPr>
            <a:xfrm>
              <a:off x="1266480" y="5249520"/>
              <a:ext cx="649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13"/>
          <p:cNvSpPr/>
          <p:nvPr/>
        </p:nvSpPr>
        <p:spPr>
          <a:xfrm>
            <a:off x="3873600" y="4698360"/>
            <a:ext cx="4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2728800" y="5143680"/>
            <a:ext cx="46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789440" y="515772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7229520" y="49849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AutoShape 17"/>
          <p:cNvCxnSpPr/>
          <p:nvPr/>
        </p:nvCxnSpPr>
        <p:spPr>
          <a:xfrm flipV="1" rot="10800000">
            <a:off x="5246640" y="4827240"/>
            <a:ext cx="2132280" cy="316800"/>
          </a:xfrm>
          <a:prstGeom prst="curved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6" name="AutoShape 18"/>
          <p:cNvCxnSpPr/>
          <p:nvPr/>
        </p:nvCxnSpPr>
        <p:spPr>
          <a:xfrm>
            <a:off x="900000" y="4797360"/>
            <a:ext cx="2059920" cy="316800"/>
          </a:xfrm>
          <a:prstGeom prst="curved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AutoShape 19"/>
          <p:cNvSpPr/>
          <p:nvPr/>
        </p:nvSpPr>
        <p:spPr>
          <a:xfrm rot="16200000">
            <a:off x="3903480" y="3800160"/>
            <a:ext cx="395280" cy="2287800"/>
          </a:xfrm>
          <a:custGeom>
            <a:avLst/>
            <a:gdLst>
              <a:gd name="textAreaLeft" fmla="*/ 0 w 395280"/>
              <a:gd name="textAreaRight" fmla="*/ 277200 w 395280"/>
              <a:gd name="textAreaTop" fmla="*/ 95040 h 2287800"/>
              <a:gd name="textAreaBottom" fmla="*/ 2192760 h 228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0"/>
          <p:cNvSpPr/>
          <p:nvPr/>
        </p:nvSpPr>
        <p:spPr>
          <a:xfrm>
            <a:off x="6400800" y="4508640"/>
            <a:ext cx="39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1"/>
          <p:cNvSpPr/>
          <p:nvPr/>
        </p:nvSpPr>
        <p:spPr>
          <a:xfrm>
            <a:off x="1333440" y="450864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2"/>
          <p:cNvSpPr/>
          <p:nvPr/>
        </p:nvSpPr>
        <p:spPr>
          <a:xfrm>
            <a:off x="609480" y="60213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5"/>
              <p:cNvSpPr txBox="1"/>
              <p:nvPr/>
            </p:nvSpPr>
            <p:spPr>
              <a:xfrm>
                <a:off x="3124080" y="5865840"/>
                <a:ext cx="36576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,5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Rectangle 24"/>
          <p:cNvSpPr/>
          <p:nvPr/>
        </p:nvSpPr>
        <p:spPr>
          <a:xfrm>
            <a:off x="5076720" y="501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5"/>
          <p:cNvSpPr/>
          <p:nvPr/>
        </p:nvSpPr>
        <p:spPr>
          <a:xfrm>
            <a:off x="2771640" y="501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1676520" y="2362320"/>
            <a:ext cx="556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33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Заголовок 2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91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Прямоугольник 1" descr=""/>
          <p:cNvPicPr/>
          <p:nvPr/>
        </p:nvPicPr>
        <p:blipFill>
          <a:blip r:embed="rId1"/>
          <a:stretch/>
        </p:blipFill>
        <p:spPr>
          <a:xfrm>
            <a:off x="1146240" y="384120"/>
            <a:ext cx="7692840" cy="64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1523880" y="1397160"/>
          <a:ext cx="6934320" cy="4851360"/>
        </p:xfrm>
        <a:graphic>
          <a:graphicData uri="http://schemas.openxmlformats.org/drawingml/2006/table">
            <a:tbl>
              <a:tblPr/>
              <a:tblGrid>
                <a:gridCol w="750960"/>
                <a:gridCol w="2716200"/>
                <a:gridCol w="620640"/>
                <a:gridCol w="2846520"/>
              </a:tblGrid>
              <a:tr h="693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вариа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1bd6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вариа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1bd6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8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8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8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8d4"/>
                    </a:solidFill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b"/>
                    </a:solidFill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8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8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8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8d4"/>
                    </a:solidFill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-∞;-7]U[3; ∞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-∞;-5]U[2; ∞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b"/>
                    </a:solidFill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8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-∞;-3]U[2; 3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8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8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-∞;-5]U[2; 5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8d4"/>
                    </a:solidFill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-∞;-6)U(6; ∞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-8;8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b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1447920" y="1600200"/>
            <a:ext cx="693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Прямоугольник 3" descr=""/>
          <p:cNvPicPr/>
          <p:nvPr/>
        </p:nvPicPr>
        <p:blipFill>
          <a:blip r:embed="rId1"/>
          <a:stretch/>
        </p:blipFill>
        <p:spPr>
          <a:xfrm>
            <a:off x="1450800" y="762120"/>
            <a:ext cx="6242400" cy="6458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/>
          <p:cNvSpPr/>
          <p:nvPr/>
        </p:nvSpPr>
        <p:spPr>
          <a:xfrm>
            <a:off x="1295280" y="1676520"/>
            <a:ext cx="7162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3: № 376(а), 386 (а,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4: №338(а,в), 384 (а,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 5: сай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pi.ru/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ый банк заданий в разделе уравнения и неравенства страница 13 решить нераве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Прямоугольник 6" descr=""/>
          <p:cNvPicPr/>
          <p:nvPr/>
        </p:nvPicPr>
        <p:blipFill>
          <a:blip r:embed="rId1"/>
          <a:stretch/>
        </p:blipFill>
        <p:spPr>
          <a:xfrm>
            <a:off x="1603440" y="457200"/>
            <a:ext cx="6546960" cy="64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990720" y="1676520"/>
          <a:ext cx="7848360" cy="2179440"/>
        </p:xfrm>
        <a:graphic>
          <a:graphicData uri="http://schemas.openxmlformats.org/drawingml/2006/table">
            <a:tbl>
              <a:tblPr/>
              <a:tblGrid>
                <a:gridCol w="1468440"/>
                <a:gridCol w="1674720"/>
                <a:gridCol w="1252440"/>
                <a:gridCol w="2538360"/>
                <a:gridCol w="914400"/>
              </a:tblGrid>
              <a:tr h="17524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ур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готов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ем вмес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раб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TextBox 11"/>
          <p:cNvSpPr/>
          <p:nvPr/>
        </p:nvSpPr>
        <p:spPr>
          <a:xfrm>
            <a:off x="2286000" y="4343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5+4+5)/3=4.6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Прямоугольник 12" descr=""/>
          <p:cNvPicPr/>
          <p:nvPr/>
        </p:nvPicPr>
        <p:blipFill>
          <a:blip r:embed="rId2"/>
          <a:stretch/>
        </p:blipFill>
        <p:spPr>
          <a:xfrm>
            <a:off x="8077320" y="3352680"/>
            <a:ext cx="609480" cy="64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Улыбающееся лицо 1"/>
          <p:cNvSpPr/>
          <p:nvPr/>
        </p:nvSpPr>
        <p:spPr>
          <a:xfrm>
            <a:off x="1066680" y="1828800"/>
            <a:ext cx="2057400" cy="1828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Улыбающееся лицо 2"/>
          <p:cNvSpPr/>
          <p:nvPr/>
        </p:nvSpPr>
        <p:spPr>
          <a:xfrm>
            <a:off x="3733920" y="1828800"/>
            <a:ext cx="2057400" cy="1828800"/>
          </a:xfrm>
          <a:prstGeom prst="smileyFace">
            <a:avLst>
              <a:gd name="adj" fmla="val -2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Улыбающееся лицо 3"/>
          <p:cNvSpPr/>
          <p:nvPr/>
        </p:nvSpPr>
        <p:spPr>
          <a:xfrm>
            <a:off x="6248520" y="1905120"/>
            <a:ext cx="2057400" cy="182880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Прямоугольник 6" descr=""/>
          <p:cNvPicPr/>
          <p:nvPr/>
        </p:nvPicPr>
        <p:blipFill>
          <a:blip r:embed="rId1"/>
          <a:stretch/>
        </p:blipFill>
        <p:spPr>
          <a:xfrm>
            <a:off x="1603440" y="457200"/>
            <a:ext cx="6546960" cy="646200"/>
          </a:xfrm>
          <a:prstGeom prst="rect">
            <a:avLst/>
          </a:prstGeom>
          <a:ln w="0">
            <a:noFill/>
          </a:ln>
        </p:spPr>
      </p:pic>
      <p:pic>
        <p:nvPicPr>
          <p:cNvPr id="269" name="Прямоугольник 7" descr=""/>
          <p:cNvPicPr/>
          <p:nvPr/>
        </p:nvPicPr>
        <p:blipFill>
          <a:blip r:embed="rId2"/>
          <a:stretch/>
        </p:blipFill>
        <p:spPr>
          <a:xfrm>
            <a:off x="993600" y="3809880"/>
            <a:ext cx="2286000" cy="2676600"/>
          </a:xfrm>
          <a:prstGeom prst="rect">
            <a:avLst/>
          </a:prstGeom>
          <a:ln w="0">
            <a:noFill/>
          </a:ln>
        </p:spPr>
      </p:pic>
      <p:pic>
        <p:nvPicPr>
          <p:cNvPr id="270" name="Прямоугольник 8" descr=""/>
          <p:cNvPicPr/>
          <p:nvPr/>
        </p:nvPicPr>
        <p:blipFill>
          <a:blip r:embed="rId3"/>
          <a:stretch/>
        </p:blipFill>
        <p:spPr>
          <a:xfrm>
            <a:off x="6248520" y="3962520"/>
            <a:ext cx="2517480" cy="138420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9" descr=""/>
          <p:cNvPicPr/>
          <p:nvPr/>
        </p:nvPicPr>
        <p:blipFill>
          <a:blip r:embed="rId4"/>
          <a:stretch/>
        </p:blipFill>
        <p:spPr>
          <a:xfrm>
            <a:off x="3432240" y="3962520"/>
            <a:ext cx="2590560" cy="181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4"/>
          <p:cNvSpPr txBox="1"/>
          <p:nvPr/>
        </p:nvSpPr>
        <p:spPr>
          <a:xfrm>
            <a:off x="1523880" y="1905120"/>
            <a:ext cx="6324840" cy="19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1219320" y="6094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Цицерон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3505320" y="1752480"/>
            <a:ext cx="5257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“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Ошибаться может каждый, – оставаться при своей ошибке – только безумный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1143000" y="5638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</a:rPr>
              <a:t>Римский ора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7" descr="File:Ciceron.jpg"/>
          <p:cNvPicPr/>
          <p:nvPr/>
        </p:nvPicPr>
        <p:blipFill>
          <a:blip r:embed="rId1"/>
          <a:stretch/>
        </p:blipFill>
        <p:spPr>
          <a:xfrm>
            <a:off x="1066680" y="1676520"/>
            <a:ext cx="2514600" cy="36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http://www.bayjournal.com/images/article_images/large/2009-JulyAugust-3635-img-1.jpg"/>
          <p:cNvPicPr/>
          <p:nvPr/>
        </p:nvPicPr>
        <p:blipFill>
          <a:blip r:embed="rId1"/>
          <a:stretch/>
        </p:blipFill>
        <p:spPr>
          <a:xfrm>
            <a:off x="1066680" y="2514600"/>
            <a:ext cx="2584440" cy="32004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http://img0.liveinternet.ru/images/attach/c/1/54/663/54663680_Pierre_Bouguer__JeanBaptiste_Perronneau.jpg"/>
          <p:cNvPicPr/>
          <p:nvPr/>
        </p:nvPicPr>
        <p:blipFill>
          <a:blip r:embed="rId2"/>
          <a:stretch/>
        </p:blipFill>
        <p:spPr>
          <a:xfrm>
            <a:off x="6324480" y="2590920"/>
            <a:ext cx="2590920" cy="31240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914400" y="304920"/>
            <a:ext cx="350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Times New Roman"/>
              </a:rPr>
              <a:t>Историческая справ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6858000" y="38088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imes New Roman"/>
              </a:rPr>
              <a:t>Архимед (</a:t>
            </a:r>
            <a:r>
              <a:rPr b="0" lang="en-US" sz="2400" spc="-1" strike="noStrike">
                <a:solidFill>
                  <a:srgbClr val="92d05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92d050"/>
                </a:solidFill>
                <a:latin typeface="Times New Roman"/>
              </a:rPr>
              <a:t> в до н.э) указал границы 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914400" y="56386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imes New Roman"/>
              </a:rPr>
              <a:t>Т.Гарри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2d050"/>
                </a:solidFill>
                <a:latin typeface="Times New Roman"/>
              </a:rPr>
              <a:t>(1560 – 16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6172200" y="57150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imes New Roman"/>
              </a:rPr>
              <a:t>П.Буге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imes New Roman"/>
              </a:rPr>
              <a:t>(1698 – 175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10" descr="http://upload.wikimedia.org/wikipedia/commons/thumb/b/bf/Archimedes_%28Graphik%29.gif/220px-Archimedes_%28Graphik%29.gif"/>
          <p:cNvPicPr/>
          <p:nvPr/>
        </p:nvPicPr>
        <p:blipFill>
          <a:blip r:embed="rId3"/>
          <a:stretch/>
        </p:blipFill>
        <p:spPr>
          <a:xfrm>
            <a:off x="4343400" y="304920"/>
            <a:ext cx="2552760" cy="259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71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2805120" y="213120"/>
            <a:ext cx="353340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71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Прямоугольник 59" descr=""/>
          <p:cNvPicPr/>
          <p:nvPr/>
        </p:nvPicPr>
        <p:blipFill>
          <a:blip r:embed="rId1"/>
          <a:stretch/>
        </p:blipFill>
        <p:spPr>
          <a:xfrm>
            <a:off x="993600" y="55440"/>
            <a:ext cx="7845480" cy="16574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6"/>
          <p:cNvSpPr/>
          <p:nvPr/>
        </p:nvSpPr>
        <p:spPr>
          <a:xfrm>
            <a:off x="990720" y="1600200"/>
            <a:ext cx="7848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им функцию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ходим точки пересечения параболы с осью OX, для чего решаем уравн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ходим координаты вершины параболы (m; n), где m=-b/2a, n=y(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яем направление ветвей параб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оим параболу по точк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хематично изображаем параболу, не обозначая координат ее верши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помощью графика находим промежутки, в которых функция принимает положительные (отрицательные) зна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сываем отв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Рисунок 17" descr="http://festival.1september.ru/articles/410781/img10.gif"/>
          <p:cNvPicPr/>
          <p:nvPr/>
        </p:nvPicPr>
        <p:blipFill>
          <a:blip r:embed="rId2"/>
          <a:stretch/>
        </p:blipFill>
        <p:spPr>
          <a:xfrm>
            <a:off x="4724280" y="1676520"/>
            <a:ext cx="1447920" cy="3808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8" descr="http://festival.1september.ru/articles/410781/img12.gif"/>
          <p:cNvPicPr/>
          <p:nvPr/>
        </p:nvPicPr>
        <p:blipFill>
          <a:blip r:embed="rId3"/>
          <a:stretch/>
        </p:blipFill>
        <p:spPr>
          <a:xfrm>
            <a:off x="4800600" y="2438280"/>
            <a:ext cx="152388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990720" y="765000"/>
            <a:ext cx="790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d050"/>
                </a:solidFill>
                <a:latin typeface="Times New Roman"/>
              </a:rPr>
              <a:t>Метод интервал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7"/>
          <p:cNvSpPr/>
          <p:nvPr/>
        </p:nvSpPr>
        <p:spPr>
          <a:xfrm>
            <a:off x="1066680" y="1676520"/>
            <a:ext cx="7620120" cy="52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им функц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яем нули функции, для чего решаем урав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аем урав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мечаем на оси OX интервалы, на которые область определения разбивается нулями фун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оим график фун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яем знак функции на каждом интервале, чередуя «+»,«-», начиная справа со знака «+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ходим промежутки, в которых функция f(x) принимает положительные (отрицательные) зна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сываем отв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Рисунок 3" descr="http://festival.1september.ru/articles/410781/img13.gif"/>
          <p:cNvPicPr/>
          <p:nvPr/>
        </p:nvPicPr>
        <p:blipFill>
          <a:blip r:embed="rId1"/>
          <a:stretch/>
        </p:blipFill>
        <p:spPr>
          <a:xfrm>
            <a:off x="4648320" y="1676520"/>
            <a:ext cx="1447560" cy="3571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http://festival.1september.ru/articles/410781/img14.gif"/>
          <p:cNvPicPr/>
          <p:nvPr/>
        </p:nvPicPr>
        <p:blipFill>
          <a:blip r:embed="rId2"/>
          <a:stretch/>
        </p:blipFill>
        <p:spPr>
          <a:xfrm>
            <a:off x="3200400" y="2514600"/>
            <a:ext cx="1752480" cy="3808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5" descr="http://festival.1september.ru/articles/410781/img15.gif"/>
          <p:cNvPicPr/>
          <p:nvPr/>
        </p:nvPicPr>
        <p:blipFill>
          <a:blip r:embed="rId3"/>
          <a:stretch/>
        </p:blipFill>
        <p:spPr>
          <a:xfrm>
            <a:off x="4952880" y="2895480"/>
            <a:ext cx="1447920" cy="3574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6" descr="http://festival.1september.ru/articles/410781/img10.gif"/>
          <p:cNvPicPr/>
          <p:nvPr/>
        </p:nvPicPr>
        <p:blipFill>
          <a:blip r:embed="rId4"/>
          <a:stretch/>
        </p:blipFill>
        <p:spPr>
          <a:xfrm>
            <a:off x="5029200" y="3962520"/>
            <a:ext cx="1119240" cy="38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d050"/>
                </a:solidFill>
                <a:latin typeface="Times New Roman"/>
              </a:rPr>
              <a:t>Решите неравенство</a:t>
            </a:r>
            <a:r>
              <a:rPr b="0" lang="ru-RU" sz="4000" spc="-1" strike="noStrike">
                <a:solidFill>
                  <a:srgbClr val="92d050"/>
                </a:solidFill>
                <a:latin typeface="Times New Roman"/>
              </a:rPr>
              <a:t>:</a:t>
            </a:r>
            <a:br>
              <a:rPr sz="4000"/>
            </a:br>
            <a:r>
              <a:rPr b="0" i="1" lang="ru-RU" sz="4400" spc="-1" strike="noStrike">
                <a:solidFill>
                  <a:srgbClr val="221304"/>
                </a:solidFill>
                <a:latin typeface="Times New Roman"/>
              </a:rPr>
              <a:t>(х+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2</a:t>
            </a:r>
            <a:r>
              <a:rPr b="0" i="1" lang="ru-RU" sz="4400" spc="-1" strike="noStrike">
                <a:solidFill>
                  <a:srgbClr val="221304"/>
                </a:solidFill>
                <a:latin typeface="Times New Roman"/>
              </a:rPr>
              <a:t>)(х-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3</a:t>
            </a:r>
            <a:r>
              <a:rPr b="0" i="1" lang="ru-RU" sz="4400" spc="-1" strike="noStrike">
                <a:solidFill>
                  <a:srgbClr val="221304"/>
                </a:solidFill>
                <a:latin typeface="Times New Roman"/>
              </a:rPr>
              <a:t>)   0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3059280" y="5300640"/>
                <a:ext cx="18795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3"/>
              <p:cNvSpPr txBox="1"/>
              <p:nvPr/>
            </p:nvSpPr>
            <p:spPr>
              <a:xfrm>
                <a:off x="5003640" y="3789360"/>
                <a:ext cx="289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5310360" y="1282680"/>
                <a:ext cx="12603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5" name="Rectangle 4"/>
          <p:cNvSpPr/>
          <p:nvPr/>
        </p:nvSpPr>
        <p:spPr>
          <a:xfrm>
            <a:off x="3062520" y="2133000"/>
            <a:ext cx="23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611280" y="533628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2556720" y="522864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070520" y="364464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10"/>
          <p:cNvGrpSpPr/>
          <p:nvPr/>
        </p:nvGrpSpPr>
        <p:grpSpPr>
          <a:xfrm>
            <a:off x="899640" y="3283560"/>
            <a:ext cx="7777440" cy="1352880"/>
            <a:chOff x="899640" y="3283560"/>
            <a:chExt cx="7777440" cy="1352880"/>
          </a:xfrm>
        </p:grpSpPr>
        <mc:AlternateContent>
          <mc:Choice xmlns:a14="http://schemas.microsoft.com/office/drawing/2010/main" Requires="a14">
            <p:sp>
              <p:nvSpPr>
                <p:cNvPr id="171" name="Object 6"/>
                <p:cNvSpPr txBox="1"/>
                <p:nvPr/>
              </p:nvSpPr>
              <p:spPr>
                <a:xfrm>
                  <a:off x="5049000" y="3808800"/>
                  <a:ext cx="222120" cy="24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∘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Object 7"/>
                <p:cNvSpPr txBox="1"/>
                <p:nvPr/>
              </p:nvSpPr>
              <p:spPr>
                <a:xfrm>
                  <a:off x="2604600" y="3808800"/>
                  <a:ext cx="221760" cy="24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∘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73" name="Group 13"/>
            <p:cNvGrpSpPr/>
            <p:nvPr/>
          </p:nvGrpSpPr>
          <p:grpSpPr>
            <a:xfrm>
              <a:off x="974880" y="3646080"/>
              <a:ext cx="7702200" cy="973080"/>
              <a:chOff x="974880" y="3646080"/>
              <a:chExt cx="7702200" cy="973080"/>
            </a:xfrm>
          </p:grpSpPr>
          <p:sp>
            <p:nvSpPr>
              <p:cNvPr id="174" name="AutoShape 14"/>
              <p:cNvSpPr/>
              <p:nvPr/>
            </p:nvSpPr>
            <p:spPr>
              <a:xfrm>
                <a:off x="974880" y="3646080"/>
                <a:ext cx="7702200" cy="9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5"/>
              <p:cNvSpPr/>
              <p:nvPr/>
            </p:nvSpPr>
            <p:spPr>
              <a:xfrm>
                <a:off x="1125360" y="3960000"/>
                <a:ext cx="649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Rectangle 16"/>
            <p:cNvSpPr/>
            <p:nvPr/>
          </p:nvSpPr>
          <p:spPr>
            <a:xfrm>
              <a:off x="7127280" y="3771720"/>
              <a:ext cx="487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ru-RU" sz="4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7"/>
            <p:cNvSpPr/>
            <p:nvPr/>
          </p:nvSpPr>
          <p:spPr>
            <a:xfrm>
              <a:off x="2386440" y="3933000"/>
              <a:ext cx="662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8"/>
            <p:cNvSpPr/>
            <p:nvPr/>
          </p:nvSpPr>
          <p:spPr>
            <a:xfrm>
              <a:off x="4973760" y="3933000"/>
              <a:ext cx="643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AutoShape 19"/>
            <p:cNvSpPr/>
            <p:nvPr/>
          </p:nvSpPr>
          <p:spPr>
            <a:xfrm rot="5400000">
              <a:off x="3773880" y="2460240"/>
              <a:ext cx="325800" cy="2370600"/>
            </a:xfrm>
            <a:custGeom>
              <a:avLst/>
              <a:gdLst>
                <a:gd name="textAreaLeft" fmla="*/ 95760 w 325800"/>
                <a:gd name="textAreaRight" fmla="*/ 326160 w 325800"/>
                <a:gd name="textAreaTop" fmla="*/ 98640 h 2370600"/>
                <a:gd name="textAreaBottom" fmla="*/ 2271960 h 237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AutoShape 20"/>
            <p:cNvCxnSpPr/>
            <p:nvPr/>
          </p:nvCxnSpPr>
          <p:spPr>
            <a:xfrm flipV="1">
              <a:off x="5122440" y="3402000"/>
              <a:ext cx="2146320" cy="406800"/>
            </a:xfrm>
            <a:prstGeom prst="curvedConnector5">
              <a:avLst>
                <a:gd name="adj1" fmla="val 1744"/>
                <a:gd name="adj2" fmla="val 49955"/>
                <a:gd name="adj3" fmla="val 17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AutoShape 21"/>
            <p:cNvCxnSpPr/>
            <p:nvPr/>
          </p:nvCxnSpPr>
          <p:spPr>
            <a:xfrm rot="10800000">
              <a:off x="899280" y="3401640"/>
              <a:ext cx="1852560" cy="405000"/>
            </a:xfrm>
            <a:prstGeom prst="curvedConnector5">
              <a:avLst>
                <a:gd name="adj1" fmla="val 1574"/>
                <a:gd name="adj2" fmla="val 50000"/>
                <a:gd name="adj3" fmla="val 15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2" name="Rectangle 22"/>
            <p:cNvSpPr/>
            <p:nvPr/>
          </p:nvSpPr>
          <p:spPr>
            <a:xfrm>
              <a:off x="1348920" y="3360960"/>
              <a:ext cx="54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ru-RU" sz="1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23"/>
            <p:cNvSpPr/>
            <p:nvPr/>
          </p:nvSpPr>
          <p:spPr>
            <a:xfrm>
              <a:off x="6089040" y="3360960"/>
              <a:ext cx="54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24"/>
            <p:cNvSpPr/>
            <p:nvPr/>
          </p:nvSpPr>
          <p:spPr>
            <a:xfrm>
              <a:off x="3714840" y="3283560"/>
              <a:ext cx="5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ru-RU" sz="4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25"/>
            <p:cNvSpPr/>
            <p:nvPr/>
          </p:nvSpPr>
          <p:spPr>
            <a:xfrm>
              <a:off x="3792600" y="3661920"/>
              <a:ext cx="215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6" name="Object 5"/>
              <p:cNvSpPr txBox="1"/>
              <p:nvPr/>
            </p:nvSpPr>
            <p:spPr>
              <a:xfrm>
                <a:off x="3124080" y="5257800"/>
                <a:ext cx="23623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1523880" y="9907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d050"/>
                </a:solidFill>
                <a:latin typeface="Times New Roman"/>
              </a:rPr>
              <a:t>Виды неравенств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2"/>
          <p:cNvSpPr/>
          <p:nvPr/>
        </p:nvSpPr>
        <p:spPr>
          <a:xfrm>
            <a:off x="2743200" y="19810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ого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строг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295280" y="24382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ки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≤       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990720" y="30481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бра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Прямая со стрелкой 7"/>
          <p:cNvCxnSpPr/>
          <p:nvPr/>
        </p:nvCxnSpPr>
        <p:spPr>
          <a:xfrm>
            <a:off x="2971800" y="3809520"/>
            <a:ext cx="1905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2" name="Прямая со стрелкой 9"/>
          <p:cNvCxnSpPr/>
          <p:nvPr/>
        </p:nvCxnSpPr>
        <p:spPr>
          <a:xfrm>
            <a:off x="5943600" y="3809520"/>
            <a:ext cx="1905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3" name="Блок-схема: узел 10"/>
          <p:cNvSpPr/>
          <p:nvPr/>
        </p:nvSpPr>
        <p:spPr>
          <a:xfrm>
            <a:off x="3657600" y="3733920"/>
            <a:ext cx="15228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Блок-схема: узел 12"/>
          <p:cNvSpPr/>
          <p:nvPr/>
        </p:nvSpPr>
        <p:spPr>
          <a:xfrm>
            <a:off x="6781680" y="3733920"/>
            <a:ext cx="15264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990720" y="43434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б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(       )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[      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86a5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086a5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1"/>
          <p:cNvGraphicFramePr/>
          <p:nvPr/>
        </p:nvGraphicFramePr>
        <p:xfrm>
          <a:off x="5029200" y="1523880"/>
          <a:ext cx="37339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523880"/>
                    <a:ext cx="37339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7"/>
          <p:cNvSpPr/>
          <p:nvPr/>
        </p:nvSpPr>
        <p:spPr>
          <a:xfrm>
            <a:off x="4321440" y="-130320"/>
            <a:ext cx="500760" cy="26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71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571200" y="41040"/>
            <a:ext cx="2001600" cy="26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71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1"/>
          <p:cNvSpPr/>
          <p:nvPr/>
        </p:nvSpPr>
        <p:spPr>
          <a:xfrm>
            <a:off x="914400" y="1981080"/>
            <a:ext cx="39625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исунке изображен график 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=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-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я график, решите неравенств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-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2"/>
          <p:cNvSpPr/>
          <p:nvPr/>
        </p:nvSpPr>
        <p:spPr>
          <a:xfrm>
            <a:off x="762120" y="51814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3; ∞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9"/>
          <p:cNvSpPr/>
          <p:nvPr/>
        </p:nvSpPr>
        <p:spPr>
          <a:xfrm>
            <a:off x="2514600" y="5257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(-∞;-2)U(3; ∞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1219320" y="52578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71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Object 1"/>
          <p:cNvGraphicFramePr/>
          <p:nvPr/>
        </p:nvGraphicFramePr>
        <p:xfrm>
          <a:off x="5562720" y="1676520"/>
          <a:ext cx="29718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676520"/>
                    <a:ext cx="2971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Box 3"/>
          <p:cNvSpPr/>
          <p:nvPr/>
        </p:nvSpPr>
        <p:spPr>
          <a:xfrm>
            <a:off x="1219320" y="2209680"/>
            <a:ext cx="4114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исунке изображен график 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=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я график, решите неравенств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≤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3200400" y="525780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-1;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2209680" y="53341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3200400" y="518148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[-2;0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9-12-02T17:28:40Z</dcterms:modified>
  <cp:revision>1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