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8B8-6F90-448C-A4E8-23C98EE8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C4A-1001-41F2-A8F7-3BD21936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C38-1235-4BAC-AAFA-5C42C4D4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456-FF14-4AE8-BAAD-8473E0A7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404-6C9B-4B5D-AB73-56B7FA7F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C15-1C73-440F-9029-169F264B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17A-C5A5-46DA-94CE-9B9756F0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743-B157-4738-8350-61FDB94F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7F5-D80E-4B1C-AD28-F619F1D4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F6C-A87B-4005-AF4A-A26BDCAD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4D9-0CB4-4E2C-B090-0B495CB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A3D-714D-4698-96F9-F88C3EA1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8D1A-180E-4856-848B-AD86911AD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3/4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90а"/>
          <p:cNvPicPr/>
          <p:nvPr/>
        </p:nvPicPr>
        <p:blipFill>
          <a:blip r:embed="rId1"/>
          <a:stretch/>
        </p:blipFill>
        <p:spPr>
          <a:xfrm>
            <a:off x="-685800" y="0"/>
            <a:ext cx="9829800" cy="7337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"/>
              </a:rPr>
              <a:t>Тема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8195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comic"/>
              </a:rPr>
              <a:t>« Образование славянских государст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152280"/>
            <a:ext cx="8534520" cy="838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Средних веков, 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ающимся правителем Болгарии был князь Симеон. Он был образованным, энергичным, честолюбивым мечтал о подчинении всего Балканского полуострова, о захвате императорского трона Виз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File:Simeonipainting.jpg"/>
          <p:cNvPicPr/>
          <p:nvPr/>
        </p:nvPicPr>
        <p:blipFill>
          <a:blip r:embed="rId2"/>
          <a:stretch/>
        </p:blipFill>
        <p:spPr>
          <a:xfrm>
            <a:off x="228600" y="1523880"/>
            <a:ext cx="4154400" cy="49532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152280" y="152280"/>
            <a:ext cx="8763120" cy="1295640"/>
          </a:xfrm>
          <a:prstGeom prst="roundRect">
            <a:avLst>
              <a:gd name="adj" fmla="val 16667"/>
            </a:avLst>
          </a:prstGeom>
          <a:solidFill>
            <a:srgbClr val="8ade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лгарское государ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228600" y="6019920"/>
            <a:ext cx="4114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еон I Вели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чале XI века византийский император Василий II, прозванный Болгаробойца, почти ежегодно совершал походы в Болгар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олгарское государ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Василий II Болгаробойца"/>
          <p:cNvPicPr/>
          <p:nvPr/>
        </p:nvPicPr>
        <p:blipFill>
          <a:blip r:embed="rId2"/>
          <a:stretch/>
        </p:blipFill>
        <p:spPr>
          <a:xfrm>
            <a:off x="304920" y="1523880"/>
            <a:ext cx="407016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943600"/>
            <a:ext cx="4114800" cy="914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II Болгаробо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убил ок.100 тыс. болгар, 14 тыс. было  ослеплено и в качестве устрашения отправлено до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болгарский царь увидел слепых, то он скончался от разрыва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018 году Византия      полностью подчинила Болгар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6120" y="213480"/>
            <a:ext cx="8258760" cy="114228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олгарское государ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1"/>
          <p:cNvPicPr/>
          <p:nvPr/>
        </p:nvPicPr>
        <p:blipFill>
          <a:blip r:embed="rId2"/>
          <a:stretch/>
        </p:blipFill>
        <p:spPr>
          <a:xfrm>
            <a:off x="380880" y="1523880"/>
            <a:ext cx="382932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7" name="Rectangle 8"/>
          <p:cNvSpPr/>
          <p:nvPr/>
        </p:nvSpPr>
        <p:spPr>
          <a:xfrm>
            <a:off x="228600" y="6172200"/>
            <a:ext cx="4114800" cy="68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леплённые болг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1640" y="1447560"/>
            <a:ext cx="44197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ервой половин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 в долине реки Моравы возникло государство западных славян — 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Великоморавская держава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ервых порах оно подчинялось франкам, а после распада империи Карла Великого — Германии. Князья платили ей дань и приняли христианство от немецких епископов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затем добилась не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Рисунок8"/>
          <p:cNvPicPr/>
          <p:nvPr/>
        </p:nvPicPr>
        <p:blipFill>
          <a:blip r:embed="rId2"/>
          <a:stretch/>
        </p:blipFill>
        <p:spPr>
          <a:xfrm>
            <a:off x="152280" y="1447920"/>
            <a:ext cx="4419720" cy="4267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1576800" y="5715000"/>
            <a:ext cx="29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ликоморав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рж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борьбы с Германией один из моравских князей заключил против нее союз с Византией. Чтобы освободить церковь от влияния немецкого духовенства, он просил направить в Моравию миссионеров для проповеди христианства на родном для славян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250px-Kyrill%26Method"/>
          <p:cNvPicPr/>
          <p:nvPr/>
        </p:nvPicPr>
        <p:blipFill>
          <a:blip r:embed="rId2"/>
          <a:stretch/>
        </p:blipFill>
        <p:spPr>
          <a:xfrm>
            <a:off x="304920" y="1676520"/>
            <a:ext cx="3797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1640" y="14479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ми славянскими просветителями стали ученые монахи — болгары из Византии братья </a:t>
            </a:r>
            <a:r>
              <a:rPr b="1" lang="ru-RU" sz="2400" spc="-1" strike="noStrike">
                <a:solidFill>
                  <a:srgbClr val="ed3d0d"/>
                </a:solidFill>
                <a:latin typeface="Arial"/>
              </a:rPr>
              <a:t>Кирилл и Мефод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Кирилл преподавал философию, знал языки разных народов. Мефодий, хороший организатор, около 10 лет управлял византийской областью. Затем он принял монашество и вскоре возглавил монасты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Рисунок9"/>
          <p:cNvPicPr/>
          <p:nvPr/>
        </p:nvPicPr>
        <p:blipFill>
          <a:blip r:embed="rId2"/>
          <a:stretch/>
        </p:blipFill>
        <p:spPr>
          <a:xfrm>
            <a:off x="0" y="1905120"/>
            <a:ext cx="45720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343040" y="14479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ed3d0d"/>
                </a:solidFill>
                <a:latin typeface="Arial"/>
              </a:rPr>
              <a:t>863 год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ратья были направлены в Великоморавскую державу. Перед отъездом Кирилл на основе греческого алфавита создал славянскую письменность. С помощью Мефодия он перевел на славянский язык несколько богослужебных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оравии братья построили храмы, открыли школу для подготовки священников из местных ж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Рисунок10"/>
          <p:cNvPicPr/>
          <p:nvPr/>
        </p:nvPicPr>
        <p:blipFill>
          <a:blip r:embed="rId2"/>
          <a:stretch/>
        </p:blipFill>
        <p:spPr>
          <a:xfrm>
            <a:off x="228600" y="1523880"/>
            <a:ext cx="4114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14800" y="15235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смерти братьев немецкое духовенство начало гонения на их учеников. Некоторые ученики нашли приют в Болгарии. Здесь они продолжали переводить греческие религиозные книги, способствовали подъему болгарской литера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3d0d"/>
                </a:solidFill>
                <a:latin typeface="Arial"/>
              </a:rPr>
              <a:t>Из Болгарии славянская письменность перешла на Ру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File:Памятник Кириллу и Мефодию в Одессе.jpg"/>
          <p:cNvPicPr/>
          <p:nvPr/>
        </p:nvPicPr>
        <p:blipFill>
          <a:blip r:embed="rId2"/>
          <a:stretch/>
        </p:blipFill>
        <p:spPr>
          <a:xfrm>
            <a:off x="228600" y="1523880"/>
            <a:ext cx="3654360" cy="48769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152280" y="5715000"/>
            <a:ext cx="4038840" cy="7621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Кириллу и Мефод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1640" y="14479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тельная борьба с королями Германии ослабила Велико-моравскую державу. Пользуясь этим, венгры в </a:t>
            </a:r>
            <a:r>
              <a:rPr b="1" lang="ru-RU" sz="2800" spc="-1" strike="noStrike">
                <a:solidFill>
                  <a:srgbClr val="ed3d0d"/>
                </a:solidFill>
                <a:latin typeface="Arial"/>
              </a:rPr>
              <a:t>90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оду нанесли ей поражение и захватили часть ее земель. Великоморавская держава распалась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ликоморавская держ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Рисунок11"/>
          <p:cNvPicPr/>
          <p:nvPr/>
        </p:nvPicPr>
        <p:blipFill>
          <a:blip r:embed="rId2"/>
          <a:stretch/>
        </p:blipFill>
        <p:spPr>
          <a:xfrm>
            <a:off x="152280" y="1676520"/>
            <a:ext cx="4191120" cy="2781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152280" y="4495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инственный сохранивший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мят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ликоморав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рж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1640" y="14479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е образовалось государство восточных славян — </a:t>
            </a:r>
            <a:r>
              <a:rPr b="1" i="1" lang="ru-RU" sz="2800" spc="-1" strike="noStrike">
                <a:solidFill>
                  <a:srgbClr val="ed3d0d"/>
                </a:solidFill>
                <a:latin typeface="Arial"/>
              </a:rPr>
              <a:t>Киевская Русь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ое, постепенно разрастаясь и укрепляясь, превратилось в сильное </a:t>
            </a:r>
            <a:r>
              <a:rPr b="1" i="1" lang="ru-RU" sz="2800" spc="-1" strike="noStrike">
                <a:solidFill>
                  <a:srgbClr val="ed3d0d"/>
                </a:solidFill>
                <a:latin typeface="Arial"/>
              </a:rPr>
              <a:t>Древнерусское государств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ние Чехии и Польш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Рисунок12"/>
          <p:cNvPicPr/>
          <p:nvPr/>
        </p:nvPicPr>
        <p:blipFill>
          <a:blip r:embed="rId2"/>
          <a:stretch/>
        </p:blipFill>
        <p:spPr>
          <a:xfrm>
            <a:off x="152280" y="175248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Расселение славя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Занятия и образ жизни славя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Болгарское государ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Великоморавская держ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Образование Чехии и Польш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1640" y="14479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распавшейся Великоморавской державы выделилось 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Чешское государств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085 году чешский князь принял титул короля — влияние Чехии в Европе возро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ние Польши и Чех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Рисунок7"/>
          <p:cNvPicPr/>
          <p:nvPr/>
        </p:nvPicPr>
        <p:blipFill>
          <a:blip r:embed="rId2"/>
          <a:stretch/>
        </p:blipFill>
        <p:spPr>
          <a:xfrm>
            <a:off x="152280" y="1590840"/>
            <a:ext cx="2448000" cy="3676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Рисунок6"/>
          <p:cNvPicPr/>
          <p:nvPr/>
        </p:nvPicPr>
        <p:blipFill>
          <a:blip r:embed="rId3"/>
          <a:stretch/>
        </p:blipFill>
        <p:spPr>
          <a:xfrm>
            <a:off x="2475000" y="3048120"/>
            <a:ext cx="2097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0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114800" y="1447920"/>
            <a:ext cx="502920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второй половин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 польский князь </a:t>
            </a:r>
            <a:r>
              <a:rPr b="1" lang="ru-RU" sz="2400" spc="-1" strike="noStrike">
                <a:solidFill>
                  <a:srgbClr val="ed3d0d"/>
                </a:solidFill>
                <a:latin typeface="Arial"/>
              </a:rPr>
              <a:t>Мешко 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960—992) подчинил себе племена, обосновавшиеся вдоль реки 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Висл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положил начало 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Польскому государств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257800" y="5365800"/>
            <a:ext cx="36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нязь Мешк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Мешко I"/>
          <p:cNvPicPr/>
          <p:nvPr/>
        </p:nvPicPr>
        <p:blipFill>
          <a:blip r:embed="rId2"/>
          <a:stretch/>
        </p:blipFill>
        <p:spPr>
          <a:xfrm>
            <a:off x="152280" y="1523880"/>
            <a:ext cx="4038840" cy="4953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513000" y="28404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ние Польши и Че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114440" y="1447920"/>
            <a:ext cx="480060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динение Польши завершилось в годы правления </a:t>
            </a:r>
            <a:r>
              <a:rPr b="1" lang="ru-RU" sz="2400" spc="-1" strike="noStrike">
                <a:solidFill>
                  <a:srgbClr val="ed3d0d"/>
                </a:solidFill>
                <a:latin typeface="Arial"/>
              </a:rPr>
              <a:t>Болеслава </a:t>
            </a:r>
            <a:r>
              <a:rPr b="1" lang="en-US" sz="2400" spc="-1" strike="noStrike">
                <a:solidFill>
                  <a:srgbClr val="ed3d0d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ed3d0d"/>
                </a:solidFill>
                <a:latin typeface="Arial"/>
              </a:rPr>
              <a:t>Храбр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992—1025). В город 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Краков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крупный торговый центр на пути из Киева в Прагу — была перенесена столица Поль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3000" y="28404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ние Польши и Че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File:Jan Bogumił Jacobi - Bolesław Chrobry.jpg"/>
          <p:cNvPicPr/>
          <p:nvPr/>
        </p:nvPicPr>
        <p:blipFill>
          <a:blip r:embed="rId2"/>
          <a:stretch/>
        </p:blipFill>
        <p:spPr>
          <a:xfrm>
            <a:off x="228600" y="1600200"/>
            <a:ext cx="3581280" cy="47242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228600" y="5943600"/>
            <a:ext cx="3581280" cy="6094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слав I Храб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8adef2"/>
          </a:solidFill>
          <a:ln w="2844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ние Польши и Че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952880" y="4648320"/>
            <a:ext cx="4038840" cy="7617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н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слава I Храбр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300px-Koronacja_Chrobrego_Matejko"/>
          <p:cNvPicPr/>
          <p:nvPr/>
        </p:nvPicPr>
        <p:blipFill>
          <a:blip r:embed="rId2"/>
          <a:stretch/>
        </p:blipFill>
        <p:spPr>
          <a:xfrm>
            <a:off x="228600" y="1600200"/>
            <a:ext cx="4419720" cy="4724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9"/>
          <p:cNvSpPr/>
          <p:nvPr/>
        </p:nvSpPr>
        <p:spPr>
          <a:xfrm>
            <a:off x="4572000" y="144792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задолго до смерти Болеслав был провозглашен королем Поль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редин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 Польша вступила в полосу феодальной раздробл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0" y="144792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древнейших времен в Прибалтике, в Центральной и Восточной Европе, к востоку от германцев, жил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лавян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е славяне занимали обширные пространства от Лабы (Эльбы) на западе до среднего течения Днепра на востоке, от Балтийского моря на севере до Дуная и Черного моря на ю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80880" y="228600"/>
            <a:ext cx="8382240" cy="1219320"/>
          </a:xfrm>
          <a:prstGeom prst="roundRect">
            <a:avLst>
              <a:gd name="adj" fmla="val 16667"/>
            </a:avLst>
          </a:prstGeom>
          <a:solidFill>
            <a:srgbClr val="8ade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сселение славя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Рисунок1"/>
          <p:cNvPicPr/>
          <p:nvPr/>
        </p:nvPicPr>
        <p:blipFill>
          <a:blip r:embed="rId3"/>
          <a:stretch/>
        </p:blipFill>
        <p:spPr>
          <a:xfrm>
            <a:off x="233280" y="1523880"/>
            <a:ext cx="433872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nton\Desktop\20_Slaviane_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380880" y="228600"/>
            <a:ext cx="8382240" cy="1219320"/>
          </a:xfrm>
          <a:prstGeom prst="roundRect">
            <a:avLst>
              <a:gd name="adj" fmla="val 16667"/>
            </a:avLst>
          </a:prstGeom>
          <a:solidFill>
            <a:srgbClr val="8ade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сселение славя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059280" y="1600200"/>
            <a:ext cx="302400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авянские пле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 rot="8122200">
            <a:off x="2209320" y="19810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 rot="5400000">
            <a:off x="4156560" y="2153160"/>
            <a:ext cx="830520" cy="486000"/>
          </a:xfrm>
          <a:custGeom>
            <a:avLst/>
            <a:gdLst>
              <a:gd name="textAreaLeft" fmla="*/ 129600 w 830520"/>
              <a:gd name="textAreaRight" fmla="*/ 726840 w 8305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 rot="2700000">
            <a:off x="5926320" y="1998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33520" y="2606760"/>
            <a:ext cx="244764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дные слав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456000" y="2819520"/>
            <a:ext cx="223200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Южные слав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6172200" y="2606760"/>
            <a:ext cx="2590920" cy="825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  <a:ea typeface="Arial"/>
              </a:rPr>
              <a:t>Восточные слав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304920" y="3657600"/>
            <a:ext cx="35049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я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ов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абские племена (р. Лаб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морские племена (побережье Балтийского мор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3733920" y="4038480"/>
            <a:ext cx="2520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г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р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орва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6477120" y="3886200"/>
            <a:ext cx="2376360" cy="18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ки трех родственных народ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с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раин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90а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ми занятиями славян были -земледелие (пшеница, рож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то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ме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тничество-сбор меда диких пчел и вос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вяне селились по берегам рек, которые были лучшими «дорогами», и торго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52280" y="152280"/>
            <a:ext cx="8763120" cy="1295640"/>
          </a:xfrm>
          <a:prstGeom prst="roundRect">
            <a:avLst>
              <a:gd name="adj" fmla="val 16667"/>
            </a:avLst>
          </a:prstGeom>
          <a:solidFill>
            <a:srgbClr val="8ade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нятия и образ жиз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лавя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C:\Users\Anton\Desktop\nar1.jpeg"/>
          <p:cNvPicPr/>
          <p:nvPr/>
        </p:nvPicPr>
        <p:blipFill>
          <a:blip r:embed="rId2"/>
          <a:stretch/>
        </p:blipFill>
        <p:spPr>
          <a:xfrm>
            <a:off x="103320" y="1600200"/>
            <a:ext cx="44686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153036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важные вопросы в племени решало народное собрание — 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веч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т слова «вещать» — говорить со знанием де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52280" y="152280"/>
            <a:ext cx="8763120" cy="1295640"/>
          </a:xfrm>
          <a:prstGeom prst="roundRect">
            <a:avLst>
              <a:gd name="adj" fmla="val 16667"/>
            </a:avLst>
          </a:prstGeom>
          <a:solidFill>
            <a:srgbClr val="8ade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нятия и образ жиз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лавя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C:\Users\Anton\Desktop\kopnoe_i_vechevoe_Pravo_w.jpg"/>
          <p:cNvPicPr/>
          <p:nvPr/>
        </p:nvPicPr>
        <p:blipFill>
          <a:blip r:embed="rId2"/>
          <a:srcRect l="10923" t="8752" r="11496" b="12921"/>
          <a:stretch/>
        </p:blipFill>
        <p:spPr>
          <a:xfrm>
            <a:off x="1676520" y="2743200"/>
            <a:ext cx="59436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главе племен стояли военные вожди  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князь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их в подчинении были конные дружины. Совершая набеги и нападения на соседей, князья и их дружинники захватывали рабов-пленников, скот, различные ц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Рисунок2"/>
          <p:cNvPicPr/>
          <p:nvPr/>
        </p:nvPicPr>
        <p:blipFill>
          <a:blip r:embed="rId2"/>
          <a:stretch/>
        </p:blipFill>
        <p:spPr>
          <a:xfrm>
            <a:off x="457200" y="1930320"/>
            <a:ext cx="4038480" cy="38638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7"/>
          <p:cNvSpPr/>
          <p:nvPr/>
        </p:nvSpPr>
        <p:spPr>
          <a:xfrm>
            <a:off x="152280" y="152280"/>
            <a:ext cx="8763120" cy="1295640"/>
          </a:xfrm>
          <a:prstGeom prst="roundRect">
            <a:avLst>
              <a:gd name="adj" fmla="val 16667"/>
            </a:avLst>
          </a:prstGeom>
          <a:solidFill>
            <a:srgbClr val="8ade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нятия и образ жиз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лавя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447920" y="571500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нязь с друж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9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4266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второй половин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 славяне, поселившиеся на землях по нижнему течению Дуная, к северу от Балканского хребта, были завоеваны кочевникам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ed3d0d"/>
                </a:solidFill>
                <a:latin typeface="Arial"/>
              </a:rPr>
              <a:t>болгарам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юрками по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хожд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52280" y="152280"/>
            <a:ext cx="8763120" cy="1295640"/>
          </a:xfrm>
          <a:prstGeom prst="roundRect">
            <a:avLst>
              <a:gd name="adj" fmla="val 16667"/>
            </a:avLst>
          </a:prstGeom>
          <a:solidFill>
            <a:srgbClr val="8ade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лгарское государ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3"/>
          <p:cNvPicPr/>
          <p:nvPr/>
        </p:nvPicPr>
        <p:blipFill>
          <a:blip r:embed="rId2"/>
          <a:stretch/>
        </p:blipFill>
        <p:spPr>
          <a:xfrm>
            <a:off x="304920" y="1600200"/>
            <a:ext cx="4267080" cy="221940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pic>
        <p:nvPicPr>
          <p:cNvPr id="82" name="Picture 8" descr="1"/>
          <p:cNvPicPr/>
          <p:nvPr/>
        </p:nvPicPr>
        <p:blipFill>
          <a:blip r:embed="rId3"/>
          <a:stretch/>
        </p:blipFill>
        <p:spPr>
          <a:xfrm>
            <a:off x="4724280" y="1600200"/>
            <a:ext cx="4114800" cy="2584440"/>
          </a:xfrm>
          <a:prstGeom prst="rect">
            <a:avLst/>
          </a:prstGeom>
          <a:ln w="442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</cp:lastModifiedBy>
  <dcterms:modified xsi:type="dcterms:W3CDTF">2017-10-17T13:05:3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