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47E-ADFE-4A14-A697-1608AE43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AA6-9368-433C-86A9-AABD3B54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99F-0CE9-4DBF-B705-39BC76EC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0D8-7CDE-4911-B79B-B8DB276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2380-9612-426B-B11A-70657AFB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F11-4AB6-46A0-9DDC-A717CFC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A0A-DA8E-40F6-9BFD-C9CEAE36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E6C0-66C5-4B00-BD4B-61005198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4D3-6D15-4783-A5CE-6A9F4184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3C16-FA46-4997-8A31-5F4C355F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5F09-341A-4214-BD69-434C7A94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A4D-F1F0-417C-BE6B-0C9471D1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F3D1-9581-48D1-B7B8-061D4A6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418-24DA-41B7-A3B3-1A2B413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0962-DA8D-4C04-ABCC-DD97A1E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58AC-334B-4549-A74D-85DC937D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E221-EB04-43D2-A48F-3BEA29C8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0DE-55FF-4793-8EB4-6D8E8EA2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572-7CB5-4EA6-9D21-5DDD770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3CA-9037-4EF5-BE53-E724338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BE6-4B0A-4E32-BC3B-1969DC8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11C-0DA6-4CFC-9433-BA20DD3F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B7E-A52F-4769-A491-A374CB4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EF5-1C09-4941-8A88-604204AB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64F-D5C1-4A22-9317-1BC0FEC7D0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E20-C4AD-4E04-A61B-9B51AA10EDF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280" y="620640"/>
            <a:ext cx="753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вая помощь при ожога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ях и кровотеч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97856722_3347825_"/>
          <p:cNvPicPr/>
          <p:nvPr/>
        </p:nvPicPr>
        <p:blipFill>
          <a:blip r:embed="rId1"/>
          <a:stretch/>
        </p:blipFill>
        <p:spPr>
          <a:xfrm>
            <a:off x="1403280" y="2133720"/>
            <a:ext cx="59040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635280" y="2060640"/>
            <a:ext cx="550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стоп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це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814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24360" y="191628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первого пальца стопы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390840" cy="6556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643280" y="2060640"/>
            <a:ext cx="35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3066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564000" y="2060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76720" y="1700280"/>
            <a:ext cx="558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мор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степени ( стадия сухой гангрены и отторжения омертвевших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95280" y="692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рвая помощь при обмороже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сладко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ит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Согреть пострадавшего укутав 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ея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Наложить стерильную повяз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465300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льзя растирать пораженные участки снегом или шерстяной ткан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ровотеч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ровотечения – 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литие крови из кровеносных сосудов при нарушении целостности их стенк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асность кровотечения заключается в том, что оно может привести к значительной кровопотере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теря 40 -50% крови приводит к смерти человека. Поэтому очень важно знать как остановить кровотечени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286920"/>
            <a:ext cx="76996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иды кровотечени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22920" y="1643040"/>
            <a:ext cx="2953440" cy="7693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7"/>
          <p:cNvSpPr/>
          <p:nvPr/>
        </p:nvSpPr>
        <p:spPr>
          <a:xfrm rot="6703200">
            <a:off x="1739520" y="2805120"/>
            <a:ext cx="1214640" cy="303120"/>
          </a:xfrm>
          <a:prstGeom prst="rightArrow">
            <a:avLst>
              <a:gd name="adj1" fmla="val 50000"/>
              <a:gd name="adj2" fmla="val 152400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39640" y="3645000"/>
            <a:ext cx="3071880" cy="571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пилляр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7"/>
          <p:cNvSpPr/>
          <p:nvPr/>
        </p:nvSpPr>
        <p:spPr>
          <a:xfrm rot="5400000">
            <a:off x="3685680" y="3306600"/>
            <a:ext cx="1643040" cy="303480"/>
          </a:xfrm>
          <a:prstGeom prst="rightArrow">
            <a:avLst>
              <a:gd name="adj1" fmla="val 50000"/>
              <a:gd name="adj2" fmla="val 152193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2916360" y="4437000"/>
            <a:ext cx="3143160" cy="642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ртериаль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7"/>
          <p:cNvSpPr/>
          <p:nvPr/>
        </p:nvSpPr>
        <p:spPr>
          <a:xfrm rot="3579000">
            <a:off x="5866560" y="2848680"/>
            <a:ext cx="1143000" cy="303120"/>
          </a:xfrm>
          <a:prstGeom prst="rightArrow">
            <a:avLst>
              <a:gd name="adj1" fmla="val 50000"/>
              <a:gd name="adj2" fmla="val 152367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5796000" y="3645000"/>
            <a:ext cx="3000240" cy="50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нозное крово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пилляр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Содержимое 2" descr=""/>
          <p:cNvPicPr/>
          <p:nvPr/>
        </p:nvPicPr>
        <p:blipFill>
          <a:blip r:embed="rId1"/>
          <a:stretch/>
        </p:blipFill>
        <p:spPr>
          <a:xfrm>
            <a:off x="457200" y="2470320"/>
            <a:ext cx="822960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Первая помощь при капиллярном кровотечении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Содержимое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териальное кровотече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вь выбрасывается струей, часто толчкообразно (пульсирует), цвет ее ярко-красный. Артериальное наружное кровотечение наиболее значительное и быстро приводит к острому малокровию: нарастающая бледность, частый и малый пульс, прогрессирующее снижение артериального давления, головокружение, потемнение в глазах, тошнота, рвота, обморок. Такое обескровливание мозга вызывает смерть из-за кислородного голодания, нарушения функций мозга и сердечно-сосудистой сист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54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692280"/>
            <a:ext cx="8424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– обожженное место на ткани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и возникают при воздействии высоких температу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xresdefault"/>
          <p:cNvPicPr/>
          <p:nvPr/>
        </p:nvPicPr>
        <p:blipFill>
          <a:blip r:embed="rId1"/>
          <a:stretch/>
        </p:blipFill>
        <p:spPr>
          <a:xfrm>
            <a:off x="6443640" y="4438800"/>
            <a:ext cx="23050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http://zdorovye.net/files/2010/05/3.jpg"/>
          <p:cNvPicPr/>
          <p:nvPr/>
        </p:nvPicPr>
        <p:blipFill>
          <a:blip r:embed="rId1"/>
          <a:stretch/>
        </p:blipFill>
        <p:spPr>
          <a:xfrm>
            <a:off x="1440" y="333360"/>
            <a:ext cx="2986200" cy="6524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840200" y="1668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3348000" y="1268280"/>
            <a:ext cx="57960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 человека началось артериальное кровотечение, то необходимо зажать сосуд выше места ранения в тех местах, где прощупывается пуль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276720" y="4508640"/>
            <a:ext cx="286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 - вис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2 - затыло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3 - нижнечелюст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4 - пра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5 - левая общая со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6 - подключи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7 - подмышеч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8 - пле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9 - луч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0 - локте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1 -</a:t>
            </a:r>
            <a:r>
              <a:rPr b="0" lang="ru-RU" sz="900" spc="-1" strike="noStrike">
                <a:solidFill>
                  <a:srgbClr val="3e3e3e"/>
                </a:solidFill>
                <a:latin typeface="Calibri"/>
              </a:rPr>
              <a:t> </a:t>
            </a: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 бедренн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2 - задняя большеберцовая;</a:t>
            </a:r>
            <a:br>
              <a:rPr sz="900"/>
            </a:br>
            <a:r>
              <a:rPr b="0" lang="ru-RU" sz="900" spc="-1" strike="noStrike">
                <a:solidFill>
                  <a:srgbClr val="3e3e3e"/>
                </a:solidFill>
                <a:latin typeface="Arial"/>
              </a:rPr>
              <a:t>13 - артерия тыла стоп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C:\Users\Администратор\Desktop\47-48.jpg"/>
          <p:cNvPicPr/>
          <p:nvPr/>
        </p:nvPicPr>
        <p:blipFill>
          <a:blip r:embed="rId1"/>
          <a:stretch/>
        </p:blipFill>
        <p:spPr>
          <a:xfrm>
            <a:off x="0" y="476280"/>
            <a:ext cx="3914640" cy="5977080"/>
          </a:xfrm>
          <a:prstGeom prst="rect">
            <a:avLst/>
          </a:prstGeom>
          <a:ln w="0">
            <a:noFill/>
          </a:ln>
        </p:spPr>
      </p:pic>
      <p:sp>
        <p:nvSpPr>
          <p:cNvPr id="136" name="Содержимое 10"/>
          <p:cNvSpPr/>
          <p:nvPr/>
        </p:nvSpPr>
        <p:spPr>
          <a:xfrm>
            <a:off x="4500720" y="333360"/>
            <a:ext cx="4257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емы остановки кровотечения в артериях способом максимального сгибания коне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ременной остановки кровотечения на месте происшествия можно с успехом прибегнуть к максимальному сгибанию конечности в суставе с последующей фиксацией ее в таком положении. Этот метод эффективен, когда рана находится ниже суставов — локтевого, тазобедренного, коленного или в суставной ямке. В область сустава необходимо вложить тугой ватно-марлевый валик. Так, например, при кровотечении из предплечья и кисти нужно вложить в локтевую ямку ватно-марлевый валик, максимально согнуть руку в локтевом суставе и фиксировать предплечье к плечу в положении максимального сгибания. При повреждении бедренной артерии конечность максимально сгибают в тазобедренном и коленном суставах, бедро и голень прибинтовывают к туловищу. При кровотечении из голени и стопы в подколенную ямку необходимо вложить плотный валик, ногу фиксируют в положении максимального сгибания в коленном суста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5480" y="351000"/>
            <a:ext cx="74026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ЛОЖЕНИЕ ЖГУТА (ЗАКРУТКИ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2" descr="C:\Users\Администратор\Desktop\image13578687.gif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4680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435640" y="1484280"/>
            <a:ext cx="292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наложения жгута, рану обрабатывают и накладывают давящую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 после этого больного обязательно доставить к врачу.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ержать жгут летом можно до 2 часов. Зимой – до  1 часа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Затем жгут ослабляют на 10 – 15 минут. Если жгут передержать, то может наступить омертвение тканей. Поэтому нужно не забыть под жгут положить записку со вре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839880" y="351000"/>
            <a:ext cx="7681680" cy="71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Администратор\Desktop\1274880464_mede-29.jpg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3326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407880" y="3724200"/>
            <a:ext cx="8450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682560" y="404640"/>
            <a:ext cx="7775640" cy="7272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324000" y="1133640"/>
            <a:ext cx="7984800" cy="12920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3" descr=""/>
          <p:cNvPicPr/>
          <p:nvPr/>
        </p:nvPicPr>
        <p:blipFill>
          <a:blip r:embed="rId3"/>
          <a:stretch/>
        </p:blipFill>
        <p:spPr>
          <a:xfrm>
            <a:off x="171360" y="2425680"/>
            <a:ext cx="8966160" cy="3871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Администратор\Desktop\ostanovka-krovotecheniya.jpg"/>
          <p:cNvPicPr/>
          <p:nvPr/>
        </p:nvPicPr>
        <p:blipFill>
          <a:blip r:embed="rId4"/>
          <a:stretch/>
        </p:blipFill>
        <p:spPr>
          <a:xfrm>
            <a:off x="7164360" y="1628640"/>
            <a:ext cx="1513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асибо за внимание! Выполнил: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хметзянов Оскар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5" descr="82aa9596ef337ce5ed1fd140e3fb03bd_w960_h2048"/>
          <p:cNvPicPr/>
          <p:nvPr/>
        </p:nvPicPr>
        <p:blipFill>
          <a:blip r:embed="rId1"/>
          <a:stretch/>
        </p:blipFill>
        <p:spPr>
          <a:xfrm>
            <a:off x="1476360" y="1989000"/>
            <a:ext cx="5715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260280"/>
            <a:ext cx="84247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оги б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р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диа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 степени ожог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г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редней тяж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V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степ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райне тяж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85720" y="1614600"/>
            <a:ext cx="7972560" cy="3628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411280" y="40464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85720" y="1757520"/>
            <a:ext cx="7972560" cy="3342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627280" y="404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85720" y="1652760"/>
            <a:ext cx="7972560" cy="3552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484360" y="476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ог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68360" y="549360"/>
            <a:ext cx="84247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помощь при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ть  пострадавшему теплое подсоленное пи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мыть пораженный участок под струей холодн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чить поверхность ожога водкой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жить стерильную повя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50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Нельзя смазывать ожоговую поверхность подсолнечным маслом, кремами и маз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medhelp"/>
          <p:cNvPicPr/>
          <p:nvPr/>
        </p:nvPicPr>
        <p:blipFill>
          <a:blip r:embed="rId1"/>
          <a:stretch/>
        </p:blipFill>
        <p:spPr>
          <a:xfrm>
            <a:off x="7667640" y="7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16720" y="692280"/>
            <a:ext cx="69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морожение возникает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оздействии холода на ко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2"/>
          <p:cNvPicPr/>
          <p:nvPr/>
        </p:nvPicPr>
        <p:blipFill>
          <a:blip r:embed="rId1"/>
          <a:stretch/>
        </p:blipFill>
        <p:spPr>
          <a:xfrm>
            <a:off x="971640" y="220500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4762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морожения возникают в результате воздействия низких темпера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зависимости от глубины поражения различ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степени отморож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лег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средней тяж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II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V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степен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крайне тяж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z</cp:lastModifiedBy>
  <dcterms:modified xsi:type="dcterms:W3CDTF">2019-12-02T10:53:39Z</dcterms:modified>
  <cp:revision>24</cp:revision>
  <dc:subject/>
  <dc:title>PowerPoint Presentation</dc:title>
</cp:coreProperties>
</file>