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0.png" ContentType="image/png"/>
  <Override PartName="/ppt/media/image13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4.jpeg" ContentType="image/jpeg"/>
  <Override PartName="/ppt/media/image3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3B46-9D1A-4135-A7E8-DAB10B5E4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6BAC-640D-463D-A880-8D7098B9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6033-AF90-414A-8A1A-BE488A61B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E6E2-96E3-4B9C-8AF2-56A3098BE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7D21-926A-4997-8099-65F0F2E6C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EB42-D954-4560-ABAA-C57E8E9C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B0D9-197F-44D3-9398-53651B71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5FA9-BD9C-48A5-ACA1-72D4D405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8D91-5C01-4D92-AFD0-59DCBC0F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78D9-A5B1-4938-AA3B-D4A367A0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664B-49E5-40C1-BE53-74496623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B762-5980-4F67-B140-049328B1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C43D-2B81-4B57-9EEA-73682A6E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182C-B911-4F1D-8B04-3CB4BD67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08B7-C2F9-4449-8D1A-A1D042AB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C006-8C44-4BB6-8265-F58369B5F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1066-F70B-4236-9256-2B95B5B4F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70A5-DA6E-4816-8CD5-646BD56B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F672-701A-4C6D-9E02-B0B66979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413A-477F-4584-BE80-A91DA727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C77A-6B8F-48D5-BCC0-000BE920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484E-BE09-4B32-84FE-1EB37B9A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923B-7A5D-4CE1-A12E-DC159345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D411-ADB7-450B-A990-0BDA073E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9B5B-ED30-4972-96DB-D8C34072E3D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8718-49F4-45E4-931B-A3F2ECD033F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539280" y="620640"/>
            <a:ext cx="7538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ервая помощь при ожогах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бморожениях и кровотечени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97856722_3347825_"/>
          <p:cNvPicPr/>
          <p:nvPr/>
        </p:nvPicPr>
        <p:blipFill>
          <a:blip r:embed="rId1"/>
          <a:stretch/>
        </p:blipFill>
        <p:spPr>
          <a:xfrm>
            <a:off x="1403280" y="2133720"/>
            <a:ext cx="590400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55284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3635280" y="2060640"/>
            <a:ext cx="5508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бморожение стопы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пени 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ьцев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п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38148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3924360" y="1916280"/>
            <a:ext cx="453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морожение первого пальца стопы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пе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250920" y="0"/>
            <a:ext cx="3390840" cy="65563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4643280" y="2060640"/>
            <a:ext cx="3527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морож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пе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250920" y="0"/>
            <a:ext cx="306684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3564000" y="2060640"/>
            <a:ext cx="44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276720" y="1700280"/>
            <a:ext cx="5580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тмороже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степени ( стадия сухой гангрены и отторжения омертвевших тк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395280" y="692280"/>
            <a:ext cx="87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ервая помощь при обморожения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ать  пострадавшему теплое сладкое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ить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. Согреть пострадавшего укутав в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дея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. Наложить стерильную повяз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0" y="4653000"/>
            <a:ext cx="87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Нельзя растирать пораженные участки снегом или шерстяной ткань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Кровотеч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Кровотечения – 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злитие крови из кровеносных сосудов при нарушении целостности их стенки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Опасность кровотечения заключается в том, что оно может привести к значительной кровопотере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отеря 40 -50% крови приводит к смерти человека. Поэтому очень важно знать как остановить кровотечение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22160" y="286920"/>
            <a:ext cx="769968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Виды кровотечений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22920" y="1643040"/>
            <a:ext cx="2953440" cy="7693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762525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ровотеч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7"/>
          <p:cNvSpPr/>
          <p:nvPr/>
        </p:nvSpPr>
        <p:spPr>
          <a:xfrm rot="6703200">
            <a:off x="1739520" y="2805120"/>
            <a:ext cx="1214640" cy="303120"/>
          </a:xfrm>
          <a:prstGeom prst="rightArrow">
            <a:avLst>
              <a:gd name="adj1" fmla="val 50000"/>
              <a:gd name="adj2" fmla="val 152400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539640" y="3645000"/>
            <a:ext cx="3071880" cy="571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Капиллярное кровот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7"/>
          <p:cNvSpPr/>
          <p:nvPr/>
        </p:nvSpPr>
        <p:spPr>
          <a:xfrm rot="5400000">
            <a:off x="3685680" y="3306600"/>
            <a:ext cx="1643040" cy="303480"/>
          </a:xfrm>
          <a:prstGeom prst="rightArrow">
            <a:avLst>
              <a:gd name="adj1" fmla="val 50000"/>
              <a:gd name="adj2" fmla="val 152193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2916360" y="4437000"/>
            <a:ext cx="3143160" cy="642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Артериальное кровот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7"/>
          <p:cNvSpPr/>
          <p:nvPr/>
        </p:nvSpPr>
        <p:spPr>
          <a:xfrm rot="3579000">
            <a:off x="5866560" y="2848680"/>
            <a:ext cx="1143000" cy="303120"/>
          </a:xfrm>
          <a:prstGeom prst="rightArrow">
            <a:avLst>
              <a:gd name="adj1" fmla="val 50000"/>
              <a:gd name="adj2" fmla="val 152367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5796000" y="3645000"/>
            <a:ext cx="3000240" cy="500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енозное кровот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Капиллярное кровотечени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6" name="Содержимое 2" descr=""/>
          <p:cNvPicPr/>
          <p:nvPr/>
        </p:nvPicPr>
        <p:blipFill>
          <a:blip r:embed="rId1"/>
          <a:stretch/>
        </p:blipFill>
        <p:spPr>
          <a:xfrm>
            <a:off x="457200" y="2470320"/>
            <a:ext cx="8229600" cy="27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Первая помощь при капиллярном кровотечении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8" name="Содержимое 2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813600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Артериальное кровотечени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ровь выбрасывается струей, часто толчкообразно (пульсирует), цвет ее ярко-красный. Артериальное наружное кровотечение наиболее значительное и быстро приводит к острому малокровию: нарастающая бледность, частый и малый пульс, прогрессирующее снижение артериального давления, головокружение, потемнение в глазах, тошнота, рвота, обморок. Такое обескровливание мозга вызывает смерть из-за кислородного голодания, нарушения функций мозга и сердечно-сосудистой систем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468360" y="549360"/>
            <a:ext cx="79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95280" y="692280"/>
            <a:ext cx="842472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жог – обожженное место на ткани организм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жоги возникают при воздействии высоких температу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maxresdefault"/>
          <p:cNvPicPr/>
          <p:nvPr/>
        </p:nvPicPr>
        <p:blipFill>
          <a:blip r:embed="rId1"/>
          <a:stretch/>
        </p:blipFill>
        <p:spPr>
          <a:xfrm>
            <a:off x="6443640" y="4438800"/>
            <a:ext cx="230508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3" descr="http://zdorovye.net/files/2010/05/3.jpg"/>
          <p:cNvPicPr/>
          <p:nvPr/>
        </p:nvPicPr>
        <p:blipFill>
          <a:blip r:embed="rId1"/>
          <a:stretch/>
        </p:blipFill>
        <p:spPr>
          <a:xfrm>
            <a:off x="1440" y="333360"/>
            <a:ext cx="2986200" cy="65246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4840200" y="16686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одержимое 2"/>
          <p:cNvSpPr/>
          <p:nvPr/>
        </p:nvSpPr>
        <p:spPr>
          <a:xfrm>
            <a:off x="3348000" y="1268280"/>
            <a:ext cx="579600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Если у человека началось артериальное кровотечение, то необходимо зажать сосуд выше места ранения в тех местах, где прощупывается пульс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5"/>
          <p:cNvSpPr/>
          <p:nvPr/>
        </p:nvSpPr>
        <p:spPr>
          <a:xfrm>
            <a:off x="3276720" y="4508640"/>
            <a:ext cx="28699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1 - височная;</a:t>
            </a:r>
            <a:br>
              <a:rPr sz="900"/>
            </a:b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2 - затылочная;</a:t>
            </a:r>
            <a:br>
              <a:rPr sz="900"/>
            </a:b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3 - нижнечелюстная;</a:t>
            </a:r>
            <a:br>
              <a:rPr sz="900"/>
            </a:b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4 - правая общая сонная;</a:t>
            </a:r>
            <a:br>
              <a:rPr sz="900"/>
            </a:b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5 - левая общая сонная;</a:t>
            </a:r>
            <a:br>
              <a:rPr sz="900"/>
            </a:b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6 - подключичная;</a:t>
            </a:r>
            <a:br>
              <a:rPr sz="900"/>
            </a:b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7 - подмышечная;</a:t>
            </a:r>
            <a:br>
              <a:rPr sz="900"/>
            </a:b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8 - плечевая;</a:t>
            </a:r>
            <a:br>
              <a:rPr sz="900"/>
            </a:b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9 - лучевая;</a:t>
            </a:r>
            <a:br>
              <a:rPr sz="900"/>
            </a:b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10 - локтевая;</a:t>
            </a:r>
            <a:br>
              <a:rPr sz="900"/>
            </a:b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11 -</a:t>
            </a:r>
            <a:r>
              <a:rPr b="0" lang="ru-RU" sz="900" spc="-1" strike="noStrike">
                <a:solidFill>
                  <a:srgbClr val="3e3e3e"/>
                </a:solidFill>
                <a:latin typeface="Calibri"/>
              </a:rPr>
              <a:t> </a:t>
            </a: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 бедренная;</a:t>
            </a:r>
            <a:br>
              <a:rPr sz="900"/>
            </a:b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12 - задняя большеберцовая;</a:t>
            </a:r>
            <a:br>
              <a:rPr sz="900"/>
            </a:b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13 - артерия тыла стопы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C:\Users\Администратор\Desktop\47-48.jpg"/>
          <p:cNvPicPr/>
          <p:nvPr/>
        </p:nvPicPr>
        <p:blipFill>
          <a:blip r:embed="rId1"/>
          <a:stretch/>
        </p:blipFill>
        <p:spPr>
          <a:xfrm>
            <a:off x="0" y="476280"/>
            <a:ext cx="3914640" cy="5977080"/>
          </a:xfrm>
          <a:prstGeom prst="rect">
            <a:avLst/>
          </a:prstGeom>
          <a:ln w="0">
            <a:noFill/>
          </a:ln>
        </p:spPr>
      </p:pic>
      <p:sp>
        <p:nvSpPr>
          <p:cNvPr id="136" name="Содержимое 10"/>
          <p:cNvSpPr/>
          <p:nvPr/>
        </p:nvSpPr>
        <p:spPr>
          <a:xfrm>
            <a:off x="4500720" y="333360"/>
            <a:ext cx="425736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емы остановки кровотечения в артериях способом максимального сгибания конечност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временной остановки кровотечения на месте происшествия можно с успехом прибегнуть к максимальному сгибанию конечности в суставе с последующей фиксацией ее в таком положении. Этот метод эффективен, когда рана находится ниже суставов — локтевого, тазобедренного, коленного или в суставной ямке. В область сустава необходимо вложить тугой ватно-марлевый валик. Так, например, при кровотечении из предплечья и кисти нужно вложить в локтевую ямку ватно-марлевый валик, максимально согнуть руку в локтевом суставе и фиксировать предплечье к плечу в положении максимального сгибания. При повреждении бедренной артерии конечность максимально сгибают в тазобедренном и коленном суставах, бедро и голень прибинтовывают к туловищу. При кровотечении из голени и стопы в подколенную ямку необходимо вложить плотный валик, ногу фиксируют в положении максимального сгибания в коленном сустав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5480" y="351000"/>
            <a:ext cx="740268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НАЛОЖЕНИЕ ЖГУТА (ЗАКРУТКИ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8" name="Picture 2" descr="C:\Users\Администратор\Desktop\image13578687.gif"/>
          <p:cNvPicPr/>
          <p:nvPr/>
        </p:nvPicPr>
        <p:blipFill>
          <a:blip r:embed="rId1"/>
          <a:stretch/>
        </p:blipFill>
        <p:spPr>
          <a:xfrm>
            <a:off x="0" y="1557360"/>
            <a:ext cx="5148360" cy="46800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3"/>
          <p:cNvSpPr/>
          <p:nvPr/>
        </p:nvSpPr>
        <p:spPr>
          <a:xfrm>
            <a:off x="5435640" y="1484280"/>
            <a:ext cx="2928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осле наложения жгута, рану обрабатывают и накладывают давящую повяз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Но после этого больного обязательно доставить к врачу.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Держать жгут летом можно до 2 часов. Зимой – до  1 часа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Затем жгут ослабляют на 10 – 15 минут. Если жгут передержать, то может наступить омертвение тканей. Поэтому нужно не забыть под жгут положить записку со времен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Заголовок 1" descr=""/>
          <p:cNvPicPr/>
          <p:nvPr/>
        </p:nvPicPr>
        <p:blipFill>
          <a:blip r:embed="rId1"/>
          <a:stretch/>
        </p:blipFill>
        <p:spPr>
          <a:xfrm>
            <a:off x="839880" y="351000"/>
            <a:ext cx="7681680" cy="711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Администратор\Desktop\1274880464_mede-29.jpg"/>
          <p:cNvPicPr/>
          <p:nvPr/>
        </p:nvPicPr>
        <p:blipFill>
          <a:blip r:embed="rId2"/>
          <a:stretch/>
        </p:blipFill>
        <p:spPr>
          <a:xfrm>
            <a:off x="0" y="1365120"/>
            <a:ext cx="9144000" cy="5332680"/>
          </a:xfrm>
          <a:prstGeom prst="rect">
            <a:avLst/>
          </a:prstGeom>
          <a:ln w="0">
            <a:noFill/>
          </a:ln>
        </p:spPr>
      </p:pic>
      <p:pic>
        <p:nvPicPr>
          <p:cNvPr id="143" name="Прямоугольник 4" descr=""/>
          <p:cNvPicPr/>
          <p:nvPr/>
        </p:nvPicPr>
        <p:blipFill>
          <a:blip r:embed="rId3"/>
          <a:stretch/>
        </p:blipFill>
        <p:spPr>
          <a:xfrm>
            <a:off x="407880" y="3724200"/>
            <a:ext cx="845028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Заголовок 1" descr=""/>
          <p:cNvPicPr/>
          <p:nvPr/>
        </p:nvPicPr>
        <p:blipFill>
          <a:blip r:embed="rId1"/>
          <a:stretch/>
        </p:blipFill>
        <p:spPr>
          <a:xfrm>
            <a:off x="682560" y="404640"/>
            <a:ext cx="7775640" cy="727200"/>
          </a:xfrm>
          <a:prstGeom prst="rect">
            <a:avLst/>
          </a:prstGeom>
          <a:ln w="0">
            <a:noFill/>
          </a:ln>
        </p:spPr>
      </p:pic>
      <p:pic>
        <p:nvPicPr>
          <p:cNvPr id="145" name="TextBox 2" descr=""/>
          <p:cNvPicPr/>
          <p:nvPr/>
        </p:nvPicPr>
        <p:blipFill>
          <a:blip r:embed="rId2"/>
          <a:stretch/>
        </p:blipFill>
        <p:spPr>
          <a:xfrm>
            <a:off x="324000" y="1133640"/>
            <a:ext cx="7984800" cy="1292040"/>
          </a:xfrm>
          <a:prstGeom prst="rect">
            <a:avLst/>
          </a:prstGeom>
          <a:ln w="0">
            <a:noFill/>
          </a:ln>
        </p:spPr>
      </p:pic>
      <p:pic>
        <p:nvPicPr>
          <p:cNvPr id="146" name="Прямоугольник 3" descr=""/>
          <p:cNvPicPr/>
          <p:nvPr/>
        </p:nvPicPr>
        <p:blipFill>
          <a:blip r:embed="rId3"/>
          <a:stretch/>
        </p:blipFill>
        <p:spPr>
          <a:xfrm>
            <a:off x="171360" y="2425680"/>
            <a:ext cx="8966160" cy="3871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Администратор\Desktop\ostanovka-krovotecheniya.jpg"/>
          <p:cNvPicPr/>
          <p:nvPr/>
        </p:nvPicPr>
        <p:blipFill>
          <a:blip r:embed="rId4"/>
          <a:stretch/>
        </p:blipFill>
        <p:spPr>
          <a:xfrm>
            <a:off x="7164360" y="1628640"/>
            <a:ext cx="151308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пасибо за внимание! Выполнил:</a:t>
            </a:r>
            <a:br>
              <a:rPr sz="4200"/>
            </a:b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Ахметзянов Оскар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9" name="Picture 5" descr="82aa9596ef337ce5ed1fd140e3fb03bd_w960_h2048"/>
          <p:cNvPicPr/>
          <p:nvPr/>
        </p:nvPicPr>
        <p:blipFill>
          <a:blip r:embed="rId1"/>
          <a:stretch/>
        </p:blipFill>
        <p:spPr>
          <a:xfrm>
            <a:off x="1476360" y="1989000"/>
            <a:ext cx="571500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24000" y="260280"/>
            <a:ext cx="842472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жоги бываю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рм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им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диацио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зависимости от глубины поражения различ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 степени ожог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степень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ег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I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степен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редней тяж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II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степен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тяжел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V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степен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айне тяжел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85720" y="1614600"/>
            <a:ext cx="7972560" cy="36288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2411280" y="40464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жог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п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585720" y="1757520"/>
            <a:ext cx="7972560" cy="33429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2627280" y="40464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жог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п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585720" y="1652760"/>
            <a:ext cx="7972560" cy="35524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2484360" y="476280"/>
            <a:ext cx="42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жог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п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468360" y="549360"/>
            <a:ext cx="842472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ая помощь при ожог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ать  пострадавшему теплое подсоленное пит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мыть пораженный участок под струей холодной 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мочить поверхность ожога водкой или спир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ложить стерильную повяз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0" y="5084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0000"/>
                </a:solidFill>
                <a:uFillTx/>
                <a:latin typeface="Times New Roman"/>
              </a:rPr>
              <a:t>Нельзя смазывать ожоговую поверхность подсолнечным маслом, кремами и маз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medhelp"/>
          <p:cNvPicPr/>
          <p:nvPr/>
        </p:nvPicPr>
        <p:blipFill>
          <a:blip r:embed="rId1"/>
          <a:stretch/>
        </p:blipFill>
        <p:spPr>
          <a:xfrm>
            <a:off x="7667640" y="712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1116720" y="692280"/>
            <a:ext cx="695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бморожение возникает пр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оздействии холода на кож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22"/>
          <p:cNvPicPr/>
          <p:nvPr/>
        </p:nvPicPr>
        <p:blipFill>
          <a:blip r:embed="rId1"/>
          <a:stretch/>
        </p:blipFill>
        <p:spPr>
          <a:xfrm>
            <a:off x="971640" y="2205000"/>
            <a:ext cx="7345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250920" y="476280"/>
            <a:ext cx="8497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морожения возникают в результате воздействия низких температу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 зависимости от глубины поражения различа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 степени отморожен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 степень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 лег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I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 степен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– средней тяже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II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 степен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– тяжел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V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 степен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- крайне тяжел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iz</cp:lastModifiedBy>
  <dcterms:modified xsi:type="dcterms:W3CDTF">2019-12-02T10:53:39Z</dcterms:modified>
  <cp:revision>24</cp:revision>
  <dc:subject/>
  <dc:title>PowerPoint Presentation</dc:title>
</cp:coreProperties>
</file>