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DEB-ADBA-4513-AFF8-A586693B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BBA-7779-4126-9BE6-D1AA547D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5E5-8B99-4F85-9BCD-ED483837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888-3560-4BC0-8BE4-0321ED66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D7F1-B086-43F8-A7C2-F342B4FB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4F51-AEF7-4313-885E-69ED989B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D1CD-C22F-45DD-A5A4-43002D45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3226-9010-491E-9307-8021F376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6672-1D36-4E84-801B-6107AF81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E27D-4E59-4095-B499-972C2A4B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F758-2A8E-4094-BFE0-CEA8AE85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A0C-593B-425D-AF4C-40B79F81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6E1F-5DB1-45A9-ADAD-CD9FF52B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162F-ADC7-4182-B742-5E00EA5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F0F7-9163-4561-90DA-7AC0EF43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5D81-2198-4F54-ABAE-15530829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D35D-4499-44DF-96D4-BF3D678A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9ED-0C7E-47BE-8FDE-D324C475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FAB-60C1-457C-B7A6-52B30147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548-5758-4165-BF53-5A34DFF6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908-836B-4A5D-A325-FBAB90BB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CA4-5C1C-441A-8D0E-1D92FF85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D58-A5C8-49A2-9AE1-9CBE12EB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9C3-4004-42F6-9E5D-5D212C3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B8FC-A16E-443C-825B-A11E2CA054A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3748-289E-4258-A794-8FD29D67FA4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539280" y="620640"/>
            <a:ext cx="753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вая помощь при ожога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ях и кровотеч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97856722_3347825_"/>
          <p:cNvPicPr/>
          <p:nvPr/>
        </p:nvPicPr>
        <p:blipFill>
          <a:blip r:embed="rId1"/>
          <a:stretch/>
        </p:blipFill>
        <p:spPr>
          <a:xfrm>
            <a:off x="1403280" y="2133720"/>
            <a:ext cx="59040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635280" y="2060640"/>
            <a:ext cx="550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е стоп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це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3814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24360" y="191628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е первого пальца стопы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3390840" cy="6556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643280" y="2060640"/>
            <a:ext cx="35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30668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3564000" y="206064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76720" y="1700280"/>
            <a:ext cx="558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мор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степени ( стадия сухой гангрены и отторжения омертвевших тк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95280" y="69228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рвая помощь при обмороже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ать  пострадавшему теплое сладко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т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Согреть пострадавшего укутав 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ея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Наложить стерильную повяз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465300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ельзя растирать пораженные участки снегом или шерстяной ткан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ровотеч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ровотечения – 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литие крови из кровеносных сосудов при нарушении целостности их стенк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асность кровотечения заключается в том, что оно может привести к значительной кровопотере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теря 40 -50% крови приводит к смерти человека. Поэтому очень важно знать как остановить кровотечени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286920"/>
            <a:ext cx="76996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иды кровотечени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22920" y="1643040"/>
            <a:ext cx="2953440" cy="769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ровоте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7"/>
          <p:cNvSpPr/>
          <p:nvPr/>
        </p:nvSpPr>
        <p:spPr>
          <a:xfrm rot="6703200">
            <a:off x="1739520" y="2805120"/>
            <a:ext cx="1214640" cy="303120"/>
          </a:xfrm>
          <a:prstGeom prst="rightArrow">
            <a:avLst>
              <a:gd name="adj1" fmla="val 50000"/>
              <a:gd name="adj2" fmla="val 152400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539640" y="3645000"/>
            <a:ext cx="3071880" cy="571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пилляр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7"/>
          <p:cNvSpPr/>
          <p:nvPr/>
        </p:nvSpPr>
        <p:spPr>
          <a:xfrm rot="5400000">
            <a:off x="3685680" y="3306600"/>
            <a:ext cx="1643040" cy="303480"/>
          </a:xfrm>
          <a:prstGeom prst="rightArrow">
            <a:avLst>
              <a:gd name="adj1" fmla="val 50000"/>
              <a:gd name="adj2" fmla="val 152193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2916360" y="4437000"/>
            <a:ext cx="3143160" cy="642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ртериаль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7"/>
          <p:cNvSpPr/>
          <p:nvPr/>
        </p:nvSpPr>
        <p:spPr>
          <a:xfrm rot="3579000">
            <a:off x="5866560" y="2848680"/>
            <a:ext cx="1143000" cy="303120"/>
          </a:xfrm>
          <a:prstGeom prst="rightArrow">
            <a:avLst>
              <a:gd name="adj1" fmla="val 50000"/>
              <a:gd name="adj2" fmla="val 152367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796000" y="3645000"/>
            <a:ext cx="3000240" cy="50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еноз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пиллярное кровотече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Содержимое 2" descr=""/>
          <p:cNvPicPr/>
          <p:nvPr/>
        </p:nvPicPr>
        <p:blipFill>
          <a:blip r:embed="rId1"/>
          <a:stretch/>
        </p:blipFill>
        <p:spPr>
          <a:xfrm>
            <a:off x="457200" y="2470320"/>
            <a:ext cx="8229600" cy="27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Первая помощь при капиллярном кровотечении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Содержимое 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136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териальное кровотече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овь выбрасывается струей, часто толчкообразно (пульсирует), цвет ее ярко-красный. Артериальное наружное кровотечение наиболее значительное и быстро приводит к острому малокровию: нарастающая бледность, частый и малый пульс, прогрессирующее снижение артериального давления, головокружение, потемнение в глазах, тошнота, рвота, обморок. Такое обескровливание мозга вызывает смерть из-за кислородного голодания, нарушения функций мозга и сердечно-сосудистой систем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54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692280"/>
            <a:ext cx="84247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– обожженное место на ткани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и возникают при воздействии высоких температу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xresdefault"/>
          <p:cNvPicPr/>
          <p:nvPr/>
        </p:nvPicPr>
        <p:blipFill>
          <a:blip r:embed="rId1"/>
          <a:stretch/>
        </p:blipFill>
        <p:spPr>
          <a:xfrm>
            <a:off x="6443640" y="4438800"/>
            <a:ext cx="23050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http://zdorovye.net/files/2010/05/3.jpg"/>
          <p:cNvPicPr/>
          <p:nvPr/>
        </p:nvPicPr>
        <p:blipFill>
          <a:blip r:embed="rId1"/>
          <a:stretch/>
        </p:blipFill>
        <p:spPr>
          <a:xfrm>
            <a:off x="1440" y="333360"/>
            <a:ext cx="2986200" cy="6524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4840200" y="1668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3348000" y="1268280"/>
            <a:ext cx="57960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у человека началось артериальное кровотечение, то необходимо зажать сосуд выше места ранения в тех местах, где прощупывается пуль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3276720" y="4508640"/>
            <a:ext cx="2869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 - висо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2 - затыло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3 - нижнечелюст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4 - правая общая со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5 - левая общая со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6 - подключи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7 - подмыше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8 - плеч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9 - луч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0 - локт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1 -</a:t>
            </a:r>
            <a:r>
              <a:rPr b="0" lang="ru-RU" sz="900" spc="-1" strike="noStrike">
                <a:solidFill>
                  <a:srgbClr val="3e3e3e"/>
                </a:solidFill>
                <a:latin typeface="Calibri"/>
              </a:rPr>
              <a:t> </a:t>
            </a: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 бедре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2 - задняя большеберцо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3 - артерия тыла стоп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C:\Users\Администратор\Desktop\47-48.jpg"/>
          <p:cNvPicPr/>
          <p:nvPr/>
        </p:nvPicPr>
        <p:blipFill>
          <a:blip r:embed="rId1"/>
          <a:stretch/>
        </p:blipFill>
        <p:spPr>
          <a:xfrm>
            <a:off x="0" y="476280"/>
            <a:ext cx="3914640" cy="5977080"/>
          </a:xfrm>
          <a:prstGeom prst="rect">
            <a:avLst/>
          </a:prstGeom>
          <a:ln w="0">
            <a:noFill/>
          </a:ln>
        </p:spPr>
      </p:pic>
      <p:sp>
        <p:nvSpPr>
          <p:cNvPr id="136" name="Содержимое 10"/>
          <p:cNvSpPr/>
          <p:nvPr/>
        </p:nvSpPr>
        <p:spPr>
          <a:xfrm>
            <a:off x="4500720" y="333360"/>
            <a:ext cx="42573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емы остановки кровотечения в артериях способом максимального сгибания конеч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временной остановки кровотечения на месте происшествия можно с успехом прибегнуть к максимальному сгибанию конечности в суставе с последующей фиксацией ее в таком положении. Этот метод эффективен, когда рана находится ниже суставов — локтевого, тазобедренного, коленного или в суставной ямке. В область сустава необходимо вложить тугой ватно-марлевый валик. Так, например, при кровотечении из предплечья и кисти нужно вложить в локтевую ямку ватно-марлевый валик, максимально согнуть руку в локтевом суставе и фиксировать предплечье к плечу в положении максимального сгибания. При повреждении бедренной артерии конечность максимально сгибают в тазобедренном и коленном суставах, бедро и голень прибинтовывают к туловищу. При кровотечении из голени и стопы в подколенную ямку необходимо вложить плотный валик, ногу фиксируют в положении максимального сгибания в коленном суста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5480" y="351000"/>
            <a:ext cx="74026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АЛОЖЕНИЕ ЖГУТА (ЗАКРУТКИ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Picture 2" descr="C:\Users\Администратор\Desktop\image13578687.gif"/>
          <p:cNvPicPr/>
          <p:nvPr/>
        </p:nvPicPr>
        <p:blipFill>
          <a:blip r:embed="rId1"/>
          <a:stretch/>
        </p:blipFill>
        <p:spPr>
          <a:xfrm>
            <a:off x="0" y="1557360"/>
            <a:ext cx="5148360" cy="4680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5435640" y="1484280"/>
            <a:ext cx="292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сле наложения жгута, рану обрабатывают и накладывают давящую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о после этого больного обязательно доставить к врачу.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Держать жгут летом можно до 2 часов. Зимой – до  1 часа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Затем жгут ослабляют на 10 – 15 минут. Если жгут передержать, то может наступить омертвение тканей. Поэтому нужно не забыть под жгут положить записку со време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839880" y="351000"/>
            <a:ext cx="7681680" cy="71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Администратор\Desktop\1274880464_mede-29.jpg"/>
          <p:cNvPicPr/>
          <p:nvPr/>
        </p:nvPicPr>
        <p:blipFill>
          <a:blip r:embed="rId2"/>
          <a:stretch/>
        </p:blipFill>
        <p:spPr>
          <a:xfrm>
            <a:off x="0" y="1365120"/>
            <a:ext cx="9144000" cy="53326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3"/>
          <a:stretch/>
        </p:blipFill>
        <p:spPr>
          <a:xfrm>
            <a:off x="407880" y="3724200"/>
            <a:ext cx="8450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682560" y="404640"/>
            <a:ext cx="7775640" cy="7272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324000" y="1133640"/>
            <a:ext cx="7984800" cy="129204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3" descr=""/>
          <p:cNvPicPr/>
          <p:nvPr/>
        </p:nvPicPr>
        <p:blipFill>
          <a:blip r:embed="rId3"/>
          <a:stretch/>
        </p:blipFill>
        <p:spPr>
          <a:xfrm>
            <a:off x="171360" y="2425680"/>
            <a:ext cx="8966160" cy="3871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Администратор\Desktop\ostanovka-krovotecheniya.jpg"/>
          <p:cNvPicPr/>
          <p:nvPr/>
        </p:nvPicPr>
        <p:blipFill>
          <a:blip r:embed="rId4"/>
          <a:stretch/>
        </p:blipFill>
        <p:spPr>
          <a:xfrm>
            <a:off x="7164360" y="1628640"/>
            <a:ext cx="1513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асибо за внимание! Выполнил: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хметзянов Оскар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5" descr="82aa9596ef337ce5ed1fd140e3fb03bd_w960_h2048"/>
          <p:cNvPicPr/>
          <p:nvPr/>
        </p:nvPicPr>
        <p:blipFill>
          <a:blip r:embed="rId1"/>
          <a:stretch/>
        </p:blipFill>
        <p:spPr>
          <a:xfrm>
            <a:off x="1476360" y="1989000"/>
            <a:ext cx="57150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260280"/>
            <a:ext cx="84247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жоги б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р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диаци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глубины поражения различ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 степени ож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г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редней тяж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I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яже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V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айне тяже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85720" y="1614600"/>
            <a:ext cx="7972560" cy="3628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411280" y="40464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85720" y="1757520"/>
            <a:ext cx="7972560" cy="3342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627280" y="404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85720" y="1652760"/>
            <a:ext cx="7972560" cy="3552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484360" y="4762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68360" y="549360"/>
            <a:ext cx="8424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помощь при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ть  пострадавшему теплое подсоленное пи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мыть пораженный участок под струей холодной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очить поверхность ожога водкой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ожить стерильную повя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50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Нельзя смазывать ожоговую поверхность подсолнечным маслом, кремами и маз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medhelp"/>
          <p:cNvPicPr/>
          <p:nvPr/>
        </p:nvPicPr>
        <p:blipFill>
          <a:blip r:embed="rId1"/>
          <a:stretch/>
        </p:blipFill>
        <p:spPr>
          <a:xfrm>
            <a:off x="7667640" y="71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116720" y="692280"/>
            <a:ext cx="69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е возникает пр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здействии холода на кож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2"/>
          <p:cNvPicPr/>
          <p:nvPr/>
        </p:nvPicPr>
        <p:blipFill>
          <a:blip r:embed="rId1"/>
          <a:stretch/>
        </p:blipFill>
        <p:spPr>
          <a:xfrm>
            <a:off x="971640" y="220500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47628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я возникают в результате воздействия низких темпера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зависимости от глубины поражения различ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степени отморож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лег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средней тяж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тяжел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крайне тяжел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z</cp:lastModifiedBy>
  <dcterms:modified xsi:type="dcterms:W3CDTF">2019-12-02T10:53:39Z</dcterms:modified>
  <cp:revision>24</cp:revision>
  <dc:subject/>
  <dc:title>PowerPoint Presentation</dc:title>
</cp:coreProperties>
</file>