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29C-14C5-4D15-81A2-B150AF58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C48-A331-4564-AFD8-05F4538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70B-34BC-4237-BD4B-5E6C388A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69A-8C7A-4EEF-BF4C-CF837450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7F56-E851-4669-8A6F-6E1571D8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E55-66EF-49CB-9409-ECDAE42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4B2B-62B9-4350-88CE-E295EC0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385-968C-4DFB-88FD-FAB5638B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4978-152B-4F77-95BF-0BB854F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1737-DF6B-4A2D-A707-5D5A657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0EE-B96C-453D-AA51-E32DF64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7F9-91C4-4827-95ED-E961503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C28-FC96-4187-87A1-78040964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8A3-7FA1-4E7B-95FD-FA9BD68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826-1121-44CB-B59D-C236F519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4FA-9734-4D85-B923-856363B8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7038-EF3E-47AA-BDC4-315231AE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AD7-63CA-4146-B27E-512B623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7E2-08A0-4FB4-A052-234FC22B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3A1-F35C-4063-B4C7-DA4F888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191-117A-482D-97B3-C3305F10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2EA-ED0C-4AAD-ABF6-4885DEF7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CF5-CCDF-4688-A07D-7C79274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290-0D67-4C06-BE7E-6658F35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6FB-E3C3-4F2F-8A11-083F4B4A14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728-3991-47B0-A93C-C77EE44282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280" y="620640"/>
            <a:ext cx="753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ая помощь при ожога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ях и кровотеч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97856722_3347825_"/>
          <p:cNvPicPr/>
          <p:nvPr/>
        </p:nvPicPr>
        <p:blipFill>
          <a:blip r:embed="rId1"/>
          <a:stretch/>
        </p:blipFill>
        <p:spPr>
          <a:xfrm>
            <a:off x="1403280" y="2133720"/>
            <a:ext cx="59040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35280" y="2060640"/>
            <a:ext cx="550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стоп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е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81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24360" y="1916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первого пальца стоп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390840" cy="6556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643280" y="2060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066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564000" y="2060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76720" y="1700280"/>
            <a:ext cx="55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мор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степени ( стадия сухой гангрены и отторжения омертвевши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95280" y="692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вая помощь при обмор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сладк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Согреть пострадавшего укутав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ея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Наложить стерильную повяз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465300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льзя растирать пораженные участки снегом или шерстяной ткан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овотеч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ровотечения – 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литие крови из кровеносных сосудов при нарушении целостности их стен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асность кровотечения заключается в том, что оно может привести к значительной кровопотере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теря 40 -50% крови приводит к смерти человека. Поэтому очень важно знать как остановить кровоте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86920"/>
            <a:ext cx="769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иды кровотечен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22920" y="1643040"/>
            <a:ext cx="2953440" cy="769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 rot="6703200">
            <a:off x="1739520" y="2805120"/>
            <a:ext cx="1214640" cy="303120"/>
          </a:xfrm>
          <a:prstGeom prst="rightArrow">
            <a:avLst>
              <a:gd name="adj1" fmla="val 50000"/>
              <a:gd name="adj2" fmla="val 152400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39640" y="3645000"/>
            <a:ext cx="3071880" cy="57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пилляр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 rot="5400000">
            <a:off x="3685680" y="3306600"/>
            <a:ext cx="1643040" cy="303480"/>
          </a:xfrm>
          <a:prstGeom prst="rightArrow">
            <a:avLst>
              <a:gd name="adj1" fmla="val 50000"/>
              <a:gd name="adj2" fmla="val 152193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2916360" y="4437000"/>
            <a:ext cx="3143160" cy="642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ртериаль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7"/>
          <p:cNvSpPr/>
          <p:nvPr/>
        </p:nvSpPr>
        <p:spPr>
          <a:xfrm rot="3579000">
            <a:off x="5866560" y="2848680"/>
            <a:ext cx="1143000" cy="303120"/>
          </a:xfrm>
          <a:prstGeom prst="rightArrow">
            <a:avLst>
              <a:gd name="adj1" fmla="val 50000"/>
              <a:gd name="adj2" fmla="val 152367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6000" y="3645000"/>
            <a:ext cx="3000240" cy="50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ноз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пилляр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Содержимое 2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Первая помощь при капиллярном кровотечении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Содержимое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териаль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вь выбрасывается струей, часто толчкообразно (пульсирует), цвет ее ярко-красный. Артериальное наружное кровотечение наиболее значительное и быстро приводит к острому малокровию: нарастающая бледность, частый и малый пульс, прогрессирующее снижение артериального давления, головокружение, потемнение в глазах, тошнота, рвота, обморок. Такое обескровливание мозга вызывает смерть из-за кислородного голодания, нарушения функций мозга и сердечно-сосудистой сист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54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692280"/>
            <a:ext cx="8424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– обожженное место на ткани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и возникают при воздействии высоких температ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xresdefault"/>
          <p:cNvPicPr/>
          <p:nvPr/>
        </p:nvPicPr>
        <p:blipFill>
          <a:blip r:embed="rId1"/>
          <a:stretch/>
        </p:blipFill>
        <p:spPr>
          <a:xfrm>
            <a:off x="6443640" y="4438800"/>
            <a:ext cx="2305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http://zdorovye.net/files/2010/05/3.jpg"/>
          <p:cNvPicPr/>
          <p:nvPr/>
        </p:nvPicPr>
        <p:blipFill>
          <a:blip r:embed="rId1"/>
          <a:stretch/>
        </p:blipFill>
        <p:spPr>
          <a:xfrm>
            <a:off x="1440" y="333360"/>
            <a:ext cx="2986200" cy="6524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840200" y="1668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3348000" y="1268280"/>
            <a:ext cx="57960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 человека началось артериальное кровотечение, то необходимо зажать сосуд выше места ранения в тех местах, где прощупывается пуль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276720" y="4508640"/>
            <a:ext cx="286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 - вис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2 - затыл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3 - нижнечелюст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4 - пра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5 - ле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6 - подключи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7 - подмыше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8 - пле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9 - лу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0 - локт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1 -</a:t>
            </a:r>
            <a:r>
              <a:rPr b="0" lang="ru-RU" sz="900" spc="-1" strike="noStrike">
                <a:solidFill>
                  <a:srgbClr val="3e3e3e"/>
                </a:solidFill>
                <a:latin typeface="Calibri"/>
              </a:rPr>
              <a:t> </a:t>
            </a: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 бедре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2 - задняя большеберцо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3 - артерия тыла стоп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C:\Users\Администратор\Desktop\47-48.jpg"/>
          <p:cNvPicPr/>
          <p:nvPr/>
        </p:nvPicPr>
        <p:blipFill>
          <a:blip r:embed="rId1"/>
          <a:stretch/>
        </p:blipFill>
        <p:spPr>
          <a:xfrm>
            <a:off x="0" y="476280"/>
            <a:ext cx="3914640" cy="5977080"/>
          </a:xfrm>
          <a:prstGeom prst="rect">
            <a:avLst/>
          </a:prstGeom>
          <a:ln w="0">
            <a:noFill/>
          </a:ln>
        </p:spPr>
      </p:pic>
      <p:sp>
        <p:nvSpPr>
          <p:cNvPr id="136" name="Содержимое 10"/>
          <p:cNvSpPr/>
          <p:nvPr/>
        </p:nvSpPr>
        <p:spPr>
          <a:xfrm>
            <a:off x="4500720" y="333360"/>
            <a:ext cx="4257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емы остановки кровотечения в артериях способом максимального сгибания коне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ременной остановки кровотечения на месте происшествия можно с успехом прибегнуть к максимальному сгибанию конечности в суставе с последующей фиксацией ее в таком положении. Этот метод эффективен, когда рана находится ниже суставов — локтевого, тазобедренного, коленного или в суставной ямке. В область сустава необходимо вложить тугой ватно-марлевый валик. Так, например, при кровотечении из предплечья и кисти нужно вложить в локтевую ямку ватно-марлевый валик, максимально согнуть руку в локтевом суставе и фиксировать предплечье к плечу в положении максимального сгибания. При повреждении бедренной артерии конечность максимально сгибают в тазобедренном и коленном суставах, бедро и голень прибинтовывают к туловищу. При кровотечении из голени и стопы в подколенную ямку необходимо вложить плотный валик, ногу фиксируют в положении максимального сгибания в коленном суст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5480" y="351000"/>
            <a:ext cx="74026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ЛОЖЕНИЕ ЖГУТА (ЗАКРУТКИ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2" descr="C:\Users\Администратор\Desktop\image13578687.gif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435640" y="1484280"/>
            <a:ext cx="292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наложения жгута, рану обрабатывают и накладывают давящую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после этого больного обязательно доставить к врачу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ржать жгут летом можно до 2 часов. Зимой – до  1 час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Затем жгут ослабляют на 10 – 15 минут. Если жгут передержать, то может наступить омертвение тканей. Поэтому нужно не забыть под жгут положить записку со вре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839880" y="351000"/>
            <a:ext cx="7681680" cy="71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Администратор\Desktop\1274880464_mede-29.jpg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332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407880" y="3724200"/>
            <a:ext cx="8450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682560" y="404640"/>
            <a:ext cx="7775640" cy="7272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324000" y="1133640"/>
            <a:ext cx="7984800" cy="12920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3" descr=""/>
          <p:cNvPicPr/>
          <p:nvPr/>
        </p:nvPicPr>
        <p:blipFill>
          <a:blip r:embed="rId3"/>
          <a:stretch/>
        </p:blipFill>
        <p:spPr>
          <a:xfrm>
            <a:off x="171360" y="2425680"/>
            <a:ext cx="8966160" cy="387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Администратор\Desktop\ostanovka-krovotecheniya.jpg"/>
          <p:cNvPicPr/>
          <p:nvPr/>
        </p:nvPicPr>
        <p:blipFill>
          <a:blip r:embed="rId4"/>
          <a:stretch/>
        </p:blipFill>
        <p:spPr>
          <a:xfrm>
            <a:off x="7164360" y="1628640"/>
            <a:ext cx="1513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асибо за внимание! Выполнил: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хметзянов Оска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82aa9596ef337ce5ed1fd140e3fb03bd_w960_h2048"/>
          <p:cNvPicPr/>
          <p:nvPr/>
        </p:nvPicPr>
        <p:blipFill>
          <a:blip r:embed="rId1"/>
          <a:stretch/>
        </p:blipFill>
        <p:spPr>
          <a:xfrm>
            <a:off x="1476360" y="1989000"/>
            <a:ext cx="5715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260280"/>
            <a:ext cx="8424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оги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степени ож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едней тяж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V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айне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5720" y="1614600"/>
            <a:ext cx="7972560" cy="3628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411280" y="404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5720" y="1757520"/>
            <a:ext cx="7972560" cy="33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627280" y="404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85720" y="1652760"/>
            <a:ext cx="7972560" cy="355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484360" y="47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549360"/>
            <a:ext cx="8424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помощь при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подсоленное пи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ыть пораженный участок под струей холод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чить поверхность ожога водкой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ь стерильн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Нельзя смазывать ожоговую поверхность подсолнечным маслом, кремами и маз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medhelp"/>
          <p:cNvPicPr/>
          <p:nvPr/>
        </p:nvPicPr>
        <p:blipFill>
          <a:blip r:embed="rId1"/>
          <a:stretch/>
        </p:blipFill>
        <p:spPr>
          <a:xfrm>
            <a:off x="7667640" y="7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16720" y="692280"/>
            <a:ext cx="69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возникает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действии холода на к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"/>
          <p:cNvPicPr/>
          <p:nvPr/>
        </p:nvPicPr>
        <p:blipFill>
          <a:blip r:embed="rId1"/>
          <a:stretch/>
        </p:blipFill>
        <p:spPr>
          <a:xfrm>
            <a:off x="971640" y="220500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4762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я возникают в результате воздействия низких темпера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степени отморож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лег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средней тяж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крайне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</cp:lastModifiedBy>
  <dcterms:modified xsi:type="dcterms:W3CDTF">2019-12-02T10:53:39Z</dcterms:modified>
  <cp:revision>24</cp:revision>
  <dc:subject/>
  <dc:title>PowerPoint Presentation</dc:title>
</cp:coreProperties>
</file>