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F86-7014-46B9-9D32-13E34F88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C44-DBA2-49E8-A470-086DE9D0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F3B-FAD0-475B-A3F1-030B0844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6C8-7E3A-4B89-9B6E-D644C9EC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1E39-9801-4B05-AD40-741D59BE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7E66-30BA-4CB3-8CB6-384887F2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4507-520A-4259-B7CE-93FCD641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E172-F0A0-4264-B099-71A8534B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F08A-EE33-467F-81A3-B257311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F131-F4BA-497F-8564-860AE636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2DB8-027C-48D6-8159-FF858DC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4A7-0E54-4803-B577-2EE10F28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5D0E-943A-47AA-B0F8-C3B6B3F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8691-EF46-432E-948C-69F476B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54FF-0350-4E3C-A518-EA2F7F09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537E-6B27-41EF-9D0E-661E1BCD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89D1-96D9-4D0E-AD7C-51CB708D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91B2-91BD-475F-8593-B183EEA6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EB885-CBCF-4634-B21C-C1FA9DE0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6F16-4F63-4747-900E-7CCA514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54FF-5A2B-4BA5-AFED-F95D3515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D445-4814-496D-8D3E-047BC84E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46B-F3A9-4164-8D55-0B35730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BA0C-6853-4A89-AA5E-B949E401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B013-630B-4DAD-8956-070A3F52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9F1A-E16D-43A6-85E3-46710BFC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6821-01B8-4402-8DBA-4889286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C550-150A-4839-99BF-5DFA7B0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0ADA-38A4-4414-9E3C-87FDFD32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3A45-E11E-4910-A698-A11E64B7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2E66B-1547-4ED1-8420-52C910F1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7397-9515-4731-AB0B-A38DE94C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D004-01C0-4DFD-A925-A9D7BB94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C12-4333-4853-BC84-3BD28A88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0A57-F0AA-488B-AC8C-4ADEAB27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A2C5C-9203-45C1-AAB3-BE7DA13D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7A51-D6F3-4F5B-89B6-1E3F17B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DEDC-7491-4924-BF00-6C027085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97C3-9D92-4564-A9C3-E7DD763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47D8-D673-429C-941F-C191106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E8D4-4996-4E78-98B8-CA6F79E1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9D0F-84D4-49A9-B1CF-E91FD19A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2750C-47B2-41EC-9C5E-9F5EC3CC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D04E1-6F77-4A4E-83D1-4738204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A51-5B39-4B87-998D-72A952B4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5C592-314E-4DC1-BE8B-2E1CDAFA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8C50-4626-41BF-8F05-9EE01DF7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FCB9C-B3F5-48DD-BBE3-02FB4AC2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C0031-6163-4563-9E13-B61C0E1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BC2D7-28D8-4C38-B1DC-0F67E2A3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392AC-ECF1-447E-BFBE-B5095BE5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635E0-0895-4F13-9F5E-D991F38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8FA0-EAE1-4274-A7C3-232E81C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DBCB8-4955-4D90-8B89-783B7E9D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4C85-1DA4-48EE-9AF9-B30E8431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E29-B239-4CD5-9CE5-742B7A4D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62B2B-F8EE-4819-91A4-5446244C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4C478-EBDD-443B-A7D4-8F91E1A9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5C7A2-6D3F-4A4A-BB5F-02C38484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FDEFA-3CED-4D62-919C-56AF17CE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4B9E-C413-4367-AAE5-87EC3F78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2B84E-F3E4-42BC-A824-B01DDB27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8C19-2A04-466A-9CE5-3D1BECBA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CAF8-993F-4797-A73F-8CC6195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25DA2-1BD0-4484-A025-50ED3E2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79D6-B716-4E51-932F-66444823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8FE-A256-4A32-9324-A4E62818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D6D7A-E774-4285-BBAA-5D8EF0FC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67190-62EC-4793-BC5A-88FD4576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53A25-B46B-49D2-B6E6-16291DEE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7A321-30DE-47EB-BA92-879633E5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2DECF-3D5D-4EBC-B8A2-5C4231CE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77802-CA9A-4069-9BBA-B6BEE9CB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E9666-488B-4AA2-BD92-71F7B3E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4BA6-57E0-4C75-827B-81A530FE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FC626-970D-4527-A938-AE51B27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6A7F-D2C1-40B7-9493-A70E53BC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F89-352F-43A8-9475-21C0526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D4A93-C9FF-4359-B37A-F190188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4DDC7-B283-4847-A224-26376CCD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2B35A-ADD0-4A56-8423-8E08DD5A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25ABD-B9F0-4846-A6EB-35C61217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E5020-1925-4CE5-91F1-C5E21AC3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592F9-ECE2-4DB6-8584-7B06622F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0050-3C32-44FA-B44C-3EAA6F0B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9CDFF-3A2B-4209-AB29-A34331E1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715BB-641D-4F9A-86E5-8646BE3E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673AF-BDA5-4977-8F56-41DDC398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BEE-FA65-473D-8A6F-37F23CC6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9722D-46B4-4554-9606-A0821B78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DBFA3-7C28-4401-9BBE-15D59F1F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C7DD-0D0A-4673-BB8D-849DA584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46391-E05E-4BD9-8DD4-0564514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92CEC-3CE6-42A2-9C20-DBB7E3FE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0E71-A84A-44D7-B474-4F89E54B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02574-5577-4557-A70F-C5D456EA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" name="Freeform 2"/>
            <p:cNvSpPr/>
            <p:nvPr/>
          </p:nvSpPr>
          <p:spPr>
            <a:xfrm>
              <a:off x="-87480" y="5155560"/>
              <a:ext cx="769680" cy="128880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" name="Freeform 7"/>
            <p:cNvSpPr/>
            <p:nvPr/>
          </p:nvSpPr>
          <p:spPr>
            <a:xfrm>
              <a:off x="67680" y="2699640"/>
              <a:ext cx="1158480" cy="123444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" name="Group 14"/>
              <p:cNvGrpSpPr/>
              <p:nvPr/>
            </p:nvGrpSpPr>
            <p:grpSpPr>
              <a:xfrm>
                <a:off x="664560" y="3668040"/>
                <a:ext cx="2072520" cy="2038680"/>
                <a:chOff x="664560" y="3668040"/>
                <a:chExt cx="2072520" cy="2038680"/>
              </a:xfrm>
            </p:grpSpPr>
            <p:sp>
              <p:nvSpPr>
                <p:cNvPr id="14" name="Freeform 15"/>
                <p:cNvSpPr/>
                <p:nvPr/>
              </p:nvSpPr>
              <p:spPr>
                <a:xfrm flipH="1" rot="7140000">
                  <a:off x="1107000" y="3574800"/>
                  <a:ext cx="588240" cy="1359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 flipH="1" rot="7140000">
                  <a:off x="2321640" y="4812840"/>
                  <a:ext cx="134640" cy="5569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Freeform 30"/>
            <p:cNvSpPr/>
            <p:nvPr/>
          </p:nvSpPr>
          <p:spPr>
            <a:xfrm>
              <a:off x="62640" y="57600"/>
              <a:ext cx="1140480" cy="12146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 rot="840000">
              <a:off x="317520" y="5383440"/>
              <a:ext cx="213840" cy="2667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 rot="840000">
              <a:off x="356400" y="5686200"/>
              <a:ext cx="106200" cy="67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-60840" y="6519960"/>
              <a:ext cx="190800" cy="334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-79200" y="6291360"/>
              <a:ext cx="210600" cy="204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-79200" y="6260760"/>
              <a:ext cx="74880" cy="136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-79200" y="5118480"/>
              <a:ext cx="810360" cy="11890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rot="1560000">
              <a:off x="-46080" y="564480"/>
              <a:ext cx="560520" cy="392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rot="1560000">
              <a:off x="315720" y="1121040"/>
              <a:ext cx="271080" cy="183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rot="1560000">
              <a:off x="858240" y="366480"/>
              <a:ext cx="238680" cy="255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rot="1560000">
              <a:off x="307800" y="1064520"/>
              <a:ext cx="9936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 rot="1560000">
              <a:off x="877680" y="654480"/>
              <a:ext cx="115920" cy="6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-79200" y="1332000"/>
              <a:ext cx="586440" cy="10443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 rot="1560000">
              <a:off x="11880" y="39240"/>
              <a:ext cx="1312200" cy="11023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45BA69-3459-4E2C-BAFF-C9BA940559D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85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86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246600" y="2000160"/>
              <a:ext cx="2001240" cy="2430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-20520" y="4143240"/>
              <a:ext cx="1272960" cy="7272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1872720" y="5195880"/>
              <a:ext cx="1761120" cy="166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100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104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108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112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116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Freeform 36"/>
            <p:cNvSpPr/>
            <p:nvPr/>
          </p:nvSpPr>
          <p:spPr>
            <a:xfrm>
              <a:off x="1915920" y="3240"/>
              <a:ext cx="1369440" cy="14047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>
              <a:off x="2530080" y="0"/>
              <a:ext cx="195480" cy="19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>
              <a:off x="-20520" y="2933640"/>
              <a:ext cx="55440" cy="2080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9550A0-E651-4A14-8CA8-97FDB6034EC1}" type="slidenum">
              <a:rPr b="0" lang="ru-RU" sz="14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07D806-EF61-44A1-AE35-96D4417697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B8CF2C-DEAA-4048-A944-9D76D37774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1"/>
          <p:cNvGrpSpPr/>
          <p:nvPr/>
        </p:nvGrpSpPr>
        <p:grpSpPr>
          <a:xfrm>
            <a:off x="6226200" y="-54720"/>
            <a:ext cx="3009600" cy="3366000"/>
            <a:chOff x="6226200" y="-54720"/>
            <a:chExt cx="3009600" cy="3366000"/>
          </a:xfrm>
        </p:grpSpPr>
        <p:grpSp>
          <p:nvGrpSpPr>
            <p:cNvPr id="248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49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4"/>
              <p:cNvSpPr/>
              <p:nvPr/>
            </p:nvSpPr>
            <p:spPr>
              <a:xfrm>
                <a:off x="7927920" y="282888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252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7"/>
              <p:cNvSpPr/>
              <p:nvPr/>
            </p:nvSpPr>
            <p:spPr>
              <a:xfrm>
                <a:off x="8159760" y="177336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255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0"/>
              <p:cNvSpPr/>
              <p:nvPr/>
            </p:nvSpPr>
            <p:spPr>
              <a:xfrm>
                <a:off x="6689880" y="328680"/>
                <a:ext cx="239400" cy="139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1"/>
            <p:cNvGrpSpPr/>
            <p:nvPr/>
          </p:nvGrpSpPr>
          <p:grpSpPr>
            <a:xfrm>
              <a:off x="6226200" y="-54720"/>
              <a:ext cx="3009600" cy="3366000"/>
              <a:chOff x="6226200" y="-54720"/>
              <a:chExt cx="3009600" cy="3366000"/>
            </a:xfrm>
          </p:grpSpPr>
          <p:grpSp>
            <p:nvGrpSpPr>
              <p:cNvPr id="258" name="Group 12"/>
              <p:cNvGrpSpPr/>
              <p:nvPr/>
            </p:nvGrpSpPr>
            <p:grpSpPr>
              <a:xfrm>
                <a:off x="6991560" y="403200"/>
                <a:ext cx="1497600" cy="1103400"/>
                <a:chOff x="6991560" y="403200"/>
                <a:chExt cx="1497600" cy="1103400"/>
              </a:xfrm>
            </p:grpSpPr>
            <p:sp>
              <p:nvSpPr>
                <p:cNvPr id="259" name="Oval 13"/>
                <p:cNvSpPr/>
                <p:nvPr/>
              </p:nvSpPr>
              <p:spPr>
                <a:xfrm>
                  <a:off x="6991560" y="403200"/>
                  <a:ext cx="149760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"/>
                <p:cNvSpPr/>
                <p:nvPr/>
              </p:nvSpPr>
              <p:spPr>
                <a:xfrm>
                  <a:off x="7563240" y="806400"/>
                  <a:ext cx="295200" cy="20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15"/>
              <p:cNvGrpSpPr/>
              <p:nvPr/>
            </p:nvGrpSpPr>
            <p:grpSpPr>
              <a:xfrm>
                <a:off x="6226200" y="-54720"/>
                <a:ext cx="2961360" cy="2340360"/>
                <a:chOff x="6226200" y="-54720"/>
                <a:chExt cx="2961360" cy="2340360"/>
              </a:xfrm>
            </p:grpSpPr>
            <p:grpSp>
              <p:nvGrpSpPr>
                <p:cNvPr id="262" name="Group 16"/>
                <p:cNvGrpSpPr/>
                <p:nvPr/>
              </p:nvGrpSpPr>
              <p:grpSpPr>
                <a:xfrm>
                  <a:off x="7575120" y="874800"/>
                  <a:ext cx="1421640" cy="1189800"/>
                  <a:chOff x="7575120" y="874800"/>
                  <a:chExt cx="1421640" cy="1189800"/>
                </a:xfrm>
              </p:grpSpPr>
              <p:sp>
                <p:nvSpPr>
                  <p:cNvPr id="263" name="Freeform 17"/>
                  <p:cNvSpPr/>
                  <p:nvPr/>
                </p:nvSpPr>
                <p:spPr>
                  <a:xfrm rot="2700000">
                    <a:off x="7544160" y="1134720"/>
                    <a:ext cx="844920" cy="26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18"/>
                  <p:cNvSpPr/>
                  <p:nvPr/>
                </p:nvSpPr>
                <p:spPr>
                  <a:xfrm rot="2700000">
                    <a:off x="8463960" y="1551960"/>
                    <a:ext cx="452880" cy="412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19"/>
                <p:cNvGrpSpPr/>
                <p:nvPr/>
              </p:nvGrpSpPr>
              <p:grpSpPr>
                <a:xfrm>
                  <a:off x="7852320" y="529920"/>
                  <a:ext cx="1335240" cy="1397880"/>
                  <a:chOff x="7852320" y="529920"/>
                  <a:chExt cx="1335240" cy="1397880"/>
                </a:xfrm>
              </p:grpSpPr>
              <p:sp>
                <p:nvSpPr>
                  <p:cNvPr id="266" name="Freeform 20"/>
                  <p:cNvSpPr/>
                  <p:nvPr/>
                </p:nvSpPr>
                <p:spPr>
                  <a:xfrm rot="2100000">
                    <a:off x="7845840" y="772200"/>
                    <a:ext cx="931320" cy="271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21"/>
                  <p:cNvSpPr/>
                  <p:nvPr/>
                </p:nvSpPr>
                <p:spPr>
                  <a:xfrm rot="2100000">
                    <a:off x="8610480" y="1394280"/>
                    <a:ext cx="498960" cy="42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2"/>
                <p:cNvGrpSpPr/>
                <p:nvPr/>
              </p:nvGrpSpPr>
              <p:grpSpPr>
                <a:xfrm>
                  <a:off x="7835760" y="550080"/>
                  <a:ext cx="1347480" cy="1100160"/>
                  <a:chOff x="7835760" y="550080"/>
                  <a:chExt cx="1347480" cy="1100160"/>
                </a:xfrm>
              </p:grpSpPr>
              <p:sp>
                <p:nvSpPr>
                  <p:cNvPr id="269" name="Freeform 23"/>
                  <p:cNvSpPr/>
                  <p:nvPr/>
                </p:nvSpPr>
                <p:spPr>
                  <a:xfrm rot="1560000">
                    <a:off x="7841160" y="735480"/>
                    <a:ext cx="901080" cy="23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24"/>
                  <p:cNvSpPr/>
                  <p:nvPr/>
                </p:nvSpPr>
                <p:spPr>
                  <a:xfrm rot="1560000">
                    <a:off x="8643960" y="1194120"/>
                    <a:ext cx="482760" cy="369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25"/>
                <p:cNvGrpSpPr/>
                <p:nvPr/>
              </p:nvGrpSpPr>
              <p:grpSpPr>
                <a:xfrm>
                  <a:off x="7822800" y="565200"/>
                  <a:ext cx="1364400" cy="862920"/>
                  <a:chOff x="7822800" y="565200"/>
                  <a:chExt cx="1364400" cy="862920"/>
                </a:xfrm>
              </p:grpSpPr>
              <p:sp>
                <p:nvSpPr>
                  <p:cNvPr id="272" name="Freeform 26"/>
                  <p:cNvSpPr/>
                  <p:nvPr/>
                </p:nvSpPr>
                <p:spPr>
                  <a:xfrm rot="1080000">
                    <a:off x="7838280" y="695880"/>
                    <a:ext cx="883800" cy="239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27"/>
                  <p:cNvSpPr/>
                  <p:nvPr/>
                </p:nvSpPr>
                <p:spPr>
                  <a:xfrm rot="1080000">
                    <a:off x="8666280" y="984960"/>
                    <a:ext cx="473760" cy="37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28"/>
                <p:cNvGrpSpPr/>
                <p:nvPr/>
              </p:nvGrpSpPr>
              <p:grpSpPr>
                <a:xfrm>
                  <a:off x="7844400" y="603000"/>
                  <a:ext cx="1251000" cy="499680"/>
                  <a:chOff x="7844400" y="603000"/>
                  <a:chExt cx="1251000" cy="499680"/>
                </a:xfrm>
              </p:grpSpPr>
              <p:sp>
                <p:nvSpPr>
                  <p:cNvPr id="275" name="Freeform 29"/>
                  <p:cNvSpPr/>
                  <p:nvPr/>
                </p:nvSpPr>
                <p:spPr>
                  <a:xfrm rot="480000">
                    <a:off x="7854120" y="657720"/>
                    <a:ext cx="804960" cy="19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30"/>
                  <p:cNvSpPr/>
                  <p:nvPr/>
                </p:nvSpPr>
                <p:spPr>
                  <a:xfrm rot="480000">
                    <a:off x="8644320" y="766080"/>
                    <a:ext cx="431640" cy="307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1"/>
                <p:cNvGrpSpPr/>
                <p:nvPr/>
              </p:nvGrpSpPr>
              <p:grpSpPr>
                <a:xfrm>
                  <a:off x="7871400" y="627480"/>
                  <a:ext cx="1109520" cy="195840"/>
                  <a:chOff x="7871400" y="627480"/>
                  <a:chExt cx="1109520" cy="195840"/>
                </a:xfrm>
              </p:grpSpPr>
              <p:sp>
                <p:nvSpPr>
                  <p:cNvPr id="278" name="Freeform 32"/>
                  <p:cNvSpPr/>
                  <p:nvPr/>
                </p:nvSpPr>
                <p:spPr>
                  <a:xfrm rot="21480000">
                    <a:off x="7872840" y="643680"/>
                    <a:ext cx="721080" cy="115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33"/>
                  <p:cNvSpPr/>
                  <p:nvPr/>
                </p:nvSpPr>
                <p:spPr>
                  <a:xfrm rot="21480000">
                    <a:off x="8591040" y="633960"/>
                    <a:ext cx="386640" cy="18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4"/>
                <p:cNvGrpSpPr/>
                <p:nvPr/>
              </p:nvGrpSpPr>
              <p:grpSpPr>
                <a:xfrm>
                  <a:off x="7836120" y="381240"/>
                  <a:ext cx="1018440" cy="439200"/>
                  <a:chOff x="7836120" y="381240"/>
                  <a:chExt cx="1018440" cy="439200"/>
                </a:xfrm>
              </p:grpSpPr>
              <p:sp>
                <p:nvSpPr>
                  <p:cNvPr id="281" name="Freeform 35"/>
                  <p:cNvSpPr/>
                  <p:nvPr/>
                </p:nvSpPr>
                <p:spPr>
                  <a:xfrm rot="20760000">
                    <a:off x="7845840" y="582840"/>
                    <a:ext cx="645480" cy="16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36"/>
                  <p:cNvSpPr/>
                  <p:nvPr/>
                </p:nvSpPr>
                <p:spPr>
                  <a:xfrm rot="20760000">
                    <a:off x="8483040" y="419040"/>
                    <a:ext cx="345240" cy="256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37"/>
                <p:cNvGrpSpPr/>
                <p:nvPr/>
              </p:nvGrpSpPr>
              <p:grpSpPr>
                <a:xfrm>
                  <a:off x="6438960" y="938880"/>
                  <a:ext cx="1422000" cy="1188720"/>
                  <a:chOff x="6438960" y="938880"/>
                  <a:chExt cx="1422000" cy="1188720"/>
                </a:xfrm>
              </p:grpSpPr>
              <p:sp>
                <p:nvSpPr>
                  <p:cNvPr id="284" name="Freeform 38"/>
                  <p:cNvSpPr/>
                  <p:nvPr/>
                </p:nvSpPr>
                <p:spPr>
                  <a:xfrm flipH="1" rot="18900000">
                    <a:off x="7047720" y="1199160"/>
                    <a:ext cx="844560" cy="26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39"/>
                  <p:cNvSpPr/>
                  <p:nvPr/>
                </p:nvSpPr>
                <p:spPr>
                  <a:xfrm flipH="1" rot="18900000">
                    <a:off x="6517800" y="1616760"/>
                    <a:ext cx="452520" cy="410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40"/>
                <p:cNvGrpSpPr/>
                <p:nvPr/>
              </p:nvGrpSpPr>
              <p:grpSpPr>
                <a:xfrm>
                  <a:off x="6226200" y="618840"/>
                  <a:ext cx="1336680" cy="1398600"/>
                  <a:chOff x="6226200" y="618840"/>
                  <a:chExt cx="1336680" cy="1398600"/>
                </a:xfrm>
              </p:grpSpPr>
              <p:sp>
                <p:nvSpPr>
                  <p:cNvPr id="287" name="Freeform 41"/>
                  <p:cNvSpPr/>
                  <p:nvPr/>
                </p:nvSpPr>
                <p:spPr>
                  <a:xfrm flipH="1" rot="19500000">
                    <a:off x="6637680" y="861120"/>
                    <a:ext cx="931680" cy="271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42"/>
                  <p:cNvSpPr/>
                  <p:nvPr/>
                </p:nvSpPr>
                <p:spPr>
                  <a:xfrm flipH="1" rot="19500000">
                    <a:off x="6303600" y="1484640"/>
                    <a:ext cx="499320" cy="42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43"/>
                <p:cNvGrpSpPr/>
                <p:nvPr/>
              </p:nvGrpSpPr>
              <p:grpSpPr>
                <a:xfrm>
                  <a:off x="6229800" y="642240"/>
                  <a:ext cx="1350360" cy="1099800"/>
                  <a:chOff x="6229800" y="642240"/>
                  <a:chExt cx="1350360" cy="1099800"/>
                </a:xfrm>
              </p:grpSpPr>
              <p:sp>
                <p:nvSpPr>
                  <p:cNvPr id="290" name="Freeform 44"/>
                  <p:cNvSpPr/>
                  <p:nvPr/>
                </p:nvSpPr>
                <p:spPr>
                  <a:xfrm flipH="1" rot="20040000">
                    <a:off x="6672960" y="827640"/>
                    <a:ext cx="901080" cy="23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45"/>
                  <p:cNvSpPr/>
                  <p:nvPr/>
                </p:nvSpPr>
                <p:spPr>
                  <a:xfrm flipH="1" rot="20040000">
                    <a:off x="6286320" y="1285200"/>
                    <a:ext cx="482760" cy="36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46"/>
                <p:cNvGrpSpPr/>
                <p:nvPr/>
              </p:nvGrpSpPr>
              <p:grpSpPr>
                <a:xfrm>
                  <a:off x="6226560" y="657720"/>
                  <a:ext cx="1364400" cy="861480"/>
                  <a:chOff x="6226560" y="657720"/>
                  <a:chExt cx="1364400" cy="861480"/>
                </a:xfrm>
              </p:grpSpPr>
              <p:sp>
                <p:nvSpPr>
                  <p:cNvPr id="293" name="Freeform 47"/>
                  <p:cNvSpPr/>
                  <p:nvPr/>
                </p:nvSpPr>
                <p:spPr>
                  <a:xfrm flipH="1" rot="20520000">
                    <a:off x="6694200" y="787680"/>
                    <a:ext cx="881280" cy="239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48"/>
                  <p:cNvSpPr/>
                  <p:nvPr/>
                </p:nvSpPr>
                <p:spPr>
                  <a:xfrm flipH="1" rot="20520000">
                    <a:off x="6273360" y="1076760"/>
                    <a:ext cx="472680" cy="37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Group 49"/>
                <p:cNvGrpSpPr/>
                <p:nvPr/>
              </p:nvGrpSpPr>
              <p:grpSpPr>
                <a:xfrm>
                  <a:off x="6319080" y="694800"/>
                  <a:ext cx="1250640" cy="498240"/>
                  <a:chOff x="6319080" y="694800"/>
                  <a:chExt cx="1250640" cy="498240"/>
                </a:xfrm>
              </p:grpSpPr>
              <p:sp>
                <p:nvSpPr>
                  <p:cNvPr id="296" name="Freeform 50"/>
                  <p:cNvSpPr/>
                  <p:nvPr/>
                </p:nvSpPr>
                <p:spPr>
                  <a:xfrm flipH="1" rot="21120000">
                    <a:off x="6754320" y="749520"/>
                    <a:ext cx="805320" cy="195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51"/>
                  <p:cNvSpPr/>
                  <p:nvPr/>
                </p:nvSpPr>
                <p:spPr>
                  <a:xfrm flipH="1" rot="21120000">
                    <a:off x="6337800" y="856440"/>
                    <a:ext cx="432000" cy="307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Group 52"/>
                <p:cNvGrpSpPr/>
                <p:nvPr/>
              </p:nvGrpSpPr>
              <p:grpSpPr>
                <a:xfrm>
                  <a:off x="6432480" y="716040"/>
                  <a:ext cx="1109520" cy="196200"/>
                  <a:chOff x="6432480" y="716040"/>
                  <a:chExt cx="1109520" cy="196200"/>
                </a:xfrm>
              </p:grpSpPr>
              <p:sp>
                <p:nvSpPr>
                  <p:cNvPr id="299" name="Freeform 53"/>
                  <p:cNvSpPr/>
                  <p:nvPr/>
                </p:nvSpPr>
                <p:spPr>
                  <a:xfrm flipH="1" rot="120000">
                    <a:off x="6818760" y="732600"/>
                    <a:ext cx="721080" cy="117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54"/>
                  <p:cNvSpPr/>
                  <p:nvPr/>
                </p:nvSpPr>
                <p:spPr>
                  <a:xfrm flipH="1" rot="120000">
                    <a:off x="6435360" y="722520"/>
                    <a:ext cx="387000" cy="18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55"/>
                <p:cNvGrpSpPr/>
                <p:nvPr/>
              </p:nvGrpSpPr>
              <p:grpSpPr>
                <a:xfrm>
                  <a:off x="6558480" y="471960"/>
                  <a:ext cx="1019160" cy="438840"/>
                  <a:chOff x="6558480" y="471960"/>
                  <a:chExt cx="1019160" cy="438840"/>
                </a:xfrm>
              </p:grpSpPr>
              <p:sp>
                <p:nvSpPr>
                  <p:cNvPr id="302" name="Freeform 56"/>
                  <p:cNvSpPr/>
                  <p:nvPr/>
                </p:nvSpPr>
                <p:spPr>
                  <a:xfrm flipH="1" rot="840000">
                    <a:off x="6923520" y="673920"/>
                    <a:ext cx="6440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57"/>
                  <p:cNvSpPr/>
                  <p:nvPr/>
                </p:nvSpPr>
                <p:spPr>
                  <a:xfrm flipH="1" rot="840000">
                    <a:off x="6584400" y="509760"/>
                    <a:ext cx="344880" cy="257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58"/>
                <p:cNvGrpSpPr/>
                <p:nvPr/>
              </p:nvGrpSpPr>
              <p:grpSpPr>
                <a:xfrm>
                  <a:off x="6600600" y="338400"/>
                  <a:ext cx="1013760" cy="611640"/>
                  <a:chOff x="6600600" y="338400"/>
                  <a:chExt cx="1013760" cy="611640"/>
                </a:xfrm>
              </p:grpSpPr>
              <p:sp>
                <p:nvSpPr>
                  <p:cNvPr id="305" name="Freeform 59"/>
                  <p:cNvSpPr/>
                  <p:nvPr/>
                </p:nvSpPr>
                <p:spPr>
                  <a:xfrm flipH="1" rot="1260000">
                    <a:off x="6964560" y="667440"/>
                    <a:ext cx="63972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60"/>
                  <p:cNvSpPr/>
                  <p:nvPr/>
                </p:nvSpPr>
                <p:spPr>
                  <a:xfrm flipH="1" rot="1260000">
                    <a:off x="6637680" y="390600"/>
                    <a:ext cx="343080" cy="27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61"/>
                <p:cNvGrpSpPr/>
                <p:nvPr/>
              </p:nvGrpSpPr>
              <p:grpSpPr>
                <a:xfrm>
                  <a:off x="6701040" y="152640"/>
                  <a:ext cx="948600" cy="855720"/>
                  <a:chOff x="6701040" y="152640"/>
                  <a:chExt cx="948600" cy="855720"/>
                </a:xfrm>
              </p:grpSpPr>
              <p:sp>
                <p:nvSpPr>
                  <p:cNvPr id="308" name="Freeform 62"/>
                  <p:cNvSpPr/>
                  <p:nvPr/>
                </p:nvSpPr>
                <p:spPr>
                  <a:xfrm flipH="1" rot="2040000">
                    <a:off x="7025760" y="669600"/>
                    <a:ext cx="6274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63"/>
                  <p:cNvSpPr/>
                  <p:nvPr/>
                </p:nvSpPr>
                <p:spPr>
                  <a:xfrm flipH="1" rot="2040000">
                    <a:off x="6751080" y="222120"/>
                    <a:ext cx="335520" cy="28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64"/>
                <p:cNvGrpSpPr/>
                <p:nvPr/>
              </p:nvGrpSpPr>
              <p:grpSpPr>
                <a:xfrm>
                  <a:off x="6813000" y="-16200"/>
                  <a:ext cx="852840" cy="1022040"/>
                  <a:chOff x="6813000" y="-16200"/>
                  <a:chExt cx="852840" cy="1022040"/>
                </a:xfrm>
              </p:grpSpPr>
              <p:sp>
                <p:nvSpPr>
                  <p:cNvPr id="311" name="Freeform 65"/>
                  <p:cNvSpPr/>
                  <p:nvPr/>
                </p:nvSpPr>
                <p:spPr>
                  <a:xfrm flipH="1" rot="2700000">
                    <a:off x="7082640" y="636480"/>
                    <a:ext cx="608040" cy="180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66"/>
                  <p:cNvSpPr/>
                  <p:nvPr/>
                </p:nvSpPr>
                <p:spPr>
                  <a:xfrm flipH="1" rot="2700000">
                    <a:off x="6866640" y="56880"/>
                    <a:ext cx="325800" cy="28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67"/>
                <p:cNvGrpSpPr/>
                <p:nvPr/>
              </p:nvGrpSpPr>
              <p:grpSpPr>
                <a:xfrm>
                  <a:off x="7050960" y="-30240"/>
                  <a:ext cx="805680" cy="829440"/>
                  <a:chOff x="7050960" y="-30240"/>
                  <a:chExt cx="805680" cy="829440"/>
                </a:xfrm>
              </p:grpSpPr>
              <p:sp>
                <p:nvSpPr>
                  <p:cNvPr id="314" name="Freeform 68"/>
                  <p:cNvSpPr/>
                  <p:nvPr/>
                </p:nvSpPr>
                <p:spPr>
                  <a:xfrm flipH="1" rot="3480000">
                    <a:off x="7349760" y="431280"/>
                    <a:ext cx="570960" cy="16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69"/>
                  <p:cNvSpPr/>
                  <p:nvPr/>
                </p:nvSpPr>
                <p:spPr>
                  <a:xfrm flipH="1" rot="3480000">
                    <a:off x="7089120" y="38160"/>
                    <a:ext cx="305640" cy="260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70"/>
                <p:cNvGrpSpPr/>
                <p:nvPr/>
              </p:nvGrpSpPr>
              <p:grpSpPr>
                <a:xfrm>
                  <a:off x="7243200" y="-54720"/>
                  <a:ext cx="604800" cy="850320"/>
                  <a:chOff x="7243200" y="-54720"/>
                  <a:chExt cx="604800" cy="850320"/>
                </a:xfrm>
              </p:grpSpPr>
              <p:sp>
                <p:nvSpPr>
                  <p:cNvPr id="317" name="Freeform 71"/>
                  <p:cNvSpPr/>
                  <p:nvPr/>
                </p:nvSpPr>
                <p:spPr>
                  <a:xfrm flipH="1" rot="4140000">
                    <a:off x="7397280" y="430200"/>
                    <a:ext cx="557280" cy="15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72"/>
                  <p:cNvSpPr/>
                  <p:nvPr/>
                </p:nvSpPr>
                <p:spPr>
                  <a:xfrm flipH="1" rot="4140000">
                    <a:off x="7261920" y="5400"/>
                    <a:ext cx="29808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73"/>
                <p:cNvGrpSpPr/>
                <p:nvPr/>
              </p:nvGrpSpPr>
              <p:grpSpPr>
                <a:xfrm>
                  <a:off x="7784640" y="217080"/>
                  <a:ext cx="1010160" cy="630360"/>
                  <a:chOff x="7784640" y="217080"/>
                  <a:chExt cx="1010160" cy="630360"/>
                </a:xfrm>
              </p:grpSpPr>
              <p:sp>
                <p:nvSpPr>
                  <p:cNvPr id="320" name="Freeform 74"/>
                  <p:cNvSpPr/>
                  <p:nvPr/>
                </p:nvSpPr>
                <p:spPr>
                  <a:xfrm rot="20280000">
                    <a:off x="7793280" y="560520"/>
                    <a:ext cx="6433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75"/>
                  <p:cNvSpPr/>
                  <p:nvPr/>
                </p:nvSpPr>
                <p:spPr>
                  <a:xfrm rot="20280000">
                    <a:off x="8411040" y="271440"/>
                    <a:ext cx="344880" cy="273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76"/>
                <p:cNvGrpSpPr/>
                <p:nvPr/>
              </p:nvGrpSpPr>
              <p:grpSpPr>
                <a:xfrm>
                  <a:off x="7738920" y="67680"/>
                  <a:ext cx="963000" cy="826920"/>
                  <a:chOff x="7738920" y="67680"/>
                  <a:chExt cx="963000" cy="826920"/>
                </a:xfrm>
              </p:grpSpPr>
              <p:sp>
                <p:nvSpPr>
                  <p:cNvPr id="323" name="Freeform 77"/>
                  <p:cNvSpPr/>
                  <p:nvPr/>
                </p:nvSpPr>
                <p:spPr>
                  <a:xfrm rot="19680000">
                    <a:off x="7737840" y="561240"/>
                    <a:ext cx="6343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78"/>
                  <p:cNvSpPr/>
                  <p:nvPr/>
                </p:nvSpPr>
                <p:spPr>
                  <a:xfrm rot="19680000">
                    <a:off x="8313120" y="136080"/>
                    <a:ext cx="339480" cy="282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5" name="Freeform 79"/>
                <p:cNvSpPr/>
                <p:nvPr/>
              </p:nvSpPr>
              <p:spPr>
                <a:xfrm flipH="1" rot="4560000">
                  <a:off x="7419960" y="488520"/>
                  <a:ext cx="525600" cy="72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80"/>
                <p:cNvSpPr/>
                <p:nvPr/>
              </p:nvSpPr>
              <p:spPr>
                <a:xfrm flipH="1" rot="4560000">
                  <a:off x="7432200" y="101160"/>
                  <a:ext cx="280800" cy="1159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7" name="Group 81"/>
                <p:cNvGrpSpPr/>
                <p:nvPr/>
              </p:nvGrpSpPr>
              <p:grpSpPr>
                <a:xfrm>
                  <a:off x="7552800" y="-44640"/>
                  <a:ext cx="662040" cy="826200"/>
                  <a:chOff x="7552800" y="-44640"/>
                  <a:chExt cx="662040" cy="826200"/>
                </a:xfrm>
              </p:grpSpPr>
              <p:sp>
                <p:nvSpPr>
                  <p:cNvPr id="328" name="Freeform 82"/>
                  <p:cNvSpPr/>
                  <p:nvPr/>
                </p:nvSpPr>
                <p:spPr>
                  <a:xfrm rot="17760000">
                    <a:off x="7460640" y="432720"/>
                    <a:ext cx="551160" cy="140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83"/>
                  <p:cNvSpPr/>
                  <p:nvPr/>
                </p:nvSpPr>
                <p:spPr>
                  <a:xfrm rot="17760000">
                    <a:off x="7902720" y="25200"/>
                    <a:ext cx="294840" cy="222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84"/>
                <p:cNvGrpSpPr/>
                <p:nvPr/>
              </p:nvGrpSpPr>
              <p:grpSpPr>
                <a:xfrm>
                  <a:off x="7488360" y="-30600"/>
                  <a:ext cx="1022760" cy="804240"/>
                  <a:chOff x="7488360" y="-30600"/>
                  <a:chExt cx="1022760" cy="804240"/>
                </a:xfrm>
              </p:grpSpPr>
              <p:sp>
                <p:nvSpPr>
                  <p:cNvPr id="331" name="Freeform 85"/>
                  <p:cNvSpPr/>
                  <p:nvPr/>
                </p:nvSpPr>
                <p:spPr>
                  <a:xfrm rot="18840000">
                    <a:off x="7472880" y="387000"/>
                    <a:ext cx="587160" cy="206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86"/>
                  <p:cNvSpPr/>
                  <p:nvPr/>
                </p:nvSpPr>
                <p:spPr>
                  <a:xfrm rot="18840000">
                    <a:off x="8128080" y="32400"/>
                    <a:ext cx="313920" cy="32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87"/>
                <p:cNvGrpSpPr/>
                <p:nvPr/>
              </p:nvGrpSpPr>
              <p:grpSpPr>
                <a:xfrm>
                  <a:off x="7675920" y="-6840"/>
                  <a:ext cx="227520" cy="752400"/>
                  <a:chOff x="7675920" y="-6840"/>
                  <a:chExt cx="227520" cy="752400"/>
                </a:xfrm>
              </p:grpSpPr>
              <p:sp>
                <p:nvSpPr>
                  <p:cNvPr id="334" name="Freeform 88"/>
                  <p:cNvSpPr/>
                  <p:nvPr/>
                </p:nvSpPr>
                <p:spPr>
                  <a:xfrm rot="16680000">
                    <a:off x="7493760" y="466200"/>
                    <a:ext cx="492840" cy="6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89"/>
                  <p:cNvSpPr/>
                  <p:nvPr/>
                </p:nvSpPr>
                <p:spPr>
                  <a:xfrm rot="16680000">
                    <a:off x="7704720" y="81000"/>
                    <a:ext cx="263160" cy="98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90"/>
                <p:cNvGrpSpPr/>
                <p:nvPr/>
              </p:nvGrpSpPr>
              <p:grpSpPr>
                <a:xfrm>
                  <a:off x="6610320" y="938880"/>
                  <a:ext cx="1244160" cy="1316520"/>
                  <a:chOff x="6610320" y="938880"/>
                  <a:chExt cx="1244160" cy="1316520"/>
                </a:xfrm>
              </p:grpSpPr>
              <p:sp>
                <p:nvSpPr>
                  <p:cNvPr id="337" name="Freeform 91"/>
                  <p:cNvSpPr/>
                  <p:nvPr/>
                </p:nvSpPr>
                <p:spPr>
                  <a:xfrm flipH="1" rot="18360000">
                    <a:off x="7051320" y="1240560"/>
                    <a:ext cx="878760" cy="260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92"/>
                  <p:cNvSpPr/>
                  <p:nvPr/>
                </p:nvSpPr>
                <p:spPr>
                  <a:xfrm flipH="1" rot="18360000">
                    <a:off x="6678360" y="1740240"/>
                    <a:ext cx="471240" cy="408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93"/>
                <p:cNvGrpSpPr/>
                <p:nvPr/>
              </p:nvGrpSpPr>
              <p:grpSpPr>
                <a:xfrm>
                  <a:off x="6943680" y="964440"/>
                  <a:ext cx="831240" cy="1320480"/>
                  <a:chOff x="6943680" y="964440"/>
                  <a:chExt cx="831240" cy="1320480"/>
                </a:xfrm>
              </p:grpSpPr>
              <p:sp>
                <p:nvSpPr>
                  <p:cNvPr id="340" name="Freeform 94"/>
                  <p:cNvSpPr/>
                  <p:nvPr/>
                </p:nvSpPr>
                <p:spPr>
                  <a:xfrm flipH="1" rot="17520000">
                    <a:off x="7083360" y="1274400"/>
                    <a:ext cx="837000" cy="24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95"/>
                  <p:cNvSpPr/>
                  <p:nvPr/>
                </p:nvSpPr>
                <p:spPr>
                  <a:xfrm flipH="1" rot="17520000">
                    <a:off x="6984360" y="1807200"/>
                    <a:ext cx="449280" cy="391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96"/>
                <p:cNvGrpSpPr/>
                <p:nvPr/>
              </p:nvGrpSpPr>
              <p:grpSpPr>
                <a:xfrm>
                  <a:off x="7274520" y="990720"/>
                  <a:ext cx="475200" cy="1256040"/>
                  <a:chOff x="7274520" y="990720"/>
                  <a:chExt cx="475200" cy="1256040"/>
                </a:xfrm>
              </p:grpSpPr>
              <p:sp>
                <p:nvSpPr>
                  <p:cNvPr id="343" name="Freeform 97"/>
                  <p:cNvSpPr/>
                  <p:nvPr/>
                </p:nvSpPr>
                <p:spPr>
                  <a:xfrm flipH="1" rot="16860000">
                    <a:off x="7170480" y="1299960"/>
                    <a:ext cx="801720" cy="207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8"/>
                  <p:cNvSpPr/>
                  <p:nvPr/>
                </p:nvSpPr>
                <p:spPr>
                  <a:xfrm flipH="1" rot="16860000">
                    <a:off x="7261200" y="1841760"/>
                    <a:ext cx="428400" cy="326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99"/>
                <p:cNvGrpSpPr/>
                <p:nvPr/>
              </p:nvGrpSpPr>
              <p:grpSpPr>
                <a:xfrm>
                  <a:off x="7558920" y="922680"/>
                  <a:ext cx="1288800" cy="1293840"/>
                  <a:chOff x="7558920" y="922680"/>
                  <a:chExt cx="1288800" cy="1293840"/>
                </a:xfrm>
              </p:grpSpPr>
              <p:sp>
                <p:nvSpPr>
                  <p:cNvPr id="346" name="Freeform 100"/>
                  <p:cNvSpPr/>
                  <p:nvPr/>
                </p:nvSpPr>
                <p:spPr>
                  <a:xfrm rot="3120000">
                    <a:off x="7494480" y="1215720"/>
                    <a:ext cx="871920" cy="26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101"/>
                  <p:cNvSpPr/>
                  <p:nvPr/>
                </p:nvSpPr>
                <p:spPr>
                  <a:xfrm rot="3120000">
                    <a:off x="8307360" y="1698120"/>
                    <a:ext cx="467280" cy="41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102"/>
                <p:cNvGrpSpPr/>
                <p:nvPr/>
              </p:nvGrpSpPr>
              <p:grpSpPr>
                <a:xfrm>
                  <a:off x="7600680" y="948960"/>
                  <a:ext cx="1003680" cy="1333800"/>
                  <a:chOff x="7600680" y="948960"/>
                  <a:chExt cx="1003680" cy="1333800"/>
                </a:xfrm>
              </p:grpSpPr>
              <p:sp>
                <p:nvSpPr>
                  <p:cNvPr id="349" name="Freeform 103"/>
                  <p:cNvSpPr/>
                  <p:nvPr/>
                </p:nvSpPr>
                <p:spPr>
                  <a:xfrm rot="3720000">
                    <a:off x="7481880" y="1261800"/>
                    <a:ext cx="85824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104"/>
                  <p:cNvSpPr/>
                  <p:nvPr/>
                </p:nvSpPr>
                <p:spPr>
                  <a:xfrm rot="3720000">
                    <a:off x="8094600" y="1793880"/>
                    <a:ext cx="459720" cy="388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05"/>
                <p:cNvGrpSpPr/>
                <p:nvPr/>
              </p:nvGrpSpPr>
              <p:grpSpPr>
                <a:xfrm>
                  <a:off x="7626960" y="995760"/>
                  <a:ext cx="701640" cy="1289880"/>
                  <a:chOff x="7626960" y="995760"/>
                  <a:chExt cx="701640" cy="1289880"/>
                </a:xfrm>
              </p:grpSpPr>
              <p:sp>
                <p:nvSpPr>
                  <p:cNvPr id="352" name="Freeform 106"/>
                  <p:cNvSpPr/>
                  <p:nvPr/>
                </p:nvSpPr>
                <p:spPr>
                  <a:xfrm rot="4260000">
                    <a:off x="7440840" y="1321920"/>
                    <a:ext cx="832680" cy="20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107"/>
                  <p:cNvSpPr/>
                  <p:nvPr/>
                </p:nvSpPr>
                <p:spPr>
                  <a:xfrm rot="4260000">
                    <a:off x="7884360" y="1866600"/>
                    <a:ext cx="445320" cy="31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08"/>
                <p:cNvGrpSpPr/>
                <p:nvPr/>
              </p:nvGrpSpPr>
              <p:grpSpPr>
                <a:xfrm>
                  <a:off x="7682040" y="1051560"/>
                  <a:ext cx="368640" cy="1180800"/>
                  <a:chOff x="7682040" y="1051560"/>
                  <a:chExt cx="368640" cy="1180800"/>
                </a:xfrm>
              </p:grpSpPr>
              <p:sp>
                <p:nvSpPr>
                  <p:cNvPr id="355" name="Freeform 109"/>
                  <p:cNvSpPr/>
                  <p:nvPr/>
                </p:nvSpPr>
                <p:spPr>
                  <a:xfrm rot="4920000">
                    <a:off x="7437960" y="1356120"/>
                    <a:ext cx="76752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110"/>
                  <p:cNvSpPr/>
                  <p:nvPr/>
                </p:nvSpPr>
                <p:spPr>
                  <a:xfrm rot="4920000">
                    <a:off x="7679160" y="1870920"/>
                    <a:ext cx="410400" cy="277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11"/>
                <p:cNvGrpSpPr/>
                <p:nvPr/>
              </p:nvGrpSpPr>
              <p:grpSpPr>
                <a:xfrm>
                  <a:off x="7480800" y="1074600"/>
                  <a:ext cx="333360" cy="1144080"/>
                  <a:chOff x="7480800" y="1074600"/>
                  <a:chExt cx="333360" cy="1144080"/>
                </a:xfrm>
              </p:grpSpPr>
              <p:sp>
                <p:nvSpPr>
                  <p:cNvPr id="358" name="Freeform 112"/>
                  <p:cNvSpPr/>
                  <p:nvPr/>
                </p:nvSpPr>
                <p:spPr>
                  <a:xfrm rot="5760000">
                    <a:off x="7343640" y="1390320"/>
                    <a:ext cx="743400" cy="120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13"/>
                  <p:cNvSpPr/>
                  <p:nvPr/>
                </p:nvSpPr>
                <p:spPr>
                  <a:xfrm rot="5760000">
                    <a:off x="7396200" y="1917000"/>
                    <a:ext cx="397440" cy="187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0" name="Freeform 114"/>
              <p:cNvSpPr/>
              <p:nvPr/>
            </p:nvSpPr>
            <p:spPr>
              <a:xfrm flipH="1">
                <a:off x="7296480" y="1222560"/>
                <a:ext cx="247680" cy="757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AutoShape 115"/>
              <p:cNvSpPr/>
              <p:nvPr/>
            </p:nvSpPr>
            <p:spPr>
              <a:xfrm flipH="1">
                <a:off x="6844680" y="906840"/>
                <a:ext cx="2179080" cy="2404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AutoShape 116"/>
              <p:cNvSpPr/>
              <p:nvPr/>
            </p:nvSpPr>
            <p:spPr>
              <a:xfrm flipV="1">
                <a:off x="7684200" y="232200"/>
                <a:ext cx="1551600" cy="2099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utoShape 117"/>
              <p:cNvSpPr/>
              <p:nvPr/>
            </p:nvSpPr>
            <p:spPr>
              <a:xfrm flipH="1">
                <a:off x="6954480" y="759240"/>
                <a:ext cx="954360" cy="23983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AutoShape 118"/>
              <p:cNvSpPr/>
              <p:nvPr/>
            </p:nvSpPr>
            <p:spPr>
              <a:xfrm flipH="1">
                <a:off x="6502320" y="822600"/>
                <a:ext cx="1464480" cy="2395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AutoShape 119"/>
              <p:cNvSpPr/>
              <p:nvPr/>
            </p:nvSpPr>
            <p:spPr>
              <a:xfrm flipH="1">
                <a:off x="6411240" y="600120"/>
                <a:ext cx="1532520" cy="239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AutoShape 120"/>
              <p:cNvSpPr/>
              <p:nvPr/>
            </p:nvSpPr>
            <p:spPr>
              <a:xfrm>
                <a:off x="7714440" y="771840"/>
                <a:ext cx="241200" cy="23983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AutoShape 121"/>
              <p:cNvSpPr/>
              <p:nvPr/>
            </p:nvSpPr>
            <p:spPr>
              <a:xfrm>
                <a:off x="7687440" y="765360"/>
                <a:ext cx="641520" cy="239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AutoShape 122"/>
              <p:cNvSpPr/>
              <p:nvPr/>
            </p:nvSpPr>
            <p:spPr>
              <a:xfrm>
                <a:off x="7679520" y="606600"/>
                <a:ext cx="910080" cy="2397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23"/>
              <p:cNvSpPr/>
              <p:nvPr/>
            </p:nvSpPr>
            <p:spPr>
              <a:xfrm>
                <a:off x="8000280" y="1353240"/>
                <a:ext cx="245880" cy="757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24"/>
              <p:cNvSpPr/>
              <p:nvPr/>
            </p:nvSpPr>
            <p:spPr>
              <a:xfrm flipV="1" rot="19680000">
                <a:off x="7612560" y="1103760"/>
                <a:ext cx="223560" cy="4284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AutoShape 125"/>
              <p:cNvSpPr/>
              <p:nvPr/>
            </p:nvSpPr>
            <p:spPr>
              <a:xfrm flipH="1">
                <a:off x="6339600" y="417600"/>
                <a:ext cx="1537560" cy="2397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AutoShape 126"/>
              <p:cNvSpPr/>
              <p:nvPr/>
            </p:nvSpPr>
            <p:spPr>
              <a:xfrm flipH="1">
                <a:off x="6479280" y="160200"/>
                <a:ext cx="1280520" cy="2363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AutoShape 127"/>
              <p:cNvSpPr/>
              <p:nvPr/>
            </p:nvSpPr>
            <p:spPr>
              <a:xfrm>
                <a:off x="7615800" y="657720"/>
                <a:ext cx="541440" cy="2364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28"/>
              <p:cNvSpPr/>
              <p:nvPr/>
            </p:nvSpPr>
            <p:spPr>
              <a:xfrm flipH="1">
                <a:off x="6554160" y="1286280"/>
                <a:ext cx="554040" cy="77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29"/>
              <p:cNvSpPr/>
              <p:nvPr/>
            </p:nvSpPr>
            <p:spPr>
              <a:xfrm flipH="1">
                <a:off x="6816600" y="457200"/>
                <a:ext cx="35568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130"/>
              <p:cNvSpPr/>
              <p:nvPr/>
            </p:nvSpPr>
            <p:spPr>
              <a:xfrm flipH="1">
                <a:off x="7227360" y="225360"/>
                <a:ext cx="212760" cy="77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31"/>
              <p:cNvSpPr/>
              <p:nvPr/>
            </p:nvSpPr>
            <p:spPr>
              <a:xfrm>
                <a:off x="8564040" y="1170360"/>
                <a:ext cx="515880" cy="821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132"/>
              <p:cNvSpPr/>
              <p:nvPr/>
            </p:nvSpPr>
            <p:spPr>
              <a:xfrm>
                <a:off x="8295840" y="754560"/>
                <a:ext cx="778320" cy="546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33"/>
              <p:cNvSpPr/>
              <p:nvPr/>
            </p:nvSpPr>
            <p:spPr>
              <a:xfrm>
                <a:off x="8324280" y="173160"/>
                <a:ext cx="338040" cy="733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134"/>
              <p:cNvSpPr/>
              <p:nvPr/>
            </p:nvSpPr>
            <p:spPr>
              <a:xfrm rot="20220000">
                <a:off x="7986960" y="784440"/>
                <a:ext cx="225360" cy="4287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35"/>
              <p:cNvSpPr/>
              <p:nvPr/>
            </p:nvSpPr>
            <p:spPr>
              <a:xfrm flipH="1" rot="1380000">
                <a:off x="7176960" y="773640"/>
                <a:ext cx="225720" cy="4284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147987-2516-4E76-9219-42D4D8F6817C}" type="slidenum">
              <a:rPr b="0" lang="ru-RU" sz="1400" spc="-1" strike="noStrike">
                <a:solidFill>
                  <a:srgbClr val="ffffff"/>
                </a:solidFill>
                <a:latin typeface="Arial Blac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"/>
          <p:cNvGrpSpPr/>
          <p:nvPr/>
        </p:nvGrpSpPr>
        <p:grpSpPr>
          <a:xfrm>
            <a:off x="1895760" y="163440"/>
            <a:ext cx="7232400" cy="8094600"/>
            <a:chOff x="1895760" y="163440"/>
            <a:chExt cx="7232400" cy="8094600"/>
          </a:xfrm>
        </p:grpSpPr>
        <p:grpSp>
          <p:nvGrpSpPr>
            <p:cNvPr id="424" name="Group 2"/>
            <p:cNvGrpSpPr/>
            <p:nvPr/>
          </p:nvGrpSpPr>
          <p:grpSpPr>
            <a:xfrm>
              <a:off x="3483000" y="954000"/>
              <a:ext cx="944640" cy="708120"/>
              <a:chOff x="3483000" y="954000"/>
              <a:chExt cx="944640" cy="708120"/>
            </a:xfrm>
          </p:grpSpPr>
          <p:sp>
            <p:nvSpPr>
              <p:cNvPr id="425" name="Oval 3"/>
              <p:cNvSpPr/>
              <p:nvPr/>
            </p:nvSpPr>
            <p:spPr>
              <a:xfrm>
                <a:off x="348300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Oval 4"/>
              <p:cNvSpPr/>
              <p:nvPr/>
            </p:nvSpPr>
            <p:spPr>
              <a:xfrm>
                <a:off x="3822840" y="1263600"/>
                <a:ext cx="226800" cy="131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5"/>
            <p:cNvGrpSpPr/>
            <p:nvPr/>
          </p:nvGrpSpPr>
          <p:grpSpPr>
            <a:xfrm>
              <a:off x="1895760" y="163440"/>
              <a:ext cx="7232400" cy="7867440"/>
              <a:chOff x="1895760" y="163440"/>
              <a:chExt cx="7232400" cy="7867440"/>
            </a:xfrm>
          </p:grpSpPr>
          <p:grpSp>
            <p:nvGrpSpPr>
              <p:cNvPr id="428" name="Group 6"/>
              <p:cNvGrpSpPr/>
              <p:nvPr/>
            </p:nvGrpSpPr>
            <p:grpSpPr>
              <a:xfrm>
                <a:off x="1895760" y="163440"/>
                <a:ext cx="7117560" cy="5626800"/>
                <a:chOff x="1895760" y="163440"/>
                <a:chExt cx="7117560" cy="5626800"/>
              </a:xfrm>
            </p:grpSpPr>
            <p:grpSp>
              <p:nvGrpSpPr>
                <p:cNvPr id="429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430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9"/>
                  <p:cNvSpPr/>
                  <p:nvPr/>
                </p:nvSpPr>
                <p:spPr>
                  <a:xfrm>
                    <a:off x="5110200" y="2236680"/>
                    <a:ext cx="712800" cy="49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10"/>
                <p:cNvGrpSpPr/>
                <p:nvPr/>
              </p:nvGrpSpPr>
              <p:grpSpPr>
                <a:xfrm>
                  <a:off x="1895760" y="163440"/>
                  <a:ext cx="7117560" cy="5626800"/>
                  <a:chOff x="1895760" y="163440"/>
                  <a:chExt cx="7117560" cy="5626800"/>
                </a:xfrm>
              </p:grpSpPr>
              <p:grpSp>
                <p:nvGrpSpPr>
                  <p:cNvPr id="433" name="Group 11"/>
                  <p:cNvGrpSpPr/>
                  <p:nvPr/>
                </p:nvGrpSpPr>
                <p:grpSpPr>
                  <a:xfrm>
                    <a:off x="5136840" y="2396160"/>
                    <a:ext cx="3421440" cy="2858040"/>
                    <a:chOff x="5136840" y="2396160"/>
                    <a:chExt cx="3421440" cy="2858040"/>
                  </a:xfrm>
                </p:grpSpPr>
                <p:sp>
                  <p:nvSpPr>
                    <p:cNvPr id="434" name="Freeform 12"/>
                    <p:cNvSpPr/>
                    <p:nvPr/>
                  </p:nvSpPr>
                  <p:spPr>
                    <a:xfrm rot="2700000">
                      <a:off x="5062320" y="3021480"/>
                      <a:ext cx="2030400" cy="630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13"/>
                    <p:cNvSpPr/>
                    <p:nvPr/>
                  </p:nvSpPr>
                  <p:spPr>
                    <a:xfrm rot="2700000">
                      <a:off x="7278480" y="4020840"/>
                      <a:ext cx="1087560" cy="99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14"/>
                  <p:cNvGrpSpPr/>
                  <p:nvPr/>
                </p:nvGrpSpPr>
                <p:grpSpPr>
                  <a:xfrm>
                    <a:off x="5802480" y="1564560"/>
                    <a:ext cx="3210840" cy="3359520"/>
                    <a:chOff x="5802480" y="1564560"/>
                    <a:chExt cx="3210840" cy="3359520"/>
                  </a:xfrm>
                </p:grpSpPr>
                <p:sp>
                  <p:nvSpPr>
                    <p:cNvPr id="437" name="Freeform 15"/>
                    <p:cNvSpPr/>
                    <p:nvPr/>
                  </p:nvSpPr>
                  <p:spPr>
                    <a:xfrm rot="2100000">
                      <a:off x="5787720" y="2146680"/>
                      <a:ext cx="2237040" cy="65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16"/>
                    <p:cNvSpPr/>
                    <p:nvPr/>
                  </p:nvSpPr>
                  <p:spPr>
                    <a:xfrm rot="2100000">
                      <a:off x="7625880" y="3641040"/>
                      <a:ext cx="1199880" cy="103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17"/>
                  <p:cNvGrpSpPr/>
                  <p:nvPr/>
                </p:nvGrpSpPr>
                <p:grpSpPr>
                  <a:xfrm>
                    <a:off x="5762520" y="1618200"/>
                    <a:ext cx="3244320" cy="2646000"/>
                    <a:chOff x="5762520" y="1618200"/>
                    <a:chExt cx="3244320" cy="2646000"/>
                  </a:xfrm>
                </p:grpSpPr>
                <p:sp>
                  <p:nvSpPr>
                    <p:cNvPr id="440" name="Freeform 18"/>
                    <p:cNvSpPr/>
                    <p:nvPr/>
                  </p:nvSpPr>
                  <p:spPr>
                    <a:xfrm rot="1560000">
                      <a:off x="5776920" y="2064240"/>
                      <a:ext cx="2167200" cy="56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9"/>
                    <p:cNvSpPr/>
                    <p:nvPr/>
                  </p:nvSpPr>
                  <p:spPr>
                    <a:xfrm rot="1560000">
                      <a:off x="7706880" y="3163680"/>
                      <a:ext cx="1163520" cy="890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20"/>
                  <p:cNvGrpSpPr/>
                  <p:nvPr/>
                </p:nvGrpSpPr>
                <p:grpSpPr>
                  <a:xfrm>
                    <a:off x="5731560" y="1655280"/>
                    <a:ext cx="3281400" cy="2073240"/>
                    <a:chOff x="5731560" y="1655280"/>
                    <a:chExt cx="3281400" cy="2073240"/>
                  </a:xfrm>
                </p:grpSpPr>
                <p:sp>
                  <p:nvSpPr>
                    <p:cNvPr id="443" name="Freeform 21"/>
                    <p:cNvSpPr/>
                    <p:nvPr/>
                  </p:nvSpPr>
                  <p:spPr>
                    <a:xfrm rot="1080000">
                      <a:off x="5768640" y="1969200"/>
                      <a:ext cx="2123280" cy="577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22"/>
                    <p:cNvSpPr/>
                    <p:nvPr/>
                  </p:nvSpPr>
                  <p:spPr>
                    <a:xfrm rot="1080000">
                      <a:off x="7759800" y="2666520"/>
                      <a:ext cx="1140480" cy="907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23"/>
                  <p:cNvGrpSpPr/>
                  <p:nvPr/>
                </p:nvGrpSpPr>
                <p:grpSpPr>
                  <a:xfrm>
                    <a:off x="5781960" y="1746360"/>
                    <a:ext cx="3008520" cy="1200240"/>
                    <a:chOff x="5781960" y="1746360"/>
                    <a:chExt cx="3008520" cy="1200240"/>
                  </a:xfrm>
                </p:grpSpPr>
                <p:sp>
                  <p:nvSpPr>
                    <p:cNvPr id="446" name="Freeform 24"/>
                    <p:cNvSpPr/>
                    <p:nvPr/>
                  </p:nvSpPr>
                  <p:spPr>
                    <a:xfrm rot="480000">
                      <a:off x="5805360" y="1878840"/>
                      <a:ext cx="1938240" cy="47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25"/>
                    <p:cNvSpPr/>
                    <p:nvPr/>
                  </p:nvSpPr>
                  <p:spPr>
                    <a:xfrm rot="480000">
                      <a:off x="7702920" y="2134080"/>
                      <a:ext cx="1040760" cy="74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26"/>
                  <p:cNvGrpSpPr/>
                  <p:nvPr/>
                </p:nvGrpSpPr>
                <p:grpSpPr>
                  <a:xfrm>
                    <a:off x="5847120" y="1799640"/>
                    <a:ext cx="2668680" cy="475560"/>
                    <a:chOff x="5847120" y="1799640"/>
                    <a:chExt cx="2668680" cy="475560"/>
                  </a:xfrm>
                </p:grpSpPr>
                <p:sp>
                  <p:nvSpPr>
                    <p:cNvPr id="449" name="Freeform 27"/>
                    <p:cNvSpPr/>
                    <p:nvPr/>
                  </p:nvSpPr>
                  <p:spPr>
                    <a:xfrm rot="21480000">
                      <a:off x="5851440" y="1841400"/>
                      <a:ext cx="1732680" cy="282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28"/>
                    <p:cNvSpPr/>
                    <p:nvPr/>
                  </p:nvSpPr>
                  <p:spPr>
                    <a:xfrm rot="21480000">
                      <a:off x="7577280" y="1815480"/>
                      <a:ext cx="930960" cy="443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29"/>
                  <p:cNvGrpSpPr/>
                  <p:nvPr/>
                </p:nvGrpSpPr>
                <p:grpSpPr>
                  <a:xfrm>
                    <a:off x="5763600" y="1211400"/>
                    <a:ext cx="2448720" cy="1058040"/>
                    <a:chOff x="5763600" y="1211400"/>
                    <a:chExt cx="2448720" cy="1058040"/>
                  </a:xfrm>
                </p:grpSpPr>
                <p:sp>
                  <p:nvSpPr>
                    <p:cNvPr id="452" name="Freeform 30"/>
                    <p:cNvSpPr/>
                    <p:nvPr/>
                  </p:nvSpPr>
                  <p:spPr>
                    <a:xfrm rot="20760000">
                      <a:off x="5788080" y="1693800"/>
                      <a:ext cx="1550160" cy="393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31"/>
                    <p:cNvSpPr/>
                    <p:nvPr/>
                  </p:nvSpPr>
                  <p:spPr>
                    <a:xfrm rot="20760000">
                      <a:off x="7318440" y="1302840"/>
                      <a:ext cx="831240" cy="618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32"/>
                  <p:cNvGrpSpPr/>
                  <p:nvPr/>
                </p:nvGrpSpPr>
                <p:grpSpPr>
                  <a:xfrm>
                    <a:off x="2407320" y="2545920"/>
                    <a:ext cx="3418920" cy="2858400"/>
                    <a:chOff x="2407320" y="2545920"/>
                    <a:chExt cx="3418920" cy="2858400"/>
                  </a:xfrm>
                </p:grpSpPr>
                <p:sp>
                  <p:nvSpPr>
                    <p:cNvPr id="455" name="Freeform 33"/>
                    <p:cNvSpPr/>
                    <p:nvPr/>
                  </p:nvSpPr>
                  <p:spPr>
                    <a:xfrm flipH="1" rot="18900000">
                      <a:off x="3871440" y="3170160"/>
                      <a:ext cx="2027880" cy="632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34"/>
                    <p:cNvSpPr/>
                    <p:nvPr/>
                  </p:nvSpPr>
                  <p:spPr>
                    <a:xfrm flipH="1" rot="18900000">
                      <a:off x="2600280" y="4168800"/>
                      <a:ext cx="1088640" cy="996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35"/>
                  <p:cNvGrpSpPr/>
                  <p:nvPr/>
                </p:nvGrpSpPr>
                <p:grpSpPr>
                  <a:xfrm>
                    <a:off x="1895760" y="1783800"/>
                    <a:ext cx="3213720" cy="3361680"/>
                    <a:chOff x="1895760" y="1783800"/>
                    <a:chExt cx="3213720" cy="3361680"/>
                  </a:xfrm>
                </p:grpSpPr>
                <p:sp>
                  <p:nvSpPr>
                    <p:cNvPr id="458" name="Freeform 36"/>
                    <p:cNvSpPr/>
                    <p:nvPr/>
                  </p:nvSpPr>
                  <p:spPr>
                    <a:xfrm flipH="1" rot="19500000">
                      <a:off x="2886120" y="2365920"/>
                      <a:ext cx="2237400" cy="655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37"/>
                    <p:cNvSpPr/>
                    <p:nvPr/>
                  </p:nvSpPr>
                  <p:spPr>
                    <a:xfrm flipH="1" rot="19500000">
                      <a:off x="2083320" y="3858840"/>
                      <a:ext cx="1201320" cy="1035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38"/>
                  <p:cNvGrpSpPr/>
                  <p:nvPr/>
                </p:nvGrpSpPr>
                <p:grpSpPr>
                  <a:xfrm>
                    <a:off x="1905480" y="1835640"/>
                    <a:ext cx="3243600" cy="2646000"/>
                    <a:chOff x="1905480" y="1835640"/>
                    <a:chExt cx="3243600" cy="2646000"/>
                  </a:xfrm>
                </p:grpSpPr>
                <p:sp>
                  <p:nvSpPr>
                    <p:cNvPr id="461" name="Freeform 39"/>
                    <p:cNvSpPr/>
                    <p:nvPr/>
                  </p:nvSpPr>
                  <p:spPr>
                    <a:xfrm flipH="1" rot="20040000">
                      <a:off x="2966400" y="2282040"/>
                      <a:ext cx="2167920" cy="56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40"/>
                    <p:cNvSpPr/>
                    <p:nvPr/>
                  </p:nvSpPr>
                  <p:spPr>
                    <a:xfrm flipH="1" rot="20040000">
                      <a:off x="2041200" y="3382920"/>
                      <a:ext cx="1163160" cy="888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41"/>
                  <p:cNvGrpSpPr/>
                  <p:nvPr/>
                </p:nvGrpSpPr>
                <p:grpSpPr>
                  <a:xfrm>
                    <a:off x="1899000" y="1874160"/>
                    <a:ext cx="3281400" cy="2073960"/>
                    <a:chOff x="1899000" y="1874160"/>
                    <a:chExt cx="3281400" cy="2073960"/>
                  </a:xfrm>
                </p:grpSpPr>
                <p:sp>
                  <p:nvSpPr>
                    <p:cNvPr id="464" name="Freeform 42"/>
                    <p:cNvSpPr/>
                    <p:nvPr/>
                  </p:nvSpPr>
                  <p:spPr>
                    <a:xfrm flipH="1" rot="20520000">
                      <a:off x="3017520" y="2188080"/>
                      <a:ext cx="2125080" cy="578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43"/>
                    <p:cNvSpPr/>
                    <p:nvPr/>
                  </p:nvSpPr>
                  <p:spPr>
                    <a:xfrm flipH="1" rot="20520000">
                      <a:off x="2011320" y="2884680"/>
                      <a:ext cx="1140840" cy="909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44"/>
                  <p:cNvGrpSpPr/>
                  <p:nvPr/>
                </p:nvGrpSpPr>
                <p:grpSpPr>
                  <a:xfrm>
                    <a:off x="2118240" y="1965600"/>
                    <a:ext cx="3008520" cy="1200240"/>
                    <a:chOff x="2118240" y="1965600"/>
                    <a:chExt cx="3008520" cy="1200240"/>
                  </a:xfrm>
                </p:grpSpPr>
                <p:sp>
                  <p:nvSpPr>
                    <p:cNvPr id="467" name="Freeform 45"/>
                    <p:cNvSpPr/>
                    <p:nvPr/>
                  </p:nvSpPr>
                  <p:spPr>
                    <a:xfrm flipH="1" rot="21120000">
                      <a:off x="3165840" y="2097720"/>
                      <a:ext cx="1936800" cy="47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46"/>
                    <p:cNvSpPr/>
                    <p:nvPr/>
                  </p:nvSpPr>
                  <p:spPr>
                    <a:xfrm flipH="1" rot="21120000">
                      <a:off x="2164320" y="2352600"/>
                      <a:ext cx="1038600" cy="74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47"/>
                  <p:cNvGrpSpPr/>
                  <p:nvPr/>
                </p:nvGrpSpPr>
                <p:grpSpPr>
                  <a:xfrm>
                    <a:off x="2395800" y="2017080"/>
                    <a:ext cx="2669400" cy="475920"/>
                    <a:chOff x="2395800" y="2017080"/>
                    <a:chExt cx="2669400" cy="475920"/>
                  </a:xfrm>
                </p:grpSpPr>
                <p:sp>
                  <p:nvSpPr>
                    <p:cNvPr id="470" name="Freeform 48"/>
                    <p:cNvSpPr/>
                    <p:nvPr/>
                  </p:nvSpPr>
                  <p:spPr>
                    <a:xfrm flipH="1" rot="120000">
                      <a:off x="3324240" y="2057400"/>
                      <a:ext cx="1736280" cy="282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Freeform 49"/>
                    <p:cNvSpPr/>
                    <p:nvPr/>
                  </p:nvSpPr>
                  <p:spPr>
                    <a:xfrm flipH="1" rot="120000">
                      <a:off x="2403000" y="2032920"/>
                      <a:ext cx="932040" cy="443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Group 50"/>
                  <p:cNvGrpSpPr/>
                  <p:nvPr/>
                </p:nvGrpSpPr>
                <p:grpSpPr>
                  <a:xfrm>
                    <a:off x="2698200" y="1430640"/>
                    <a:ext cx="2449080" cy="1058400"/>
                    <a:chOff x="2698200" y="1430640"/>
                    <a:chExt cx="2449080" cy="1058400"/>
                  </a:xfrm>
                </p:grpSpPr>
                <p:sp>
                  <p:nvSpPr>
                    <p:cNvPr id="473" name="Freeform 51"/>
                    <p:cNvSpPr/>
                    <p:nvPr/>
                  </p:nvSpPr>
                  <p:spPr>
                    <a:xfrm flipH="1" rot="840000">
                      <a:off x="3573360" y="1913400"/>
                      <a:ext cx="1549080" cy="394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52"/>
                    <p:cNvSpPr/>
                    <p:nvPr/>
                  </p:nvSpPr>
                  <p:spPr>
                    <a:xfrm flipH="1" rot="840000">
                      <a:off x="2760480" y="1521720"/>
                      <a:ext cx="830520" cy="619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Group 53"/>
                  <p:cNvGrpSpPr/>
                  <p:nvPr/>
                </p:nvGrpSpPr>
                <p:grpSpPr>
                  <a:xfrm>
                    <a:off x="2797200" y="1109520"/>
                    <a:ext cx="2437200" cy="1471680"/>
                    <a:chOff x="2797200" y="1109520"/>
                    <a:chExt cx="2437200" cy="1471680"/>
                  </a:xfrm>
                </p:grpSpPr>
                <p:sp>
                  <p:nvSpPr>
                    <p:cNvPr id="476" name="Freeform 54"/>
                    <p:cNvSpPr/>
                    <p:nvPr/>
                  </p:nvSpPr>
                  <p:spPr>
                    <a:xfrm flipH="1" rot="1260000">
                      <a:off x="3663720" y="1899360"/>
                      <a:ext cx="1546560" cy="418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55"/>
                    <p:cNvSpPr/>
                    <p:nvPr/>
                  </p:nvSpPr>
                  <p:spPr>
                    <a:xfrm flipH="1" rot="1260000">
                      <a:off x="2887200" y="1235880"/>
                      <a:ext cx="829080" cy="657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Group 56"/>
                  <p:cNvGrpSpPr/>
                  <p:nvPr/>
                </p:nvGrpSpPr>
                <p:grpSpPr>
                  <a:xfrm>
                    <a:off x="3038760" y="663480"/>
                    <a:ext cx="2281680" cy="2059200"/>
                    <a:chOff x="3038760" y="663480"/>
                    <a:chExt cx="2281680" cy="2059200"/>
                  </a:xfrm>
                </p:grpSpPr>
                <p:sp>
                  <p:nvSpPr>
                    <p:cNvPr id="479" name="Freeform 57"/>
                    <p:cNvSpPr/>
                    <p:nvPr/>
                  </p:nvSpPr>
                  <p:spPr>
                    <a:xfrm flipH="1" rot="2040000">
                      <a:off x="3815280" y="1902960"/>
                      <a:ext cx="1512360" cy="43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58"/>
                    <p:cNvSpPr/>
                    <p:nvPr/>
                  </p:nvSpPr>
                  <p:spPr>
                    <a:xfrm flipH="1" rot="2040000">
                      <a:off x="3160800" y="831240"/>
                      <a:ext cx="810360" cy="68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59"/>
                  <p:cNvGrpSpPr/>
                  <p:nvPr/>
                </p:nvGrpSpPr>
                <p:grpSpPr>
                  <a:xfrm>
                    <a:off x="3308040" y="259200"/>
                    <a:ext cx="2054520" cy="2459880"/>
                    <a:chOff x="3308040" y="259200"/>
                    <a:chExt cx="2054520" cy="2459880"/>
                  </a:xfrm>
                </p:grpSpPr>
                <p:sp>
                  <p:nvSpPr>
                    <p:cNvPr id="482" name="Freeform 60"/>
                    <p:cNvSpPr/>
                    <p:nvPr/>
                  </p:nvSpPr>
                  <p:spPr>
                    <a:xfrm flipH="1" rot="2700000">
                      <a:off x="3955680" y="1826280"/>
                      <a:ext cx="1466280" cy="438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Freeform 61"/>
                    <p:cNvSpPr/>
                    <p:nvPr/>
                  </p:nvSpPr>
                  <p:spPr>
                    <a:xfrm flipH="1" rot="2700000">
                      <a:off x="3436560" y="435960"/>
                      <a:ext cx="786600" cy="68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Group 62"/>
                  <p:cNvGrpSpPr/>
                  <p:nvPr/>
                </p:nvGrpSpPr>
                <p:grpSpPr>
                  <a:xfrm>
                    <a:off x="3880080" y="222840"/>
                    <a:ext cx="1937880" cy="1996560"/>
                    <a:chOff x="3880080" y="222840"/>
                    <a:chExt cx="1937880" cy="1996560"/>
                  </a:xfrm>
                </p:grpSpPr>
                <p:sp>
                  <p:nvSpPr>
                    <p:cNvPr id="485" name="Freeform 63"/>
                    <p:cNvSpPr/>
                    <p:nvPr/>
                  </p:nvSpPr>
                  <p:spPr>
                    <a:xfrm flipH="1" rot="3480000">
                      <a:off x="4600440" y="1332720"/>
                      <a:ext cx="1369800" cy="39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64"/>
                    <p:cNvSpPr/>
                    <p:nvPr/>
                  </p:nvSpPr>
                  <p:spPr>
                    <a:xfrm flipH="1" rot="3480000">
                      <a:off x="3974040" y="386280"/>
                      <a:ext cx="735840" cy="630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Group 65"/>
                  <p:cNvGrpSpPr/>
                  <p:nvPr/>
                </p:nvGrpSpPr>
                <p:grpSpPr>
                  <a:xfrm>
                    <a:off x="4338360" y="163440"/>
                    <a:ext cx="1458360" cy="2049120"/>
                    <a:chOff x="4338360" y="163440"/>
                    <a:chExt cx="1458360" cy="2049120"/>
                  </a:xfrm>
                </p:grpSpPr>
                <p:sp>
                  <p:nvSpPr>
                    <p:cNvPr id="488" name="Freeform 66"/>
                    <p:cNvSpPr/>
                    <p:nvPr/>
                  </p:nvSpPr>
                  <p:spPr>
                    <a:xfrm flipH="1" rot="4140000">
                      <a:off x="4705920" y="1327320"/>
                      <a:ext cx="1344960" cy="37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67"/>
                    <p:cNvSpPr/>
                    <p:nvPr/>
                  </p:nvSpPr>
                  <p:spPr>
                    <a:xfrm flipH="1" rot="4140000">
                      <a:off x="4384440" y="309600"/>
                      <a:ext cx="722160" cy="59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Group 68"/>
                  <p:cNvGrpSpPr/>
                  <p:nvPr/>
                </p:nvGrpSpPr>
                <p:grpSpPr>
                  <a:xfrm>
                    <a:off x="5639040" y="820440"/>
                    <a:ext cx="2430720" cy="1514520"/>
                    <a:chOff x="5639040" y="820440"/>
                    <a:chExt cx="2430720" cy="1514520"/>
                  </a:xfrm>
                </p:grpSpPr>
                <p:sp>
                  <p:nvSpPr>
                    <p:cNvPr id="491" name="Freeform 69"/>
                    <p:cNvSpPr/>
                    <p:nvPr/>
                  </p:nvSpPr>
                  <p:spPr>
                    <a:xfrm rot="20280000">
                      <a:off x="5660640" y="1642320"/>
                      <a:ext cx="154728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70"/>
                    <p:cNvSpPr/>
                    <p:nvPr/>
                  </p:nvSpPr>
                  <p:spPr>
                    <a:xfrm rot="20280000">
                      <a:off x="7146720" y="951840"/>
                      <a:ext cx="830160" cy="657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Group 71"/>
                  <p:cNvGrpSpPr/>
                  <p:nvPr/>
                </p:nvGrpSpPr>
                <p:grpSpPr>
                  <a:xfrm>
                    <a:off x="5530320" y="462240"/>
                    <a:ext cx="2314440" cy="1982880"/>
                    <a:chOff x="5530320" y="462240"/>
                    <a:chExt cx="2314440" cy="1982880"/>
                  </a:xfrm>
                </p:grpSpPr>
                <p:sp>
                  <p:nvSpPr>
                    <p:cNvPr id="494" name="Freeform 72"/>
                    <p:cNvSpPr/>
                    <p:nvPr/>
                  </p:nvSpPr>
                  <p:spPr>
                    <a:xfrm rot="19680000">
                      <a:off x="5529240" y="1642320"/>
                      <a:ext cx="1520640" cy="432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Freeform 73"/>
                    <p:cNvSpPr/>
                    <p:nvPr/>
                  </p:nvSpPr>
                  <p:spPr>
                    <a:xfrm rot="19680000">
                      <a:off x="6909840" y="626400"/>
                      <a:ext cx="816120" cy="682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6" name="Freeform 74"/>
                  <p:cNvSpPr/>
                  <p:nvPr/>
                </p:nvSpPr>
                <p:spPr>
                  <a:xfrm flipH="1" rot="4560000">
                    <a:off x="4764960" y="1466280"/>
                    <a:ext cx="1265040" cy="17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75"/>
                  <p:cNvSpPr/>
                  <p:nvPr/>
                </p:nvSpPr>
                <p:spPr>
                  <a:xfrm flipH="1" rot="4560000">
                    <a:off x="4796280" y="539640"/>
                    <a:ext cx="678960" cy="281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8" name="Group 76"/>
                  <p:cNvGrpSpPr/>
                  <p:nvPr/>
                </p:nvGrpSpPr>
                <p:grpSpPr>
                  <a:xfrm>
                    <a:off x="5082840" y="186840"/>
                    <a:ext cx="1596600" cy="1989720"/>
                    <a:chOff x="5082840" y="186840"/>
                    <a:chExt cx="1596600" cy="1989720"/>
                  </a:xfrm>
                </p:grpSpPr>
                <p:sp>
                  <p:nvSpPr>
                    <p:cNvPr id="499" name="Freeform 77"/>
                    <p:cNvSpPr/>
                    <p:nvPr/>
                  </p:nvSpPr>
                  <p:spPr>
                    <a:xfrm rot="17760000">
                      <a:off x="4864320" y="1334160"/>
                      <a:ext cx="1326240" cy="342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78"/>
                    <p:cNvSpPr/>
                    <p:nvPr/>
                  </p:nvSpPr>
                  <p:spPr>
                    <a:xfrm rot="17760000">
                      <a:off x="5926680" y="354600"/>
                      <a:ext cx="709560" cy="53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79"/>
                  <p:cNvGrpSpPr/>
                  <p:nvPr/>
                </p:nvGrpSpPr>
                <p:grpSpPr>
                  <a:xfrm>
                    <a:off x="4925520" y="222480"/>
                    <a:ext cx="2463480" cy="1936080"/>
                    <a:chOff x="4925520" y="222480"/>
                    <a:chExt cx="2463480" cy="1936080"/>
                  </a:xfrm>
                </p:grpSpPr>
                <p:sp>
                  <p:nvSpPr>
                    <p:cNvPr id="502" name="Freeform 80"/>
                    <p:cNvSpPr/>
                    <p:nvPr/>
                  </p:nvSpPr>
                  <p:spPr>
                    <a:xfrm rot="18840000">
                      <a:off x="4889520" y="1224720"/>
                      <a:ext cx="1415520" cy="501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81"/>
                    <p:cNvSpPr/>
                    <p:nvPr/>
                  </p:nvSpPr>
                  <p:spPr>
                    <a:xfrm rot="18840000">
                      <a:off x="6464160" y="375480"/>
                      <a:ext cx="758520" cy="78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82"/>
                  <p:cNvGrpSpPr/>
                  <p:nvPr/>
                </p:nvGrpSpPr>
                <p:grpSpPr>
                  <a:xfrm>
                    <a:off x="5376600" y="278280"/>
                    <a:ext cx="548640" cy="1810800"/>
                    <a:chOff x="5376600" y="278280"/>
                    <a:chExt cx="548640" cy="1810800"/>
                  </a:xfrm>
                </p:grpSpPr>
                <p:sp>
                  <p:nvSpPr>
                    <p:cNvPr id="505" name="Freeform 83"/>
                    <p:cNvSpPr/>
                    <p:nvPr/>
                  </p:nvSpPr>
                  <p:spPr>
                    <a:xfrm rot="16680000">
                      <a:off x="4942080" y="1420920"/>
                      <a:ext cx="1179360" cy="14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84"/>
                    <p:cNvSpPr/>
                    <p:nvPr/>
                  </p:nvSpPr>
                  <p:spPr>
                    <a:xfrm rot="16680000">
                      <a:off x="5448960" y="491040"/>
                      <a:ext cx="632880" cy="23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85"/>
                  <p:cNvGrpSpPr/>
                  <p:nvPr/>
                </p:nvGrpSpPr>
                <p:grpSpPr>
                  <a:xfrm>
                    <a:off x="2824200" y="2546640"/>
                    <a:ext cx="2992320" cy="3166920"/>
                    <a:chOff x="2824200" y="2546640"/>
                    <a:chExt cx="2992320" cy="3166920"/>
                  </a:xfrm>
                </p:grpSpPr>
                <p:sp>
                  <p:nvSpPr>
                    <p:cNvPr id="508" name="Freeform 86"/>
                    <p:cNvSpPr/>
                    <p:nvPr/>
                  </p:nvSpPr>
                  <p:spPr>
                    <a:xfrm flipH="1" rot="18360000">
                      <a:off x="3885120" y="3271320"/>
                      <a:ext cx="2112480" cy="62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87"/>
                    <p:cNvSpPr/>
                    <p:nvPr/>
                  </p:nvSpPr>
                  <p:spPr>
                    <a:xfrm flipH="1" rot="18360000">
                      <a:off x="2991600" y="4468680"/>
                      <a:ext cx="1131480" cy="99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88"/>
                  <p:cNvGrpSpPr/>
                  <p:nvPr/>
                </p:nvGrpSpPr>
                <p:grpSpPr>
                  <a:xfrm>
                    <a:off x="3622320" y="2609280"/>
                    <a:ext cx="2004120" cy="3175200"/>
                    <a:chOff x="3622320" y="2609280"/>
                    <a:chExt cx="2004120" cy="3175200"/>
                  </a:xfrm>
                </p:grpSpPr>
                <p:sp>
                  <p:nvSpPr>
                    <p:cNvPr id="511" name="Freeform 89"/>
                    <p:cNvSpPr/>
                    <p:nvPr/>
                  </p:nvSpPr>
                  <p:spPr>
                    <a:xfrm flipH="1" rot="17520000">
                      <a:off x="3962880" y="3354480"/>
                      <a:ext cx="2013480" cy="60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90"/>
                    <p:cNvSpPr/>
                    <p:nvPr/>
                  </p:nvSpPr>
                  <p:spPr>
                    <a:xfrm flipH="1" rot="17520000">
                      <a:off x="3722760" y="4632840"/>
                      <a:ext cx="1080000" cy="94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91"/>
                  <p:cNvGrpSpPr/>
                  <p:nvPr/>
                </p:nvGrpSpPr>
                <p:grpSpPr>
                  <a:xfrm>
                    <a:off x="4416840" y="2672640"/>
                    <a:ext cx="1143000" cy="3020400"/>
                    <a:chOff x="4416840" y="2672640"/>
                    <a:chExt cx="1143000" cy="3020400"/>
                  </a:xfrm>
                </p:grpSpPr>
                <p:sp>
                  <p:nvSpPr>
                    <p:cNvPr id="514" name="Freeform 92"/>
                    <p:cNvSpPr/>
                    <p:nvPr/>
                  </p:nvSpPr>
                  <p:spPr>
                    <a:xfrm flipH="1" rot="16860000">
                      <a:off x="4168080" y="3412800"/>
                      <a:ext cx="1922400" cy="502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93"/>
                    <p:cNvSpPr/>
                    <p:nvPr/>
                  </p:nvSpPr>
                  <p:spPr>
                    <a:xfrm flipH="1" rot="16860000">
                      <a:off x="4388040" y="4716000"/>
                      <a:ext cx="1030680" cy="79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94"/>
                  <p:cNvGrpSpPr/>
                  <p:nvPr/>
                </p:nvGrpSpPr>
                <p:grpSpPr>
                  <a:xfrm>
                    <a:off x="5099400" y="2511000"/>
                    <a:ext cx="3097440" cy="3108600"/>
                    <a:chOff x="5099400" y="2511000"/>
                    <a:chExt cx="3097440" cy="3108600"/>
                  </a:xfrm>
                </p:grpSpPr>
                <p:sp>
                  <p:nvSpPr>
                    <p:cNvPr id="517" name="Freeform 95"/>
                    <p:cNvSpPr/>
                    <p:nvPr/>
                  </p:nvSpPr>
                  <p:spPr>
                    <a:xfrm rot="3120000">
                      <a:off x="4944240" y="3216240"/>
                      <a:ext cx="2097360" cy="62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96"/>
                    <p:cNvSpPr/>
                    <p:nvPr/>
                  </p:nvSpPr>
                  <p:spPr>
                    <a:xfrm rot="3120000">
                      <a:off x="6898680" y="4375800"/>
                      <a:ext cx="1123560" cy="99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97"/>
                  <p:cNvGrpSpPr/>
                  <p:nvPr/>
                </p:nvGrpSpPr>
                <p:grpSpPr>
                  <a:xfrm>
                    <a:off x="5199480" y="2574360"/>
                    <a:ext cx="2410200" cy="3202200"/>
                    <a:chOff x="5199480" y="2574360"/>
                    <a:chExt cx="2410200" cy="3202200"/>
                  </a:xfrm>
                </p:grpSpPr>
                <p:sp>
                  <p:nvSpPr>
                    <p:cNvPr id="520" name="Freeform 98"/>
                    <p:cNvSpPr/>
                    <p:nvPr/>
                  </p:nvSpPr>
                  <p:spPr>
                    <a:xfrm rot="3720000">
                      <a:off x="4914720" y="3326400"/>
                      <a:ext cx="2060280" cy="59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99"/>
                    <p:cNvSpPr/>
                    <p:nvPr/>
                  </p:nvSpPr>
                  <p:spPr>
                    <a:xfrm rot="3720000">
                      <a:off x="6386760" y="4604400"/>
                      <a:ext cx="1104120" cy="932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100"/>
                  <p:cNvGrpSpPr/>
                  <p:nvPr/>
                </p:nvGrpSpPr>
                <p:grpSpPr>
                  <a:xfrm>
                    <a:off x="5263920" y="2686320"/>
                    <a:ext cx="1688400" cy="3103920"/>
                    <a:chOff x="5263920" y="2686320"/>
                    <a:chExt cx="1688400" cy="3103920"/>
                  </a:xfrm>
                </p:grpSpPr>
                <p:sp>
                  <p:nvSpPr>
                    <p:cNvPr id="523" name="Freeform 101"/>
                    <p:cNvSpPr/>
                    <p:nvPr/>
                  </p:nvSpPr>
                  <p:spPr>
                    <a:xfrm rot="4260000">
                      <a:off x="4818600" y="3468600"/>
                      <a:ext cx="2001240" cy="48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102"/>
                    <p:cNvSpPr/>
                    <p:nvPr/>
                  </p:nvSpPr>
                  <p:spPr>
                    <a:xfrm rot="4260000">
                      <a:off x="5879520" y="4776120"/>
                      <a:ext cx="1072800" cy="764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103"/>
                  <p:cNvGrpSpPr/>
                  <p:nvPr/>
                </p:nvGrpSpPr>
                <p:grpSpPr>
                  <a:xfrm>
                    <a:off x="5394960" y="2818800"/>
                    <a:ext cx="886320" cy="2837520"/>
                    <a:chOff x="5394960" y="2818800"/>
                    <a:chExt cx="886320" cy="2837520"/>
                  </a:xfrm>
                </p:grpSpPr>
                <p:sp>
                  <p:nvSpPr>
                    <p:cNvPr id="526" name="Freeform 104"/>
                    <p:cNvSpPr/>
                    <p:nvPr/>
                  </p:nvSpPr>
                  <p:spPr>
                    <a:xfrm rot="4920000">
                      <a:off x="4812480" y="3547440"/>
                      <a:ext cx="183960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105"/>
                    <p:cNvSpPr/>
                    <p:nvPr/>
                  </p:nvSpPr>
                  <p:spPr>
                    <a:xfrm rot="4920000">
                      <a:off x="5389200" y="4788000"/>
                      <a:ext cx="987120" cy="66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106"/>
                  <p:cNvGrpSpPr/>
                  <p:nvPr/>
                </p:nvGrpSpPr>
                <p:grpSpPr>
                  <a:xfrm>
                    <a:off x="4911840" y="2876400"/>
                    <a:ext cx="802800" cy="2746800"/>
                    <a:chOff x="4911840" y="2876400"/>
                    <a:chExt cx="802800" cy="2746800"/>
                  </a:xfrm>
                </p:grpSpPr>
                <p:sp>
                  <p:nvSpPr>
                    <p:cNvPr id="529" name="Freeform 107"/>
                    <p:cNvSpPr/>
                    <p:nvPr/>
                  </p:nvSpPr>
                  <p:spPr>
                    <a:xfrm rot="5760000">
                      <a:off x="4583520" y="3633480"/>
                      <a:ext cx="1785240" cy="29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108"/>
                    <p:cNvSpPr/>
                    <p:nvPr/>
                  </p:nvSpPr>
                  <p:spPr>
                    <a:xfrm rot="5760000">
                      <a:off x="4711320" y="4893840"/>
                      <a:ext cx="957240" cy="45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1" name="Group 109"/>
              <p:cNvGrpSpPr/>
              <p:nvPr/>
            </p:nvGrpSpPr>
            <p:grpSpPr>
              <a:xfrm>
                <a:off x="2174760" y="682560"/>
                <a:ext cx="6953400" cy="7348320"/>
                <a:chOff x="2174760" y="682560"/>
                <a:chExt cx="6953400" cy="7348320"/>
              </a:xfrm>
            </p:grpSpPr>
            <p:grpSp>
              <p:nvGrpSpPr>
                <p:cNvPr id="532" name="Group 110"/>
                <p:cNvGrpSpPr/>
                <p:nvPr/>
              </p:nvGrpSpPr>
              <p:grpSpPr>
                <a:xfrm>
                  <a:off x="2174760" y="682560"/>
                  <a:ext cx="6953400" cy="7348320"/>
                  <a:chOff x="2174760" y="682560"/>
                  <a:chExt cx="6953400" cy="7348320"/>
                </a:xfrm>
              </p:grpSpPr>
              <p:sp>
                <p:nvSpPr>
                  <p:cNvPr id="533" name="AutoShape 111"/>
                  <p:cNvSpPr/>
                  <p:nvPr/>
                </p:nvSpPr>
                <p:spPr>
                  <a:xfrm flipV="1">
                    <a:off x="5400720" y="858600"/>
                    <a:ext cx="3727440" cy="504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AutoShape 112"/>
                  <p:cNvSpPr/>
                  <p:nvPr/>
                </p:nvSpPr>
                <p:spPr>
                  <a:xfrm flipH="1">
                    <a:off x="2562120" y="2270520"/>
                    <a:ext cx="3516480" cy="5760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AutoShape 113"/>
                  <p:cNvSpPr/>
                  <p:nvPr/>
                </p:nvSpPr>
                <p:spPr>
                  <a:xfrm>
                    <a:off x="5386320" y="1752480"/>
                    <a:ext cx="2190960" cy="5760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AutoShape 114"/>
                  <p:cNvSpPr/>
                  <p:nvPr/>
                </p:nvSpPr>
                <p:spPr>
                  <a:xfrm flipH="1">
                    <a:off x="2174760" y="1298520"/>
                    <a:ext cx="3694320" cy="5760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AutoShape 115"/>
                  <p:cNvSpPr/>
                  <p:nvPr/>
                </p:nvSpPr>
                <p:spPr>
                  <a:xfrm flipH="1">
                    <a:off x="2510640" y="682560"/>
                    <a:ext cx="3079800" cy="56811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utoShape 116"/>
                  <p:cNvSpPr/>
                  <p:nvPr/>
                </p:nvSpPr>
                <p:spPr>
                  <a:xfrm>
                    <a:off x="5232240" y="1874880"/>
                    <a:ext cx="1306800" cy="56811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117"/>
                  <p:cNvSpPr/>
                  <p:nvPr/>
                </p:nvSpPr>
                <p:spPr>
                  <a:xfrm flipH="1">
                    <a:off x="4303080" y="836640"/>
                    <a:ext cx="514440" cy="18784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Freeform 118"/>
                <p:cNvSpPr/>
                <p:nvPr/>
              </p:nvSpPr>
              <p:spPr>
                <a:xfrm rot="20220000">
                  <a:off x="6127920" y="2182320"/>
                  <a:ext cx="542880" cy="10303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1" name="Group 119"/>
            <p:cNvGrpSpPr/>
            <p:nvPr/>
          </p:nvGrpSpPr>
          <p:grpSpPr>
            <a:xfrm>
              <a:off x="2343240" y="712800"/>
              <a:ext cx="6408720" cy="7545240"/>
              <a:chOff x="2343240" y="712800"/>
              <a:chExt cx="6408720" cy="7545240"/>
            </a:xfrm>
          </p:grpSpPr>
          <p:sp>
            <p:nvSpPr>
              <p:cNvPr id="542" name="Freeform 120"/>
              <p:cNvSpPr/>
              <p:nvPr/>
            </p:nvSpPr>
            <p:spPr>
              <a:xfrm flipH="1">
                <a:off x="4468680" y="3235320"/>
                <a:ext cx="596880" cy="18223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AutoShape 121"/>
              <p:cNvSpPr/>
              <p:nvPr/>
            </p:nvSpPr>
            <p:spPr>
              <a:xfrm flipH="1">
                <a:off x="3384720" y="2476440"/>
                <a:ext cx="5230800" cy="5781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AutoShape 122"/>
              <p:cNvSpPr/>
              <p:nvPr/>
            </p:nvSpPr>
            <p:spPr>
              <a:xfrm flipH="1">
                <a:off x="3644280" y="2122560"/>
                <a:ext cx="2300040" cy="57610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AutoShape 123"/>
              <p:cNvSpPr/>
              <p:nvPr/>
            </p:nvSpPr>
            <p:spPr>
              <a:xfrm flipH="1">
                <a:off x="2343240" y="1736640"/>
                <a:ext cx="3682800" cy="5759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AutoShape 124"/>
              <p:cNvSpPr/>
              <p:nvPr/>
            </p:nvSpPr>
            <p:spPr>
              <a:xfrm>
                <a:off x="5470560" y="2151000"/>
                <a:ext cx="584280" cy="57610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AutoShape 125"/>
              <p:cNvSpPr/>
              <p:nvPr/>
            </p:nvSpPr>
            <p:spPr>
              <a:xfrm>
                <a:off x="5405400" y="2136600"/>
                <a:ext cx="1541520" cy="5761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126"/>
              <p:cNvSpPr/>
              <p:nvPr/>
            </p:nvSpPr>
            <p:spPr>
              <a:xfrm>
                <a:off x="6154560" y="3546360"/>
                <a:ext cx="597240" cy="18226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127"/>
              <p:cNvSpPr/>
              <p:nvPr/>
            </p:nvSpPr>
            <p:spPr>
              <a:xfrm flipV="1" rot="19680000">
                <a:off x="5223960" y="2947320"/>
                <a:ext cx="543240" cy="10303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128"/>
              <p:cNvSpPr/>
              <p:nvPr/>
            </p:nvSpPr>
            <p:spPr>
              <a:xfrm flipH="1">
                <a:off x="2685240" y="3384720"/>
                <a:ext cx="1336680" cy="1877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129"/>
              <p:cNvSpPr/>
              <p:nvPr/>
            </p:nvSpPr>
            <p:spPr>
              <a:xfrm flipH="1">
                <a:off x="3317760" y="1398600"/>
                <a:ext cx="857520" cy="1878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130"/>
              <p:cNvSpPr/>
              <p:nvPr/>
            </p:nvSpPr>
            <p:spPr>
              <a:xfrm>
                <a:off x="7512120" y="3108240"/>
                <a:ext cx="123984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131"/>
              <p:cNvSpPr/>
              <p:nvPr/>
            </p:nvSpPr>
            <p:spPr>
              <a:xfrm>
                <a:off x="6865920" y="2109960"/>
                <a:ext cx="1870200" cy="131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32"/>
              <p:cNvSpPr/>
              <p:nvPr/>
            </p:nvSpPr>
            <p:spPr>
              <a:xfrm>
                <a:off x="6935760" y="712800"/>
                <a:ext cx="816120" cy="1766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33"/>
              <p:cNvSpPr/>
              <p:nvPr/>
            </p:nvSpPr>
            <p:spPr>
              <a:xfrm flipH="1" rot="1380000">
                <a:off x="4182840" y="2155320"/>
                <a:ext cx="542880" cy="1029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88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6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9C23B7-4E55-4DD9-9345-D294CE1755B6}" type="slidenum">
              <a:rPr b="0" lang="ru-RU" sz="1400" spc="-1" strike="noStrike">
                <a:solidFill>
                  <a:srgbClr val="ffffff"/>
                </a:solidFill>
                <a:latin typeface="Arial Blac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1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597" name="Rectangle 2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8" name="Group 3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599" name="Rectangle 4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0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02D450-EDD2-4A9F-978E-D8D298F4E9E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1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644" name="Rectangle 2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5" name="Group 3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646" name="Rectangle 4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5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6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7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650" name="Rectangle 8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9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23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24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48F8D6-6165-4513-AD2E-56D6BCD29480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2"/>
          <p:cNvSpPr/>
          <p:nvPr/>
        </p:nvSpPr>
        <p:spPr>
          <a:xfrm>
            <a:off x="228600" y="6019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готовила: учитель начальных классов Манжула И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1"/>
          <p:cNvSpPr/>
          <p:nvPr/>
        </p:nvSpPr>
        <p:spPr>
          <a:xfrm>
            <a:off x="2895480" y="380880"/>
            <a:ext cx="624852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До войны это были самые обыкновенные мальчишки и девчо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чились, играли, бегали, прыгали, разбивали носы и коленки, помогали старшим. Их имена знали только родные, одноклассники, друз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ишел грозный час и они показали, каким огромным и бесстрашным может стать детское сердце, когда  в нем разгорается священная любовь к РОДИНЕ и ненависть к ее враг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2"/>
          <a:stretch/>
        </p:blipFill>
        <p:spPr>
          <a:xfrm>
            <a:off x="0" y="533520"/>
            <a:ext cx="3146400" cy="58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365760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"/>
          <p:cNvSpPr/>
          <p:nvPr/>
        </p:nvSpPr>
        <p:spPr>
          <a:xfrm>
            <a:off x="3276720" y="765000"/>
            <a:ext cx="5410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Валя Кот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"/>
          <p:cNvSpPr/>
          <p:nvPr/>
        </p:nvSpPr>
        <p:spPr>
          <a:xfrm>
            <a:off x="2743200" y="2057400"/>
            <a:ext cx="5638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лся в 1930 в украинском селе Хмелёв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началу войны он только перешёл в 6 класс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1942 года был связным  подпольной организации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августа 1943 года  находился в партизанском отряд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ёс он также свой вклад в подрыв шести железнодорожных эшелонов и скл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бою  16 февраля 1944 года был смертельно ранен и на следующий день скончалс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1958 году Вале посмертно присвоено звание Героя Советского Сою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" name="Group 3"/>
          <p:cNvGrpSpPr/>
          <p:nvPr/>
        </p:nvGrpSpPr>
        <p:grpSpPr>
          <a:xfrm>
            <a:off x="457200" y="762120"/>
            <a:ext cx="2417760" cy="2925720"/>
            <a:chOff x="457200" y="762120"/>
            <a:chExt cx="2417760" cy="2925720"/>
          </a:xfrm>
        </p:grpSpPr>
        <p:pic>
          <p:nvPicPr>
            <p:cNvPr id="701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762120"/>
              <a:ext cx="241776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Text Box 5"/>
            <p:cNvSpPr/>
            <p:nvPr/>
          </p:nvSpPr>
          <p:spPr>
            <a:xfrm>
              <a:off x="457200" y="762120"/>
              <a:ext cx="241776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961920" y="762120"/>
            <a:ext cx="1702080" cy="2209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2"/>
          <p:cNvSpPr/>
          <p:nvPr/>
        </p:nvSpPr>
        <p:spPr>
          <a:xfrm>
            <a:off x="3809880" y="838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Марат Казей</a:t>
            </a:r>
            <a:r>
              <a:rPr b="0" lang="ru-RU" sz="1800" spc="-1" strike="noStrike">
                <a:solidFill>
                  <a:srgbClr val="3300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2819520" y="1752480"/>
            <a:ext cx="5715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одился 10 октября 1929, деревня Станьково Дзержинского района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огда война обрушилась на белорусскую землю, Марат вместе с мамой уходит в партизанский отряд.  Вскоре Марат узнал, что маму повесили в Минс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н стал разведчиком, проникал во вражеские гарнизоны и доставал ценные свед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спользуя эти данные, партизаны разгромили фашистский гарнизон в городе Дзержинске.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Марат погиб в бою. Сражался до последнего патрона, а когда у него осталась лишь одна граната, подпустил врагов поближе и взорвал их..и себя.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 мужество и отвагу пионер Марат Казей был удостоен звания Героя Советского Союза. А в городе Минске поставлен памятник юному герою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1"/>
          <p:cNvSpPr/>
          <p:nvPr/>
        </p:nvSpPr>
        <p:spPr>
          <a:xfrm>
            <a:off x="4040280" y="838080"/>
            <a:ext cx="34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Зина Портн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2590920" y="1676520"/>
            <a:ext cx="6324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одилась 20 февраля 1926 года в городе Ленингра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кончила 7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С 1942 года член подпольной организации «Юные мстител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частвовала в распространении листовок среди населения и диверсиях против захватчиков. Работая в столовой курсов переподготовки немецких офицеров, по указанию подполья отравила пищу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В декабре 1943 года, возвращаясь с задания  схвачена фашистами. На одном из допросов , схватив со стола пистолет следователя, застрелила его и ещё двух гитлеровцев, но была схвачена. После пыток расстреляна.   1 июля 1958 года Зинаиде Портновой было посмертно присвоено звание Героя Советского Сою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3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211788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1"/>
          <p:cNvSpPr/>
          <p:nvPr/>
        </p:nvSpPr>
        <p:spPr>
          <a:xfrm>
            <a:off x="4126320" y="838080"/>
            <a:ext cx="32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Леня Голиков</a:t>
            </a:r>
            <a:r>
              <a:rPr b="0" lang="ru-RU" sz="1800" spc="-1" strike="noStrike">
                <a:solidFill>
                  <a:srgbClr val="3300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806480" cy="22860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3"/>
          <p:cNvSpPr/>
          <p:nvPr/>
        </p:nvSpPr>
        <p:spPr>
          <a:xfrm>
            <a:off x="2971800" y="1523880"/>
            <a:ext cx="579132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одился 17 июня 1926г. в деревне Луки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кончил 5 класс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азведчик- партизан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частвовал в 27 боевых операц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Всего им уничтожено: 78 немцев, 14  мостов, два  склада и 10 автомашин с боеприпаса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Награждён орденами Ленина, Отечественной войны 1 степени, меда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13 августа 1942 года в штаб  доставил портфель с документами. В их числе были чертежи и описание новых образцов немецких мин и другие важные бумаги военного характера. Представлен к званию Герой Советского Сою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24 января 1943 года в неравном бою  Леонид Голиков поги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"/>
          <p:cNvSpPr/>
          <p:nvPr/>
        </p:nvSpPr>
        <p:spPr>
          <a:xfrm>
            <a:off x="1295280" y="7621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ные безусые геро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ными остались вы на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д вашим вдруг ожившим стро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ы стоим не поднимая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2"/>
          <p:cNvSpPr/>
          <p:nvPr/>
        </p:nvSpPr>
        <p:spPr>
          <a:xfrm>
            <a:off x="228600" y="2819520"/>
            <a:ext cx="83059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ЦИФРЫ  и ФА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За боевые заслуги в годы Великой Отечественной войны десятки тысяч детей и пионеров были награждены орденами и меда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тверо пионеров-героев были удостоены звания Героя Советского Союза: Лёня Голиков, Марат Казей, Валя Котик, Зина Портн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тни пионеров были награждены медалью «Партизану Великой Отечественной войны», свыше 15 000 — медалью «За оборону Ленинграда», свыше 20 000 медалью «За оборону Москв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1"/>
          <p:cNvSpPr/>
          <p:nvPr/>
        </p:nvSpPr>
        <p:spPr>
          <a:xfrm>
            <a:off x="5486400" y="5486400"/>
            <a:ext cx="3382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Звание Героя ССС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152280" y="914400"/>
            <a:ext cx="4953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7800"/>
                <a:tab algn="l" pos="1492200"/>
                <a:tab algn="l" pos="2406600"/>
                <a:tab algn="l" pos="3321000"/>
                <a:tab algn="l" pos="4235400"/>
                <a:tab algn="l" pos="5149800"/>
                <a:tab algn="l" pos="6064200"/>
                <a:tab algn="l" pos="6978600"/>
                <a:tab algn="l" pos="7893000"/>
                <a:tab algn="l" pos="880740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Герой Советского Союза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 — высшая степень отличия СССР. Почётное звание, которого удостаивали за совершение подвига или выдающихся заслуг во время боевых действий, а также, в виде исключения, и в мирное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7800"/>
                <a:tab algn="l" pos="1492200"/>
                <a:tab algn="l" pos="2406600"/>
                <a:tab algn="l" pos="3321000"/>
                <a:tab algn="l" pos="4235400"/>
                <a:tab algn="l" pos="5149800"/>
                <a:tab algn="l" pos="6064200"/>
                <a:tab algn="l" pos="6978600"/>
                <a:tab algn="l" pos="7893000"/>
                <a:tab algn="l" pos="880740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Звание впервые установлено  в  1934 года, дополнительный знак отличия для Героя Советского Союза — медаль «Золотая Звезда» —  в 1939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6" name="Group 3"/>
          <p:cNvGrpSpPr/>
          <p:nvPr/>
        </p:nvGrpSpPr>
        <p:grpSpPr>
          <a:xfrm>
            <a:off x="5334120" y="2514600"/>
            <a:ext cx="3808440" cy="2870280"/>
            <a:chOff x="5334120" y="2514600"/>
            <a:chExt cx="3808440" cy="2870280"/>
          </a:xfrm>
        </p:grpSpPr>
        <p:pic>
          <p:nvPicPr>
            <p:cNvPr id="717" name="Picture 4" descr=""/>
            <p:cNvPicPr/>
            <p:nvPr/>
          </p:nvPicPr>
          <p:blipFill>
            <a:blip r:embed="rId1"/>
            <a:stretch/>
          </p:blipFill>
          <p:spPr>
            <a:xfrm>
              <a:off x="5334120" y="2514600"/>
              <a:ext cx="380844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5"/>
            <p:cNvSpPr/>
            <p:nvPr/>
          </p:nvSpPr>
          <p:spPr>
            <a:xfrm>
              <a:off x="5334120" y="2514600"/>
              <a:ext cx="3808440" cy="28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оловко</dc:creator>
  <dc:description/>
  <dc:language>en-US</dc:language>
  <cp:lastModifiedBy>библиотека</cp:lastModifiedBy>
  <dcterms:modified xsi:type="dcterms:W3CDTF">2019-10-28T08:07:51Z</dcterms:modified>
  <cp:revision>3</cp:revision>
  <dc:subject>Пионеры-героии</dc:subject>
  <dc:title>Классный ч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внеклассная работа">
    <vt:lpwstr>классный час</vt:lpwstr>
  </property>
</Properties>
</file>