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C5B-3152-4197-80E7-BF79FFE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B3B-7B8F-4879-958F-0057D17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E27-9681-4227-B7B0-5A7861E5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7CB-7C5B-4B18-B433-FD5DE3FC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279-C3EC-4AB8-A09D-CF113E9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832-366B-4C66-918F-6D088D42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353-87DF-48A3-A9F9-611AEBA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3C2-3BE3-4457-B128-C7885B7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6C4-B8FB-4EBE-8FD0-969CFA66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A29-41CB-41B3-9232-0EAD83E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2D8-92A3-414E-8F08-D8CCFA8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B66-DC87-4C51-8C03-8D977D6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B078-BEC5-42CE-BED0-21AB3086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Изменение размера Копия Средневековая деревня у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невековая дерев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 е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046600" y="258840"/>
            <a:ext cx="5232960" cy="30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cc0000"/>
                </a:solidFill>
                <a:latin typeface="Arial Black"/>
              </a:rPr>
              <a:t>ОБРО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Arial Black"/>
              </a:rPr>
              <a:t>(чинш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36360" y="3560760"/>
            <a:ext cx="73602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ВЫПЛА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В ПОЛЬЗ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ВОЕГО ГОСПОД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46600" y="258840"/>
            <a:ext cx="523296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cc0000"/>
                </a:solidFill>
                <a:latin typeface="Arial Black"/>
              </a:rPr>
              <a:t>ОБРО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 flipH="1">
            <a:off x="2133720" y="2057400"/>
            <a:ext cx="457200" cy="1295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49280" y="3452760"/>
            <a:ext cx="3606840" cy="10688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МАТЕР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 flipH="1">
            <a:off x="4858920" y="2057400"/>
            <a:ext cx="17640" cy="23083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66160" y="4721400"/>
            <a:ext cx="2945160" cy="10688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СМЕША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7010280" y="1981080"/>
            <a:ext cx="304920" cy="12193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177600" y="3381480"/>
            <a:ext cx="2506320" cy="10688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ДЕНЕ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325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825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99120" y="125280"/>
            <a:ext cx="602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МАТЕРИАЛЬ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ФОРМА ОБ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КРЕСТЬЯНЕ ОТДАВ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ЧАСТЬ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СВОЕГО ТРУДА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ПРОДУКТ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РЕМЕСЛЕННЫЕ ИЗДЕЛ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ИЗДЕЛИЯ ПРОМЫСЛОВ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Изменение размера Сдача оброка пз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223200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ОБ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97200" y="160200"/>
            <a:ext cx="720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ДЕНЕЖНАЯ ФОРМ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ОБ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804040" y="2436840"/>
            <a:ext cx="3559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КРЕСТЬЯ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 Black"/>
              </a:rPr>
              <a:t>ПЛАТИ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ФЕОДАЛ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ДЕНЬГ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7880" y="320760"/>
            <a:ext cx="78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СМЕШАННАЯ ФОРМ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ОБ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06920" y="2631960"/>
            <a:ext cx="716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ПРЕДПОЛАГ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ВЫПЛАТЫ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КАК 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ВЕЩАМИ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ТАК И 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ДЕНЬГ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240560" y="171360"/>
            <a:ext cx="684684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 Black"/>
              </a:rPr>
              <a:t>ЦЕРКОВН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 Black"/>
              </a:rPr>
              <a:t>ДЕСЯТ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57560" y="3048120"/>
            <a:ext cx="64792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99"/>
                </a:solidFill>
                <a:uFillTx/>
                <a:latin typeface="Arial Black"/>
              </a:rPr>
              <a:t>ДЕСЯТАЯ ЧА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ДОХ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ОТДАВАЛАС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В ПОЛЬЗУ ЦЕРК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75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75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Изменение размера Копия Средневековая деревня у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007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219"/>
                </a:solidFill>
                <a:latin typeface="Arial"/>
              </a:rPr>
              <a:t>НАТУРАЛЬНОЕ  ХОЗЯ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75280" y="152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219"/>
                </a:solidFill>
                <a:latin typeface="Arial Unicode MS"/>
              </a:rPr>
              <a:t>Производство не для продажи, а для собственного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Изменение размера Сдача оброка пзр"/>
          <p:cNvPicPr/>
          <p:nvPr/>
        </p:nvPicPr>
        <p:blipFill>
          <a:blip r:embed="rId3"/>
          <a:stretch/>
        </p:blipFill>
        <p:spPr>
          <a:xfrm>
            <a:off x="2411280" y="1778040"/>
            <a:ext cx="6524640" cy="41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80880" y="2362320"/>
            <a:ext cx="8229600" cy="1828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§ 11; с. 86-93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Записи в тетр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0354376"/>
          <p:cNvPicPr/>
          <p:nvPr/>
        </p:nvPicPr>
        <p:blipFill>
          <a:blip r:embed="rId1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Средневековое поместье дл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3635280" cy="6858000"/>
          </a:xfrm>
          <a:prstGeom prst="rect">
            <a:avLst/>
          </a:prstGeom>
          <a:gradFill rotWithShape="0">
            <a:gsLst>
              <a:gs pos="0">
                <a:srgbClr val="6f7661"/>
              </a:gs>
              <a:gs pos="100000">
                <a:srgbClr val="f0ffd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1219320"/>
            <a:ext cx="346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енное земельное владение, пожалованное з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230508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ФЕО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Копия (2) Изменение размера Феод к"/>
          <p:cNvPicPr/>
          <p:nvPr/>
        </p:nvPicPr>
        <p:blipFill>
          <a:blip r:embed="rId3"/>
          <a:stretch/>
        </p:blipFill>
        <p:spPr>
          <a:xfrm>
            <a:off x="8383680" y="0"/>
            <a:ext cx="760320" cy="1816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9"/>
          <p:cNvSpPr/>
          <p:nvPr/>
        </p:nvSpPr>
        <p:spPr>
          <a:xfrm>
            <a:off x="0" y="3505320"/>
            <a:ext cx="3581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еод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отчин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естье, хозяйство феодала, в котором работали зависимые кресть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Зависимые крестья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90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207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Поземель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7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зависим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 дол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 покро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хват крестьянской земли си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81480" y="2133720"/>
            <a:ext cx="3581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Лич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зависи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бывшие раб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05120" y="914400"/>
            <a:ext cx="0" cy="10666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7086600" y="914400"/>
            <a:ext cx="0" cy="10666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2018-2E92-4B48-9A6C-7938CE76B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17200" y="465120"/>
            <a:ext cx="744876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ФЕОДАЛЬ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ПОВИНН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ЗАВИСИМЫ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КРЕСТЬЯ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75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4130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 Black"/>
              </a:rPr>
              <a:t>ПОВИННОСТЬ</a:t>
            </a: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ПРИНУДИТЕЛЬ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ДЛЯ ВЫПОЛ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ОБЯЗА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38120" y="411120"/>
            <a:ext cx="6721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 Black"/>
              </a:rPr>
              <a:t>ПОВИН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Black"/>
              </a:rPr>
              <a:t>В ПОЛЬЗ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3840" y="3614760"/>
            <a:ext cx="37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775760" y="3568680"/>
            <a:ext cx="36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ФЕОД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(ГОСПОД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438280" y="2590920"/>
            <a:ext cx="0" cy="9144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629400" y="2590920"/>
            <a:ext cx="0" cy="9144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06840" y="596880"/>
            <a:ext cx="7387200" cy="42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ФЕОДА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ПОВИ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БАРЩ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ОБ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ЦЕРКОВНАЯ ДЕСЯТ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Во рж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346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0000"/>
                </a:solidFill>
                <a:latin typeface="Arial"/>
              </a:rPr>
              <a:t>БАРЩ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648320" y="30492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 Unicode MS"/>
              </a:rPr>
              <a:t>Бесплатная работа зависимых крестьян на феод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1247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ПАХ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Е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БОР УРОЖ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ТРОИТЕ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7-12-06T16:2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