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648-010C-44C4-B2DA-4E8608AB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CD5-CBE8-4C66-A8E8-6F7B11DE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FE8-4584-4826-A9B4-30BEBFEB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91B-AA9F-4148-8D40-8868D894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2FA-8304-48F2-86F9-53929E9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7B4-D5FF-4A46-8AEA-210A684E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2F8-317B-4B90-9D22-6EAD9A7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528-0A63-49F5-A04F-CBBEF674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5A4-353F-4E01-9149-1B7738D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BDD-F047-4DF3-A7EB-F227395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D09-6486-4717-9901-8B8C53C7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428-B9B1-441F-AD15-E4E364B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A258-CB17-486F-AB4F-BC8A0929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Изменение размера Копия Средневековая деревня у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049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невековая дерев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 е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046600" y="258840"/>
            <a:ext cx="5232960" cy="30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cc0000"/>
                </a:solidFill>
                <a:latin typeface="Arial Black"/>
              </a:rPr>
              <a:t>ОБРО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Arial Black"/>
              </a:rPr>
              <a:t>(чинш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36360" y="3560760"/>
            <a:ext cx="73602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ВЫПЛА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В ПОЛЬЗ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ВОЕГО ГОСПОД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46600" y="258840"/>
            <a:ext cx="523296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cc0000"/>
                </a:solidFill>
                <a:latin typeface="Arial Black"/>
              </a:rPr>
              <a:t>ОБРО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 flipH="1">
            <a:off x="2133720" y="2057400"/>
            <a:ext cx="457200" cy="1295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49280" y="3452760"/>
            <a:ext cx="3606840" cy="10688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МАТЕР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 flipH="1">
            <a:off x="4858920" y="2057400"/>
            <a:ext cx="17640" cy="23083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66160" y="4721400"/>
            <a:ext cx="2945160" cy="10688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СМЕША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7010280" y="1981080"/>
            <a:ext cx="304920" cy="12193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177600" y="3381480"/>
            <a:ext cx="2506320" cy="10688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ДЕНЕ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325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825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99120" y="125280"/>
            <a:ext cx="602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МАТЕРИАЛЬ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ФОРМА ОБ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КРЕСТЬЯНЕ ОТДАВ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ЧАСТЬ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СВОЕГО ТРУДА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ПРОДУКТ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РЕМЕСЛЕННЫЕ ИЗДЕЛ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ИЗДЕЛИЯ ПРОМЫСЛОВ</a:t>
            </a: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Изменение размера Сдача оброка пз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223200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ОБ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97200" y="160200"/>
            <a:ext cx="720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ДЕНЕЖНАЯ ФОРМ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ОБ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804040" y="2436840"/>
            <a:ext cx="3559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КРЕСТЬЯ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 Black"/>
              </a:rPr>
              <a:t>ПЛАТИ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ФЕОДАЛ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ДЕНЬГ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7880" y="320760"/>
            <a:ext cx="78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СМЕШАННАЯ ФОРМ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ОБ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06920" y="2631960"/>
            <a:ext cx="716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ПРЕДПОЛАГ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ВЫПЛАТЫ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КАК 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ВЕЩАМИ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ТАК И </a:t>
            </a: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ДЕНЬГ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240560" y="171360"/>
            <a:ext cx="684684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 Black"/>
              </a:rPr>
              <a:t>ЦЕРКОВН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Arial Black"/>
              </a:rPr>
              <a:t>ДЕСЯТ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57560" y="3048120"/>
            <a:ext cx="64792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99"/>
                </a:solidFill>
                <a:uFillTx/>
                <a:latin typeface="Arial Black"/>
              </a:rPr>
              <a:t>ДЕСЯТАЯ ЧА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ДОХ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ОТДАВАЛАС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В ПОЛЬЗУ ЦЕРК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75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75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Изменение размера Копия Средневековая деревня у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007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219"/>
                </a:solidFill>
                <a:latin typeface="Arial"/>
              </a:rPr>
              <a:t>НАТУРАЛЬНОЕ  ХОЗЯ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75280" y="152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219"/>
                </a:solidFill>
                <a:latin typeface="Arial Unicode MS"/>
              </a:rPr>
              <a:t>Производство не для продажи, а для собственного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Изменение размера Сдача оброка пзр"/>
          <p:cNvPicPr/>
          <p:nvPr/>
        </p:nvPicPr>
        <p:blipFill>
          <a:blip r:embed="rId3"/>
          <a:stretch/>
        </p:blipFill>
        <p:spPr>
          <a:xfrm>
            <a:off x="2411280" y="1778040"/>
            <a:ext cx="6524640" cy="41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80880" y="2362320"/>
            <a:ext cx="8229600" cy="1828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§ 11; с. 86-93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Записи в тетр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0354376"/>
          <p:cNvPicPr/>
          <p:nvPr/>
        </p:nvPicPr>
        <p:blipFill>
          <a:blip r:embed="rId1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Средневековое поместье дл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3635280" cy="6858000"/>
          </a:xfrm>
          <a:prstGeom prst="rect">
            <a:avLst/>
          </a:prstGeom>
          <a:gradFill rotWithShape="0">
            <a:gsLst>
              <a:gs pos="0">
                <a:srgbClr val="6f7661"/>
              </a:gs>
              <a:gs pos="100000">
                <a:srgbClr val="f0ffd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1219320"/>
            <a:ext cx="346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енное земельное владение, пожалованное з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230508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ФЕО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Копия (2) Изменение размера Феод к"/>
          <p:cNvPicPr/>
          <p:nvPr/>
        </p:nvPicPr>
        <p:blipFill>
          <a:blip r:embed="rId3"/>
          <a:stretch/>
        </p:blipFill>
        <p:spPr>
          <a:xfrm>
            <a:off x="8383680" y="0"/>
            <a:ext cx="760320" cy="1816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9"/>
          <p:cNvSpPr/>
          <p:nvPr/>
        </p:nvSpPr>
        <p:spPr>
          <a:xfrm>
            <a:off x="0" y="3505320"/>
            <a:ext cx="3581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еод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отчин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естье, хозяйство феодала, в котором работали зависимые кресть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Зависимые крестья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190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207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Поземель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7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зависим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 дол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 покров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Захват крестьянской земли си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81480" y="2133720"/>
            <a:ext cx="3581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Лич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зависи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бывшие раб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05120" y="914400"/>
            <a:ext cx="0" cy="10666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7086600" y="914400"/>
            <a:ext cx="0" cy="10666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D1E9-9736-4133-98D8-5761A731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817200" y="465120"/>
            <a:ext cx="744876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ФЕОДАЛЬН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ПОВИНН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ЗАВИСИМЫ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 Black"/>
              </a:rPr>
              <a:t>КРЕСТЬЯ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75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4130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 Black"/>
              </a:rPr>
              <a:t>ПОВИННОСТЬ</a:t>
            </a: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ПРИНУДИТЕЛЬ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ДЛЯ ВЫПОЛ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Arial Black"/>
              </a:rPr>
              <a:t>ОБЯЗА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38120" y="411120"/>
            <a:ext cx="6721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 Black"/>
              </a:rPr>
              <a:t>ПОВИН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Black"/>
              </a:rPr>
              <a:t>В ПОЛЬЗ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3840" y="3614760"/>
            <a:ext cx="37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775760" y="3568680"/>
            <a:ext cx="36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ФЕОД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</a:rPr>
              <a:t>(ГОСПОД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438280" y="2590920"/>
            <a:ext cx="0" cy="9144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629400" y="2590920"/>
            <a:ext cx="0" cy="9144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06840" y="596880"/>
            <a:ext cx="7387200" cy="42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ФЕОДА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ПОВИ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БАРЩ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ОБ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 Black"/>
              </a:rPr>
              <a:t>ЦЕРКОВНАЯ ДЕСЯТ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Во рж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34671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0000"/>
                </a:solidFill>
                <a:latin typeface="Arial"/>
              </a:rPr>
              <a:t>БАРЩ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648320" y="30492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 Unicode MS"/>
              </a:rPr>
              <a:t>Бесплатная работа зависимых крестьян на феод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1247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ПАХ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Е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БОР УРОЖ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СТРОИТЕ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nextslide"/>
          </p:cNvPr>
          <p:cNvSpPr/>
          <p:nvPr/>
        </p:nvSpPr>
        <p:spPr>
          <a:xfrm>
            <a:off x="8534520" y="627228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3794"/>
                </a:moveTo>
                <a:lnTo>
                  <a:pt x="18310" y="10800"/>
                </a:lnTo>
                <a:lnTo>
                  <a:pt x="429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>
            <a:hlinkClick r:id="" action="ppaction://hlinkshowjump?jump=previousslide"/>
          </p:cNvPr>
          <p:cNvSpPr/>
          <p:nvPr/>
        </p:nvSpPr>
        <p:spPr>
          <a:xfrm>
            <a:off x="76320" y="6248520"/>
            <a:ext cx="533160" cy="50940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2607" h="21600">
                <a:moveTo>
                  <a:pt x="0" y="0"/>
                </a:moveTo>
                <a:lnTo>
                  <a:pt x="22607" y="0"/>
                </a:lnTo>
                <a:lnTo>
                  <a:pt x="22607" y="21600"/>
                </a:lnTo>
                <a:lnTo>
                  <a:pt x="0" y="21600"/>
                </a:lnTo>
                <a:close/>
              </a:path>
              <a:path fill="lightenLess" w="22607" h="21600">
                <a:moveTo>
                  <a:pt x="0" y="0"/>
                </a:moveTo>
                <a:lnTo>
                  <a:pt x="22607" y="0"/>
                </a:lnTo>
                <a:lnTo>
                  <a:pt x="21207" y="1400"/>
                </a:lnTo>
                <a:lnTo>
                  <a:pt x="1400" y="1400"/>
                </a:lnTo>
                <a:close/>
              </a:path>
              <a:path fill="darken" w="22607" h="21600">
                <a:moveTo>
                  <a:pt x="22607" y="0"/>
                </a:moveTo>
                <a:lnTo>
                  <a:pt x="22607" y="21600"/>
                </a:lnTo>
                <a:lnTo>
                  <a:pt x="21207" y="20200"/>
                </a:lnTo>
                <a:lnTo>
                  <a:pt x="21207" y="1400"/>
                </a:lnTo>
                <a:close/>
              </a:path>
              <a:path fill="darkenLess" w="22607" h="21600">
                <a:moveTo>
                  <a:pt x="2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7" y="20200"/>
                </a:lnTo>
                <a:close/>
              </a:path>
              <a:path fill="lighten" w="2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7" h="21600">
                <a:moveTo>
                  <a:pt x="4297" y="10800"/>
                </a:moveTo>
                <a:lnTo>
                  <a:pt x="18310" y="3794"/>
                </a:lnTo>
                <a:lnTo>
                  <a:pt x="1831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7-12-06T16:2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