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639-2B10-47AC-9FF1-24D615E9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89C-0F4E-4A70-8C4B-1BA1E8A2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DEB-F8AD-4FF3-970B-2C4B6830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AA0-8648-4B5A-A7F2-3C226EBB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1CF1-68EF-4C15-BCF8-3B2B3F76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F40A-7A83-4B1C-B624-2826778D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419D-0BC1-455E-97C6-8D70785A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457D-9EAB-4E16-B1D8-06D97402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2922-C6BB-4EC4-9D7D-DC82EAB0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1FFE-EED5-49C9-9030-E121532C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891C-76F2-4EAD-984D-52EA617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0AC-FA06-4C86-BAF4-B6EC9475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9445-C201-4D3F-BEAF-23DCCD1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806C-D4CA-45D6-B5DE-842857AF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A32B-077E-426D-9EAF-8932196F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D26C-673F-49ED-8956-1FE9FFFE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507D-B203-4CFF-ACA0-4CC05E14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366-61D2-4531-9C59-992B7B3D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124-995E-4D55-9CDB-0ECBC4BF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9CE-1BB5-40F2-8F56-35AA634F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1D9-3745-41D4-AD4D-A59F8A7D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D30-9C0D-435B-A6F4-64B556A1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DF1-0C47-4136-9266-06F82C6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2A6-811D-4F5E-B372-7AC14EBA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0E32-7FA9-4FB7-A195-9582AA66DC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55B0-2D7A-43F9-ACF0-616CD3DD88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332000" y="47628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ст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Органы пищеварительной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мен веществ и превращение энерг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11280" y="1484280"/>
            <a:ext cx="8532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. К изменениям в пищеварительной системе пт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язанным с полетом относ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наличие пищев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исчезновение зуб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появление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97600" y="1459080"/>
            <a:ext cx="84985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. Особенностью пищеваритель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екопитающих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наличие пищеварительных желе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дифференциация зуб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появление отделов пищеварительн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роверьте свои отве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6002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71080" y="1484280"/>
            <a:ext cx="6947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Пищеварение – это проце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поступления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измельчения, расщепления, всасывания пищ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расщепление, удаление непереваренных ост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04080" y="1459080"/>
            <a:ext cx="6907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 Для кишечнополостных характерно пищевар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внутриклеточ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внутриполост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наруж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1200" y="1459080"/>
            <a:ext cx="7419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 Пища для животного организма является источник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строительного материала и эне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простых органически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фер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12720" y="1459080"/>
            <a:ext cx="4630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. Ферменты - это вещ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характерные для живого орган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ускоряющие реа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обеспечивающие газооб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11280" y="1459080"/>
            <a:ext cx="5894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. Впервые у кольчатых червей по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внутриклеточное пищевар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внутриполостное пищевар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появление отделов в пищеваритель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610200" y="1459080"/>
            <a:ext cx="5753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. У рыб впервые по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появляются челю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деление пищеварительной системы на отде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пищеварительные жел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6600" y="1459080"/>
            <a:ext cx="5851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. Слюнные железы впервые появляются 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ры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пресмык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земновод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00480" y="1459080"/>
            <a:ext cx="556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. Что помогает измельчить пищу птиц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зуб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мускулистый желуд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железистый желудо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7:15:47Z</dcterms:created>
  <dc:creator>школа</dc:creator>
  <dc:description/>
  <dc:language>en-US</dc:language>
  <cp:lastModifiedBy>MuraTTi</cp:lastModifiedBy>
  <dcterms:modified xsi:type="dcterms:W3CDTF">2017-03-31T18:20:08Z</dcterms:modified>
  <cp:revision>6</cp:revision>
  <dc:subject/>
  <dc:title>Слайд 1</dc:title>
</cp:coreProperties>
</file>