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BA0-9100-4AF0-A839-72FDFC2D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F9D-7969-4592-858A-81ADFD2B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93B-ECC7-43E9-8E71-6E35B560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841-11E8-4338-B1B1-B5618222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6B51-9E85-41B2-AAE7-92BEE1DF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1598-058F-4813-9201-9B5321C2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4801-B9B3-4902-BAF5-3A94AA91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D4E8-9632-48ED-B217-40D83477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8817-04EF-4EE9-9E66-2FB0B4F7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AE70-D452-4DAF-B7D6-A43037E5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44EB-A53C-451A-A092-0852DA98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C81-1AFD-4488-ACDB-B8FD2193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E51F-081F-4CD3-BC8C-EC88958C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0E8B-2EF6-489B-BA53-47E04AD3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D369-17D6-485C-BF00-D8609B98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5DC2-C4BE-4502-8FAD-AB555DF9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2E08-0CB1-4A77-84F0-D5EA9E93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B91-4D05-450A-9EA1-8C821064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719-236F-49F0-B0A4-FA3FF92A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7E3-482D-43B6-A7BE-F858D9E0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D04-0241-422D-BC91-07EC7C12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E12-1679-49DC-A23A-A0201C2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C26-5FCC-4C23-8395-93C8D9ED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3E3-6D67-442D-9E47-45FB6A80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F499-BA24-47B1-BE45-A707449F85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47D4-8383-4BFF-896B-BD9C90C298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332000" y="47628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ст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Органы пищеварительной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мен веществ и превращение энерг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11280" y="1484280"/>
            <a:ext cx="8532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. К изменениям в пищеварительной системе пт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язанным с полетом относ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наличие пищев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исчезновение зуб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появление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97600" y="1459080"/>
            <a:ext cx="84985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. Особенностью пищеваритель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екопитающих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наличие пищеварительных желе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дифференциация зуб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появление отделов пищеварительн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роверьте свои отве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6002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-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71080" y="1484280"/>
            <a:ext cx="6947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Пищеварение – это проце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поступления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измельчения, расщепления, всасывания пищ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расщепление, удаление непереваренных ост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04080" y="1459080"/>
            <a:ext cx="6907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 Для кишечнополостных характерно пищевар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внутриклеточ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внутриполост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наруж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1200" y="1459080"/>
            <a:ext cx="7419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 Пища для животного организма является источник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строительного материала и эне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простых органически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фер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12720" y="1459080"/>
            <a:ext cx="4630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. Ферменты - это вещ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характерные для живого орган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ускоряющие реа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обеспечивающие газооб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11280" y="1459080"/>
            <a:ext cx="5894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. Впервые у кольчатых червей по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внутриклеточное пищевар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внутриполостное пищевар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появление отделов в пищеваритель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610200" y="1459080"/>
            <a:ext cx="5753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. У рыб впервые по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появляются челю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деление пищеварительной системы на отде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пищеварительные жел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6600" y="1459080"/>
            <a:ext cx="5851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. Слюнные железы впервые появляются 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ры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пресмык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земновод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00480" y="1459080"/>
            <a:ext cx="556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. Что помогает измельчить пищу птиц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зуб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мускулистый желуд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) железистый желудо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7:15:47Z</dcterms:created>
  <dc:creator>школа</dc:creator>
  <dc:description/>
  <dc:language>en-US</dc:language>
  <cp:lastModifiedBy>MuraTTi</cp:lastModifiedBy>
  <dcterms:modified xsi:type="dcterms:W3CDTF">2017-03-31T18:20:08Z</dcterms:modified>
  <cp:revision>6</cp:revision>
  <dc:subject/>
  <dc:title>Слайд 1</dc:title>
</cp:coreProperties>
</file>