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4EF2-D75E-4EBB-9B33-F72F23DE6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31DF-650D-4988-B255-B7198710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3740-685F-43B2-B9BE-083E40BE9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92C0-DEF4-4E15-AF77-CF3468CCA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AFFF-D246-4601-B87C-F11129731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6FE8-1B31-466A-94B8-A0274667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C573-1EF3-4A35-AF54-70722435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54F3-6AA8-4EC5-A9AD-F0D8C6F9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4BD8-A0EB-490C-818E-BA8D45D9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0D7D-C538-4619-B3AE-B5CEA8BA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FAE4-E4AF-4AF5-B64B-0B9D4274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35DD-EEFC-46D1-B281-4792CE56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E7CE-17C5-4561-AA83-21D7A2FB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EDFC-66D8-4C3F-A090-FDDD99BA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18C9-5958-4EE4-A11B-D248FFEE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45EE-2CFC-4DB0-B5B4-8656BC0A4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3B81-C678-4CA8-B09A-3B28CF5FD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4E145-778E-4A71-AD14-476E89FD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D40B0-19AB-4D09-8B30-95E988BD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D9104-746C-4EB1-BCDA-FEDC2D6A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140AB-A1EA-4DBD-B955-53F81EEA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D0C7F-8BEB-46C7-9AAA-BEE74BE0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2B99-F7E1-467D-B5D8-B577EE5A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EA603-AF0B-46AA-A6F1-D5FDAFA9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FAB3A-F3BE-4945-989C-485482E8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345CF-B7FF-49D0-A825-C771685A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8ED61-A6EB-46F6-BBCF-B170B6DC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93022-1086-4BE9-8FE5-7301B518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D66CF-98BB-487F-AD96-AD940ED52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A864B-D42B-4793-91AA-89DF9B5CC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197D7-BE28-4A29-8E8A-7EC8B4C5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F8AC3-34DB-41B6-AD70-72D5FFF6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55977-0248-4A65-9BE9-7912E98B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8CFB-21AE-441D-83BB-6FC9C3FC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844B8-78DA-453B-8116-E59E615C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00688-E72B-43CA-8C4B-ADFDC767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381EC-DE17-40D5-B429-3C24F05C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F1208-5547-484B-8A1B-976952AA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B868B-4839-40EF-AA32-E2E53425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6A1F2-B696-4443-B82B-758A9F33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AA68C-7966-4D2F-86C3-98BB8B2E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EF043-7F6F-44FA-8C0C-21F877F32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892E4-A84C-4593-B914-512CCC6E9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C71A-9B37-4C7B-B322-69549DDB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DFC1-156B-4BB0-9826-AE98323F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1EF1-CEC5-4E0D-B0F8-41DCC53E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9FB6-EE16-428B-B2C2-74AC8872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F0AD-D87F-413C-B3F7-3B8E57B2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9B5F-2830-4089-A14C-C7322D97E05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B5F4-1E11-4CE7-B4E4-DD91BF71410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49B2-74B0-4002-977B-1F5E5B10963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A9AD-86FD-4CA2-9E08-D6EF8BAF4EA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noenglish.ru/file_4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41360"/>
            <a:ext cx="7864560" cy="1944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Let’s learn the ABC together!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4617b"/>
                </a:solidFill>
                <a:uFillTx/>
                <a:latin typeface="Calibri"/>
              </a:rPr>
              <a:t>Read: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2876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o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se has a d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o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g, a f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or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k and an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or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Овал 6"/>
          <p:cNvSpPr/>
          <p:nvPr/>
        </p:nvSpPr>
        <p:spPr>
          <a:xfrm>
            <a:off x="5929200" y="1643040"/>
            <a:ext cx="178596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</a:t>
            </a:r>
            <a:r>
              <a:rPr b="0" lang="el-GR" sz="1800" spc="-1" strike="noStrike">
                <a:solidFill>
                  <a:srgbClr val="ffffff"/>
                </a:solidFill>
                <a:latin typeface="Constantia"/>
              </a:rPr>
              <a:t>Λ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Зак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‘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m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u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m’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Овал 5"/>
          <p:cNvSpPr/>
          <p:nvPr/>
        </p:nvSpPr>
        <p:spPr>
          <a:xfrm>
            <a:off x="4143240" y="171468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ju: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ткр.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, ´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‘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S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u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san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Vowels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8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249" name="Овал 7"/>
          <p:cNvSpPr/>
          <p:nvPr/>
        </p:nvSpPr>
        <p:spPr>
          <a:xfrm>
            <a:off x="4286160" y="3000240"/>
            <a:ext cx="171468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э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: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f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u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Овал 8"/>
          <p:cNvSpPr/>
          <p:nvPr/>
        </p:nvSpPr>
        <p:spPr>
          <a:xfrm>
            <a:off x="6000840" y="3000240"/>
            <a:ext cx="1857240" cy="13575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ju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э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p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ur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Овал 4"/>
          <p:cNvSpPr/>
          <p:nvPr/>
        </p:nvSpPr>
        <p:spPr>
          <a:xfrm>
            <a:off x="5572080" y="2571840"/>
            <a:ext cx="100008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Uu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ju: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4617b"/>
                </a:solidFill>
                <a:uFillTx/>
                <a:latin typeface="Calibri"/>
              </a:rPr>
              <a:t>Read: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u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san has a c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u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p, a t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ur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key and p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ur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orange j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u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ice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Овал 6"/>
          <p:cNvSpPr/>
          <p:nvPr/>
        </p:nvSpPr>
        <p:spPr>
          <a:xfrm rot="20311200">
            <a:off x="5929200" y="1642680"/>
            <a:ext cx="178596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i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S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Овал 5"/>
          <p:cNvSpPr/>
          <p:nvPr/>
        </p:nvSpPr>
        <p:spPr>
          <a:xfrm rot="1801800">
            <a:off x="4071960" y="1872720"/>
            <a:ext cx="1857240" cy="13575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ai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b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Vowels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9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260" name="Овал 4"/>
          <p:cNvSpPr/>
          <p:nvPr/>
        </p:nvSpPr>
        <p:spPr>
          <a:xfrm>
            <a:off x="5429160" y="2571840"/>
            <a:ext cx="114300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Y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wai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4617b"/>
                </a:solidFill>
                <a:uFillTx/>
                <a:latin typeface="Calibri"/>
              </a:rPr>
              <a:t>Read: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A fl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y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can fl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y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and a bab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y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can’t fl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y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Some combinations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oo [u]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L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oo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k, here is a b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oo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k. We can c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oo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k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oo [u:]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here is a p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oo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 near our sch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oo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ee [i:]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 s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ee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a b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ee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in a tr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ee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ea [i:]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 like t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ea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and m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ea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. I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ea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 m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ea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Овал 5"/>
          <p:cNvSpPr/>
          <p:nvPr/>
        </p:nvSpPr>
        <p:spPr>
          <a:xfrm rot="573600">
            <a:off x="3643200" y="207180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b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ba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9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270" name="Овал 4"/>
          <p:cNvSpPr/>
          <p:nvPr/>
        </p:nvSpPr>
        <p:spPr>
          <a:xfrm>
            <a:off x="5429160" y="2571840"/>
            <a:ext cx="114300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bi: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Овал 6"/>
          <p:cNvSpPr/>
          <p:nvPr/>
        </p:nvSpPr>
        <p:spPr>
          <a:xfrm>
            <a:off x="5929200" y="1643040"/>
            <a:ext cx="178596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k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cak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Овал 5"/>
          <p:cNvSpPr/>
          <p:nvPr/>
        </p:nvSpPr>
        <p:spPr>
          <a:xfrm>
            <a:off x="4143240" y="171468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s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Перед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Constantia"/>
              </a:rPr>
              <a:t>e, i, 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‘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city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6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277" name="Овал 7"/>
          <p:cNvSpPr/>
          <p:nvPr/>
        </p:nvSpPr>
        <p:spPr>
          <a:xfrm>
            <a:off x="4286160" y="3000240"/>
            <a:ext cx="171468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k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nstantia"/>
              </a:rPr>
              <a:t>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Ni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Овал 8"/>
          <p:cNvSpPr/>
          <p:nvPr/>
        </p:nvSpPr>
        <p:spPr>
          <a:xfrm>
            <a:off x="6000840" y="3000240"/>
            <a:ext cx="1857240" cy="13575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t∫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nstantia"/>
              </a:rPr>
              <a:t>ch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pea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ch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Овал 4"/>
          <p:cNvSpPr/>
          <p:nvPr/>
        </p:nvSpPr>
        <p:spPr>
          <a:xfrm>
            <a:off x="5572080" y="2571840"/>
            <a:ext cx="100008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si: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4617b"/>
                </a:solidFill>
                <a:uFillTx/>
                <a:latin typeface="Calibri"/>
              </a:rPr>
              <a:t>Read: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h [t∫] 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ldren re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for a pe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k [k]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Ni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k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has a sti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k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Овал 5"/>
          <p:cNvSpPr/>
          <p:nvPr/>
        </p:nvSpPr>
        <p:spPr>
          <a:xfrm rot="573600">
            <a:off x="3643200" y="207180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d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du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6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287" name="Овал 4"/>
          <p:cNvSpPr/>
          <p:nvPr/>
        </p:nvSpPr>
        <p:spPr>
          <a:xfrm>
            <a:off x="5429160" y="2571840"/>
            <a:ext cx="114300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D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di: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617b"/>
                </a:solidFill>
                <a:latin typeface="Calibri"/>
              </a:rPr>
              <a:t>the  ABC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57200" y="1935000"/>
          <a:ext cx="8229600" cy="41371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Aa</a:t>
                      </a: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B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C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D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E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F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G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H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I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Jj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K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L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bdff1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M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N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O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P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Qq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R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S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T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Uu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Vv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Ww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X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bdff1"/>
                    </a:solidFill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Y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Zz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</a:tr>
            </a:tbl>
          </a:graphicData>
        </a:graphic>
      </p:graphicFrame>
      <p:pic>
        <p:nvPicPr>
          <p:cNvPr id="199" name="abc song.mp3" descr=""/>
          <p:cNvPicPr/>
          <p:nvPr/>
        </p:nvPicPr>
        <p:blipFill>
          <a:blip r:embed="rId1"/>
          <a:stretch/>
        </p:blipFill>
        <p:spPr>
          <a:xfrm>
            <a:off x="871524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8206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Овал 5"/>
          <p:cNvSpPr/>
          <p:nvPr/>
        </p:nvSpPr>
        <p:spPr>
          <a:xfrm rot="573600">
            <a:off x="3643200" y="207180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f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fac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2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293" name="Овал 4"/>
          <p:cNvSpPr/>
          <p:nvPr/>
        </p:nvSpPr>
        <p:spPr>
          <a:xfrm>
            <a:off x="5429160" y="2571840"/>
            <a:ext cx="114300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Ff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ef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Овал 6"/>
          <p:cNvSpPr/>
          <p:nvPr/>
        </p:nvSpPr>
        <p:spPr>
          <a:xfrm>
            <a:off x="5929200" y="1643040"/>
            <a:ext cx="178596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g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glo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Овал 5"/>
          <p:cNvSpPr/>
          <p:nvPr/>
        </p:nvSpPr>
        <p:spPr>
          <a:xfrm>
            <a:off x="4143240" y="171468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d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З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Перед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Constantia"/>
              </a:rPr>
              <a:t>e, i, 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‘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orange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9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300" name="Овал 7"/>
          <p:cNvSpPr/>
          <p:nvPr/>
        </p:nvSpPr>
        <p:spPr>
          <a:xfrm>
            <a:off x="4286160" y="3000240"/>
            <a:ext cx="171468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ŋ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nstantia"/>
              </a:rPr>
              <a:t>ng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so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ng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Овал 4"/>
          <p:cNvSpPr/>
          <p:nvPr/>
        </p:nvSpPr>
        <p:spPr>
          <a:xfrm>
            <a:off x="5572080" y="2571840"/>
            <a:ext cx="100008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Gg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: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4617b"/>
                </a:solidFill>
                <a:uFillTx/>
                <a:latin typeface="Calibri"/>
              </a:rPr>
              <a:t>Read: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ng [ŋ] Si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ng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a so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ng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 Bri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ng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me a ri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ng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umbli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ng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rolli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ng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down the hill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umbling, rolling past the hill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umbling, rolling in the snow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umbling, rolling off we g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uffi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ng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puffi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ng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down the hill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uffing, puffing past the hill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uffing, puffing in the snow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uffing, puffing off we g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ff we go! Off we go!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Овал 5"/>
          <p:cNvSpPr/>
          <p:nvPr/>
        </p:nvSpPr>
        <p:spPr>
          <a:xfrm rot="573600">
            <a:off x="3643200" y="207180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h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h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8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309" name="Овал 4"/>
          <p:cNvSpPr/>
          <p:nvPr/>
        </p:nvSpPr>
        <p:spPr>
          <a:xfrm>
            <a:off x="5429160" y="2571840"/>
            <a:ext cx="114300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Hh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eit∫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Овал 5"/>
          <p:cNvSpPr/>
          <p:nvPr/>
        </p:nvSpPr>
        <p:spPr>
          <a:xfrm rot="573600">
            <a:off x="3643200" y="207180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d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З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ja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4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315" name="Овал 4"/>
          <p:cNvSpPr/>
          <p:nvPr/>
        </p:nvSpPr>
        <p:spPr>
          <a:xfrm>
            <a:off x="5429160" y="2571840"/>
            <a:ext cx="128592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Jj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d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ei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Овал 6"/>
          <p:cNvSpPr/>
          <p:nvPr/>
        </p:nvSpPr>
        <p:spPr>
          <a:xfrm>
            <a:off x="5929200" y="1643040"/>
            <a:ext cx="178596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n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nstantia"/>
              </a:rPr>
              <a:t>k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knif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Овал 5"/>
          <p:cNvSpPr/>
          <p:nvPr/>
        </p:nvSpPr>
        <p:spPr>
          <a:xfrm>
            <a:off x="4143240" y="171468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k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kitte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1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322" name="Овал 4"/>
          <p:cNvSpPr/>
          <p:nvPr/>
        </p:nvSpPr>
        <p:spPr>
          <a:xfrm>
            <a:off x="5572080" y="2571840"/>
            <a:ext cx="100008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K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i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4617b"/>
                </a:solidFill>
                <a:uFillTx/>
                <a:latin typeface="Calibri"/>
              </a:rPr>
              <a:t>Read: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kn [n] I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kn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ow where 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kn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ife is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Овал 5"/>
          <p:cNvSpPr/>
          <p:nvPr/>
        </p:nvSpPr>
        <p:spPr>
          <a:xfrm rot="573600">
            <a:off x="3643200" y="207180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l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lam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9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330" name="Овал 4"/>
          <p:cNvSpPr/>
          <p:nvPr/>
        </p:nvSpPr>
        <p:spPr>
          <a:xfrm>
            <a:off x="5429160" y="2571840"/>
            <a:ext cx="128592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L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el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Овал 5"/>
          <p:cNvSpPr/>
          <p:nvPr/>
        </p:nvSpPr>
        <p:spPr>
          <a:xfrm rot="573600">
            <a:off x="3643200" y="207180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m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35" name="Содержимое 3" descr=""/>
          <p:cNvPicPr/>
          <p:nvPr/>
        </p:nvPicPr>
        <p:blipFill>
          <a:blip r:embed="rId1"/>
          <a:stretch/>
        </p:blipFill>
        <p:spPr>
          <a:xfrm>
            <a:off x="285840" y="1450800"/>
            <a:ext cx="2506680" cy="3529080"/>
          </a:xfrm>
          <a:prstGeom prst="rect">
            <a:avLst/>
          </a:prstGeom>
          <a:ln w="0">
            <a:noFill/>
          </a:ln>
        </p:spPr>
      </p:pic>
      <p:sp>
        <p:nvSpPr>
          <p:cNvPr id="336" name="Овал 4"/>
          <p:cNvSpPr/>
          <p:nvPr/>
        </p:nvSpPr>
        <p:spPr>
          <a:xfrm>
            <a:off x="5429160" y="2571840"/>
            <a:ext cx="128592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em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Овал 5"/>
          <p:cNvSpPr/>
          <p:nvPr/>
        </p:nvSpPr>
        <p:spPr>
          <a:xfrm rot="573600">
            <a:off x="3643200" y="207180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n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nic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41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342" name="Овал 4"/>
          <p:cNvSpPr/>
          <p:nvPr/>
        </p:nvSpPr>
        <p:spPr>
          <a:xfrm>
            <a:off x="5429160" y="2571840"/>
            <a:ext cx="128592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N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en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Овал 6"/>
          <p:cNvSpPr/>
          <p:nvPr/>
        </p:nvSpPr>
        <p:spPr>
          <a:xfrm>
            <a:off x="5929200" y="1643040"/>
            <a:ext cx="178596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æ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Зак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‘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c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t’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Овал 5"/>
          <p:cNvSpPr/>
          <p:nvPr/>
        </p:nvSpPr>
        <p:spPr>
          <a:xfrm>
            <a:off x="4143240" y="171468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ei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ткр.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, ´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‘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n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me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Vowels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205" name="Овал 7"/>
          <p:cNvSpPr/>
          <p:nvPr/>
        </p:nvSpPr>
        <p:spPr>
          <a:xfrm>
            <a:off x="4286160" y="3000240"/>
            <a:ext cx="171468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a: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M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ar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Овал 8"/>
          <p:cNvSpPr/>
          <p:nvPr/>
        </p:nvSpPr>
        <p:spPr>
          <a:xfrm>
            <a:off x="6000840" y="3000240"/>
            <a:ext cx="1857240" cy="13575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</a:t>
            </a:r>
            <a:r>
              <a:rPr b="0" lang="el-GR" sz="1800" spc="-1" strike="noStrike">
                <a:solidFill>
                  <a:srgbClr val="ffffff"/>
                </a:solidFill>
                <a:latin typeface="Constantia"/>
              </a:rPr>
              <a:t>ε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э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Cl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ar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Овал 4"/>
          <p:cNvSpPr/>
          <p:nvPr/>
        </p:nvSpPr>
        <p:spPr>
          <a:xfrm>
            <a:off x="5572080" y="2571840"/>
            <a:ext cx="100008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ei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Овал 6"/>
          <p:cNvSpPr/>
          <p:nvPr/>
        </p:nvSpPr>
        <p:spPr>
          <a:xfrm>
            <a:off x="5929200" y="1643040"/>
            <a:ext cx="178596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f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nstantia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ph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on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Овал 5"/>
          <p:cNvSpPr/>
          <p:nvPr/>
        </p:nvSpPr>
        <p:spPr>
          <a:xfrm>
            <a:off x="4143240" y="171468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p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pe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48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349" name="Овал 4"/>
          <p:cNvSpPr/>
          <p:nvPr/>
        </p:nvSpPr>
        <p:spPr>
          <a:xfrm>
            <a:off x="5572080" y="2571840"/>
            <a:ext cx="100008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: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4617b"/>
                </a:solidFill>
                <a:uFillTx/>
                <a:latin typeface="Calibri"/>
              </a:rPr>
              <a:t>Read: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214200" y="1934640"/>
            <a:ext cx="87868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ph [f]    P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one me. Give me a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p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otofr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p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and a book on geogr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p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y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Овал 5"/>
          <p:cNvSpPr/>
          <p:nvPr/>
        </p:nvSpPr>
        <p:spPr>
          <a:xfrm rot="573600">
            <a:off x="3643200" y="207180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kw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quee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56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357" name="Овал 4"/>
          <p:cNvSpPr/>
          <p:nvPr/>
        </p:nvSpPr>
        <p:spPr>
          <a:xfrm>
            <a:off x="5429160" y="2571840"/>
            <a:ext cx="128592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Q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kju: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0" name="Овал 5"/>
          <p:cNvSpPr/>
          <p:nvPr/>
        </p:nvSpPr>
        <p:spPr>
          <a:xfrm rot="573600">
            <a:off x="3643200" y="207180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r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r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62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363" name="Овал 4"/>
          <p:cNvSpPr/>
          <p:nvPr/>
        </p:nvSpPr>
        <p:spPr>
          <a:xfrm>
            <a:off x="5429160" y="2571840"/>
            <a:ext cx="128592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R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a: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4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Овал 6"/>
          <p:cNvSpPr/>
          <p:nvPr/>
        </p:nvSpPr>
        <p:spPr>
          <a:xfrm>
            <a:off x="5929200" y="1643040"/>
            <a:ext cx="178596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∫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nstantia"/>
              </a:rPr>
              <a:t>Sh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sh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Овал 5"/>
          <p:cNvSpPr/>
          <p:nvPr/>
        </p:nvSpPr>
        <p:spPr>
          <a:xfrm>
            <a:off x="4143240" y="171468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s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seve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69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370" name="Овал 4"/>
          <p:cNvSpPr/>
          <p:nvPr/>
        </p:nvSpPr>
        <p:spPr>
          <a:xfrm>
            <a:off x="5572080" y="2571840"/>
            <a:ext cx="100008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S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es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4617b"/>
                </a:solidFill>
                <a:uFillTx/>
                <a:latin typeface="Calibri"/>
              </a:rPr>
              <a:t>Read: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sh [∫] S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e is in the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s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op. The fi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s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is in the di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s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Овал 6"/>
          <p:cNvSpPr/>
          <p:nvPr/>
        </p:nvSpPr>
        <p:spPr>
          <a:xfrm>
            <a:off x="5929200" y="1643040"/>
            <a:ext cx="178596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t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te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Овал 5"/>
          <p:cNvSpPr/>
          <p:nvPr/>
        </p:nvSpPr>
        <p:spPr>
          <a:xfrm>
            <a:off x="4143240" y="171468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ð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thi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78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379" name="Овал 7"/>
          <p:cNvSpPr/>
          <p:nvPr/>
        </p:nvSpPr>
        <p:spPr>
          <a:xfrm>
            <a:off x="4286160" y="3000240"/>
            <a:ext cx="171468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</a:t>
            </a:r>
            <a:r>
              <a:rPr b="0" lang="el-GR" sz="1800" spc="-1" strike="noStrike">
                <a:solidFill>
                  <a:srgbClr val="ffffff"/>
                </a:solidFill>
                <a:latin typeface="Constantia"/>
              </a:rPr>
              <a:t>θ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thre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Овал 4"/>
          <p:cNvSpPr/>
          <p:nvPr/>
        </p:nvSpPr>
        <p:spPr>
          <a:xfrm>
            <a:off x="5572080" y="2571840"/>
            <a:ext cx="100008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: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4617b"/>
                </a:solidFill>
                <a:uFillTx/>
                <a:latin typeface="Calibri"/>
              </a:rPr>
              <a:t>Read: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h [</a:t>
            </a:r>
            <a:r>
              <a:rPr b="1" lang="el-GR" sz="40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][ð]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is is a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ick book.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ank you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Овал 5"/>
          <p:cNvSpPr/>
          <p:nvPr/>
        </p:nvSpPr>
        <p:spPr>
          <a:xfrm rot="573600">
            <a:off x="3643200" y="207180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v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vas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87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388" name="Овал 4"/>
          <p:cNvSpPr/>
          <p:nvPr/>
        </p:nvSpPr>
        <p:spPr>
          <a:xfrm>
            <a:off x="5429160" y="2571840"/>
            <a:ext cx="128592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Vv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vi: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Овал 6"/>
          <p:cNvSpPr/>
          <p:nvPr/>
        </p:nvSpPr>
        <p:spPr>
          <a:xfrm>
            <a:off x="5929200" y="1643040"/>
            <a:ext cx="178596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wh [w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wh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Овал 5"/>
          <p:cNvSpPr/>
          <p:nvPr/>
        </p:nvSpPr>
        <p:spPr>
          <a:xfrm>
            <a:off x="4143240" y="171468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wr [r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wr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ong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94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395" name="Овал 4"/>
          <p:cNvSpPr/>
          <p:nvPr/>
        </p:nvSpPr>
        <p:spPr>
          <a:xfrm>
            <a:off x="5072040" y="2571840"/>
            <a:ext cx="164304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Ww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´d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ju: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4617b"/>
                </a:solidFill>
                <a:uFillTx/>
                <a:latin typeface="Calibri"/>
              </a:rPr>
              <a:t>Read: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e h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s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c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,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c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r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nd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h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r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bl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k c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 s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 on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m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nd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e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f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 r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4617b"/>
                </a:solidFill>
                <a:uFillTx/>
                <a:latin typeface="Calibri"/>
              </a:rPr>
              <a:t>Read: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wh [w]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Wh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at?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Wh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ere?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Wh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ich?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Wh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en?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Wh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y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wr [r]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Wr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ong number. You ar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wr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ong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Овал 5"/>
          <p:cNvSpPr/>
          <p:nvPr/>
        </p:nvSpPr>
        <p:spPr>
          <a:xfrm rot="573600">
            <a:off x="3643200" y="207180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ks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02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403" name="Овал 4"/>
          <p:cNvSpPr/>
          <p:nvPr/>
        </p:nvSpPr>
        <p:spPr>
          <a:xfrm>
            <a:off x="5429160" y="2571840"/>
            <a:ext cx="128592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Xx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eks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Овал 5"/>
          <p:cNvSpPr/>
          <p:nvPr/>
        </p:nvSpPr>
        <p:spPr>
          <a:xfrm rot="573600">
            <a:off x="3643200" y="207180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z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zo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08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409" name="Овал 4"/>
          <p:cNvSpPr/>
          <p:nvPr/>
        </p:nvSpPr>
        <p:spPr>
          <a:xfrm>
            <a:off x="5429160" y="2571840"/>
            <a:ext cx="128592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Zz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zed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2" name="Содержимое 3" descr="http://files.1september.ru/festival/articles/519002/Image47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Now you know the ABC!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e AB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w I know my ABCs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xt time want you sing with me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e AB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w I know my ABCs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ll me what you think of me!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5" name="abc song.mp3" descr=""/>
          <p:cNvPicPr/>
          <p:nvPr/>
        </p:nvPicPr>
        <p:blipFill>
          <a:blip r:embed="rId1"/>
          <a:stretch/>
        </p:blipFill>
        <p:spPr>
          <a:xfrm>
            <a:off x="871524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8206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0040" y="23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Thank you for attention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атериал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лементьева Т.Б., Монк Б. Счастливый английский. Кн.1: Учеб. для 5-6 кл. сред. шк. – М.: Просвещение, 1992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noenglish.ru/file_4.htm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Овал 6"/>
          <p:cNvSpPr/>
          <p:nvPr/>
        </p:nvSpPr>
        <p:spPr>
          <a:xfrm>
            <a:off x="5929200" y="1643040"/>
            <a:ext cx="178596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e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Зак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‘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B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n’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Овал 5"/>
          <p:cNvSpPr/>
          <p:nvPr/>
        </p:nvSpPr>
        <p:spPr>
          <a:xfrm>
            <a:off x="4143240" y="171468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i: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ткр.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, ´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‘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P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te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Vowels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216" name="Овал 7"/>
          <p:cNvSpPr/>
          <p:nvPr/>
        </p:nvSpPr>
        <p:spPr>
          <a:xfrm>
            <a:off x="4286160" y="3000240"/>
            <a:ext cx="171468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э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: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B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er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Овал 8"/>
          <p:cNvSpPr/>
          <p:nvPr/>
        </p:nvSpPr>
        <p:spPr>
          <a:xfrm>
            <a:off x="6000840" y="3000240"/>
            <a:ext cx="1857240" cy="13575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i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э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h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er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Овал 4"/>
          <p:cNvSpPr/>
          <p:nvPr/>
        </p:nvSpPr>
        <p:spPr>
          <a:xfrm>
            <a:off x="5572080" y="2571840"/>
            <a:ext cx="100008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E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i: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4617b"/>
                </a:solidFill>
                <a:uFillTx/>
                <a:latin typeface="Calibri"/>
              </a:rPr>
              <a:t>Read: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* has a p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 and a p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er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fum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* h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er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Ei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ght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gant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ngin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e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rs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e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ing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xc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ll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nt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ggs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Овал 6"/>
          <p:cNvSpPr/>
          <p:nvPr/>
        </p:nvSpPr>
        <p:spPr>
          <a:xfrm>
            <a:off x="5929200" y="1643040"/>
            <a:ext cx="178596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i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Зак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‘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N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i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ck’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Овал 5"/>
          <p:cNvSpPr/>
          <p:nvPr/>
        </p:nvSpPr>
        <p:spPr>
          <a:xfrm>
            <a:off x="4143240" y="171468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ai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ткр.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, ´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‘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M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i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ke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Vowels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6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227" name="Овал 7"/>
          <p:cNvSpPr/>
          <p:nvPr/>
        </p:nvSpPr>
        <p:spPr>
          <a:xfrm>
            <a:off x="4286160" y="3000240"/>
            <a:ext cx="171468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э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: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b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ir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Овал 8"/>
          <p:cNvSpPr/>
          <p:nvPr/>
        </p:nvSpPr>
        <p:spPr>
          <a:xfrm>
            <a:off x="6000840" y="3000240"/>
            <a:ext cx="1857240" cy="13575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´ ai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э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f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ir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Овал 4"/>
          <p:cNvSpPr/>
          <p:nvPr/>
        </p:nvSpPr>
        <p:spPr>
          <a:xfrm>
            <a:off x="5572080" y="2571840"/>
            <a:ext cx="100008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ai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4617b"/>
                </a:solidFill>
                <a:uFillTx/>
                <a:latin typeface="Calibri"/>
              </a:rPr>
              <a:t>Read: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M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ke has a p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g, a b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ir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d and a f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ir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A p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g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n a w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g d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d a j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g on a tw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g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Овал 6"/>
          <p:cNvSpPr/>
          <p:nvPr/>
        </p:nvSpPr>
        <p:spPr>
          <a:xfrm>
            <a:off x="5929200" y="1643040"/>
            <a:ext cx="178596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o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Зак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‘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T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o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m’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Овал 5"/>
          <p:cNvSpPr/>
          <p:nvPr/>
        </p:nvSpPr>
        <p:spPr>
          <a:xfrm>
            <a:off x="4143240" y="171468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э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u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ткр.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, ´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‘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R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o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se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Vowels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238" name="Овал 7"/>
          <p:cNvSpPr/>
          <p:nvPr/>
        </p:nvSpPr>
        <p:spPr>
          <a:xfrm>
            <a:off x="4286160" y="3000240"/>
            <a:ext cx="171468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o: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N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or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ma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Овал 8"/>
          <p:cNvSpPr/>
          <p:nvPr/>
        </p:nvSpPr>
        <p:spPr>
          <a:xfrm>
            <a:off x="6000840" y="3000240"/>
            <a:ext cx="1857240" cy="13575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o: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m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or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Овал 4"/>
          <p:cNvSpPr/>
          <p:nvPr/>
        </p:nvSpPr>
        <p:spPr>
          <a:xfrm>
            <a:off x="5572080" y="2571840"/>
            <a:ext cx="100008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э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u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sha&amp;Yulya</cp:lastModifiedBy>
  <dcterms:modified xsi:type="dcterms:W3CDTF">2010-07-18T11:00:11Z</dcterms:modified>
  <cp:revision>48</cp:revision>
  <dc:subject/>
  <dc:title>The ABC</dc:title>
</cp:coreProperties>
</file>