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20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A1D6-8612-4402-B143-33C8E27D7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3B5E-B187-43FE-878E-E01CFE40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B60E-3662-4CED-9CAD-40890134A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2453-565D-4979-BFC8-8381A2AF5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5840-8EF6-4B5C-93C6-8163BC34B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DD59-C07A-4954-A14B-54B94306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2E44-51C2-4594-980F-AA8E1F69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B25D-8C8D-4984-9BF7-D5C947D7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234B-B9D7-4733-89C9-523B8950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0B46-B9F4-47EF-B09F-292358DC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D92D-F766-45BD-8967-678710A8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93B4-6816-4646-BAB0-DA4B1E97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53AB-0904-407D-BB6D-8861080A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D5A2-A203-4454-B937-1168BBC3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188B-329B-493E-B7D0-F08318C9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4D46-48F3-49DF-9D62-398159AEE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74BA-CDF2-409D-9C11-05744ACB9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4BAF3-D9E6-4994-90D0-8171556F2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1B6C1-7C44-4455-9F71-2D2C491E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84A18-BA8D-4800-BC43-E0A74D0D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BE3F9-8335-444F-90E6-512EAA70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05B58-1AAF-4F5C-B5DC-EE70FE6A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7F38-480F-42AC-BFC8-365F2192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0A0F6-9274-4B78-B614-A45AF882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AA99C-1AB0-43DC-8997-D2BD94C0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3C91A-EB4F-4AA2-B4D5-6A54B40E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0AB75-F4DB-4F92-A0DF-18BE2DA7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92F9C-DCF3-485A-8D3A-2BCD6B86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B2758-5B6B-446E-B5CF-C5445F665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905EA-2C91-4F75-BF8A-6C2AA816E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7EA40-568B-4CEC-B4AF-AE7F71CA3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A4135-6A7A-4F7E-8822-DDD32AA4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0C1E4-86ED-430D-988F-9B58B58F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9637-56A7-4E9C-B106-59CB63D5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0C287-B2FC-45CD-BA8C-3133F481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541C6-27D4-44CA-B0CF-2F857822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1DC71-0A58-493E-9505-075148B3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12369-2B48-4AEE-8077-25C5EDB1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83E59-DFB6-4568-96EB-FB35FBA0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1211D-4EAB-45D8-98DA-DFB046E8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A8730-E240-4B9C-BB53-3E91DC8E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FBB8B-6025-433A-B910-C3348BDCF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F7AC8-6407-4966-8802-DE84D430B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9467-9DEF-4742-9455-6E796868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6D24-54E1-440E-B9AE-D96FAB01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1940-7C50-4984-A1F8-34663456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5787-3E3B-4228-A458-CB240989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C919-9C3C-44B3-84C4-A34B612C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421C-4CAD-4ECF-8699-40541393564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09FD-12F3-4C45-AEEB-90F64A67B98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FDF3-F878-4546-BB8F-F3CE1848C18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AC85-9D1C-4476-AF1C-07416DD3B56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noenglish.ru/file_4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41360"/>
            <a:ext cx="7864560" cy="1944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Let’s learn the ABC together!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4617b"/>
                </a:solidFill>
                <a:uFillTx/>
                <a:latin typeface="Calibri"/>
              </a:rPr>
              <a:t>Read: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2876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o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se has a d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o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g, a f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or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k and an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ore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Овал 6"/>
          <p:cNvSpPr/>
          <p:nvPr/>
        </p:nvSpPr>
        <p:spPr>
          <a:xfrm>
            <a:off x="5929200" y="1643040"/>
            <a:ext cx="178596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</a:t>
            </a:r>
            <a:r>
              <a:rPr b="0" lang="el-GR" sz="1800" spc="-1" strike="noStrike">
                <a:solidFill>
                  <a:srgbClr val="ffffff"/>
                </a:solidFill>
                <a:latin typeface="Constantia"/>
              </a:rPr>
              <a:t>Λ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Зак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‘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m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u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m’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Овал 5"/>
          <p:cNvSpPr/>
          <p:nvPr/>
        </p:nvSpPr>
        <p:spPr>
          <a:xfrm>
            <a:off x="4143240" y="171468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ju: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ткр.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, ´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‘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S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u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san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Vowels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8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249" name="Овал 7"/>
          <p:cNvSpPr/>
          <p:nvPr/>
        </p:nvSpPr>
        <p:spPr>
          <a:xfrm>
            <a:off x="4286160" y="3000240"/>
            <a:ext cx="171468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э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: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f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u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Овал 8"/>
          <p:cNvSpPr/>
          <p:nvPr/>
        </p:nvSpPr>
        <p:spPr>
          <a:xfrm>
            <a:off x="6000840" y="3000240"/>
            <a:ext cx="1857240" cy="13575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ju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э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p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ur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Овал 4"/>
          <p:cNvSpPr/>
          <p:nvPr/>
        </p:nvSpPr>
        <p:spPr>
          <a:xfrm>
            <a:off x="5572080" y="2571840"/>
            <a:ext cx="100008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Uu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ju: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4617b"/>
                </a:solidFill>
                <a:uFillTx/>
                <a:latin typeface="Calibri"/>
              </a:rPr>
              <a:t>Read: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u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san has a c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u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p, a t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ur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key and p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ure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orange j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u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ice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Овал 6"/>
          <p:cNvSpPr/>
          <p:nvPr/>
        </p:nvSpPr>
        <p:spPr>
          <a:xfrm rot="20311200">
            <a:off x="5929200" y="1642680"/>
            <a:ext cx="178596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i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S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Овал 5"/>
          <p:cNvSpPr/>
          <p:nvPr/>
        </p:nvSpPr>
        <p:spPr>
          <a:xfrm rot="1801800">
            <a:off x="4071960" y="1872720"/>
            <a:ext cx="1857240" cy="13575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ai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b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Vowels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9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260" name="Овал 4"/>
          <p:cNvSpPr/>
          <p:nvPr/>
        </p:nvSpPr>
        <p:spPr>
          <a:xfrm>
            <a:off x="5429160" y="2571840"/>
            <a:ext cx="114300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Y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wai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4617b"/>
                </a:solidFill>
                <a:uFillTx/>
                <a:latin typeface="Calibri"/>
              </a:rPr>
              <a:t>Read: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A fl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y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can fl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y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and a bab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y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can’t fl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y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Some combinations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oo [u]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L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oo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k, here is a b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oo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k. We can c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oo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k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oo [u:]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here is a p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oo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l near our sch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oo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l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ee [i:]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 s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ee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a b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ee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in a tr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ee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ea [i:]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 like t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ea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and m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ea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. I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ea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 m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ea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Овал 5"/>
          <p:cNvSpPr/>
          <p:nvPr/>
        </p:nvSpPr>
        <p:spPr>
          <a:xfrm rot="573600">
            <a:off x="3643200" y="207180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b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ba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9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270" name="Овал 4"/>
          <p:cNvSpPr/>
          <p:nvPr/>
        </p:nvSpPr>
        <p:spPr>
          <a:xfrm>
            <a:off x="5429160" y="2571840"/>
            <a:ext cx="114300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bi: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Овал 6"/>
          <p:cNvSpPr/>
          <p:nvPr/>
        </p:nvSpPr>
        <p:spPr>
          <a:xfrm>
            <a:off x="5929200" y="1643040"/>
            <a:ext cx="178596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k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cak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Овал 5"/>
          <p:cNvSpPr/>
          <p:nvPr/>
        </p:nvSpPr>
        <p:spPr>
          <a:xfrm>
            <a:off x="4143240" y="171468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s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Перед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Constantia"/>
              </a:rPr>
              <a:t>e, i, 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‘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city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6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277" name="Овал 7"/>
          <p:cNvSpPr/>
          <p:nvPr/>
        </p:nvSpPr>
        <p:spPr>
          <a:xfrm>
            <a:off x="4286160" y="3000240"/>
            <a:ext cx="171468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k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nstantia"/>
              </a:rPr>
              <a:t>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Ni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Овал 8"/>
          <p:cNvSpPr/>
          <p:nvPr/>
        </p:nvSpPr>
        <p:spPr>
          <a:xfrm>
            <a:off x="6000840" y="3000240"/>
            <a:ext cx="1857240" cy="13575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t∫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nstantia"/>
              </a:rPr>
              <a:t>ch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pea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ch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Овал 4"/>
          <p:cNvSpPr/>
          <p:nvPr/>
        </p:nvSpPr>
        <p:spPr>
          <a:xfrm>
            <a:off x="5572080" y="2571840"/>
            <a:ext cx="100008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si: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4617b"/>
                </a:solidFill>
                <a:uFillTx/>
                <a:latin typeface="Calibri"/>
              </a:rPr>
              <a:t>Read: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h [t∫] 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ldren re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for a pe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k [k]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Ni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k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has a sti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k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Овал 5"/>
          <p:cNvSpPr/>
          <p:nvPr/>
        </p:nvSpPr>
        <p:spPr>
          <a:xfrm rot="573600">
            <a:off x="3643200" y="207180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d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du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6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287" name="Овал 4"/>
          <p:cNvSpPr/>
          <p:nvPr/>
        </p:nvSpPr>
        <p:spPr>
          <a:xfrm>
            <a:off x="5429160" y="2571840"/>
            <a:ext cx="114300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D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di: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4617b"/>
                </a:solidFill>
                <a:latin typeface="Calibri"/>
              </a:rPr>
              <a:t>the  ABC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57200" y="1935000"/>
          <a:ext cx="8229600" cy="41371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Aa</a:t>
                      </a: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B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C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D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E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F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G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H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I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Jj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K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L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bdff1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M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N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O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P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Qq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R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S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T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Uu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Vv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Ww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X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bdff1"/>
                    </a:solidFill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Y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4e6d"/>
                          </a:solidFill>
                          <a:latin typeface="Constantia"/>
                        </a:rPr>
                        <a:t>Zz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e7f0f8"/>
                    </a:solidFill>
                  </a:tcPr>
                </a:tc>
              </a:tr>
            </a:tbl>
          </a:graphicData>
        </a:graphic>
      </p:graphicFrame>
      <p:pic>
        <p:nvPicPr>
          <p:cNvPr id="199" name="abc song.mp3" descr=""/>
          <p:cNvPicPr/>
          <p:nvPr/>
        </p:nvPicPr>
        <p:blipFill>
          <a:blip r:embed="rId1"/>
          <a:stretch/>
        </p:blipFill>
        <p:spPr>
          <a:xfrm>
            <a:off x="871524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8206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Овал 5"/>
          <p:cNvSpPr/>
          <p:nvPr/>
        </p:nvSpPr>
        <p:spPr>
          <a:xfrm rot="573600">
            <a:off x="3643200" y="207180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f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fac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2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293" name="Овал 4"/>
          <p:cNvSpPr/>
          <p:nvPr/>
        </p:nvSpPr>
        <p:spPr>
          <a:xfrm>
            <a:off x="5429160" y="2571840"/>
            <a:ext cx="114300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Ff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ef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Овал 6"/>
          <p:cNvSpPr/>
          <p:nvPr/>
        </p:nvSpPr>
        <p:spPr>
          <a:xfrm>
            <a:off x="5929200" y="1643040"/>
            <a:ext cx="178596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g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glo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Овал 5"/>
          <p:cNvSpPr/>
          <p:nvPr/>
        </p:nvSpPr>
        <p:spPr>
          <a:xfrm>
            <a:off x="4143240" y="171468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d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З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Перед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Constantia"/>
              </a:rPr>
              <a:t>e, i, 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‘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orange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9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300" name="Овал 7"/>
          <p:cNvSpPr/>
          <p:nvPr/>
        </p:nvSpPr>
        <p:spPr>
          <a:xfrm>
            <a:off x="4286160" y="3000240"/>
            <a:ext cx="171468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ŋ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nstantia"/>
              </a:rPr>
              <a:t>ng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so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ng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Овал 4"/>
          <p:cNvSpPr/>
          <p:nvPr/>
        </p:nvSpPr>
        <p:spPr>
          <a:xfrm>
            <a:off x="5572080" y="2571840"/>
            <a:ext cx="100008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Gg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: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4617b"/>
                </a:solidFill>
                <a:uFillTx/>
                <a:latin typeface="Calibri"/>
              </a:rPr>
              <a:t>Read: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ng [ŋ] Si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ng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a so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ng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. Bri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ng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me a ri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ng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umbli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ng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 rolli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ng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down the hill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umbling, rolling past the hill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umbling, rolling in the snow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umbling, rolling off we go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uffi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ng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 puffi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ng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down the hill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uffing, puffing past the hill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uffing, puffing in the snow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uffing, puffing off we go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ff we go! Off we go!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Овал 5"/>
          <p:cNvSpPr/>
          <p:nvPr/>
        </p:nvSpPr>
        <p:spPr>
          <a:xfrm rot="573600">
            <a:off x="3643200" y="207180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h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h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8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309" name="Овал 4"/>
          <p:cNvSpPr/>
          <p:nvPr/>
        </p:nvSpPr>
        <p:spPr>
          <a:xfrm>
            <a:off x="5429160" y="2571840"/>
            <a:ext cx="114300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Hh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eit∫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Овал 5"/>
          <p:cNvSpPr/>
          <p:nvPr/>
        </p:nvSpPr>
        <p:spPr>
          <a:xfrm rot="573600">
            <a:off x="3643200" y="207180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d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З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ja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4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315" name="Овал 4"/>
          <p:cNvSpPr/>
          <p:nvPr/>
        </p:nvSpPr>
        <p:spPr>
          <a:xfrm>
            <a:off x="5429160" y="2571840"/>
            <a:ext cx="128592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Jj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d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ei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Овал 6"/>
          <p:cNvSpPr/>
          <p:nvPr/>
        </p:nvSpPr>
        <p:spPr>
          <a:xfrm>
            <a:off x="5929200" y="1643040"/>
            <a:ext cx="178596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n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nstantia"/>
              </a:rPr>
              <a:t>k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knif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Овал 5"/>
          <p:cNvSpPr/>
          <p:nvPr/>
        </p:nvSpPr>
        <p:spPr>
          <a:xfrm>
            <a:off x="4143240" y="171468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k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kitte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1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322" name="Овал 4"/>
          <p:cNvSpPr/>
          <p:nvPr/>
        </p:nvSpPr>
        <p:spPr>
          <a:xfrm>
            <a:off x="5572080" y="2571840"/>
            <a:ext cx="100008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K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i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4617b"/>
                </a:solidFill>
                <a:uFillTx/>
                <a:latin typeface="Calibri"/>
              </a:rPr>
              <a:t>Read: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kn [n] I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kn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ow where 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kn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ife is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Овал 5"/>
          <p:cNvSpPr/>
          <p:nvPr/>
        </p:nvSpPr>
        <p:spPr>
          <a:xfrm rot="573600">
            <a:off x="3643200" y="207180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l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lam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9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330" name="Овал 4"/>
          <p:cNvSpPr/>
          <p:nvPr/>
        </p:nvSpPr>
        <p:spPr>
          <a:xfrm>
            <a:off x="5429160" y="2571840"/>
            <a:ext cx="128592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L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el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Овал 5"/>
          <p:cNvSpPr/>
          <p:nvPr/>
        </p:nvSpPr>
        <p:spPr>
          <a:xfrm rot="573600">
            <a:off x="3643200" y="207180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m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mous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35" name="Содержимое 3" descr=""/>
          <p:cNvPicPr/>
          <p:nvPr/>
        </p:nvPicPr>
        <p:blipFill>
          <a:blip r:embed="rId1"/>
          <a:stretch/>
        </p:blipFill>
        <p:spPr>
          <a:xfrm>
            <a:off x="285840" y="1450800"/>
            <a:ext cx="2506680" cy="3529080"/>
          </a:xfrm>
          <a:prstGeom prst="rect">
            <a:avLst/>
          </a:prstGeom>
          <a:ln w="0">
            <a:noFill/>
          </a:ln>
        </p:spPr>
      </p:pic>
      <p:sp>
        <p:nvSpPr>
          <p:cNvPr id="336" name="Овал 4"/>
          <p:cNvSpPr/>
          <p:nvPr/>
        </p:nvSpPr>
        <p:spPr>
          <a:xfrm>
            <a:off x="5429160" y="2571840"/>
            <a:ext cx="128592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em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Овал 5"/>
          <p:cNvSpPr/>
          <p:nvPr/>
        </p:nvSpPr>
        <p:spPr>
          <a:xfrm rot="573600">
            <a:off x="3643200" y="207180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n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nic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41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342" name="Овал 4"/>
          <p:cNvSpPr/>
          <p:nvPr/>
        </p:nvSpPr>
        <p:spPr>
          <a:xfrm>
            <a:off x="5429160" y="2571840"/>
            <a:ext cx="128592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N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en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Овал 6"/>
          <p:cNvSpPr/>
          <p:nvPr/>
        </p:nvSpPr>
        <p:spPr>
          <a:xfrm>
            <a:off x="5929200" y="1643040"/>
            <a:ext cx="178596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æ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Зак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‘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c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t’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Овал 5"/>
          <p:cNvSpPr/>
          <p:nvPr/>
        </p:nvSpPr>
        <p:spPr>
          <a:xfrm>
            <a:off x="4143240" y="171468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ei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ткр.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, ´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‘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n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me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Vowels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205" name="Овал 7"/>
          <p:cNvSpPr/>
          <p:nvPr/>
        </p:nvSpPr>
        <p:spPr>
          <a:xfrm>
            <a:off x="4286160" y="3000240"/>
            <a:ext cx="171468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a: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M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ar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Овал 8"/>
          <p:cNvSpPr/>
          <p:nvPr/>
        </p:nvSpPr>
        <p:spPr>
          <a:xfrm>
            <a:off x="6000840" y="3000240"/>
            <a:ext cx="1857240" cy="13575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</a:t>
            </a:r>
            <a:r>
              <a:rPr b="0" lang="el-GR" sz="1800" spc="-1" strike="noStrike">
                <a:solidFill>
                  <a:srgbClr val="ffffff"/>
                </a:solidFill>
                <a:latin typeface="Constantia"/>
              </a:rPr>
              <a:t>ε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э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Cl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ar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Овал 4"/>
          <p:cNvSpPr/>
          <p:nvPr/>
        </p:nvSpPr>
        <p:spPr>
          <a:xfrm>
            <a:off x="5572080" y="2571840"/>
            <a:ext cx="100008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ei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Овал 6"/>
          <p:cNvSpPr/>
          <p:nvPr/>
        </p:nvSpPr>
        <p:spPr>
          <a:xfrm>
            <a:off x="5929200" y="1643040"/>
            <a:ext cx="178596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f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nstantia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ph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on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Овал 5"/>
          <p:cNvSpPr/>
          <p:nvPr/>
        </p:nvSpPr>
        <p:spPr>
          <a:xfrm>
            <a:off x="4143240" y="171468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p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pe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48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349" name="Овал 4"/>
          <p:cNvSpPr/>
          <p:nvPr/>
        </p:nvSpPr>
        <p:spPr>
          <a:xfrm>
            <a:off x="5572080" y="2571840"/>
            <a:ext cx="100008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: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4617b"/>
                </a:solidFill>
                <a:uFillTx/>
                <a:latin typeface="Calibri"/>
              </a:rPr>
              <a:t>Read: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214200" y="1934640"/>
            <a:ext cx="87868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ph [f]    P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one me. Give me a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p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otofr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p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and a book on geogr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p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y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Овал 5"/>
          <p:cNvSpPr/>
          <p:nvPr/>
        </p:nvSpPr>
        <p:spPr>
          <a:xfrm rot="573600">
            <a:off x="3643200" y="207180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kw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quee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56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357" name="Овал 4"/>
          <p:cNvSpPr/>
          <p:nvPr/>
        </p:nvSpPr>
        <p:spPr>
          <a:xfrm>
            <a:off x="5429160" y="2571840"/>
            <a:ext cx="128592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Q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kju: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0" name="Овал 5"/>
          <p:cNvSpPr/>
          <p:nvPr/>
        </p:nvSpPr>
        <p:spPr>
          <a:xfrm rot="573600">
            <a:off x="3643200" y="207180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r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r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62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363" name="Овал 4"/>
          <p:cNvSpPr/>
          <p:nvPr/>
        </p:nvSpPr>
        <p:spPr>
          <a:xfrm>
            <a:off x="5429160" y="2571840"/>
            <a:ext cx="128592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R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a: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4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Овал 6"/>
          <p:cNvSpPr/>
          <p:nvPr/>
        </p:nvSpPr>
        <p:spPr>
          <a:xfrm>
            <a:off x="5929200" y="1643040"/>
            <a:ext cx="178596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∫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nstantia"/>
              </a:rPr>
              <a:t>Sh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sh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Овал 5"/>
          <p:cNvSpPr/>
          <p:nvPr/>
        </p:nvSpPr>
        <p:spPr>
          <a:xfrm>
            <a:off x="4143240" y="171468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s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seve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69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370" name="Овал 4"/>
          <p:cNvSpPr/>
          <p:nvPr/>
        </p:nvSpPr>
        <p:spPr>
          <a:xfrm>
            <a:off x="5572080" y="2571840"/>
            <a:ext cx="100008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S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es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4617b"/>
                </a:solidFill>
                <a:uFillTx/>
                <a:latin typeface="Calibri"/>
              </a:rPr>
              <a:t>Read: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sh [∫] S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e is in the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s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op. The fi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s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is in the di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s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Овал 6"/>
          <p:cNvSpPr/>
          <p:nvPr/>
        </p:nvSpPr>
        <p:spPr>
          <a:xfrm>
            <a:off x="5929200" y="1643040"/>
            <a:ext cx="178596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t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te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Овал 5"/>
          <p:cNvSpPr/>
          <p:nvPr/>
        </p:nvSpPr>
        <p:spPr>
          <a:xfrm>
            <a:off x="4143240" y="171468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ð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thi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78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379" name="Овал 7"/>
          <p:cNvSpPr/>
          <p:nvPr/>
        </p:nvSpPr>
        <p:spPr>
          <a:xfrm>
            <a:off x="4286160" y="3000240"/>
            <a:ext cx="171468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</a:t>
            </a:r>
            <a:r>
              <a:rPr b="0" lang="el-GR" sz="1800" spc="-1" strike="noStrike">
                <a:solidFill>
                  <a:srgbClr val="ffffff"/>
                </a:solidFill>
                <a:latin typeface="Constantia"/>
              </a:rPr>
              <a:t>θ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thre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Овал 4"/>
          <p:cNvSpPr/>
          <p:nvPr/>
        </p:nvSpPr>
        <p:spPr>
          <a:xfrm>
            <a:off x="5572080" y="2571840"/>
            <a:ext cx="100008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: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4617b"/>
                </a:solidFill>
                <a:uFillTx/>
                <a:latin typeface="Calibri"/>
              </a:rPr>
              <a:t>Read: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h [</a:t>
            </a:r>
            <a:r>
              <a:rPr b="1" lang="el-GR" sz="40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][ð]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is is a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ick book.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ank you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Овал 5"/>
          <p:cNvSpPr/>
          <p:nvPr/>
        </p:nvSpPr>
        <p:spPr>
          <a:xfrm rot="573600">
            <a:off x="3643200" y="207180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v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vas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87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388" name="Овал 4"/>
          <p:cNvSpPr/>
          <p:nvPr/>
        </p:nvSpPr>
        <p:spPr>
          <a:xfrm>
            <a:off x="5429160" y="2571840"/>
            <a:ext cx="128592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Vv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vi: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Овал 6"/>
          <p:cNvSpPr/>
          <p:nvPr/>
        </p:nvSpPr>
        <p:spPr>
          <a:xfrm>
            <a:off x="5929200" y="1643040"/>
            <a:ext cx="178596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wh [w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wh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Овал 5"/>
          <p:cNvSpPr/>
          <p:nvPr/>
        </p:nvSpPr>
        <p:spPr>
          <a:xfrm>
            <a:off x="4143240" y="171468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wr [r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wr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ong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94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395" name="Овал 4"/>
          <p:cNvSpPr/>
          <p:nvPr/>
        </p:nvSpPr>
        <p:spPr>
          <a:xfrm>
            <a:off x="5072040" y="2571840"/>
            <a:ext cx="164304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Ww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´d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ju: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4617b"/>
                </a:solidFill>
                <a:uFillTx/>
                <a:latin typeface="Calibri"/>
              </a:rPr>
              <a:t>Read: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e h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s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c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,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c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r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nd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h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re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bl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k c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 s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 on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m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nd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e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f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 r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4617b"/>
                </a:solidFill>
                <a:uFillTx/>
                <a:latin typeface="Calibri"/>
              </a:rPr>
              <a:t>Read: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wh [w]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Wh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at?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Wh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ere?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Wh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ich?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Wh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en?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Wh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y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wr [r]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Wr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ong number. You ar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wr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ong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Овал 5"/>
          <p:cNvSpPr/>
          <p:nvPr/>
        </p:nvSpPr>
        <p:spPr>
          <a:xfrm rot="573600">
            <a:off x="3643200" y="207180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ks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02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403" name="Овал 4"/>
          <p:cNvSpPr/>
          <p:nvPr/>
        </p:nvSpPr>
        <p:spPr>
          <a:xfrm>
            <a:off x="5429160" y="2571840"/>
            <a:ext cx="128592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Xx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eks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Овал 5"/>
          <p:cNvSpPr/>
          <p:nvPr/>
        </p:nvSpPr>
        <p:spPr>
          <a:xfrm rot="573600">
            <a:off x="3643200" y="207180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z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zo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6686d"/>
                </a:solidFill>
                <a:latin typeface="Calibri"/>
              </a:rPr>
              <a:t>Consonant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08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409" name="Овал 4"/>
          <p:cNvSpPr/>
          <p:nvPr/>
        </p:nvSpPr>
        <p:spPr>
          <a:xfrm>
            <a:off x="5429160" y="2571840"/>
            <a:ext cx="128592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Zz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zed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2" name="Содержимое 3" descr="http://files.1september.ru/festival/articles/519002/Image47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Now you know the ABC!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he AB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w I know my ABCs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xt time want you sing with me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he AB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w I know my ABCs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ll me what you think of me!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5" name="abc song.mp3" descr=""/>
          <p:cNvPicPr/>
          <p:nvPr/>
        </p:nvPicPr>
        <p:blipFill>
          <a:blip r:embed="rId1"/>
          <a:stretch/>
        </p:blipFill>
        <p:spPr>
          <a:xfrm>
            <a:off x="871524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8206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0040" y="23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Thank you for attention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атериал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лементьева Т.Б., Монк Б. Счастливый английский. Кн.1: Учеб. для 5-6 кл. сред. шк. – М.: Просвещение, 1992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noenglish.ru/file_4.htm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Овал 6"/>
          <p:cNvSpPr/>
          <p:nvPr/>
        </p:nvSpPr>
        <p:spPr>
          <a:xfrm>
            <a:off x="5929200" y="1643040"/>
            <a:ext cx="178596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e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Зак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‘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B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n’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Овал 5"/>
          <p:cNvSpPr/>
          <p:nvPr/>
        </p:nvSpPr>
        <p:spPr>
          <a:xfrm>
            <a:off x="4143240" y="171468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i: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ткр.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, ´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‘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P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te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Vowels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216" name="Овал 7"/>
          <p:cNvSpPr/>
          <p:nvPr/>
        </p:nvSpPr>
        <p:spPr>
          <a:xfrm>
            <a:off x="4286160" y="3000240"/>
            <a:ext cx="171468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э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: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B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er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Овал 8"/>
          <p:cNvSpPr/>
          <p:nvPr/>
        </p:nvSpPr>
        <p:spPr>
          <a:xfrm>
            <a:off x="6000840" y="3000240"/>
            <a:ext cx="1857240" cy="13575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i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э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h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er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Овал 4"/>
          <p:cNvSpPr/>
          <p:nvPr/>
        </p:nvSpPr>
        <p:spPr>
          <a:xfrm>
            <a:off x="5572080" y="2571840"/>
            <a:ext cx="100008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E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i: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4617b"/>
                </a:solidFill>
                <a:uFillTx/>
                <a:latin typeface="Calibri"/>
              </a:rPr>
              <a:t>Read: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e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e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* has a p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e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 and a p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er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fum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e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* h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ere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Ei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ght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e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e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gant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e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ngin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ee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rs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ea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ing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e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xc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e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ll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e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nt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e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ggs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Овал 6"/>
          <p:cNvSpPr/>
          <p:nvPr/>
        </p:nvSpPr>
        <p:spPr>
          <a:xfrm>
            <a:off x="5929200" y="1643040"/>
            <a:ext cx="178596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i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Зак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‘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N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i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ck’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Овал 5"/>
          <p:cNvSpPr/>
          <p:nvPr/>
        </p:nvSpPr>
        <p:spPr>
          <a:xfrm>
            <a:off x="4143240" y="171468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ai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ткр.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, ´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‘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M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i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ke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Vowels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6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227" name="Овал 7"/>
          <p:cNvSpPr/>
          <p:nvPr/>
        </p:nvSpPr>
        <p:spPr>
          <a:xfrm>
            <a:off x="4286160" y="3000240"/>
            <a:ext cx="171468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э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: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b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ir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Овал 8"/>
          <p:cNvSpPr/>
          <p:nvPr/>
        </p:nvSpPr>
        <p:spPr>
          <a:xfrm>
            <a:off x="6000840" y="3000240"/>
            <a:ext cx="1857240" cy="13575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´ ai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э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f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ir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Овал 4"/>
          <p:cNvSpPr/>
          <p:nvPr/>
        </p:nvSpPr>
        <p:spPr>
          <a:xfrm>
            <a:off x="5572080" y="2571840"/>
            <a:ext cx="100008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ai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4617b"/>
                </a:solidFill>
                <a:uFillTx/>
                <a:latin typeface="Calibri"/>
              </a:rPr>
              <a:t>Read: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M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ke has a p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g, a b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ir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d and a f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ire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A p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g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n a w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g d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d a j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g on a tw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g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ая соединительная линия 12"/>
          <p:cNvSpPr/>
          <p:nvPr/>
        </p:nvSpPr>
        <p:spPr>
          <a:xfrm>
            <a:off x="5929200" y="3571920"/>
            <a:ext cx="571680" cy="28573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Овал 6"/>
          <p:cNvSpPr/>
          <p:nvPr/>
        </p:nvSpPr>
        <p:spPr>
          <a:xfrm>
            <a:off x="5929200" y="1643040"/>
            <a:ext cx="178596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o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Зак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‘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T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o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m’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Овал 5"/>
          <p:cNvSpPr/>
          <p:nvPr/>
        </p:nvSpPr>
        <p:spPr>
          <a:xfrm>
            <a:off x="4143240" y="1714680"/>
            <a:ext cx="1857600" cy="1357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э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u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ткр.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, ´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‘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R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o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se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Vowels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7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90680"/>
            <a:ext cx="2506680" cy="3589200"/>
          </a:xfrm>
          <a:prstGeom prst="rect">
            <a:avLst/>
          </a:prstGeom>
          <a:ln w="0">
            <a:noFill/>
          </a:ln>
        </p:spPr>
      </p:pic>
      <p:sp>
        <p:nvSpPr>
          <p:cNvPr id="238" name="Овал 7"/>
          <p:cNvSpPr/>
          <p:nvPr/>
        </p:nvSpPr>
        <p:spPr>
          <a:xfrm>
            <a:off x="4286160" y="3000240"/>
            <a:ext cx="171468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o: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N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or</a:t>
            </a: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ma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Овал 8"/>
          <p:cNvSpPr/>
          <p:nvPr/>
        </p:nvSpPr>
        <p:spPr>
          <a:xfrm>
            <a:off x="6000840" y="3000240"/>
            <a:ext cx="1857240" cy="13575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[o: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nstantia"/>
              </a:rPr>
              <a:t>m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Constantia"/>
              </a:rPr>
              <a:t>or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Овал 4"/>
          <p:cNvSpPr/>
          <p:nvPr/>
        </p:nvSpPr>
        <p:spPr>
          <a:xfrm>
            <a:off x="5572080" y="2571840"/>
            <a:ext cx="100008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э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u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Овал 13"/>
          <p:cNvSpPr/>
          <p:nvPr/>
        </p:nvSpPr>
        <p:spPr>
          <a:xfrm rot="19416600">
            <a:off x="6210360" y="4886280"/>
            <a:ext cx="1271520" cy="642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sha&amp;Yulya</cp:lastModifiedBy>
  <dcterms:modified xsi:type="dcterms:W3CDTF">2010-07-18T11:00:11Z</dcterms:modified>
  <cp:revision>48</cp:revision>
  <dc:subject/>
  <dc:title>The ABC</dc:title>
</cp:coreProperties>
</file>