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946-B34A-49EC-997D-74B0E0DC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135-A174-43BF-A596-1E4D737B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AD4-FAA3-4B15-9017-F1FEEAE4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8D5-5340-48A7-AE03-687454B4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87A-8D65-4099-8F8A-75817E5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FF0-85EB-48F9-957A-F3C9CE6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81E-1EFB-4865-B18E-C0BE4AF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DAB-F948-415A-9780-C14BC654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FD4-B872-48B2-9633-03EBB36C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6E2-6B27-4AF7-99C6-D0FF43A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F69-918B-41BB-BA2C-282C09F7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6CF-9638-4740-99D8-CB839A1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B201-AF05-4E62-924A-ABDF9B367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2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Урок </a:t>
            </a:r>
            <a:br>
              <a:rPr sz="6600"/>
            </a:b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английского языка</a:t>
            </a:r>
            <a:br>
              <a:rPr sz="6600"/>
            </a:b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в 4 «Б» класс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357960" y="4286160"/>
            <a:ext cx="2504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7933c"/>
                </a:solidFill>
                <a:latin typeface="Calibri"/>
              </a:rPr>
              <a:t>Describe a tortoise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7862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7933c"/>
                </a:solidFill>
                <a:latin typeface="Calibri"/>
              </a:rPr>
              <a:t>Today we</a:t>
            </a:r>
            <a:r>
              <a:rPr b="1" i="1" lang="ru-RU" sz="66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28760" y="1928880"/>
            <a:ext cx="7072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28760" y="1428840"/>
            <a:ext cx="82864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speak</a:t>
            </a:r>
            <a:r>
              <a:rPr b="1" i="1" lang="ru-RU" sz="6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bout p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learn about the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ppearance, food 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places wh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       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they can l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e46c0a"/>
                </a:solidFill>
                <a:latin typeface="Calibri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28560" y="2714400"/>
            <a:ext cx="3900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Pets</a:t>
            </a:r>
            <a:r>
              <a:rPr b="1" i="1" lang="en-US" sz="4400" spc="-1" strike="noStrike">
                <a:solidFill>
                  <a:srgbClr val="e46c0a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242892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143160" y="642960"/>
            <a:ext cx="2301840" cy="1714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3214800" y="4714920"/>
            <a:ext cx="2357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500040" y="4143240"/>
            <a:ext cx="1785960" cy="240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6357960" y="4714920"/>
            <a:ext cx="2224080" cy="178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500880" y="500040"/>
          <a:ext cx="1928880" cy="192888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928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0200" y="528588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Meet our pet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2071800" cy="172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86080" y="357120"/>
            <a:ext cx="2398680" cy="178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6715080" y="571680"/>
            <a:ext cx="1965240" cy="178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3357720" y="2928960"/>
            <a:ext cx="2384280" cy="1928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tretch/>
        </p:blipFill>
        <p:spPr>
          <a:xfrm>
            <a:off x="428760" y="357120"/>
            <a:ext cx="1993680" cy="143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6"/>
          <a:stretch/>
        </p:blipFill>
        <p:spPr>
          <a:xfrm>
            <a:off x="500040" y="4572000"/>
            <a:ext cx="1405080" cy="18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7"/>
          <a:stretch/>
        </p:blipFill>
        <p:spPr>
          <a:xfrm>
            <a:off x="6715080" y="3357720"/>
            <a:ext cx="173376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39002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Usual pets</a:t>
            </a:r>
            <a:r>
              <a:rPr b="1" i="1" lang="en-US" sz="4400" spc="-1" strike="noStrike">
                <a:solidFill>
                  <a:srgbClr val="e46c0a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227808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857840" y="3643200"/>
            <a:ext cx="19191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7143840" y="3643200"/>
            <a:ext cx="1650960" cy="15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1571760" y="4786200"/>
            <a:ext cx="203184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5"/>
          <a:stretch/>
        </p:blipFill>
        <p:spPr>
          <a:xfrm>
            <a:off x="5214960" y="214200"/>
            <a:ext cx="1643040" cy="221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tretch/>
        </p:blipFill>
        <p:spPr>
          <a:xfrm>
            <a:off x="2857680" y="1857240"/>
            <a:ext cx="2071440" cy="1663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3"/>
          <p:cNvSpPr/>
          <p:nvPr/>
        </p:nvSpPr>
        <p:spPr>
          <a:xfrm>
            <a:off x="4071960" y="5357880"/>
            <a:ext cx="471492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Unusual pet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9800" y="357120"/>
            <a:ext cx="5000760" cy="10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Unusual pe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2857320" cy="231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000240" y="4143240"/>
            <a:ext cx="307044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072120" y="171468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7933c"/>
                </a:solidFill>
                <a:latin typeface="Calibri"/>
              </a:rPr>
              <a:t>Today we</a:t>
            </a:r>
            <a:r>
              <a:rPr b="1" i="1" lang="ru-RU" sz="66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428760" y="1928880"/>
            <a:ext cx="7072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28760" y="1428840"/>
            <a:ext cx="82864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speak</a:t>
            </a:r>
            <a:r>
              <a:rPr b="1" i="1" lang="ru-RU" sz="6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bout p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learn about the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ppearance, food 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places wh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       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they can l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e46c0a"/>
                </a:solidFill>
                <a:latin typeface="Calibri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264312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7933c"/>
                </a:solidFill>
                <a:latin typeface="Calibri"/>
              </a:rPr>
              <a:t>Match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14200" y="2286000"/>
            <a:ext cx="32148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tarantu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021440" y="4714920"/>
            <a:ext cx="2122560" cy="1928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6143760" y="428760"/>
            <a:ext cx="2422440" cy="1958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6238800" y="2500200"/>
            <a:ext cx="2495520" cy="1857600"/>
          </a:xfrm>
          <a:prstGeom prst="rect">
            <a:avLst/>
          </a:prstGeom>
          <a:ln w="0">
            <a:noFill/>
          </a:ln>
        </p:spPr>
      </p:pic>
      <p:sp>
        <p:nvSpPr>
          <p:cNvPr id="71" name="Подзаголовок 6"/>
          <p:cNvSpPr/>
          <p:nvPr/>
        </p:nvSpPr>
        <p:spPr>
          <a:xfrm>
            <a:off x="214200" y="3500280"/>
            <a:ext cx="25005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igu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6"/>
          <p:cNvSpPr/>
          <p:nvPr/>
        </p:nvSpPr>
        <p:spPr>
          <a:xfrm>
            <a:off x="357120" y="4857840"/>
            <a:ext cx="30718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hedgeh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2"/>
          <p:cNvCxnSpPr/>
          <p:nvPr/>
        </p:nvCxnSpPr>
        <p:spPr>
          <a:xfrm flipV="1">
            <a:off x="2785680" y="2071440"/>
            <a:ext cx="314388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14"/>
          <p:cNvCxnSpPr>
            <a:stCxn id="67" idx="3"/>
          </p:cNvCxnSpPr>
          <p:nvPr/>
        </p:nvCxnSpPr>
        <p:spPr>
          <a:xfrm>
            <a:off x="3428640" y="2747520"/>
            <a:ext cx="3072600" cy="282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6"/>
          <p:cNvCxnSpPr/>
          <p:nvPr/>
        </p:nvCxnSpPr>
        <p:spPr>
          <a:xfrm flipV="1">
            <a:off x="3571560" y="3642480"/>
            <a:ext cx="2429640" cy="178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642924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7933c"/>
                </a:solidFill>
                <a:latin typeface="Calibri"/>
              </a:rPr>
              <a:t>Listen and repea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071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glass c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57680" y="4572000"/>
            <a:ext cx="2506320" cy="100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3000240" y="2143080"/>
            <a:ext cx="2803680" cy="106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572160" y="4572000"/>
            <a:ext cx="2122560" cy="192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4"/>
          <a:stretch/>
        </p:blipFill>
        <p:spPr>
          <a:xfrm>
            <a:off x="6286680" y="1928880"/>
            <a:ext cx="2493720" cy="1857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5"/>
          <a:stretch/>
        </p:blipFill>
        <p:spPr>
          <a:xfrm>
            <a:off x="285840" y="4857840"/>
            <a:ext cx="2071440" cy="172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6"/>
          <a:stretch/>
        </p:blipFill>
        <p:spPr>
          <a:xfrm>
            <a:off x="142920" y="1428840"/>
            <a:ext cx="2071800" cy="1643040"/>
          </a:xfrm>
          <a:prstGeom prst="rect">
            <a:avLst/>
          </a:prstGeom>
          <a:ln w="0">
            <a:noFill/>
          </a:ln>
        </p:spPr>
      </p:pic>
      <p:sp>
        <p:nvSpPr>
          <p:cNvPr id="84" name="Подзаголовок 12"/>
          <p:cNvSpPr/>
          <p:nvPr/>
        </p:nvSpPr>
        <p:spPr>
          <a:xfrm>
            <a:off x="142920" y="400068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tort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12"/>
          <p:cNvSpPr/>
          <p:nvPr/>
        </p:nvSpPr>
        <p:spPr>
          <a:xfrm>
            <a:off x="2714760" y="3857760"/>
            <a:ext cx="2071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aterpi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12"/>
          <p:cNvSpPr/>
          <p:nvPr/>
        </p:nvSpPr>
        <p:spPr>
          <a:xfrm>
            <a:off x="7429680" y="1071720"/>
            <a:ext cx="1357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sp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12"/>
          <p:cNvSpPr/>
          <p:nvPr/>
        </p:nvSpPr>
        <p:spPr>
          <a:xfrm>
            <a:off x="5715000" y="3929040"/>
            <a:ext cx="1285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12"/>
          <p:cNvSpPr/>
          <p:nvPr/>
        </p:nvSpPr>
        <p:spPr>
          <a:xfrm>
            <a:off x="4214880" y="5786280"/>
            <a:ext cx="2071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hairy le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дзаголовок 12"/>
          <p:cNvSpPr/>
          <p:nvPr/>
        </p:nvSpPr>
        <p:spPr>
          <a:xfrm>
            <a:off x="2857680" y="1643040"/>
            <a:ext cx="1357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w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26"/>
          <p:cNvCxnSpPr/>
          <p:nvPr/>
        </p:nvCxnSpPr>
        <p:spPr>
          <a:xfrm flipV="1">
            <a:off x="6357600" y="5928840"/>
            <a:ext cx="85788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28"/>
          <p:cNvCxnSpPr>
            <a:stCxn id="87" idx="3"/>
          </p:cNvCxnSpPr>
          <p:nvPr/>
        </p:nvCxnSpPr>
        <p:spPr>
          <a:xfrm>
            <a:off x="7000560" y="4285800"/>
            <a:ext cx="57204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30"/>
          <p:cNvCxnSpPr/>
          <p:nvPr/>
        </p:nvCxnSpPr>
        <p:spPr>
          <a:xfrm flipH="1">
            <a:off x="8214840" y="1642680"/>
            <a:ext cx="286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32"/>
          <p:cNvCxnSpPr/>
          <p:nvPr/>
        </p:nvCxnSpPr>
        <p:spPr>
          <a:xfrm flipH="1" flipV="1">
            <a:off x="1999800" y="1928520"/>
            <a:ext cx="21528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7933c"/>
                </a:solidFill>
                <a:latin typeface="Calibri"/>
              </a:rPr>
              <a:t>Listen and write the names:</a:t>
            </a:r>
            <a:br>
              <a:rPr sz="4800"/>
            </a:br>
            <a:r>
              <a:rPr b="1" i="1" lang="en-US" sz="48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i="1" lang="en-US" sz="4800" spc="-1" strike="noStrike">
                <a:solidFill>
                  <a:srgbClr val="ff0000"/>
                </a:solidFill>
                <a:latin typeface="Calibri"/>
              </a:rPr>
              <a:t>Iggy, Terry, Harri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дзаголовок 6"/>
          <p:cNvSpPr/>
          <p:nvPr/>
        </p:nvSpPr>
        <p:spPr>
          <a:xfrm>
            <a:off x="2857680" y="2286000"/>
            <a:ext cx="25002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igu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6"/>
          <p:cNvSpPr/>
          <p:nvPr/>
        </p:nvSpPr>
        <p:spPr>
          <a:xfrm>
            <a:off x="2643120" y="5286240"/>
            <a:ext cx="3143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tarant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6"/>
          <p:cNvSpPr/>
          <p:nvPr/>
        </p:nvSpPr>
        <p:spPr>
          <a:xfrm>
            <a:off x="2714760" y="3714840"/>
            <a:ext cx="3071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hedgeh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6"/>
          <p:cNvSpPr/>
          <p:nvPr/>
        </p:nvSpPr>
        <p:spPr>
          <a:xfrm>
            <a:off x="6072120" y="2286000"/>
            <a:ext cx="25005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58ed5"/>
                </a:solidFill>
                <a:latin typeface="Calibri"/>
              </a:rPr>
              <a:t>Ig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176688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182232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285840" y="5286240"/>
            <a:ext cx="1336680" cy="1214640"/>
          </a:xfrm>
          <a:prstGeom prst="rect">
            <a:avLst/>
          </a:prstGeom>
          <a:ln w="0">
            <a:noFill/>
          </a:ln>
        </p:spPr>
      </p:pic>
      <p:sp>
        <p:nvSpPr>
          <p:cNvPr id="102" name="Подзаголовок 6"/>
          <p:cNvSpPr/>
          <p:nvPr/>
        </p:nvSpPr>
        <p:spPr>
          <a:xfrm>
            <a:off x="6286680" y="3714840"/>
            <a:ext cx="25002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58ed5"/>
                </a:solidFill>
                <a:latin typeface="Calibri"/>
              </a:rPr>
              <a:t>Harri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дзаголовок 6"/>
          <p:cNvSpPr/>
          <p:nvPr/>
        </p:nvSpPr>
        <p:spPr>
          <a:xfrm>
            <a:off x="6286680" y="5072040"/>
            <a:ext cx="25002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58ed5"/>
                </a:solidFill>
                <a:latin typeface="Calibri"/>
              </a:rPr>
              <a:t>Te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57120" y="357120"/>
          <a:ext cx="8501040" cy="5823000"/>
        </p:xfrm>
        <a:graphic>
          <a:graphicData uri="http://schemas.openxmlformats.org/drawingml/2006/table">
            <a:tbl>
              <a:tblPr/>
              <a:tblGrid>
                <a:gridCol w="2857680"/>
                <a:gridCol w="3571920"/>
                <a:gridCol w="2071440"/>
              </a:tblGrid>
              <a:tr h="1517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</a:t>
                      </a: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Appearanc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Foo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557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Iggy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ong green 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four short le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small h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ong t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lea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7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Harriet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small round 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spi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white hair on the stom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caterpil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73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Terry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eight long hairy le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eight e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ins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706320" cy="57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2214720" y="642960"/>
            <a:ext cx="841320" cy="62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1285920" y="1143000"/>
            <a:ext cx="708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12-02T07:59:14Z</dcterms:modified>
  <cp:revision>29</cp:revision>
  <dc:subject/>
  <dc:title>Слайд 1</dc:title>
</cp:coreProperties>
</file>