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3.gif" ContentType="image/gif"/>
  <Override PartName="/ppt/media/image4.wmf" ContentType="image/x-wmf"/>
  <Override PartName="/ppt/media/image13.wmf" ContentType="image/x-wmf"/>
  <Override PartName="/ppt/media/image10.jpeg" ContentType="image/jpeg"/>
  <Override PartName="/ppt/media/image2.gif" ContentType="image/gif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3D6-0115-4F62-A8DE-63F5D92C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F9E-CA50-4101-83AC-DE54A93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67B-9C80-425B-A17A-F971DC97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638-435E-445D-8D8D-7C18F99E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31C0-0034-493E-9D34-4C31DE43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B066-A1F3-42F4-8BD8-ABF59B19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1031-39CC-4D13-BB67-0A308EE4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6F7-FFCA-491A-AFFA-0540B4E7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564D-FB89-443F-B3C2-7E9C0EE6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230-B4A0-40E0-9B48-C3A050D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229-5E55-4D59-81DA-F34C2FE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B91-7595-446B-BF12-F82C58CF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CB78-47FB-490A-B3B5-3D103B1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AC5-9066-471F-82CB-E6847F3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15BE-1B9D-4D3D-B82C-9BD1CE9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DB3-9D6C-4BDD-827C-DCF0807E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7183-F63E-4D57-B64D-8BC57C74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6F5-F2D3-4CAC-9D81-7415BFD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F4A-E333-4A89-A3E7-B3E7196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50D-1D6E-415D-BE77-F5940BE8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B87-8616-41EA-8D13-100E9C5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049-2643-469B-B510-8631A594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E25-7217-462F-B527-FD57DF1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B17-67D0-4CEA-ACCC-4D4DF24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C091-6559-43E4-8EB1-2374541C6D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84CE-98CC-4091-B646-70040358668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stashkov.ru/foto/view/3013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funguru.ru/gallery/index.php?page=42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eramikasever.ru/desc5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iketur.narod.ru/kotel/kotel.htm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3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7162920" y="50292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3200400" y="14479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257800" y="2286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28800" y="29718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6705720" y="2209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4648320" y="22860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152280" y="4495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743200" y="51814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5181480" y="41911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143000" y="8380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1096560"/>
            <a:ext cx="80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По дороге шли - шл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Белый гриб наш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Вот грибок, другой грибок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Полезайте в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                      </a:t>
            </a: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Дует ветер нам лиц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                      </a:t>
            </a: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Закачалось деревц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                     </a:t>
            </a: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Ветерок все тише - тиш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                     </a:t>
            </a:r>
            <a:r>
              <a:rPr b="1" i="1" lang="ru-RU" sz="3200" spc="-1" strike="noStrike">
                <a:solidFill>
                  <a:srgbClr val="ff66cc"/>
                </a:solidFill>
                <a:latin typeface="Tahoma"/>
              </a:rPr>
              <a:t>Деревцо все выше -    выш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2411280" y="260280"/>
            <a:ext cx="4753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4" descr="is?dTIRCboZwVQHZ7bjd7-c4kn_e8A-VaqBk1TTR3T3w4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197000"/>
            <a:ext cx="1800000" cy="1633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is?44kzQVQ29PYjvQAw5mVuRMvtVpvf8W5RZuLWFXZ4Edo">
            <a:hlinkClick r:id="rId3"/>
          </p:cNvPr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84360" y="4221000"/>
            <a:ext cx="1800000" cy="1692360"/>
          </a:xfrm>
          <a:prstGeom prst="rect">
            <a:avLst/>
          </a:prstGeom>
          <a:ln w="0">
            <a:noFill/>
          </a:ln>
        </p:spPr>
      </p:pic>
      <p:pic>
        <p:nvPicPr>
          <p:cNvPr id="158" name="Запи1429.WAV" descr=""/>
          <p:cNvPicPr/>
          <p:nvPr/>
        </p:nvPicPr>
        <p:blipFill>
          <a:blip r:embed="rId5"/>
          <a:stretch/>
        </p:blipFill>
        <p:spPr>
          <a:xfrm>
            <a:off x="77407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Запи1430.WAV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Совушка – сова большая голо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На пеньке си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о все стороны гляд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Глазами хлоп – хлоп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Ножками топ – то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Тишина стоит вокруг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ышли косари на луг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Взмах косой туда – сю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                                </a:t>
            </a:r>
            <a:r>
              <a:rPr b="1" i="1" lang="ru-RU" sz="2800" spc="-1" strike="noStrike">
                <a:solidFill>
                  <a:srgbClr val="ff66cc"/>
                </a:solidFill>
                <a:latin typeface="Tahoma"/>
              </a:rPr>
              <a:t>Делай раз делай д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3" descr="is?cMaSLJi-IVoVBXaF-3oZJhpTI1sypiH9-mMcyff1K0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907920"/>
            <a:ext cx="18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is?2PwID5qmzFUUMSfUWQQlCg_1WTHRSxUjLziLxkVulzc">
            <a:hlinkClick r:id="rId3"/>
          </p:cNvPr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11280" y="364500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Запи1445.WAV" descr=""/>
          <p:cNvPicPr/>
          <p:nvPr/>
        </p:nvPicPr>
        <p:blipFill>
          <a:blip r:embed="rId5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Запи1446.WAV" descr=""/>
          <p:cNvPicPr/>
          <p:nvPr/>
        </p:nvPicPr>
        <p:blipFill>
          <a:blip r:embed="rId6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333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5364000" y="4221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Незнайка4"/>
          <p:cNvPicPr/>
          <p:nvPr/>
        </p:nvPicPr>
        <p:blipFill>
          <a:blip r:embed="rId6"/>
          <a:stretch/>
        </p:blipFill>
        <p:spPr>
          <a:xfrm>
            <a:off x="0" y="1628640"/>
            <a:ext cx="3681360" cy="5229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95640" y="1643040"/>
            <a:ext cx="45626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омоги Незнайке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7"/>
          <a:stretch/>
        </p:blipFill>
        <p:spPr>
          <a:xfrm>
            <a:off x="6516720" y="443700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8"/>
          <a:stretch/>
        </p:blipFill>
        <p:spPr>
          <a:xfrm>
            <a:off x="6443640" y="5516640"/>
            <a:ext cx="85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37280" cy="792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верь реш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5972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11- 7=5          12- 4= 8               15- 6=9          13- 8= 7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343720" cy="3927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11- 7=4     13 - 8=5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"/>
          <a:stretch/>
        </p:blipFill>
        <p:spPr>
          <a:xfrm>
            <a:off x="3995640" y="58341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179280" y="53737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956720" y="494172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596360" y="260280"/>
            <a:ext cx="1023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 рассуждали при вычитан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14 – 6 =8        14 – 6 =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4     2        6     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1618920" y="371628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2556000" y="371628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6"/>
          <p:cNvSpPr/>
          <p:nvPr/>
        </p:nvSpPr>
        <p:spPr>
          <a:xfrm flipH="1">
            <a:off x="5219280" y="3645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5940360" y="3716280"/>
            <a:ext cx="649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201080" cy="718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82160" cy="4680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3 – 5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=         14 – 7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1 – 4 =         17 – 8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1 – 3 =        12 – 4 =                  15 – 8 =        14 – 6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3789360"/>
          <a:ext cx="8064360" cy="7621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4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 вариа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793280" cy="957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верь 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839000" cy="328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вариант                    2 вариант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8         7                        8          8                     7         9                        7          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16000" y="3068640"/>
          <a:ext cx="7416720" cy="1944720"/>
        </p:xfrm>
        <a:graphic>
          <a:graphicData uri="http://schemas.openxmlformats.org/drawingml/2006/table">
            <a:tbl>
              <a:tblPr/>
              <a:tblGrid>
                <a:gridCol w="3672000"/>
                <a:gridCol w="374472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179280" y="5445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8028000" y="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8286840" y="551664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4"/>
          <a:stretch/>
        </p:blipFill>
        <p:spPr>
          <a:xfrm>
            <a:off x="250920" y="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5"/>
          <a:stretch/>
        </p:blipFill>
        <p:spPr>
          <a:xfrm>
            <a:off x="1547640" y="5589720"/>
            <a:ext cx="857520" cy="1118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6"/>
          <a:stretch/>
        </p:blipFill>
        <p:spPr>
          <a:xfrm>
            <a:off x="7380360" y="5589720"/>
            <a:ext cx="857160" cy="111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7"/>
          <a:stretch/>
        </p:blipFill>
        <p:spPr>
          <a:xfrm>
            <a:off x="42847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8"/>
          <a:stretch/>
        </p:blipFill>
        <p:spPr>
          <a:xfrm>
            <a:off x="1835280" y="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9"/>
          <a:stretch/>
        </p:blipFill>
        <p:spPr>
          <a:xfrm>
            <a:off x="6877080" y="404640"/>
            <a:ext cx="10238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езнайка сочинил 14 стихов.                5 из них он прочитал Знайке. Сколько стихов ему еще осталось прочитать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4" descr="BD05092_"/>
          <p:cNvPicPr/>
          <p:nvPr/>
        </p:nvPicPr>
        <p:blipFill>
          <a:blip r:embed="rId1"/>
          <a:stretch/>
        </p:blipFill>
        <p:spPr>
          <a:xfrm>
            <a:off x="5796000" y="189000"/>
            <a:ext cx="3170160" cy="15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"/>
          <p:cNvPicPr/>
          <p:nvPr/>
        </p:nvPicPr>
        <p:blipFill>
          <a:blip r:embed="rId2"/>
          <a:stretch/>
        </p:blipFill>
        <p:spPr>
          <a:xfrm>
            <a:off x="2050920" y="4221000"/>
            <a:ext cx="2305080" cy="2637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знайка"/>
          <p:cNvPicPr/>
          <p:nvPr/>
        </p:nvPicPr>
        <p:blipFill>
          <a:blip r:embed="rId3"/>
          <a:stretch/>
        </p:blipFill>
        <p:spPr>
          <a:xfrm>
            <a:off x="5580000" y="4437000"/>
            <a:ext cx="20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4 – 5 = 9 (с.)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твет: 9 стихов осталось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728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333399"/>
                </a:solidFill>
                <a:latin typeface="Tahoma"/>
              </a:rPr>
              <a:t>Урок математики </a:t>
            </a:r>
            <a:br>
              <a:rPr sz="6000"/>
            </a:b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6400800" cy="2448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ahoma"/>
              </a:rPr>
              <a:t>Вычитание с переходом через десяток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Работа в тетради  с.42 п.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5            9               7               9            6               6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5" descr="121922-9d7105dcc43bff11"/>
          <p:cNvPicPr/>
          <p:nvPr/>
        </p:nvPicPr>
        <p:blipFill>
          <a:blip r:embed="rId1"/>
          <a:stretch/>
        </p:blipFill>
        <p:spPr>
          <a:xfrm>
            <a:off x="179280" y="501336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21922-9d7105dcc43bff11"/>
          <p:cNvPicPr/>
          <p:nvPr/>
        </p:nvPicPr>
        <p:blipFill>
          <a:blip r:embed="rId2"/>
          <a:stretch/>
        </p:blipFill>
        <p:spPr>
          <a:xfrm>
            <a:off x="2050920" y="551664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2050920" y="486900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42847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121922-9d7105dcc43bff11"/>
          <p:cNvPicPr/>
          <p:nvPr/>
        </p:nvPicPr>
        <p:blipFill>
          <a:blip r:embed="rId5"/>
          <a:stretch/>
        </p:blipFill>
        <p:spPr>
          <a:xfrm>
            <a:off x="7164360" y="5276880"/>
            <a:ext cx="1714680" cy="1581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7812000" y="206064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7"/>
          <a:stretch/>
        </p:blipFill>
        <p:spPr>
          <a:xfrm>
            <a:off x="395280" y="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8"/>
          <a:stretch/>
        </p:blipFill>
        <p:spPr>
          <a:xfrm>
            <a:off x="0" y="234936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9"/>
          <a:stretch/>
        </p:blipFill>
        <p:spPr>
          <a:xfrm>
            <a:off x="324000" y="3789360"/>
            <a:ext cx="85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42960" y="214200"/>
            <a:ext cx="56005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Цели урока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939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лять знания приема вычитания с переходом через десяток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вторять состав чисел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ать задачи изученных видов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4a"/>
          <p:cNvPicPr/>
          <p:nvPr/>
        </p:nvPicPr>
        <p:blipFill>
          <a:blip r:embed="rId1"/>
          <a:stretch/>
        </p:blipFill>
        <p:spPr>
          <a:xfrm>
            <a:off x="0" y="0"/>
            <a:ext cx="3348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Арифметический  диктант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8 , 5,  6,  4, 1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179280" y="5445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179280" y="429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179280" y="285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4"/>
          <a:stretch/>
        </p:blipFill>
        <p:spPr>
          <a:xfrm>
            <a:off x="8286840" y="573876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21922-9d7105dcc43bff11"/>
          <p:cNvPicPr/>
          <p:nvPr/>
        </p:nvPicPr>
        <p:blipFill>
          <a:blip r:embed="rId5"/>
          <a:stretch/>
        </p:blipFill>
        <p:spPr>
          <a:xfrm>
            <a:off x="2916360" y="5084640"/>
            <a:ext cx="1714320" cy="15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121922-9d7105dcc43bff11"/>
          <p:cNvPicPr/>
          <p:nvPr/>
        </p:nvPicPr>
        <p:blipFill>
          <a:blip r:embed="rId6"/>
          <a:stretch/>
        </p:blipFill>
        <p:spPr>
          <a:xfrm>
            <a:off x="7164360" y="3789360"/>
            <a:ext cx="1714680" cy="158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кие фигуры нарисованы?             Каких больше и на сколько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58920" y="2565360"/>
          <a:ext cx="1368360" cy="1224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30"/>
          <p:cNvSpPr/>
          <p:nvPr/>
        </p:nvSpPr>
        <p:spPr>
          <a:xfrm>
            <a:off x="2124000" y="314172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43"/>
          <p:cNvSpPr/>
          <p:nvPr/>
        </p:nvSpPr>
        <p:spPr>
          <a:xfrm rot="3588000">
            <a:off x="2878560" y="2626560"/>
            <a:ext cx="1255680" cy="1295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4716360" y="256536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46"/>
          <p:cNvSpPr/>
          <p:nvPr/>
        </p:nvSpPr>
        <p:spPr>
          <a:xfrm rot="18696600">
            <a:off x="3982320" y="2892600"/>
            <a:ext cx="1282680" cy="1243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j0232133"/>
          <p:cNvPicPr/>
          <p:nvPr/>
        </p:nvPicPr>
        <p:blipFill>
          <a:blip r:embed="rId1"/>
          <a:stretch/>
        </p:blipFill>
        <p:spPr>
          <a:xfrm>
            <a:off x="6156360" y="4005360"/>
            <a:ext cx="27162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137800" cy="1676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з квадратиков составили  узоры. Какой из них?                                       Как рассуждали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559720" cy="40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050920" y="2349360"/>
          <a:ext cx="792360" cy="64800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300720" y="2349360"/>
          <a:ext cx="1440000" cy="129564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740720" y="3645000"/>
          <a:ext cx="647640" cy="6476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54"/>
          <p:cNvSpPr/>
          <p:nvPr/>
        </p:nvSpPr>
        <p:spPr>
          <a:xfrm>
            <a:off x="2771640" y="2349360"/>
            <a:ext cx="720720" cy="648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3419640" y="2349360"/>
            <a:ext cx="720720" cy="648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771640" y="2997360"/>
            <a:ext cx="648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4941720"/>
          <a:ext cx="792000" cy="71928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411280" y="4221000"/>
          <a:ext cx="792360" cy="72072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203640" y="4941720"/>
          <a:ext cx="720720" cy="71928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24360" y="4221000"/>
          <a:ext cx="792000" cy="720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716360" y="4941720"/>
          <a:ext cx="792360" cy="71928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08720" y="4221000"/>
          <a:ext cx="792000" cy="720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остав числ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1187280" y="3213000"/>
            <a:ext cx="2089440" cy="1943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5867280" y="3213000"/>
            <a:ext cx="2017800" cy="19447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9" descr="nuNMyNa0yU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Состав     чис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848720" cy="4503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03640" y="2205000"/>
          <a:ext cx="3097440" cy="3745080"/>
        </p:xfrm>
        <a:graphic>
          <a:graphicData uri="http://schemas.openxmlformats.org/drawingml/2006/table">
            <a:tbl>
              <a:tblPr/>
              <a:tblGrid>
                <a:gridCol w="1513080"/>
                <a:gridCol w="1584360"/>
              </a:tblGrid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971640" y="2133720"/>
          <a:ext cx="3313080" cy="3816360"/>
        </p:xfrm>
        <a:graphic>
          <a:graphicData uri="http://schemas.openxmlformats.org/drawingml/2006/table">
            <a:tbl>
              <a:tblPr/>
              <a:tblGrid>
                <a:gridCol w="1657440"/>
                <a:gridCol w="1655640"/>
              </a:tblGrid>
              <a:tr h="79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колько нужно вычесть из числа, чтобы осталось 10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032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2 ,  14,  13,  17,  16 , 19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4:27:02Z</dcterms:created>
  <dc:creator>1</dc:creator>
  <dc:description/>
  <dc:language>en-US</dc:language>
  <cp:lastModifiedBy>Cab404</cp:lastModifiedBy>
  <dcterms:modified xsi:type="dcterms:W3CDTF">2019-04-12T08:01:46Z</dcterms:modified>
  <cp:revision>12</cp:revision>
  <dc:subject/>
  <dc:title>Урок математики  в 1 классе</dc:title>
</cp:coreProperties>
</file>