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10.jpeg" ContentType="image/jpeg"/>
  <Override PartName="/ppt/media/image5.png" ContentType="image/png"/>
  <Override PartName="/ppt/media/image8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D5AD-3A93-4868-AFC8-CBB2C41F8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FC80-12B5-4071-BE1F-F2B4234FE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DA7C-9EED-4FA8-964E-12BA28E24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0F7A-4FCB-495D-8391-7D836B243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D930D-8EF1-4CAC-B8D3-DDAB5AA6F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EA59B-EA81-40D8-B769-E7A1485D0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CD8BA-FD5C-4C5F-83CA-D2FCEE23C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ADAAF-753F-472D-8F31-44D6FEAE7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6F7AF-959D-4B29-85A8-0E8D0C553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B0BBC-2883-429B-A58D-D2C8DE3AA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18530-91FA-4934-B686-6513050CC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0305-ED9D-430E-9432-DBF8C6D64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E5949-152E-46BA-B923-74A5BCDBE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C203A-3159-4A22-A34E-C2B6C9E90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54851-D1B5-4E09-99DE-1DDADEEB0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2DC01-F0E7-4296-B0EF-85D761149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DCABE-14C4-45FC-846C-9958C3536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CA3D45-F963-4DBB-AB39-4D5E27213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FEC721-DC92-410E-9D75-2B235B6B6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810085-D8A3-4FF0-A9D8-B19C3692B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F863B5-EDD0-48FF-9824-235152BD0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5B12D5-9B4A-4EFC-A2D1-10949DEA8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78B3-09FA-4D6B-BEA8-9F4AAEB7D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73E81A-FC75-4373-B9E0-0F606B29F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F7C145-C4AE-4304-9D54-462BB5C7F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853B31-A805-430E-A181-380894B6C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FDC062-EDDC-4B14-93E6-D9EE135CA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B2756B-E9B7-4137-9BCE-08F1C8054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88DA24-7345-4861-96AB-F8804C8B2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9BC2BC-44C1-4708-95B2-D0B1820DA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8B091E-CD9C-49E3-90D4-A080ECFF5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21EBE6-440D-45A9-977B-E346D9BA1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D0F3E8-350D-4161-AB5A-57AE21A40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7602-31FF-4B97-A991-EAF29F088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DA964C-6D99-4FC6-A7B3-4ECFEABBB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599635-3EE0-4981-B68A-D2623DDBF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2502DD-28D6-40E5-9A72-714DA98EA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A03DD4-BF79-4229-BB70-7DF909258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4DD9B4-069A-4DDD-B173-71B9CC606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24A72E-35D8-4702-AF62-229748334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6C9A37-F44D-4200-A291-EC222F4AB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8D2A62-BA5F-4C15-82B1-ECE13DE20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584A95-EEF9-4E35-9BFE-2D7E610F9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3AFA8A-CA50-42FA-A1B6-395F71AB8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35EF-2FB7-41DA-B616-27A0A7E44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043B0C-63FC-4C1D-B35B-198AD9675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FFC8FE-C982-4AF4-8C34-E8D3F09D6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060371-8C85-421B-AAC8-E49236036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26090A-25F2-49D1-AE44-A19AE5DF7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5F485E-C1E1-46B1-BB7E-84EDD2AD9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0335E3-71F5-4ADE-A224-52824F045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FFB2A1-EB2F-480C-8DA8-B4BD23980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C7F82D-66B5-4D79-9E1E-C40B51D80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ECAA79-706A-4B25-BD06-A72511486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76EF96-872B-4DE5-87F2-8F365FD3D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8E31-6E63-456C-9CAB-3DF93D382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343829-992D-409E-A048-4A31026FE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EDC4-4E7E-4804-A70B-EC29AB0DC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EF55-0628-4C80-9F21-51FDEF341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74DF-561D-4ABC-82CF-628C740CC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A51C7-D2CE-4CE5-9BC3-557D42DBA677}" type="slidenum">
              <a:rPr b="0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C9506-6F68-4581-AC33-DF7AFD58B772}" type="slidenum">
              <a:rPr b="0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66BC9-93A3-40FC-908E-8D5900208ABF}" type="slidenum">
              <a:rPr b="0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9481A-0C9F-4352-9004-AB22FC93CBD6}" type="slidenum">
              <a:rPr b="0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78DE9-C5C0-46E9-950E-BC8F9CBFE667}" type="slidenum">
              <a:rPr b="0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9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WordArt 9"/>
          <p:cNvSpPr txBox="1"/>
          <p:nvPr/>
        </p:nvSpPr>
        <p:spPr>
          <a:xfrm>
            <a:off x="1403280" y="2781360"/>
            <a:ext cx="655344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"Лягушка-путешественница"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slow" advTm="4000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28400" y="0"/>
            <a:ext cx="825804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8d3e"/>
                </a:solidFill>
                <a:latin typeface="Verdana"/>
              </a:rPr>
              <a:t> </a:t>
            </a:r>
            <a:r>
              <a:rPr b="1" lang="ru-RU" sz="4000" spc="-1" strike="noStrike">
                <a:solidFill>
                  <a:srgbClr val="ff8d3e"/>
                </a:solidFill>
                <a:latin typeface="Verdana"/>
              </a:rPr>
              <a:t>Физминутка</a:t>
            </a: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тром лягушки проснулись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лыбнулись, потянулись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Быстро сделали зарядку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Лапки вверх, лапки вниз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 носочках поднялись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Лапки ставят на бочок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 носочках скок-скок-скок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 затем в присядку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Чтоб окрепли лапк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2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2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2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2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2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2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7" name="WordArt 4"/>
          <p:cNvSpPr txBox="1"/>
          <p:nvPr/>
        </p:nvSpPr>
        <p:spPr>
          <a:xfrm>
            <a:off x="324000" y="404640"/>
            <a:ext cx="2724120" cy="11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Любопытна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48" name="WordArt 5"/>
          <p:cNvSpPr txBox="1"/>
          <p:nvPr/>
        </p:nvSpPr>
        <p:spPr>
          <a:xfrm rot="21390600">
            <a:off x="2050920" y="692280"/>
            <a:ext cx="362916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Любознательна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49" name="WordArt 6"/>
          <p:cNvSpPr txBox="1"/>
          <p:nvPr/>
        </p:nvSpPr>
        <p:spPr>
          <a:xfrm rot="279000">
            <a:off x="6587640" y="1125360"/>
            <a:ext cx="1676520" cy="117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мела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50" name="WordArt 9"/>
          <p:cNvSpPr txBox="1"/>
          <p:nvPr/>
        </p:nvSpPr>
        <p:spPr>
          <a:xfrm rot="21136200">
            <a:off x="4284360" y="2923920"/>
            <a:ext cx="3781440" cy="12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Изобретательна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51" name="WordArt 10"/>
          <p:cNvSpPr txBox="1"/>
          <p:nvPr/>
        </p:nvSpPr>
        <p:spPr>
          <a:xfrm>
            <a:off x="755640" y="4724280"/>
            <a:ext cx="2133720" cy="1265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Отважна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52" name="WordArt 11"/>
          <p:cNvSpPr txBox="1"/>
          <p:nvPr/>
        </p:nvSpPr>
        <p:spPr>
          <a:xfrm>
            <a:off x="1187280" y="3141720"/>
            <a:ext cx="2514600" cy="110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Хвастлива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53" name="WordArt 12"/>
          <p:cNvSpPr txBox="1"/>
          <p:nvPr/>
        </p:nvSpPr>
        <p:spPr>
          <a:xfrm>
            <a:off x="826920" y="2205000"/>
            <a:ext cx="1524240" cy="11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Хитра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54" name="WordArt 13"/>
          <p:cNvSpPr txBox="1"/>
          <p:nvPr/>
        </p:nvSpPr>
        <p:spPr>
          <a:xfrm rot="21309600">
            <a:off x="4355640" y="1557360"/>
            <a:ext cx="1781280" cy="10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Болтливая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55" name="WordArt 14"/>
          <p:cNvSpPr txBox="1"/>
          <p:nvPr/>
        </p:nvSpPr>
        <p:spPr>
          <a:xfrm rot="21272400">
            <a:off x="3708000" y="4508640"/>
            <a:ext cx="2514600" cy="132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Фантазер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56" name="WordArt 15"/>
          <p:cNvSpPr txBox="1"/>
          <p:nvPr/>
        </p:nvSpPr>
        <p:spPr>
          <a:xfrm rot="198600">
            <a:off x="6516720" y="4941720"/>
            <a:ext cx="1438200" cy="127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Лгунь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ransition advTm="15000">
    <p:push dir="r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8" name="WordArt 4"/>
          <p:cNvSpPr txBox="1"/>
          <p:nvPr/>
        </p:nvSpPr>
        <p:spPr>
          <a:xfrm>
            <a:off x="357120" y="1197000"/>
            <a:ext cx="7500960" cy="2589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Хвастовство</a:t>
            </a:r>
            <a:endParaRPr b="1" lang="en-US" sz="96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77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8" dur="770" fill="hold"/>
                                        <p:tgtEl>
                                          <p:spTgt spid="2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0" dur="77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2" dur="77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503280" y="529920"/>
            <a:ext cx="8183520" cy="41878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4" descr="Лягушка-путешественница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blinds dir="horz"/>
  </p:transition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250920" y="1341360"/>
          <a:ext cx="7821360" cy="2962440"/>
        </p:xfrm>
        <a:graphic>
          <a:graphicData uri="http://schemas.openxmlformats.org/drawingml/2006/table">
            <a:tbl>
              <a:tblPr/>
              <a:tblGrid>
                <a:gridCol w="1963800"/>
                <a:gridCol w="3071520"/>
                <a:gridCol w="2786040"/>
              </a:tblGrid>
              <a:tr h="73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Rage Italic"/>
                        </a:rPr>
                        <a:t>В начал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Rage Italic"/>
                        </a:rPr>
                        <a:t>В середин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Rage Italic"/>
                        </a:rPr>
                        <a:t>В конц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Blackadder ITC"/>
                        </a:rPr>
                        <a:t>Любит её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Blackadder ITC"/>
                        </a:rPr>
                        <a:t>Восхищается, подсмеивается над не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Blackadder ITC"/>
                        </a:rPr>
                        <a:t>Осуждает, иронизирует , но в тоже время жалеет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 advTm="8000">
    <p:blinds dir="horz"/>
  </p:transition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4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5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6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7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8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9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0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1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43000" y="3357720"/>
            <a:ext cx="6572160" cy="25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8d3e"/>
                </a:solidFill>
                <a:latin typeface="Verdana"/>
              </a:rPr>
              <a:t>Хвастовство мешает в достижении целей, мешает совершать хорошие поступки.</a:t>
            </a: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64" name="Picture 5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4962240" cy="259704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blinds dir="horz"/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23640" y="836640"/>
            <a:ext cx="8373960" cy="53179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Shruti"/>
              </a:rPr>
              <a:t>Хвастовство само себя наказывает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7" name="Picture 4" descr=""/>
          <p:cNvPicPr/>
          <p:nvPr/>
        </p:nvPicPr>
        <p:blipFill>
          <a:blip r:embed="rId1"/>
          <a:stretch/>
        </p:blipFill>
        <p:spPr>
          <a:xfrm>
            <a:off x="1332000" y="2349360"/>
            <a:ext cx="6192720" cy="3600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 advTm="7000">
    <p:blinds dir="horz"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20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20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4" dur="1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f2936"/>
                                      </p:to>
                                    </p:animClr>
                                    <p:animClr clrSpc="rgb">
                                      <p:cBhvr>
                                        <p:cTn id="365" dur="1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f2936"/>
                                      </p:to>
                                    </p:animClr>
                                    <p:set>
                                      <p:cBhvr>
                                        <p:cTn id="366" dur="1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6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6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6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7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72880" indent="-27288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Verdana"/>
              </a:rPr>
              <a:t>Рефлексия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Verdana"/>
              </a:rPr>
              <a:t>1.На уроке я работал…                                     активно\ пассивно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Verdana"/>
              </a:rPr>
              <a:t>2.Урок для меня показался…                           коротким\ длинным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Verdana"/>
              </a:rPr>
              <a:t>3.Своей работой на уроке я                                       доволен\ не доволен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Verdana"/>
              </a:rPr>
              <a:t>4. За урок я                                                                      не устал\ уста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Verdana"/>
              </a:rPr>
              <a:t>5.Мое настроение                                                          стало лучше\стало хуж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Verdana"/>
              </a:rPr>
              <a:t>6.Материал урока мне был                                         понятен\ не понятен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Verdana"/>
              </a:rPr>
              <a:t>                                                                                          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Verdana"/>
              </a:rPr>
              <a:t>Интересен\ скучен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Verdana"/>
              </a:rPr>
              <a:t> 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Verdana"/>
              </a:rPr>
              <a:t>7.Домашнее задание    мне кажется                            Легким\ трудным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Verdana"/>
              </a:rPr>
              <a:t>                                                                                             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Verdana"/>
              </a:rPr>
              <a:t>Интересно\ не интересно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 advTm="2000">
    <p:blinds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3280" y="4071600"/>
            <a:ext cx="81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Домашнее задание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68360" y="428760"/>
            <a:ext cx="8229600" cy="42861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о выбору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-  Подготовить выразительное чтение сказки, придумать вопросы по тексту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-   Подготовить рассказ о лягушк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-   Пересказ от лица героин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 advTm="3000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11280" y="3573360"/>
            <a:ext cx="7772400" cy="1182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8d3e"/>
                </a:solidFill>
                <a:latin typeface="Century Gothic"/>
              </a:rPr>
              <a:t>Всеволод Михайлович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147636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0" bIns="46800" anchor="t">
            <a:noAutofit/>
          </a:bodyPr>
          <a:p>
            <a:pPr marL="3636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9766f"/>
                </a:solidFill>
                <a:latin typeface="Century Gothic"/>
              </a:rPr>
              <a:t>Гаршин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4" name="Picture 4" descr=""/>
          <p:cNvPicPr/>
          <p:nvPr/>
        </p:nvPicPr>
        <p:blipFill>
          <a:blip r:embed="rId1"/>
          <a:stretch/>
        </p:blipFill>
        <p:spPr>
          <a:xfrm>
            <a:off x="2627280" y="189000"/>
            <a:ext cx="3673440" cy="3554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5" name=""/>
          <p:cNvGraphicFramePr/>
          <p:nvPr/>
        </p:nvGraphicFramePr>
        <p:xfrm>
          <a:off x="285840" y="0"/>
          <a:ext cx="8858160" cy="6915240"/>
        </p:xfrm>
        <a:graphic>
          <a:graphicData uri="http://schemas.openxmlformats.org/drawingml/2006/table">
            <a:tbl>
              <a:tblPr/>
              <a:tblGrid>
                <a:gridCol w="2647800"/>
                <a:gridCol w="2613240"/>
                <a:gridCol w="3597120"/>
              </a:tblGrid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казк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ходств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лич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родн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лавные герои-животные, наделены человеческими качествам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т авто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тературн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сть авто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исано место действия, события, внешний облик персонажа раскрыт характер героя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втор изображает не только поступки героя, но и его внутренний ми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 advTm="6000">
    <p:blinds dir="horz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503280" y="529920"/>
            <a:ext cx="8183520" cy="41878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4" descr=""/>
          <p:cNvPicPr/>
          <p:nvPr/>
        </p:nvPicPr>
        <p:blipFill>
          <a:blip r:embed="rId2">
            <a:lum bright="-8000"/>
          </a:blip>
          <a:stretch/>
        </p:blipFill>
        <p:spPr>
          <a:xfrm>
            <a:off x="539640" y="333360"/>
            <a:ext cx="7777440" cy="640224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blinds dir="horz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ff8d3e"/>
                </a:solidFill>
                <a:latin typeface="Castellar"/>
              </a:rPr>
              <a:t>Путешественник-</a:t>
            </a:r>
            <a:endParaRPr b="1" lang="en-US" sz="43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058920" y="1356840"/>
            <a:ext cx="5833800" cy="47689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lackadder ITC"/>
              </a:rPr>
              <a:t>это тот, кто хочет увидеть мир, познакомиться с новой культурой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lackadder ITC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Blackadder ITC"/>
              </a:rPr>
              <a:t>Ему недостаточно чтения книг, а хочется всё попробовать своими руками. И это желание становится таким сильным, что срывает человека с места и отправляет его в путь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1" name="Picture 4" descr="Букет"/>
          <p:cNvPicPr/>
          <p:nvPr/>
        </p:nvPicPr>
        <p:blipFill>
          <a:blip r:embed="rId1">
            <a:alphaModFix amt="53000"/>
          </a:blip>
          <a:stretch/>
        </p:blipFill>
        <p:spPr>
          <a:xfrm>
            <a:off x="571680" y="1214280"/>
            <a:ext cx="2447640" cy="3286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 advTm="2000">
    <p:blinds dir="horz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03280" y="714240"/>
            <a:ext cx="8183520" cy="40039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1.Внешний вид героин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2.Где жила, с кем общалас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3.Поступки, характер героин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4.Отношение автора к героин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5.Ваше отношение к героин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WordArt 4"/>
          <p:cNvSpPr txBox="1"/>
          <p:nvPr/>
        </p:nvSpPr>
        <p:spPr>
          <a:xfrm>
            <a:off x="1619280" y="928800"/>
            <a:ext cx="5257800" cy="7142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79467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лан работы: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235" name="Picture 5" descr=""/>
          <p:cNvPicPr/>
          <p:nvPr/>
        </p:nvPicPr>
        <p:blipFill>
          <a:blip r:embed="rId1"/>
          <a:stretch/>
        </p:blipFill>
        <p:spPr>
          <a:xfrm>
            <a:off x="6516720" y="4357800"/>
            <a:ext cx="1984320" cy="178596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blinds dir="horz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1" dur="2000" fill="hold"/>
                                        <p:tgtEl>
                                          <p:spTgt spid="23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4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4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37" name="Picture 6" descr="Лягушка-путешественниц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4" descr=""/>
          <p:cNvPicPr/>
          <p:nvPr/>
        </p:nvPicPr>
        <p:blipFill>
          <a:blip r:embed="rId1">
            <a:alphaModFix amt="3000"/>
          </a:blip>
          <a:stretch/>
        </p:blipFill>
        <p:spPr>
          <a:xfrm>
            <a:off x="5857920" y="3714840"/>
            <a:ext cx="2779560" cy="228600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60480" y="46432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178920" y="549000"/>
            <a:ext cx="6480360" cy="51735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Ей было скучно на болот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Она была очень любопытн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Ей захотелось посмотреть на огромный мир, который она не смогла бы увидеть, сидя в болот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 advTm="10000">
    <p:blinds dir="horz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8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8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8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Наслаждалас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Нежилас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ришла в восторг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оказалась её морда, и выражение этой морды было самое сияющее, на какое только способна лягушк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осхитительно приятно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3" name="Picture 20" descr=""/>
          <p:cNvPicPr/>
          <p:nvPr/>
        </p:nvPicPr>
        <p:blipFill>
          <a:blip r:embed="rId1">
            <a:alphaModFix amt="90000"/>
          </a:blip>
          <a:stretch/>
        </p:blipFill>
        <p:spPr>
          <a:xfrm>
            <a:off x="5000760" y="500040"/>
            <a:ext cx="2590560" cy="1803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 advTm="3000">
    <p:blinds dir="horz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9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0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0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0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3" nodeType="with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0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0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0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0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8" nodeType="with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0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1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1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1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3" nodeType="with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1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1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1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1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8" nodeType="with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1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2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2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2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1T12:38:25Z</dcterms:created>
  <dc:creator>Пользователь</dc:creator>
  <dc:description/>
  <dc:language>en-US</dc:language>
  <cp:lastModifiedBy>Admin</cp:lastModifiedBy>
  <dcterms:modified xsi:type="dcterms:W3CDTF">2019-12-03T18:56:04Z</dcterms:modified>
  <cp:revision>9</cp:revision>
  <dc:subject/>
  <dc:title>Слайд 1</dc:title>
</cp:coreProperties>
</file>