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726-C469-46A9-BDCB-2E6E1AF6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8DAC-7F8C-443B-8BEB-3A5AA437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B7C-C056-432F-AE0E-B60B013F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FB5-A478-444B-9E6D-C36DD301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A4A5-BA01-4847-BA5D-F9460B94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BCD3-1AAF-419A-BF18-DC825180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ED90-D7E5-4CC1-BAC3-925582D4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0865-EAFC-4B51-8F69-1CF57973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A80A-1C24-401B-A410-E79ACF4E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853C-CEF0-4614-AB11-56B03E09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4617-5C65-43B8-BA20-05538DAD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51F-9CC5-459D-8BEF-A08B79C8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E102-B906-4C12-B678-5B7FAE6F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682F-5A4E-4282-9A4F-81C36B0F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41D7-115A-4982-B8BA-0C02E906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CFE1-BD8E-4BAA-A651-E3A204A1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A545-0DF1-48A0-97E8-A3F0D43D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4C605-48AA-4426-95FE-CE39E05E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77D40-D7A8-4894-8D5B-8BBB11D9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18339-ECF3-4526-99FB-B605D98A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0E5D-63BC-4C57-B309-23580FCA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C8683-4838-4C6D-8D94-1D46D7EE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7D6-5DB5-4486-95B7-DECDC4EF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B74B2-09A2-454F-B851-A12F23EA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A7C71-48E8-4018-85DA-7A0F470B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0148E-5BF2-41EA-963B-2097B06C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B6510-A603-43F7-B5C0-8028D616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1D649-27E4-4F04-93C9-9E2025B8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4B267-E10C-4C51-8AFF-D1F72F99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DD8F5-2DEC-4362-93C3-9ECB5F68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81181-974F-42F9-9440-B9D77239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1C85C-DC7D-4ECC-9FAF-C4A1E2ED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C6535-9DE0-455D-B3EF-E1FCC550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D8D-FF75-4A55-ACDF-D22CE4BA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0EF7D-3A1C-44AF-88D2-D7D76A61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65007-80DC-440F-9E41-766287ED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C591D-C0BD-4E44-856C-49CB11ED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C4A12-86DA-4033-910E-19BC0C2F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5C83F-185E-4DEA-890D-74027E50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3E9CB-1F9F-4EF0-BC0D-C31CF4AE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5F938-ECBF-4DD1-88CE-8D7B14D2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238FB-C976-45A0-86DE-9E8C4FAB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6798B-D17A-450B-9B45-2AE7DECA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BF9-145C-4930-B3C4-E1BA8526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416-0037-448C-BE9D-F07A6EEA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D1C8-F9C1-4DD0-8E0B-60B85AFC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D51-3005-4119-BE2A-F8D555F9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336-C17F-440D-A0ED-8A0A8DB3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9CFD-F00B-49B4-8845-FFE8E0A84989}" type="slidenum">
              <a:rPr b="0" lang="ru-RU" sz="1200" spc="-1" strike="noStrike">
                <a:solidFill>
                  <a:srgbClr val="4a382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bee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0e3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0e3c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0e3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9A7B-32D3-4D88-BBA3-9CC5F2A60994}" type="slidenum">
              <a:rPr b="0" lang="ru-RU" sz="1200" spc="-1" strike="noStrike">
                <a:solidFill>
                  <a:srgbClr val="f0e3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bee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0e3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0e3c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0e3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AB06-647B-41EA-8C9A-3D3A15D99546}" type="slidenum">
              <a:rPr b="0" lang="ru-RU" sz="1200" spc="-1" strike="noStrike">
                <a:solidFill>
                  <a:srgbClr val="f0e3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230E-3837-4BC7-ADCF-B6B8861BEB65}" type="slidenum">
              <a:rPr b="0" lang="ru-RU" sz="1200" spc="-1" strike="noStrike">
                <a:solidFill>
                  <a:srgbClr val="4a382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19240" y="274680"/>
            <a:ext cx="8699400" cy="1000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071600" y="4786200"/>
            <a:ext cx="47862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Подготовила учитель английского языка Кужновского филиала                               МБОУ «Оборонинская СОШ»         Полянских Елена Юрьевна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&amp;gcy;&amp;dcy;&amp;iecy; &amp;ncy;&amp;acy;&amp;khcy;&amp;ocy;&amp;dcy;&amp;icy;&amp;tcy;&amp;scy;&amp;yacy; &amp;lcy;&amp;acy;&amp;pcy;&amp;lcy;&amp;acy;&amp;ncy;&amp;dcy;&amp;icy;&amp;yacy;"/>
          <p:cNvPicPr/>
          <p:nvPr/>
        </p:nvPicPr>
        <p:blipFill>
          <a:blip r:embed="rId2"/>
          <a:stretch/>
        </p:blipFill>
        <p:spPr>
          <a:xfrm>
            <a:off x="1143000" y="1357200"/>
            <a:ext cx="67867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7c4b3b"/>
                </a:solidFill>
                <a:latin typeface="Calibri"/>
              </a:rPr>
              <a:t>Лапландия- сказочная страна</a:t>
            </a:r>
            <a:endParaRPr b="0" lang="en-US" sz="49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0" y="1920960"/>
            <a:ext cx="4114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то таинственное место — родина Санта-Клауса и пункт обитания Снежной Королевы. Лапландия находится в Финляндии. Это по-настоящему сказочная страна. Ведь даже суровый арктический климат удивительным образом смягчается в тех местах, где находится Лапландия. С июня по конец октября здесь часто светит солнце, дует свежий ветер, вдобавок можно наблюдать прекрасное северное явление — белые ночи. Осень в Лапландии нарядная, в золоте листвы, богатая на грибы и ягод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Содержимое 6" descr="&amp;gcy;&amp;dcy;&amp;iecy; &amp;ncy;&amp;acy;&amp;khcy;&amp;ocy;&amp;dcy;&amp;icy;&amp;tcy;&amp;scy;&amp;yacy; &amp;lcy;&amp;acy;&amp;pcy;&amp;lcy;&amp;acy;&amp;ncy;&amp;dcy;&amp;icy;&amp;yacy; &amp;vcy; &amp;kcy;&amp;acy;&amp;kcy;&amp;ocy;&amp;jcy; &amp;scy;&amp;tcy;&amp;rcy;&amp;acy;&amp;ncy;&amp;iecy;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e3b30"/>
                </a:solidFill>
                <a:latin typeface="Calibri"/>
              </a:rPr>
              <a:t>Северное сияние</a:t>
            </a:r>
            <a:endParaRPr b="0" lang="en-US" sz="45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3280" y="2499840"/>
            <a:ext cx="404352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нег окончательно ложится в октябре и лежит до конца мая. На Рождество и Новый год на лапландскую землю опускается полярная ночь, украшенная северным сияние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Содержимое 9" descr="&amp;gcy;&amp;dcy;&amp;iecy; &amp;ncy;&amp;acy;&amp;khcy;&amp;ocy;&amp;dcy;&amp;icy;&amp;tcy;&amp;scy;&amp;yacy; &amp;lcy;&amp;acy;&amp;pcy;&amp;lcy;&amp;acy;&amp;ncy;&amp;dcy;&amp;icy;&amp;yacy;"/>
          <p:cNvPicPr/>
          <p:nvPr/>
        </p:nvPicPr>
        <p:blipFill>
          <a:blip r:embed="rId1"/>
          <a:stretch/>
        </p:blipFill>
        <p:spPr>
          <a:xfrm>
            <a:off x="457200" y="2643120"/>
            <a:ext cx="4040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43040" y="571680"/>
            <a:ext cx="7043760" cy="242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Calibri"/>
              </a:rPr>
              <a:t>Природные особенности</a:t>
            </a:r>
            <a:r>
              <a:rPr b="0" lang="ru-RU" sz="4000" spc="-1" strike="noStrike">
                <a:solidFill>
                  <a:srgbClr val="4e3b3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4e3b3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857840" y="2714400"/>
            <a:ext cx="382896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Лапландии комфортные горнолыжные курорты Леви, Юллес — это рай для тех, кто предпочитает зимние забавы. На сопках, поднимающихся на высоту 500–700 метров, проложено множество трасс разной степени сложности, устроены трамплины, горки и прочие развлечения для сноубордистов и лыжников. –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Содержимое 4" descr="&amp;lcy;&amp;acy;&amp;pcy;&amp;lcy;&amp;acy;&amp;ncy;&amp;dcy;&amp;icy;&amp;yacy; &amp;gcy;&amp;dcy;&amp;iecy; &amp;ncy;&amp;acy;&amp;khcy;&amp;ocy;&amp;dcy;&amp;icy;&amp;tcy;&amp;scy;&amp;yacy;"/>
          <p:cNvPicPr/>
          <p:nvPr/>
        </p:nvPicPr>
        <p:blipFill>
          <a:blip r:embed="rId1"/>
          <a:stretch/>
        </p:blipFill>
        <p:spPr>
          <a:xfrm>
            <a:off x="500040" y="2714760"/>
            <a:ext cx="399564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Calibri"/>
              </a:rPr>
              <a:t>Достопримечательности Лапландии</a:t>
            </a:r>
            <a:r>
              <a:rPr b="0" lang="ru-RU" sz="4000" spc="-1" strike="noStrike">
                <a:solidFill>
                  <a:srgbClr val="4e3b30"/>
                </a:solidFill>
                <a:latin typeface="Calibri"/>
              </a:rPr>
              <a:t> </a:t>
            </a:r>
            <a:br>
              <a:rPr sz="4500"/>
            </a:br>
            <a:endParaRPr b="0" lang="en-US" sz="4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8592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городке Кеми находится по-настоящему волшебный ледовый дворец Лумилинна. В здании все сделано из снега, даже кровати, а средняя температура в помещении составляет +5. Снежный замок оборудован ледяным рестораном, детской игровой площадкой, есть даже музей драгоценностей и часовня — все из снега и льд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столице Рованиеми (Лапландия), находится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арк развлечений «Арктикум»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едовый дворец Лумилинна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узей саамов Сиида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удожественный музей Айне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7" descr="&amp;gcy;&amp;dcy;&amp;iecy; &amp;ncy;&amp;acy;&amp;khcy;&amp;ocy;&amp;dcy;&amp;icy;&amp;tcy;&amp;scy;&amp;yacy; &amp;lcy;&amp;acy;&amp;pcy;&amp;lcy;&amp;acy;&amp;ncy;&amp;dcy;&amp;icy;&amp;yacy; &amp;vcy; &amp;kcy;&amp;acy;&amp;kcy;&amp;ocy;&amp;jcy; &amp;scy;&amp;tcy;&amp;rcy;&amp;acy;&amp;ncy;&amp;iecy;"/>
          <p:cNvPicPr/>
          <p:nvPr/>
        </p:nvPicPr>
        <p:blipFill>
          <a:blip r:embed="rId1"/>
          <a:stretch/>
        </p:blipFill>
        <p:spPr>
          <a:xfrm>
            <a:off x="5000760" y="4071960"/>
            <a:ext cx="3571920" cy="23432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8" descr="&amp;gcy;&amp;dcy;&amp;iecy; &amp;ncy;&amp;acy;&amp;khcy;&amp;ocy;&amp;dcy;&amp;icy;&amp;tcy;&amp;scy;&amp;yacy; &amp;lcy;&amp;acy;&amp;pcy;&amp;lcy;&amp;acy;&amp;ncy;&amp;dcy;&amp;icy;&amp;yacy;"/>
          <p:cNvPicPr/>
          <p:nvPr/>
        </p:nvPicPr>
        <p:blipFill>
          <a:blip r:embed="rId2"/>
          <a:stretch/>
        </p:blipFill>
        <p:spPr>
          <a:xfrm>
            <a:off x="714240" y="4429080"/>
            <a:ext cx="3357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25796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3b30"/>
                </a:solidFill>
                <a:latin typeface="Calibri"/>
              </a:rPr>
              <a:t>Развлечения Лапландии</a:t>
            </a:r>
            <a:r>
              <a:rPr b="0" lang="ru-RU" sz="5000" spc="-1" strike="noStrike">
                <a:solidFill>
                  <a:srgbClr val="4e3b3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м, где находится Лапландия, можно отлично провести время, катаясь на оленьих упряжках. Правда, для этого надо закончить краткие водительские курсы, после чего смело отправляться в путь. Олени чувствуют себя в Лапландии вольготно, ведь здесь их проживает больше всего на земл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Содержимое 8" descr="&amp;lcy;&amp;acy;&amp;pcy;&amp;lcy;&amp;acy;&amp;ncy;&amp;dcy;&amp;icy;&amp;yacy; &amp;gcy;&amp;dcy;&amp;iecy; &amp;ncy;&amp;acy;&amp;khcy;&amp;ocy;&amp;dcy;&amp;icy;&amp;tcy;&amp;scy;&amp;yacy;"/>
          <p:cNvPicPr/>
          <p:nvPr/>
        </p:nvPicPr>
        <p:blipFill>
          <a:blip r:embed="rId1"/>
          <a:stretch/>
        </p:blipFill>
        <p:spPr>
          <a:xfrm>
            <a:off x="457200" y="2000160"/>
            <a:ext cx="40384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28880" y="7045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e3b30"/>
                </a:solidFill>
                <a:latin typeface="Calibri"/>
              </a:rPr>
              <a:t>Родина Санта-Клауса</a:t>
            </a:r>
            <a:r>
              <a:rPr b="0" lang="ru-RU" sz="4500" spc="-1" strike="noStrike">
                <a:solidFill>
                  <a:srgbClr val="4e3b30"/>
                </a:solidFill>
                <a:latin typeface="Calibri"/>
              </a:rPr>
              <a:t> </a:t>
            </a:r>
            <a:br>
              <a:rPr sz="4500"/>
            </a:br>
            <a:endParaRPr b="0" lang="en-US" sz="45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м, где находится Лапландия, проживает Санта-Клаус. У седого волшебника в Рованиеми есть все: свой аэропорт, куда прилетают туристы, и целая деревня, где живет и  работает Санта-Клаус. Вместе с эльфами весь год он готовит подарки детям и отвечает на их письма. На Рождество в деревне Санта-Клауса праздничные мероприятия. Посетителям Санта-Клаус показывает свою оленью ферму и летающих оленей и выдает диплом, удостоверяющий посещение Полярного круг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51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Содержимое 4" descr="&amp;gcy;&amp;dcy;&amp;iecy; &amp;ncy;&amp;acy;&amp;khcy;&amp;ocy;&amp;dcy;&amp;icy;&amp;tcy;&amp;scy;&amp;yacy; &amp;lcy;&amp;acy;&amp;pcy;&amp;lcy;&amp;acy;&amp;ncy;&amp;dcy;&amp;icy;&amp;yacy; &amp;vcy; &amp;kcy;&amp;acy;&amp;kcy;&amp;ocy;&amp;jcy; &amp;scy;&amp;tcy;&amp;rcy;&amp;acy;&amp;ncy;&amp;iecy;"/>
          <p:cNvPicPr/>
          <p:nvPr/>
        </p:nvPicPr>
        <p:blipFill>
          <a:blip r:embed="rId1"/>
          <a:stretch/>
        </p:blipFill>
        <p:spPr>
          <a:xfrm>
            <a:off x="457200" y="2000160"/>
            <a:ext cx="41860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2T19:58:15Z</dcterms:created>
  <dc:creator>Елена Юрьевна</dc:creator>
  <dc:description/>
  <dc:language>en-US</dc:language>
  <cp:lastModifiedBy>Елена Юрьевна</cp:lastModifiedBy>
  <dcterms:modified xsi:type="dcterms:W3CDTF">2019-12-02T20:53:37Z</dcterms:modified>
  <cp:revision>6</cp:revision>
  <dc:subject/>
  <dc:title>«Где находится Лапландия?»</dc:title>
</cp:coreProperties>
</file>