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9B1-E190-47D6-B4C3-6360B552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3C6-7723-4DA7-8BD1-5476FFA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B2F-8FF2-4A4A-AC47-77E3CB6F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48B-3E17-4E8E-AED4-DFA4A3D2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CA25-148B-4BE7-A036-8C6FFA1E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2D18-C010-4A17-9908-6B9031B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5F7-CAEE-406A-8786-9ADF8DD2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258-E838-499D-B98D-E8935361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4C97-F93C-4351-BE0E-2783EAB6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7839-6CD4-4491-A2CD-5D62394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0D65-A499-4E1C-867C-ABF7388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BF3-D124-4869-A4BF-3D5E3BD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4F50-E8F5-4221-8D9F-15DF04F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D35C-D86A-4985-BD92-4D763CA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A303-CDE8-4535-9EA0-90734414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49C-3DC0-4D15-89B1-A4DB530E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CF7D-F4B6-46F3-AFF5-12ACFBE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852A-2B51-4499-A679-2B2FBB7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436F-D3BF-42B3-8E5A-8D900AB9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4A24-2DE1-48BA-BAA2-97DB210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AAD5-F307-44C1-8026-21190C8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ADB4-7540-4969-A324-2BECF0F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75F-4C36-4A5E-B8ED-BDC0423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5D56-8173-4769-8F37-5ED523FB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6751-81D7-4EE4-9C15-0D5DBA7B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DE0E-22D9-49DD-8FD9-319B504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ADBE-03F4-4525-9602-DCF1D50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EF74-68C3-4D1B-9FE0-2B6B3FB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C9F9-D96B-4B4D-9783-49AD9E8D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64CE-95F7-4D7D-B536-7D5BA92B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F2B9-FE28-4DE0-B0B3-C9941486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211F-CE1E-4C48-8855-ADAAF07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B0AC-10BC-46CE-BE1C-74E7538A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C23-0F06-4DC4-AE95-3958E81C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FCC6-F571-4C06-B693-A765BDC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B21F-FC9D-459E-BF8C-4CEA06C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CE03-0898-4DC9-97F4-9433EF70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0BB3-E0C6-41E3-9AE5-C1B9AD0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B6A6-4298-4DAD-A5E3-DD858DB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CE54-455D-4BFC-A620-9B5B544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A2F1-6306-462A-9243-79F9689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F436-30B2-44CD-8C24-A7D1F4F5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EDD7-179C-4E8A-BE5E-4ADBF845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605-3457-4DB3-9309-CB1BCC0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2D-5649-4BEE-9786-1134B42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DBF-E941-4734-AAFA-08A93D7E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CBC-A026-4D45-9EE6-BD7B2B7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B82-9142-44A8-8F06-BAB6ABE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7DC6-E9B4-4B11-8B9F-B09354E8BE78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E582-54D8-4E6A-9301-8697D753EAD9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496-56FE-4DFD-B5EA-2BDA71714068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0B58-7082-41B6-A267-F83B6478A483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699400" cy="1000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071600" y="478620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одготовила учитель английского языка Кужновского филиала                               МБОУ «Оборонинская СОШ»         Полянских Елена Юрьевн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2"/>
          <a:stretch/>
        </p:blipFill>
        <p:spPr>
          <a:xfrm>
            <a:off x="1143000" y="1357200"/>
            <a:ext cx="6786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c4b3b"/>
                </a:solidFill>
                <a:latin typeface="Calibri"/>
              </a:rPr>
              <a:t>Лапландия- сказочная страна</a:t>
            </a:r>
            <a:endParaRPr b="0" lang="en-US" sz="49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0" y="192096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таинственное место — родина Санта-Клауса и пункт обитания Снежной Королевы. Лапландия находится в Финляндии. Это по-настоящему сказочная страна. Ведь даже суровый арктический климат удивительным образом смягчается в тех местах, где находится Лапландия. С июня по конец октября здесь часто светит солнце, дует свежий ветер, вдобавок можно наблюдать прекрасное северное явление — белые ночи. Осень в Лапландии нарядная, в золоте листвы, богатая на грибы и ягод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Содержимое 6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3b30"/>
                </a:solidFill>
                <a:latin typeface="Calibri"/>
              </a:rPr>
              <a:t>Северное сияние</a:t>
            </a:r>
            <a:endParaRPr b="0" lang="en-US" sz="45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3280" y="2499840"/>
            <a:ext cx="40435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нег окончательно ложится в октябре и лежит до конца мая. На Рождество и Новый год на лапландскую землю опускается полярная ночь, украшенная северным сияни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9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1"/>
          <a:stretch/>
        </p:blipFill>
        <p:spPr>
          <a:xfrm>
            <a:off x="457200" y="2643120"/>
            <a:ext cx="4040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3040" y="571680"/>
            <a:ext cx="704376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Calibri"/>
              </a:rPr>
              <a:t>Природные особенности</a:t>
            </a: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7840" y="2714400"/>
            <a:ext cx="38289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Лапландии комфортные горнолыжные курорты Леви, Юллес — это рай для тех, кто предпочитает зимние забавы. На сопках, поднимающихся на высоту 500–700 метров, проложено множество трасс разной степени сложности, устроены трамплины, горки и прочие развлечения для сноубордистов и лыжников. –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&amp;lcy;&amp;acy;&amp;pcy;&amp;lcy;&amp;acy;&amp;ncy;&amp;dcy;&amp;icy;&amp;yacy; &amp;gcy;&amp;dcy;&amp;iecy; &amp;ncy;&amp;acy;&amp;khcy;&amp;ocy;&amp;dcy;&amp;icy;&amp;tcy;&amp;scy;&amp;yacy;"/>
          <p:cNvPicPr/>
          <p:nvPr/>
        </p:nvPicPr>
        <p:blipFill>
          <a:blip r:embed="rId1"/>
          <a:stretch/>
        </p:blipFill>
        <p:spPr>
          <a:xfrm>
            <a:off x="500040" y="2714760"/>
            <a:ext cx="399564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Calibri"/>
              </a:rPr>
              <a:t>Достопримечательности Лапландии</a:t>
            </a: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500"/>
            </a:br>
            <a:endParaRPr b="0" lang="en-US" sz="4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85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ородке Кеми находится по-настоящему волшебный ледовый дворец Лумилинна. В здании все сделано из снега, даже кровати, а средняя температура в помещении составляет +5. Снежный замок оборудован ледяным рестораном, детской игровой площадкой, есть даже музей драгоценностей и часовня — все из снега и льд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толице Рованиеми (Лапландия), находится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к развлечений «Арктикум»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довый дворец Лумилинна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узей саамов Сиида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удожественный музей Айне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7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5000760" y="4071960"/>
            <a:ext cx="3571920" cy="23432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2"/>
          <a:stretch/>
        </p:blipFill>
        <p:spPr>
          <a:xfrm>
            <a:off x="714240" y="4429080"/>
            <a:ext cx="3357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2579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Calibri"/>
              </a:rPr>
              <a:t>Развлечения Лапландии</a:t>
            </a:r>
            <a:r>
              <a:rPr b="0" lang="ru-RU" sz="5000" spc="-1" strike="noStrike">
                <a:solidFill>
                  <a:srgbClr val="4e3b3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м, где находится Лапландия, можно отлично провести время, катаясь на оленьих упряжках. Правда, для этого надо закончить краткие водительские курсы, после чего смело отправляться в путь. Олени чувствуют себя в Лапландии вольготно, ведь здесь их проживает больше всего на зем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8" descr="&amp;lcy;&amp;acy;&amp;pcy;&amp;lcy;&amp;acy;&amp;ncy;&amp;dcy;&amp;icy;&amp;yacy; &amp;gcy;&amp;dcy;&amp;iecy; &amp;ncy;&amp;acy;&amp;khcy;&amp;ocy;&amp;dcy;&amp;icy;&amp;tcy;&amp;scy;&amp;yacy;"/>
          <p:cNvPicPr/>
          <p:nvPr/>
        </p:nvPicPr>
        <p:blipFill>
          <a:blip r:embed="rId1"/>
          <a:stretch/>
        </p:blipFill>
        <p:spPr>
          <a:xfrm>
            <a:off x="457200" y="2000160"/>
            <a:ext cx="4038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28880" y="7045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3b30"/>
                </a:solidFill>
                <a:latin typeface="Calibri"/>
              </a:rPr>
              <a:t>Родина Санта-Клауса</a:t>
            </a:r>
            <a:r>
              <a:rPr b="0" lang="ru-RU" sz="45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м, где находится Лапландия, проживает Санта-Клаус. У седого волшебника в Рованиеми есть все: свой аэропорт, куда прилетают туристы, и целая деревня, где живет и  работает Санта-Клаус. Вместе с эльфами весь год он готовит подарки детям и отвечает на их письма. На Рождество в деревне Санта-Клауса праздничные мероприятия. Посетителям Санта-Клаус показывает свою оленью ферму и летающих оленей и выдает диплом, удостоверяющий посещение Полярного круг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4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457200" y="2000160"/>
            <a:ext cx="4186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2T19:58:15Z</dcterms:created>
  <dc:creator>Елена Юрьевна</dc:creator>
  <dc:description/>
  <dc:language>en-US</dc:language>
  <cp:lastModifiedBy>Елена Юрьевна</cp:lastModifiedBy>
  <dcterms:modified xsi:type="dcterms:W3CDTF">2019-12-02T20:53:37Z</dcterms:modified>
  <cp:revision>6</cp:revision>
  <dc:subject/>
  <dc:title>«Где находится Лапландия?»</dc:title>
</cp:coreProperties>
</file>