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4935-4072-4574-BCA6-1E03702E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986-7BE0-4F2D-9901-82CB56A9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99E-3DA8-4126-A9F2-604255E0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DE2-8237-41DB-9049-199B3836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69AB-8BFD-46C6-B52C-0E5FFCAE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FC34-24C6-4590-9391-04B62603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9300-E555-4084-9D60-081E9E1F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2CCB-4E8E-4F8A-9BE4-2712AD1A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6BE2-626B-4CF8-8E42-12C9687E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7B1F-B577-477B-9C2C-E8659B03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8B91-6975-4BE5-B45D-A270CA63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E8C-4DB6-4D14-B318-74344D89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E526-0B00-4ED5-979C-FE6AE4D5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97A3-C7EC-4819-92A5-9BB9BF54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CB12-6A86-4A86-9D21-2DC42116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852B-3438-44F9-9AD9-17BBBEBE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DDF6-66D7-4448-8B75-34127FCE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1CE-E552-4619-87A5-17D4B01C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D33-7939-4FC7-8649-083F77D5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0A8-CB7F-4711-9CFA-EC590BFC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C63-915E-49A9-8032-65D374F2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2F25-FA4E-4E1C-95FA-AA0DF6D2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F27A-4104-4236-8267-F74F5C01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BEE-DD13-4FF6-A73E-8BC9E6E4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C8A0-0C28-4C98-9B91-097C096D3FA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6583-7AEF-47B9-A254-2F716E895D0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Игра «Морской бой»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ебра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а «дробно рациональные уравнен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дание №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шите уравнение графичес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79640" y="2997360"/>
                <a:ext cx="364320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дача № 8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йдите ОДЗ уравнен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5516640"/>
            <a:ext cx="1368360" cy="649080"/>
          </a:xfrm>
          <a:custGeom>
            <a:avLst/>
            <a:gdLst>
              <a:gd name="textAreaLeft" fmla="*/ 41760 w 1368360"/>
              <a:gd name="textAreaRight" fmla="*/ 1326600 w 136836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45523" h="21600">
                <a:moveTo>
                  <a:pt x="0" y="0"/>
                </a:moveTo>
                <a:lnTo>
                  <a:pt x="45523" y="0"/>
                </a:lnTo>
                <a:lnTo>
                  <a:pt x="45523" y="21600"/>
                </a:lnTo>
                <a:lnTo>
                  <a:pt x="0" y="21600"/>
                </a:lnTo>
                <a:close/>
              </a:path>
              <a:path fill="lightenLess" w="45523" h="21600">
                <a:moveTo>
                  <a:pt x="0" y="0"/>
                </a:moveTo>
                <a:lnTo>
                  <a:pt x="45523" y="0"/>
                </a:lnTo>
                <a:lnTo>
                  <a:pt x="44123" y="1400"/>
                </a:lnTo>
                <a:lnTo>
                  <a:pt x="1400" y="1400"/>
                </a:lnTo>
                <a:close/>
              </a:path>
              <a:path fill="darken" w="45523" h="21600">
                <a:moveTo>
                  <a:pt x="45523" y="0"/>
                </a:moveTo>
                <a:lnTo>
                  <a:pt x="45523" y="21600"/>
                </a:lnTo>
                <a:lnTo>
                  <a:pt x="44123" y="20200"/>
                </a:lnTo>
                <a:lnTo>
                  <a:pt x="44123" y="1400"/>
                </a:lnTo>
                <a:close/>
              </a:path>
              <a:path fill="darkenLess" w="45523" h="21600">
                <a:moveTo>
                  <a:pt x="4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23" y="20200"/>
                </a:lnTo>
                <a:close/>
              </a:path>
              <a:path fill="lighten" w="4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23" h="21600">
                <a:moveTo>
                  <a:pt x="15755" y="10800"/>
                </a:moveTo>
                <a:lnTo>
                  <a:pt x="29768" y="3794"/>
                </a:lnTo>
                <a:lnTo>
                  <a:pt x="29768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203640" y="2421000"/>
                <a:ext cx="4176720" cy="34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дание №9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шите графически уравн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5589720"/>
            <a:ext cx="1295640" cy="647640"/>
          </a:xfrm>
          <a:custGeom>
            <a:avLst/>
            <a:gdLst>
              <a:gd name="textAreaLeft" fmla="*/ 41760 w 1295640"/>
              <a:gd name="textAreaRight" fmla="*/ 1253880 w 1295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32000" y="2349360"/>
                <a:ext cx="4038480" cy="24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авила иг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поле 6х6 расставлены 9 однопалубных корабл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 клетки поля пронумерованы. Команды по очереди выбирают поле и посылают туда снаряд. При этом если снаряд попадает на пустое поле, то ход переходит к другой команде, если на корабль, то результат поражения зависит от правильно решенного зад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92360" y="83664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19640" y="836640"/>
            <a:ext cx="863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83664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84720" y="83664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8360" y="83664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0" y="83664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599436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5994360"/>
            <a:ext cx="86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599436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4720" y="599436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599436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599436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256536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2565360"/>
            <a:ext cx="863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256536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256536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256536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256536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1692360" y="342900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3429000"/>
            <a:ext cx="863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342900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84720" y="342900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342900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342900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429264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4292640"/>
            <a:ext cx="863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56000" y="429264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429264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429264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429264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515772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19640" y="5157720"/>
            <a:ext cx="863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15772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84720" y="515772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48360" y="515772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6012000" y="515772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825120" y="83808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826560" y="256392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825120" y="170172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826560" y="342900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826560" y="429264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826560" y="515628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170028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1700280"/>
            <a:ext cx="863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4" action="ppaction://hlinksldjump"/>
          </p:cNvPr>
          <p:cNvSpPr/>
          <p:nvPr/>
        </p:nvSpPr>
        <p:spPr>
          <a:xfrm>
            <a:off x="2556000" y="170028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84720" y="170028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48360" y="170028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170028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Задание №1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йдите область допустимых значений уравнен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826920" y="580536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10800"/>
                </a:moveTo>
                <a:lnTo>
                  <a:pt x="21851" y="3794"/>
                </a:lnTo>
                <a:lnTo>
                  <a:pt x="21851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708360" y="2624040"/>
                <a:ext cx="4978440" cy="30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дание №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з списка  уравнений выберите частные случаи вида                       и решите 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684360" y="5661000"/>
            <a:ext cx="1008000" cy="79236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7476" h="21600">
                <a:moveTo>
                  <a:pt x="0" y="0"/>
                </a:moveTo>
                <a:lnTo>
                  <a:pt x="27476" y="0"/>
                </a:lnTo>
                <a:lnTo>
                  <a:pt x="27476" y="21600"/>
                </a:lnTo>
                <a:lnTo>
                  <a:pt x="0" y="21600"/>
                </a:lnTo>
                <a:close/>
              </a:path>
              <a:path fill="lightenLess" w="27476" h="21600">
                <a:moveTo>
                  <a:pt x="0" y="0"/>
                </a:moveTo>
                <a:lnTo>
                  <a:pt x="27476" y="0"/>
                </a:lnTo>
                <a:lnTo>
                  <a:pt x="26076" y="1400"/>
                </a:lnTo>
                <a:lnTo>
                  <a:pt x="1400" y="1400"/>
                </a:lnTo>
                <a:close/>
              </a:path>
              <a:path fill="darken" w="27476" h="21600">
                <a:moveTo>
                  <a:pt x="27476" y="0"/>
                </a:moveTo>
                <a:lnTo>
                  <a:pt x="27476" y="21600"/>
                </a:lnTo>
                <a:lnTo>
                  <a:pt x="26076" y="20200"/>
                </a:lnTo>
                <a:lnTo>
                  <a:pt x="26076" y="1400"/>
                </a:lnTo>
                <a:close/>
              </a:path>
              <a:path fill="darkenLess" w="27476" h="21600">
                <a:moveTo>
                  <a:pt x="27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76" y="20200"/>
                </a:lnTo>
                <a:close/>
              </a:path>
              <a:path fill="lighten" w="27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76" h="21600">
                <a:moveTo>
                  <a:pt x="6731" y="10800"/>
                </a:moveTo>
                <a:lnTo>
                  <a:pt x="20744" y="3794"/>
                </a:lnTo>
                <a:lnTo>
                  <a:pt x="20744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195640" y="2997360"/>
                <a:ext cx="4176720" cy="34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692360" y="2060640"/>
                <a:ext cx="1800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дание №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з списка  уравнений выберите частные случаи вида                       и решите и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755640" y="5373720"/>
            <a:ext cx="1295280" cy="647640"/>
          </a:xfrm>
          <a:custGeom>
            <a:avLst/>
            <a:gdLst>
              <a:gd name="textAreaLeft" fmla="*/ 41760 w 1295280"/>
              <a:gd name="textAreaRight" fmla="*/ 1253520 w 129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788" y="1400"/>
                </a:lnTo>
                <a:lnTo>
                  <a:pt x="1400" y="140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788" y="20200"/>
                </a:lnTo>
                <a:lnTo>
                  <a:pt x="41788" y="140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8" y="2020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8" h="21600">
                <a:moveTo>
                  <a:pt x="14588" y="10800"/>
                </a:moveTo>
                <a:lnTo>
                  <a:pt x="28600" y="3794"/>
                </a:lnTo>
                <a:lnTo>
                  <a:pt x="2860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05320" y="2060640"/>
                <a:ext cx="1773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211640" y="2924280"/>
                <a:ext cx="4176720" cy="34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дание №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шите уравн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539640" y="5589720"/>
            <a:ext cx="1224000" cy="792000"/>
          </a:xfrm>
          <a:custGeom>
            <a:avLst/>
            <a:gdLst>
              <a:gd name="textAreaLeft" fmla="*/ 51120 w 1224000"/>
              <a:gd name="textAreaRight" fmla="*/ 1172880 w 1224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3376" h="21600">
                <a:moveTo>
                  <a:pt x="0" y="0"/>
                </a:moveTo>
                <a:lnTo>
                  <a:pt x="33376" y="0"/>
                </a:lnTo>
                <a:lnTo>
                  <a:pt x="33376" y="21600"/>
                </a:lnTo>
                <a:lnTo>
                  <a:pt x="0" y="21600"/>
                </a:lnTo>
                <a:close/>
              </a:path>
              <a:path fill="lightenLess" w="33376" h="21600">
                <a:moveTo>
                  <a:pt x="0" y="0"/>
                </a:moveTo>
                <a:lnTo>
                  <a:pt x="33376" y="0"/>
                </a:lnTo>
                <a:lnTo>
                  <a:pt x="31976" y="1400"/>
                </a:lnTo>
                <a:lnTo>
                  <a:pt x="1400" y="1400"/>
                </a:lnTo>
                <a:close/>
              </a:path>
              <a:path fill="darken" w="33376" h="21600">
                <a:moveTo>
                  <a:pt x="33376" y="0"/>
                </a:moveTo>
                <a:lnTo>
                  <a:pt x="33376" y="21600"/>
                </a:lnTo>
                <a:lnTo>
                  <a:pt x="31976" y="20200"/>
                </a:lnTo>
                <a:lnTo>
                  <a:pt x="31976" y="1400"/>
                </a:lnTo>
                <a:close/>
              </a:path>
              <a:path fill="darkenLess" w="33376" h="21600">
                <a:moveTo>
                  <a:pt x="33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6" y="20200"/>
                </a:lnTo>
                <a:close/>
              </a:path>
              <a:path fill="lighten" w="33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6" h="21600">
                <a:moveTo>
                  <a:pt x="9682" y="10800"/>
                </a:moveTo>
                <a:lnTo>
                  <a:pt x="23695" y="3794"/>
                </a:lnTo>
                <a:lnTo>
                  <a:pt x="23695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332000" y="2708280"/>
                <a:ext cx="4978440" cy="23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дание №5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шите уравн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5445000"/>
            <a:ext cx="1224000" cy="720720"/>
          </a:xfrm>
          <a:custGeom>
            <a:avLst/>
            <a:gdLst>
              <a:gd name="textAreaLeft" fmla="*/ 46440 w 1224000"/>
              <a:gd name="textAreaRight" fmla="*/ 1177560 w 1224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6676" h="21600">
                <a:moveTo>
                  <a:pt x="0" y="0"/>
                </a:moveTo>
                <a:lnTo>
                  <a:pt x="36676" y="0"/>
                </a:lnTo>
                <a:lnTo>
                  <a:pt x="36676" y="21600"/>
                </a:lnTo>
                <a:lnTo>
                  <a:pt x="0" y="21600"/>
                </a:lnTo>
                <a:close/>
              </a:path>
              <a:path fill="lightenLess" w="36676" h="21600">
                <a:moveTo>
                  <a:pt x="0" y="0"/>
                </a:moveTo>
                <a:lnTo>
                  <a:pt x="36676" y="0"/>
                </a:lnTo>
                <a:lnTo>
                  <a:pt x="35276" y="1400"/>
                </a:lnTo>
                <a:lnTo>
                  <a:pt x="1400" y="1400"/>
                </a:lnTo>
                <a:close/>
              </a:path>
              <a:path fill="darken" w="36676" h="21600">
                <a:moveTo>
                  <a:pt x="36676" y="0"/>
                </a:moveTo>
                <a:lnTo>
                  <a:pt x="36676" y="21600"/>
                </a:lnTo>
                <a:lnTo>
                  <a:pt x="35276" y="20200"/>
                </a:lnTo>
                <a:lnTo>
                  <a:pt x="35276" y="1400"/>
                </a:lnTo>
                <a:close/>
              </a:path>
              <a:path fill="darkenLess" w="36676" h="21600">
                <a:moveTo>
                  <a:pt x="3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76" y="20200"/>
                </a:lnTo>
                <a:close/>
              </a:path>
              <a:path fill="lighten" w="3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76" h="21600">
                <a:moveTo>
                  <a:pt x="11331" y="10800"/>
                </a:moveTo>
                <a:lnTo>
                  <a:pt x="25344" y="3794"/>
                </a:lnTo>
                <a:lnTo>
                  <a:pt x="25344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87280" y="2637000"/>
                <a:ext cx="626436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дание №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ислитель обыкновенной дроби на 4 меньше её знаменателя. Если к числителю этой дроби прибавить 19, а к знаменателю 28, то она увеличится на 1/5. Найдите  эту дроб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5516640"/>
            <a:ext cx="1152720" cy="649080"/>
          </a:xfrm>
          <a:custGeom>
            <a:avLst/>
            <a:gdLst>
              <a:gd name="textAreaLeft" fmla="*/ 41760 w 1152720"/>
              <a:gd name="textAreaRight" fmla="*/ 1110960 w 115272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38351" h="21600">
                <a:moveTo>
                  <a:pt x="0" y="0"/>
                </a:moveTo>
                <a:lnTo>
                  <a:pt x="38351" y="0"/>
                </a:lnTo>
                <a:lnTo>
                  <a:pt x="38351" y="21600"/>
                </a:lnTo>
                <a:lnTo>
                  <a:pt x="0" y="21600"/>
                </a:lnTo>
                <a:close/>
              </a:path>
              <a:path fill="lightenLess" w="38351" h="21600">
                <a:moveTo>
                  <a:pt x="0" y="0"/>
                </a:moveTo>
                <a:lnTo>
                  <a:pt x="38351" y="0"/>
                </a:lnTo>
                <a:lnTo>
                  <a:pt x="36951" y="1400"/>
                </a:lnTo>
                <a:lnTo>
                  <a:pt x="1400" y="1400"/>
                </a:lnTo>
                <a:close/>
              </a:path>
              <a:path fill="darken" w="38351" h="21600">
                <a:moveTo>
                  <a:pt x="38351" y="0"/>
                </a:moveTo>
                <a:lnTo>
                  <a:pt x="38351" y="21600"/>
                </a:lnTo>
                <a:lnTo>
                  <a:pt x="36951" y="20200"/>
                </a:lnTo>
                <a:lnTo>
                  <a:pt x="36951" y="1400"/>
                </a:lnTo>
                <a:close/>
              </a:path>
              <a:path fill="darkenLess" w="38351" h="21600">
                <a:moveTo>
                  <a:pt x="38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51" y="20200"/>
                </a:lnTo>
                <a:close/>
              </a:path>
              <a:path fill="lighten" w="38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51" h="21600">
                <a:moveTo>
                  <a:pt x="12169" y="10800"/>
                </a:moveTo>
                <a:lnTo>
                  <a:pt x="26182" y="3794"/>
                </a:lnTo>
                <a:lnTo>
                  <a:pt x="26182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5:23:11Z</dcterms:created>
  <dc:creator>Chemax</dc:creator>
  <dc:description/>
  <dc:language>en-US</dc:language>
  <cp:lastModifiedBy>Chemax</cp:lastModifiedBy>
  <dcterms:modified xsi:type="dcterms:W3CDTF">2008-03-17T16:37:15Z</dcterms:modified>
  <cp:revision>3</cp:revision>
  <dc:subject/>
  <dc:title> Игра «Морской бой»</dc:title>
</cp:coreProperties>
</file>