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7DEE-1FA9-4CE9-9638-163C3F53C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59BC-EBFB-4E2A-B4D9-AF0357F16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5B41-636F-4E90-B70E-6A6F76335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A524-4980-4B97-9B2B-7F7324C90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9BEA2-7829-444D-A149-1D90214E6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A7CD2-26B9-472D-9802-8D8BA78DA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8F6BC-C1A8-4C98-8434-67B90FB21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4EC0D-1540-46D5-8173-49A00F7A9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B0446-B254-42CE-91D8-F77866BC3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3D296-7DCB-47C2-9D45-22B09C921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6DC48-CC0E-412B-9436-29BD3477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3ADC-E187-4292-9A4F-B35F7BBE8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F47FB-5F7E-4638-B7D9-5EB8C6D7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EDD54-5AFE-48BB-8B8D-929AB091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4ED0D-BA80-49C7-8AC1-84DDFFA71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C38B7-2E8A-467E-9456-75B454D9F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29C32-250E-4178-919C-11C56D238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1ABD-8986-4218-A291-CD12CBAA4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7E6D-D1BA-4968-B9C3-ACC043310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6C81-5689-4C25-A0B8-18F3C8389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A06D-1E79-4388-88D4-0D7169275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6D9D-FE2B-4BE5-B569-D2EB2041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F34A-DA3A-4F59-A8D2-9586B14C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A498-3CF5-4048-9659-861F32E0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BB780-42B1-4D36-B772-534C771D49A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29524-36D6-47C1-9D12-74FD4521995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4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Игра «Морской бой»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лгебра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ма «дробно рациональные уравнения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Задание №7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Решите уравнение графическ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979640" y="2997360"/>
                <a:ext cx="364320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Задача № 8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айдите ОДЗ уравнени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9640" y="5516640"/>
            <a:ext cx="1368360" cy="649080"/>
          </a:xfrm>
          <a:custGeom>
            <a:avLst/>
            <a:gdLst>
              <a:gd name="textAreaLeft" fmla="*/ 41760 w 1368360"/>
              <a:gd name="textAreaRight" fmla="*/ 1326600 w 136836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45523" h="21600">
                <a:moveTo>
                  <a:pt x="0" y="0"/>
                </a:moveTo>
                <a:lnTo>
                  <a:pt x="45523" y="0"/>
                </a:lnTo>
                <a:lnTo>
                  <a:pt x="45523" y="21600"/>
                </a:lnTo>
                <a:lnTo>
                  <a:pt x="0" y="21600"/>
                </a:lnTo>
                <a:close/>
              </a:path>
              <a:path fill="lightenLess" w="45523" h="21600">
                <a:moveTo>
                  <a:pt x="0" y="0"/>
                </a:moveTo>
                <a:lnTo>
                  <a:pt x="45523" y="0"/>
                </a:lnTo>
                <a:lnTo>
                  <a:pt x="44123" y="1400"/>
                </a:lnTo>
                <a:lnTo>
                  <a:pt x="1400" y="1400"/>
                </a:lnTo>
                <a:close/>
              </a:path>
              <a:path fill="darken" w="45523" h="21600">
                <a:moveTo>
                  <a:pt x="45523" y="0"/>
                </a:moveTo>
                <a:lnTo>
                  <a:pt x="45523" y="21600"/>
                </a:lnTo>
                <a:lnTo>
                  <a:pt x="44123" y="20200"/>
                </a:lnTo>
                <a:lnTo>
                  <a:pt x="44123" y="1400"/>
                </a:lnTo>
                <a:close/>
              </a:path>
              <a:path fill="darkenLess" w="45523" h="21600">
                <a:moveTo>
                  <a:pt x="4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23" y="20200"/>
                </a:lnTo>
                <a:close/>
              </a:path>
              <a:path fill="lighten" w="4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23" h="21600">
                <a:moveTo>
                  <a:pt x="15755" y="10800"/>
                </a:moveTo>
                <a:lnTo>
                  <a:pt x="29768" y="3794"/>
                </a:lnTo>
                <a:lnTo>
                  <a:pt x="29768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203640" y="2421000"/>
                <a:ext cx="4176720" cy="34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Задание №9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Решите графически уравнение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39640" y="5589720"/>
            <a:ext cx="1295640" cy="647640"/>
          </a:xfrm>
          <a:custGeom>
            <a:avLst/>
            <a:gdLst>
              <a:gd name="textAreaLeft" fmla="*/ 41760 w 1295640"/>
              <a:gd name="textAreaRight" fmla="*/ 1253880 w 1295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332000" y="2349360"/>
                <a:ext cx="4038480" cy="240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Правила игр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а поле 6х6 расставлены 9 однопалубных корабл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се клетки поля пронумерованы. Команды по очереди выбирают поле и посылают туда снаряд. При этом если снаряд попадает на пустое поле, то ход переходит к другой команде, если на корабль, то результат поражения зависит от правильно решенного зада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692360" y="836640"/>
            <a:ext cx="863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419640" y="836640"/>
            <a:ext cx="86328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56000" y="836640"/>
            <a:ext cx="863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1" action="ppaction://hlinksldjump"/>
          </p:cNvPr>
          <p:cNvSpPr/>
          <p:nvPr/>
        </p:nvSpPr>
        <p:spPr>
          <a:xfrm>
            <a:off x="4284720" y="836640"/>
            <a:ext cx="863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148360" y="836640"/>
            <a:ext cx="863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12000" y="836640"/>
            <a:ext cx="863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92360" y="5994360"/>
            <a:ext cx="863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19640" y="5994360"/>
            <a:ext cx="863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56000" y="5994360"/>
            <a:ext cx="863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84720" y="5994360"/>
            <a:ext cx="863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48360" y="5994360"/>
            <a:ext cx="863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12000" y="5994360"/>
            <a:ext cx="863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92360" y="2565360"/>
            <a:ext cx="863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19640" y="2565360"/>
            <a:ext cx="86328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56000" y="2565360"/>
            <a:ext cx="863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84720" y="2565360"/>
            <a:ext cx="863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48360" y="2565360"/>
            <a:ext cx="863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12000" y="2565360"/>
            <a:ext cx="863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rId2" action="ppaction://hlinksldjump"/>
          </p:cNvPr>
          <p:cNvSpPr/>
          <p:nvPr/>
        </p:nvSpPr>
        <p:spPr>
          <a:xfrm>
            <a:off x="1692360" y="3429000"/>
            <a:ext cx="863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19640" y="3429000"/>
            <a:ext cx="86328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56000" y="3429000"/>
            <a:ext cx="863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284720" y="3429000"/>
            <a:ext cx="863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48360" y="3429000"/>
            <a:ext cx="863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12000" y="3429000"/>
            <a:ext cx="863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92360" y="4292640"/>
            <a:ext cx="863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19640" y="4292640"/>
            <a:ext cx="86328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56000" y="4292640"/>
            <a:ext cx="863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84720" y="4292640"/>
            <a:ext cx="863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48360" y="4292640"/>
            <a:ext cx="863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12000" y="4292640"/>
            <a:ext cx="863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92360" y="5157720"/>
            <a:ext cx="863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19640" y="5157720"/>
            <a:ext cx="86328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56000" y="5157720"/>
            <a:ext cx="863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84720" y="5157720"/>
            <a:ext cx="863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148360" y="5157720"/>
            <a:ext cx="863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rId3" action="ppaction://hlinksldjump"/>
          </p:cNvPr>
          <p:cNvSpPr/>
          <p:nvPr/>
        </p:nvSpPr>
        <p:spPr>
          <a:xfrm>
            <a:off x="6012000" y="5157720"/>
            <a:ext cx="863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825120" y="838080"/>
            <a:ext cx="863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5400000">
            <a:off x="826560" y="2563920"/>
            <a:ext cx="863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5400000">
            <a:off x="825120" y="1701720"/>
            <a:ext cx="863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5400000">
            <a:off x="826560" y="3429000"/>
            <a:ext cx="863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5400000">
            <a:off x="826560" y="4292640"/>
            <a:ext cx="863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826560" y="5156280"/>
            <a:ext cx="863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2360" y="1700280"/>
            <a:ext cx="863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19640" y="1700280"/>
            <a:ext cx="86328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rId4" action="ppaction://hlinksldjump"/>
          </p:cNvPr>
          <p:cNvSpPr/>
          <p:nvPr/>
        </p:nvSpPr>
        <p:spPr>
          <a:xfrm>
            <a:off x="2556000" y="1700280"/>
            <a:ext cx="863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84720" y="1700280"/>
            <a:ext cx="863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148360" y="1700280"/>
            <a:ext cx="863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12000" y="1700280"/>
            <a:ext cx="863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Задание №1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айдите область допустимых значений уравнения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rId1" action="ppaction://hlinksldjump"/>
          </p:cNvPr>
          <p:cNvSpPr/>
          <p:nvPr/>
        </p:nvSpPr>
        <p:spPr>
          <a:xfrm>
            <a:off x="826920" y="5805360"/>
            <a:ext cx="792360" cy="576360"/>
          </a:xfrm>
          <a:custGeom>
            <a:avLst/>
            <a:gdLst>
              <a:gd name="textAreaLeft" fmla="*/ 37080 w 792360"/>
              <a:gd name="textAreaRight" fmla="*/ 755280 w 792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9690" h="21600">
                <a:moveTo>
                  <a:pt x="0" y="0"/>
                </a:moveTo>
                <a:lnTo>
                  <a:pt x="29690" y="0"/>
                </a:lnTo>
                <a:lnTo>
                  <a:pt x="29690" y="21600"/>
                </a:lnTo>
                <a:lnTo>
                  <a:pt x="0" y="21600"/>
                </a:lnTo>
                <a:close/>
              </a:path>
              <a:path fill="lightenLess" w="29690" h="21600">
                <a:moveTo>
                  <a:pt x="0" y="0"/>
                </a:moveTo>
                <a:lnTo>
                  <a:pt x="29690" y="0"/>
                </a:lnTo>
                <a:lnTo>
                  <a:pt x="28290" y="1400"/>
                </a:lnTo>
                <a:lnTo>
                  <a:pt x="1400" y="1400"/>
                </a:lnTo>
                <a:close/>
              </a:path>
              <a:path fill="darken" w="29690" h="21600">
                <a:moveTo>
                  <a:pt x="29690" y="0"/>
                </a:moveTo>
                <a:lnTo>
                  <a:pt x="29690" y="21600"/>
                </a:lnTo>
                <a:lnTo>
                  <a:pt x="28290" y="20200"/>
                </a:lnTo>
                <a:lnTo>
                  <a:pt x="28290" y="1400"/>
                </a:lnTo>
                <a:close/>
              </a:path>
              <a:path fill="darkenLess" w="29690" h="21600">
                <a:moveTo>
                  <a:pt x="29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0" y="20200"/>
                </a:lnTo>
                <a:close/>
              </a:path>
              <a:path fill="lighten" w="29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0" h="21600">
                <a:moveTo>
                  <a:pt x="7838" y="10800"/>
                </a:moveTo>
                <a:lnTo>
                  <a:pt x="21851" y="3794"/>
                </a:lnTo>
                <a:lnTo>
                  <a:pt x="21851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3708360" y="2624040"/>
                <a:ext cx="4978440" cy="30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9</m:t>
                            </m:r>
                          </m:den>
                        </m:f>
                      </m:e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Задание №2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Из списка  уравнений выберите частные случаи вида                       и решите и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rId1" action="ppaction://hlinksldjump"/>
          </p:cNvPr>
          <p:cNvSpPr/>
          <p:nvPr/>
        </p:nvSpPr>
        <p:spPr>
          <a:xfrm>
            <a:off x="684360" y="5661000"/>
            <a:ext cx="1008000" cy="792360"/>
          </a:xfrm>
          <a:custGeom>
            <a:avLst/>
            <a:gdLst>
              <a:gd name="textAreaLeft" fmla="*/ 51120 w 1008000"/>
              <a:gd name="textAreaRight" fmla="*/ 956880 w 100800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7476" h="21600">
                <a:moveTo>
                  <a:pt x="0" y="0"/>
                </a:moveTo>
                <a:lnTo>
                  <a:pt x="27476" y="0"/>
                </a:lnTo>
                <a:lnTo>
                  <a:pt x="27476" y="21600"/>
                </a:lnTo>
                <a:lnTo>
                  <a:pt x="0" y="21600"/>
                </a:lnTo>
                <a:close/>
              </a:path>
              <a:path fill="lightenLess" w="27476" h="21600">
                <a:moveTo>
                  <a:pt x="0" y="0"/>
                </a:moveTo>
                <a:lnTo>
                  <a:pt x="27476" y="0"/>
                </a:lnTo>
                <a:lnTo>
                  <a:pt x="26076" y="1400"/>
                </a:lnTo>
                <a:lnTo>
                  <a:pt x="1400" y="1400"/>
                </a:lnTo>
                <a:close/>
              </a:path>
              <a:path fill="darken" w="27476" h="21600">
                <a:moveTo>
                  <a:pt x="27476" y="0"/>
                </a:moveTo>
                <a:lnTo>
                  <a:pt x="27476" y="21600"/>
                </a:lnTo>
                <a:lnTo>
                  <a:pt x="26076" y="20200"/>
                </a:lnTo>
                <a:lnTo>
                  <a:pt x="26076" y="1400"/>
                </a:lnTo>
                <a:close/>
              </a:path>
              <a:path fill="darkenLess" w="27476" h="21600">
                <a:moveTo>
                  <a:pt x="274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76" y="20200"/>
                </a:lnTo>
                <a:close/>
              </a:path>
              <a:path fill="lighten" w="274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76" h="21600">
                <a:moveTo>
                  <a:pt x="6731" y="10800"/>
                </a:moveTo>
                <a:lnTo>
                  <a:pt x="20744" y="3794"/>
                </a:lnTo>
                <a:lnTo>
                  <a:pt x="20744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2195640" y="2997360"/>
                <a:ext cx="4176720" cy="34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1692360" y="2060640"/>
                <a:ext cx="180000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Задание №3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Из списка  уравнений выберите частные случаи вида                       и решите и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755640" y="5373720"/>
            <a:ext cx="1295280" cy="647640"/>
          </a:xfrm>
          <a:custGeom>
            <a:avLst/>
            <a:gdLst>
              <a:gd name="textAreaLeft" fmla="*/ 41760 w 1295280"/>
              <a:gd name="textAreaRight" fmla="*/ 1253520 w 1295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43188" h="21600">
                <a:moveTo>
                  <a:pt x="0" y="0"/>
                </a:moveTo>
                <a:lnTo>
                  <a:pt x="43188" y="0"/>
                </a:lnTo>
                <a:lnTo>
                  <a:pt x="43188" y="21600"/>
                </a:lnTo>
                <a:lnTo>
                  <a:pt x="0" y="21600"/>
                </a:lnTo>
                <a:close/>
              </a:path>
              <a:path fill="lightenLess" w="43188" h="21600">
                <a:moveTo>
                  <a:pt x="0" y="0"/>
                </a:moveTo>
                <a:lnTo>
                  <a:pt x="43188" y="0"/>
                </a:lnTo>
                <a:lnTo>
                  <a:pt x="41788" y="1400"/>
                </a:lnTo>
                <a:lnTo>
                  <a:pt x="1400" y="1400"/>
                </a:lnTo>
                <a:close/>
              </a:path>
              <a:path fill="darken" w="43188" h="21600">
                <a:moveTo>
                  <a:pt x="43188" y="0"/>
                </a:moveTo>
                <a:lnTo>
                  <a:pt x="43188" y="21600"/>
                </a:lnTo>
                <a:lnTo>
                  <a:pt x="41788" y="20200"/>
                </a:lnTo>
                <a:lnTo>
                  <a:pt x="41788" y="1400"/>
                </a:lnTo>
                <a:close/>
              </a:path>
              <a:path fill="darkenLess" w="43188" h="21600">
                <a:moveTo>
                  <a:pt x="43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8" y="20200"/>
                </a:lnTo>
                <a:close/>
              </a:path>
              <a:path fill="lighten" w="43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8" h="21600">
                <a:moveTo>
                  <a:pt x="14588" y="10800"/>
                </a:moveTo>
                <a:lnTo>
                  <a:pt x="28600" y="3794"/>
                </a:lnTo>
                <a:lnTo>
                  <a:pt x="28600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505320" y="2060640"/>
                <a:ext cx="177300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4211640" y="2924280"/>
                <a:ext cx="4176720" cy="34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c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Задание №4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Решите уравне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>
            <a:hlinkClick r:id="rId1" action="ppaction://hlinksldjump"/>
          </p:cNvPr>
          <p:cNvSpPr/>
          <p:nvPr/>
        </p:nvSpPr>
        <p:spPr>
          <a:xfrm>
            <a:off x="539640" y="5589720"/>
            <a:ext cx="1224000" cy="792000"/>
          </a:xfrm>
          <a:custGeom>
            <a:avLst/>
            <a:gdLst>
              <a:gd name="textAreaLeft" fmla="*/ 51120 w 1224000"/>
              <a:gd name="textAreaRight" fmla="*/ 1172880 w 1224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33376" h="21600">
                <a:moveTo>
                  <a:pt x="0" y="0"/>
                </a:moveTo>
                <a:lnTo>
                  <a:pt x="33376" y="0"/>
                </a:lnTo>
                <a:lnTo>
                  <a:pt x="33376" y="21600"/>
                </a:lnTo>
                <a:lnTo>
                  <a:pt x="0" y="21600"/>
                </a:lnTo>
                <a:close/>
              </a:path>
              <a:path fill="lightenLess" w="33376" h="21600">
                <a:moveTo>
                  <a:pt x="0" y="0"/>
                </a:moveTo>
                <a:lnTo>
                  <a:pt x="33376" y="0"/>
                </a:lnTo>
                <a:lnTo>
                  <a:pt x="31976" y="1400"/>
                </a:lnTo>
                <a:lnTo>
                  <a:pt x="1400" y="1400"/>
                </a:lnTo>
                <a:close/>
              </a:path>
              <a:path fill="darken" w="33376" h="21600">
                <a:moveTo>
                  <a:pt x="33376" y="0"/>
                </a:moveTo>
                <a:lnTo>
                  <a:pt x="33376" y="21600"/>
                </a:lnTo>
                <a:lnTo>
                  <a:pt x="31976" y="20200"/>
                </a:lnTo>
                <a:lnTo>
                  <a:pt x="31976" y="1400"/>
                </a:lnTo>
                <a:close/>
              </a:path>
              <a:path fill="darkenLess" w="33376" h="21600">
                <a:moveTo>
                  <a:pt x="33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76" y="20200"/>
                </a:lnTo>
                <a:close/>
              </a:path>
              <a:path fill="lighten" w="33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76" h="21600">
                <a:moveTo>
                  <a:pt x="9682" y="10800"/>
                </a:moveTo>
                <a:lnTo>
                  <a:pt x="23695" y="3794"/>
                </a:lnTo>
                <a:lnTo>
                  <a:pt x="23695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332000" y="2708280"/>
                <a:ext cx="4978440" cy="23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9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Задание №5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ешите уравн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1280" y="5445000"/>
            <a:ext cx="1224000" cy="720720"/>
          </a:xfrm>
          <a:custGeom>
            <a:avLst/>
            <a:gdLst>
              <a:gd name="textAreaLeft" fmla="*/ 46440 w 1224000"/>
              <a:gd name="textAreaRight" fmla="*/ 1177560 w 1224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6676" h="21600">
                <a:moveTo>
                  <a:pt x="0" y="0"/>
                </a:moveTo>
                <a:lnTo>
                  <a:pt x="36676" y="0"/>
                </a:lnTo>
                <a:lnTo>
                  <a:pt x="36676" y="21600"/>
                </a:lnTo>
                <a:lnTo>
                  <a:pt x="0" y="21600"/>
                </a:lnTo>
                <a:close/>
              </a:path>
              <a:path fill="lightenLess" w="36676" h="21600">
                <a:moveTo>
                  <a:pt x="0" y="0"/>
                </a:moveTo>
                <a:lnTo>
                  <a:pt x="36676" y="0"/>
                </a:lnTo>
                <a:lnTo>
                  <a:pt x="35276" y="1400"/>
                </a:lnTo>
                <a:lnTo>
                  <a:pt x="1400" y="1400"/>
                </a:lnTo>
                <a:close/>
              </a:path>
              <a:path fill="darken" w="36676" h="21600">
                <a:moveTo>
                  <a:pt x="36676" y="0"/>
                </a:moveTo>
                <a:lnTo>
                  <a:pt x="36676" y="21600"/>
                </a:lnTo>
                <a:lnTo>
                  <a:pt x="35276" y="20200"/>
                </a:lnTo>
                <a:lnTo>
                  <a:pt x="35276" y="1400"/>
                </a:lnTo>
                <a:close/>
              </a:path>
              <a:path fill="darkenLess" w="36676" h="21600">
                <a:moveTo>
                  <a:pt x="366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276" y="20200"/>
                </a:lnTo>
                <a:close/>
              </a:path>
              <a:path fill="lighten" w="366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676" h="21600">
                <a:moveTo>
                  <a:pt x="11331" y="10800"/>
                </a:moveTo>
                <a:lnTo>
                  <a:pt x="25344" y="3794"/>
                </a:lnTo>
                <a:lnTo>
                  <a:pt x="25344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187280" y="2637000"/>
                <a:ext cx="6264360" cy="20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Задание №6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Числитель обыкновенной дроби на 4 меньше её знаменателя. Если к числителю этой дроби прибавить 19, а к знаменателю 28, то она увеличится на 1/5. Найдите  эту дроб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9640" y="5516640"/>
            <a:ext cx="1152720" cy="649080"/>
          </a:xfrm>
          <a:custGeom>
            <a:avLst/>
            <a:gdLst>
              <a:gd name="textAreaLeft" fmla="*/ 41760 w 1152720"/>
              <a:gd name="textAreaRight" fmla="*/ 1110960 w 115272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38351" h="21600">
                <a:moveTo>
                  <a:pt x="0" y="0"/>
                </a:moveTo>
                <a:lnTo>
                  <a:pt x="38351" y="0"/>
                </a:lnTo>
                <a:lnTo>
                  <a:pt x="38351" y="21600"/>
                </a:lnTo>
                <a:lnTo>
                  <a:pt x="0" y="21600"/>
                </a:lnTo>
                <a:close/>
              </a:path>
              <a:path fill="lightenLess" w="38351" h="21600">
                <a:moveTo>
                  <a:pt x="0" y="0"/>
                </a:moveTo>
                <a:lnTo>
                  <a:pt x="38351" y="0"/>
                </a:lnTo>
                <a:lnTo>
                  <a:pt x="36951" y="1400"/>
                </a:lnTo>
                <a:lnTo>
                  <a:pt x="1400" y="1400"/>
                </a:lnTo>
                <a:close/>
              </a:path>
              <a:path fill="darken" w="38351" h="21600">
                <a:moveTo>
                  <a:pt x="38351" y="0"/>
                </a:moveTo>
                <a:lnTo>
                  <a:pt x="38351" y="21600"/>
                </a:lnTo>
                <a:lnTo>
                  <a:pt x="36951" y="20200"/>
                </a:lnTo>
                <a:lnTo>
                  <a:pt x="36951" y="1400"/>
                </a:lnTo>
                <a:close/>
              </a:path>
              <a:path fill="darkenLess" w="38351" h="21600">
                <a:moveTo>
                  <a:pt x="383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51" y="20200"/>
                </a:lnTo>
                <a:close/>
              </a:path>
              <a:path fill="lighten" w="383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351" h="21600">
                <a:moveTo>
                  <a:pt x="12169" y="10800"/>
                </a:moveTo>
                <a:lnTo>
                  <a:pt x="26182" y="3794"/>
                </a:lnTo>
                <a:lnTo>
                  <a:pt x="26182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15:23:11Z</dcterms:created>
  <dc:creator>Chemax</dc:creator>
  <dc:description/>
  <dc:language>en-US</dc:language>
  <cp:lastModifiedBy>Chemax</cp:lastModifiedBy>
  <dcterms:modified xsi:type="dcterms:W3CDTF">2008-03-17T16:37:15Z</dcterms:modified>
  <cp:revision>3</cp:revision>
  <dc:subject/>
  <dc:title> Игра «Морской бой»</dc:title>
</cp:coreProperties>
</file>