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F2A-2CD0-4185-88AB-5B236A3A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5AA-9E96-447A-830A-438DC09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4C2-7D68-498B-8C5D-E17BB083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579-2E05-4882-AB48-4E0159DA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7A23-AFB1-4079-9425-1AAD9380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30D-D3BB-4492-A619-FBF2721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5CA-1A16-4E26-A91D-694C89A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063-471C-41D6-8DD8-DB0FA90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2A7-ADE3-44F3-8AC8-BD6F6FBD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9C07-70F5-4523-A716-52E5615E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3AE3-715D-482F-A92D-09C02B3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ABF-4CB3-4FFF-B2A4-E0259A1E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B14D-33A3-49B0-8821-3B387A9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E017-09D0-4E09-8628-5DB063E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0020-8E6E-4001-BE19-0CC1584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2F0B-DED3-4035-8F23-DEDD35A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FB0C-D840-4839-B641-110707B5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800-E3BF-4B8A-81F7-C4E2F7FA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8F7-D31E-4A22-941C-61AFEBC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F3C-466E-4F14-8144-40EE391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760-BBF0-417E-B213-769857D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770-050C-4ECF-B115-CDA22F1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B18-CB11-49A5-B7E7-B468FDD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5E8-1627-4050-880C-B7D1A8F7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333-DD52-4909-8B15-BBCF4EB474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D7E-23DE-4640-89C4-A995947364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«Владимировская средняя школа»</a:t>
            </a:r>
            <a:br>
              <a:rPr sz="2400"/>
            </a:b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Убинского района Новосибирской области</a:t>
            </a:r>
            <a:br>
              <a:rPr sz="2400"/>
            </a:br>
            <a:br>
              <a:rPr sz="4300"/>
            </a:br>
            <a:endParaRPr b="0" lang="en-US" sz="2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859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моей семь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дзаголовок 2"/>
          <p:cNvSpPr/>
          <p:nvPr/>
        </p:nvSpPr>
        <p:spPr>
          <a:xfrm>
            <a:off x="2214720" y="3571920"/>
            <a:ext cx="6400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афутдинова Василя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9 класс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енчук Нурзия Гумяровна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786040" y="6357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9" name="Picture 2" descr="D:\Фотки\Фото\семья гизитдиновых\свадьба 50 лет бабай и эби\DSCF0337.JPG"/>
          <p:cNvPicPr/>
          <p:nvPr/>
        </p:nvPicPr>
        <p:blipFill>
          <a:blip r:embed="rId1"/>
          <a:stretch/>
        </p:blipFill>
        <p:spPr>
          <a:xfrm>
            <a:off x="928800" y="1285920"/>
            <a:ext cx="714348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Шарафутдинова Сагида Нурмухамедовна и мой дедушка Шарафутдинов Нуртдин Фасхутди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3" descr="C:\Users\Равиюшка\Desktop\Отсканировано 21.01.2015 18-25 (4).bmp"/>
          <p:cNvPicPr/>
          <p:nvPr/>
        </p:nvPicPr>
        <p:blipFill>
          <a:blip r:embed="rId1"/>
          <a:stretch/>
        </p:blipFill>
        <p:spPr>
          <a:xfrm>
            <a:off x="2428920" y="2286000"/>
            <a:ext cx="46432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69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840" y="-214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прабабушки и прадедушки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5" name="Содержимое 3" descr="C:\Users\Равиюшка\Desktop\Отсканировано 21.01.2015 20-22 (13).bmp"/>
          <p:cNvPicPr/>
          <p:nvPr/>
        </p:nvPicPr>
        <p:blipFill>
          <a:blip r:embed="rId1"/>
          <a:stretch/>
        </p:blipFill>
        <p:spPr>
          <a:xfrm>
            <a:off x="214200" y="857160"/>
            <a:ext cx="2500560" cy="4572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C:\Users\Равиюшка\Desktop\родня\Отсканировано 21.01.2015 20-59.bmp"/>
          <p:cNvPicPr/>
          <p:nvPr/>
        </p:nvPicPr>
        <p:blipFill>
          <a:blip r:embed="rId2"/>
          <a:stretch/>
        </p:blipFill>
        <p:spPr>
          <a:xfrm>
            <a:off x="3071880" y="857160"/>
            <a:ext cx="278604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5" descr="C:\Users\Равиюшка\Desktop\Отсканировано 21.01.2015 20-22 (14).bmp"/>
          <p:cNvPicPr/>
          <p:nvPr/>
        </p:nvPicPr>
        <p:blipFill>
          <a:blip r:embed="rId3"/>
          <a:stretch/>
        </p:blipFill>
        <p:spPr>
          <a:xfrm>
            <a:off x="6215040" y="857160"/>
            <a:ext cx="2928960" cy="4357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0" y="5479560"/>
            <a:ext cx="221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маминой стороны, мать моего дедушки - Гизитдинова (Низамутдинова) Нагим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000240" y="5574600"/>
            <a:ext cx="28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й прадедушка с маминой стороны, отец моего дедушки - Гизитдинов Мухаметди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929200" y="5432760"/>
            <a:ext cx="321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маминой стороны, мать моей бабушки Гизитдинова (Садрединова) Газиз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и прабабушки и прадедушки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2" name="Содержимое 3" descr="C:\Users\Равиюшка\Desktop\родня\Отсканировано 21.01.2015 18-25 (3).bmp"/>
          <p:cNvPicPr/>
          <p:nvPr/>
        </p:nvPicPr>
        <p:blipFill>
          <a:blip r:embed="rId1"/>
          <a:stretch/>
        </p:blipFill>
        <p:spPr>
          <a:xfrm>
            <a:off x="5786280" y="1785960"/>
            <a:ext cx="2643480" cy="37861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C:\Users\Равиюшка\Desktop\Отсканировано 21.01.2015 18-25 (2).bmp"/>
          <p:cNvPicPr/>
          <p:nvPr/>
        </p:nvPicPr>
        <p:blipFill>
          <a:blip r:embed="rId2"/>
          <a:stretch/>
        </p:blipFill>
        <p:spPr>
          <a:xfrm>
            <a:off x="928800" y="171468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5572080" y="5717520"/>
            <a:ext cx="32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папиной стороны, мать моего дедушки Шарафутдинова С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714240" y="5645880"/>
            <a:ext cx="30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й прадедушка с папиной стороны, отец моей бабушки Мурсалимов Нурмухаме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й прадедушка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Picture 2" descr="D:\Мамочка\фото\они вернулись с победой\Гизитдинов Ми нач Саляхович.jpg"/>
          <p:cNvPicPr/>
          <p:nvPr/>
        </p:nvPicPr>
        <p:blipFill>
          <a:blip r:embed="rId1"/>
          <a:stretch/>
        </p:blipFill>
        <p:spPr>
          <a:xfrm>
            <a:off x="5286240" y="1500120"/>
            <a:ext cx="2857680" cy="491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:\Мамочка\фото\они вернулись с победой\Гизитдинов Минач Саляхович.jpg"/>
          <p:cNvPicPr/>
          <p:nvPr/>
        </p:nvPicPr>
        <p:blipFill>
          <a:blip r:embed="rId2"/>
          <a:stretch/>
        </p:blipFill>
        <p:spPr>
          <a:xfrm>
            <a:off x="1500120" y="1571760"/>
            <a:ext cx="27878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Награды моего прадедушки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00" name="Picture 2" descr="C:\Users\User\Desktop\медали Минач бабай\20170115_154549.jpg"/>
          <p:cNvPicPr/>
          <p:nvPr/>
        </p:nvPicPr>
        <p:blipFill>
          <a:blip r:embed="rId1"/>
          <a:stretch/>
        </p:blipFill>
        <p:spPr>
          <a:xfrm>
            <a:off x="214200" y="1500120"/>
            <a:ext cx="2214720" cy="328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User\Desktop\медали Минач бабай\20170115_154942.jpg"/>
          <p:cNvPicPr/>
          <p:nvPr/>
        </p:nvPicPr>
        <p:blipFill>
          <a:blip r:embed="rId2"/>
          <a:stretch/>
        </p:blipFill>
        <p:spPr>
          <a:xfrm>
            <a:off x="3429000" y="1500120"/>
            <a:ext cx="2357280" cy="335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User\Desktop\медали Минач бабай\20170115_155344.jpg"/>
          <p:cNvPicPr/>
          <p:nvPr/>
        </p:nvPicPr>
        <p:blipFill>
          <a:blip r:embed="rId3"/>
          <a:stretch/>
        </p:blipFill>
        <p:spPr>
          <a:xfrm>
            <a:off x="6786720" y="1428840"/>
            <a:ext cx="2357280" cy="3571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6929280" y="507204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0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500040" y="514368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 лет вооруженных сил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3429000" y="507204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5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User\Desktop\медали Минач бабай\20170115_155025.jpg"/>
          <p:cNvPicPr/>
          <p:nvPr/>
        </p:nvPicPr>
        <p:blipFill>
          <a:blip r:embed="rId1"/>
          <a:stretch/>
        </p:blipFill>
        <p:spPr>
          <a:xfrm>
            <a:off x="6500880" y="928800"/>
            <a:ext cx="2442960" cy="400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User\Desktop\медали Минач бабай\20170115_155149.jpg"/>
          <p:cNvPicPr/>
          <p:nvPr/>
        </p:nvPicPr>
        <p:blipFill>
          <a:blip r:embed="rId2"/>
          <a:stretch/>
        </p:blipFill>
        <p:spPr>
          <a:xfrm>
            <a:off x="0" y="928800"/>
            <a:ext cx="2857680" cy="4052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User\Desktop\медали Минач бабай\20170115_154858.jpg"/>
          <p:cNvPicPr/>
          <p:nvPr/>
        </p:nvPicPr>
        <p:blipFill>
          <a:blip r:embed="rId3"/>
          <a:stretch/>
        </p:blipFill>
        <p:spPr>
          <a:xfrm>
            <a:off x="3214800" y="2357280"/>
            <a:ext cx="314316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214200" y="5072040"/>
            <a:ext cx="250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0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6929280" y="521496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 лет вооруженных сил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лядываясь назад на свой род, мне не стыдно ни за кого из них. Я горжусь своими предками. Они отличались доброжелательностью, стремлением помочь другим, трудолюбием и всегда приходили друг другу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876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ая мудрость гласит: без корня и полынь не раст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840" y="1928520"/>
            <a:ext cx="892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тика моего исследования состоит в сохранении знаний о моей родословно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0004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работы – изучить историю моей семьи, всех ее многочисленных представителей, многие из которых остались только на фото и в памяти последующих поко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0004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: проследить генеалогию семьи Гизитдиновых (со стороны моей мамы) и Шарафутдиновых (со стороны моего отца), обобщить полученные данн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была написана на основе воспоминаний моих родственников, а также большого количества фотографий и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Генеалогическое древо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1" name="Picture 2" descr="G:\исследовательская работа\родословная.jpg"/>
          <p:cNvPicPr/>
          <p:nvPr/>
        </p:nvPicPr>
        <p:blipFill>
          <a:blip r:embed="rId1"/>
          <a:stretch/>
        </p:blipFill>
        <p:spPr>
          <a:xfrm>
            <a:off x="714240" y="982800"/>
            <a:ext cx="785844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F:\IMG_4441.JPG"/>
          <p:cNvPicPr/>
          <p:nvPr/>
        </p:nvPicPr>
        <p:blipFill>
          <a:blip r:embed="rId2"/>
          <a:stretch/>
        </p:blipFill>
        <p:spPr>
          <a:xfrm>
            <a:off x="2571840" y="785880"/>
            <a:ext cx="392904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я семья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5" name="Содержимое 3" descr="D:\Фотки\Фото\Ревгать встреча\P1040070.JPG"/>
          <p:cNvPicPr/>
          <p:nvPr/>
        </p:nvPicPr>
        <p:blipFill>
          <a:blip r:embed="rId1"/>
          <a:stretch/>
        </p:blipFill>
        <p:spPr>
          <a:xfrm>
            <a:off x="428760" y="128592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00040" y="213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Гизитдинова Минагоря Хафисовна и мой дедушка Гизитдинов Мингалим Мухаметди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Рисунок 3" descr="D:\Фотки\Фото\семья гизитдиновых\свадьба 50 лет бабай и эби\DSCF0311.JPG"/>
          <p:cNvPicPr/>
          <p:nvPr/>
        </p:nvPicPr>
        <p:blipFill>
          <a:blip r:embed="rId1"/>
          <a:stretch/>
        </p:blipFill>
        <p:spPr>
          <a:xfrm>
            <a:off x="1143000" y="2071800"/>
            <a:ext cx="635796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7:49:01Z</dcterms:created>
  <dc:creator>Школа</dc:creator>
  <dc:description/>
  <dc:language>en-US</dc:language>
  <cp:lastModifiedBy>Admin_G</cp:lastModifiedBy>
  <dcterms:modified xsi:type="dcterms:W3CDTF">2019-12-03T14:07:45Z</dcterms:modified>
  <cp:revision>36</cp:revision>
  <dc:subject/>
  <dc:title>Муниципальное казённое общеобразовательное учреждение  «Владимировская средняя школа» Убинского района Новосибирской области  </dc:title>
</cp:coreProperties>
</file>