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3DE-D8D8-4E46-B2BA-A87E12CA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34E1-E302-487E-BEB0-6177A918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A10-64B0-4C5D-9B4C-52BAEE1C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455-7F2B-442B-85D7-A32E88D3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D349-4702-46F4-827E-6A849388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6D94-22E5-46C2-9E88-97EB8FA5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C0BD-68FA-41FE-BAF8-B6FCF0CE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9A58-CB8B-4495-A957-52852E9F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AE97-FCF0-4879-A3DC-F6A1F21C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9425-87C0-4533-BACA-494DE295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3124-5AC4-4B69-8103-8CC0AE28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358-098F-4F72-97DF-5BFE367A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C8D4-D1A1-439A-A951-2E53DEA9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1A1B-827A-4C08-B772-78BB5A60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3FE9-90E1-4A51-8969-42D19995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2E7A-7907-4C9A-BD8C-6119CBC5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E6DC-3D94-4A75-803D-4E4C8356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3D8-18A8-4634-B0B4-BDE6A8C1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B013-1CFF-4416-8E0B-C999A3B7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B20-F49E-447F-B003-63186604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C3F-DAB7-4E94-AE2D-7C4AF6E5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1FB-C160-45DB-AFE7-A0B2CCA0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8E0-D78B-40E8-8261-C403CF26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55E-FD98-4B05-8F55-12DB58E5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9620-110E-413D-A5D3-8283B01EEC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8CF5-6BE8-40D3-A116-189D4516BD4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fcd"/>
                </a:solidFill>
                <a:latin typeface="Times New Roman"/>
                <a:ea typeface="Times New Roman"/>
              </a:rPr>
              <a:t>Муниципальное казённое общеобразовательное учреждение </a:t>
            </a:r>
            <a:br>
              <a:rPr sz="2400"/>
            </a:br>
            <a:r>
              <a:rPr b="0" lang="ru-RU" sz="2400" spc="-1" strike="noStrike">
                <a:solidFill>
                  <a:srgbClr val="e2efcd"/>
                </a:solidFill>
                <a:latin typeface="Times New Roman"/>
                <a:ea typeface="Times New Roman"/>
              </a:rPr>
              <a:t>«Владимировская средняя школа»</a:t>
            </a:r>
            <a:br>
              <a:rPr sz="2400"/>
            </a:br>
            <a:r>
              <a:rPr b="0" lang="ru-RU" sz="2400" spc="-1" strike="noStrike">
                <a:solidFill>
                  <a:srgbClr val="e2efcd"/>
                </a:solidFill>
                <a:latin typeface="Times New Roman"/>
                <a:ea typeface="Times New Roman"/>
              </a:rPr>
              <a:t>Убинского района Новосибирской области</a:t>
            </a:r>
            <a:br>
              <a:rPr sz="2400"/>
            </a:br>
            <a:br>
              <a:rPr sz="4300"/>
            </a:br>
            <a:endParaRPr b="0" lang="en-US" sz="2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859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я моей семь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одзаголовок 2"/>
          <p:cNvSpPr/>
          <p:nvPr/>
        </p:nvSpPr>
        <p:spPr>
          <a:xfrm>
            <a:off x="2214720" y="3571920"/>
            <a:ext cx="6400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рафутдинова Василя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ца 9 класс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енчук Нурзия Гумяровна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английского язык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2786040" y="6357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8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79" name="Picture 2" descr="D:\Фотки\Фото\семья гизитдиновых\свадьба 50 лет бабай и эби\DSCF0337.JPG"/>
          <p:cNvPicPr/>
          <p:nvPr/>
        </p:nvPicPr>
        <p:blipFill>
          <a:blip r:embed="rId1"/>
          <a:stretch/>
        </p:blipFill>
        <p:spPr>
          <a:xfrm>
            <a:off x="928800" y="1285920"/>
            <a:ext cx="7143480" cy="49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00040" y="285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я бабушка Шарафутдинова Сагида Нурмухамедовна и мой дедушка Шарафутдинов Нуртдин Фасхутдин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Рисунок 3" descr="C:\Users\Равиюшка\Desktop\Отсканировано 21.01.2015 18-25 (4).bmp"/>
          <p:cNvPicPr/>
          <p:nvPr/>
        </p:nvPicPr>
        <p:blipFill>
          <a:blip r:embed="rId1"/>
          <a:stretch/>
        </p:blipFill>
        <p:spPr>
          <a:xfrm>
            <a:off x="2428920" y="2286000"/>
            <a:ext cx="464328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56908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3840" y="-2145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и прабабушки и прадедушки 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85" name="Содержимое 3" descr="C:\Users\Равиюшка\Desktop\Отсканировано 21.01.2015 20-22 (13).bmp"/>
          <p:cNvPicPr/>
          <p:nvPr/>
        </p:nvPicPr>
        <p:blipFill>
          <a:blip r:embed="rId1"/>
          <a:stretch/>
        </p:blipFill>
        <p:spPr>
          <a:xfrm>
            <a:off x="214200" y="857160"/>
            <a:ext cx="2500560" cy="45720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4" descr="C:\Users\Равиюшка\Desktop\родня\Отсканировано 21.01.2015 20-59.bmp"/>
          <p:cNvPicPr/>
          <p:nvPr/>
        </p:nvPicPr>
        <p:blipFill>
          <a:blip r:embed="rId2"/>
          <a:stretch/>
        </p:blipFill>
        <p:spPr>
          <a:xfrm>
            <a:off x="3071880" y="857160"/>
            <a:ext cx="278604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5" descr="C:\Users\Равиюшка\Desktop\Отсканировано 21.01.2015 20-22 (14).bmp"/>
          <p:cNvPicPr/>
          <p:nvPr/>
        </p:nvPicPr>
        <p:blipFill>
          <a:blip r:embed="rId3"/>
          <a:stretch/>
        </p:blipFill>
        <p:spPr>
          <a:xfrm>
            <a:off x="6215040" y="857160"/>
            <a:ext cx="2928960" cy="43578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"/>
          <p:cNvSpPr/>
          <p:nvPr/>
        </p:nvSpPr>
        <p:spPr>
          <a:xfrm>
            <a:off x="0" y="5479560"/>
            <a:ext cx="221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я прабабушка с маминой стороны, мать моего дедушки - Гизитдинова (Низамутдинова) Нагим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000240" y="5574600"/>
            <a:ext cx="285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й прадедушка с маминой стороны, отец моего дедушки - Гизитдинов Мухаметди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5929200" y="5432760"/>
            <a:ext cx="3214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я прабабушка с маминой стороны, мать моей бабушки Гизитдинова (Садрединова) Газиз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2efcd"/>
                </a:solidFill>
                <a:latin typeface="Times New Roman"/>
                <a:ea typeface="Times New Roman"/>
              </a:rPr>
              <a:t>Мои прабабушки и прадедушки 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92" name="Содержимое 3" descr="C:\Users\Равиюшка\Desktop\родня\Отсканировано 21.01.2015 18-25 (3).bmp"/>
          <p:cNvPicPr/>
          <p:nvPr/>
        </p:nvPicPr>
        <p:blipFill>
          <a:blip r:embed="rId1"/>
          <a:stretch/>
        </p:blipFill>
        <p:spPr>
          <a:xfrm>
            <a:off x="5786280" y="1785960"/>
            <a:ext cx="2643480" cy="37861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" descr="C:\Users\Равиюшка\Desktop\Отсканировано 21.01.2015 18-25 (2).bmp"/>
          <p:cNvPicPr/>
          <p:nvPr/>
        </p:nvPicPr>
        <p:blipFill>
          <a:blip r:embed="rId2"/>
          <a:stretch/>
        </p:blipFill>
        <p:spPr>
          <a:xfrm>
            <a:off x="928800" y="1714680"/>
            <a:ext cx="3000240" cy="39290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5572080" y="5717520"/>
            <a:ext cx="321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я прабабушка с папиной стороны, мать моего дедушки Шарафутдинова С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714240" y="5645880"/>
            <a:ext cx="3000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й прадедушка с папиной стороны, отец моей бабушки Мурсалимов Нурмухаме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2efcd"/>
                </a:solidFill>
                <a:latin typeface="Times New Roman"/>
                <a:ea typeface="Times New Roman"/>
              </a:rPr>
              <a:t>Мой прадедушка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97" name="Picture 2" descr="D:\Мамочка\фото\они вернулись с победой\Гизитдинов Ми нач Саляхович.jpg"/>
          <p:cNvPicPr/>
          <p:nvPr/>
        </p:nvPicPr>
        <p:blipFill>
          <a:blip r:embed="rId1"/>
          <a:stretch/>
        </p:blipFill>
        <p:spPr>
          <a:xfrm>
            <a:off x="5286240" y="1500120"/>
            <a:ext cx="2857680" cy="4919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D:\Мамочка\фото\они вернулись с победой\Гизитдинов Минач Саляхович.jpg"/>
          <p:cNvPicPr/>
          <p:nvPr/>
        </p:nvPicPr>
        <p:blipFill>
          <a:blip r:embed="rId2"/>
          <a:stretch/>
        </p:blipFill>
        <p:spPr>
          <a:xfrm>
            <a:off x="1500120" y="1571760"/>
            <a:ext cx="278784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2efcd"/>
                </a:solidFill>
                <a:latin typeface="Arial"/>
              </a:rPr>
              <a:t>Награды моего прадедушки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00" name="Picture 2" descr="C:\Users\User\Desktop\медали Минач бабай\20170115_154549.jpg"/>
          <p:cNvPicPr/>
          <p:nvPr/>
        </p:nvPicPr>
        <p:blipFill>
          <a:blip r:embed="rId1"/>
          <a:stretch/>
        </p:blipFill>
        <p:spPr>
          <a:xfrm>
            <a:off x="214200" y="1500120"/>
            <a:ext cx="2214720" cy="3286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User\Desktop\медали Минач бабай\20170115_154942.jpg"/>
          <p:cNvPicPr/>
          <p:nvPr/>
        </p:nvPicPr>
        <p:blipFill>
          <a:blip r:embed="rId2"/>
          <a:stretch/>
        </p:blipFill>
        <p:spPr>
          <a:xfrm>
            <a:off x="3429000" y="1500120"/>
            <a:ext cx="2357280" cy="3357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:\Users\User\Desktop\медали Минач бабай\20170115_155344.jpg"/>
          <p:cNvPicPr/>
          <p:nvPr/>
        </p:nvPicPr>
        <p:blipFill>
          <a:blip r:embed="rId3"/>
          <a:stretch/>
        </p:blipFill>
        <p:spPr>
          <a:xfrm>
            <a:off x="6786720" y="1428840"/>
            <a:ext cx="2357280" cy="35719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8"/>
          <p:cNvSpPr/>
          <p:nvPr/>
        </p:nvSpPr>
        <p:spPr>
          <a:xfrm>
            <a:off x="6929280" y="5072040"/>
            <a:ext cx="22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0 лет поб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Великой Отечественной Вой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500040" y="514368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0 лет вооруженных сил ССС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10"/>
          <p:cNvSpPr/>
          <p:nvPr/>
        </p:nvSpPr>
        <p:spPr>
          <a:xfrm>
            <a:off x="3429000" y="507204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5 лет поб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Великой Отечественной Вой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User\Desktop\медали Минач бабай\20170115_155025.jpg"/>
          <p:cNvPicPr/>
          <p:nvPr/>
        </p:nvPicPr>
        <p:blipFill>
          <a:blip r:embed="rId1"/>
          <a:stretch/>
        </p:blipFill>
        <p:spPr>
          <a:xfrm>
            <a:off x="6500880" y="928800"/>
            <a:ext cx="2442960" cy="4000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User\Desktop\медали Минач бабай\20170115_155149.jpg"/>
          <p:cNvPicPr/>
          <p:nvPr/>
        </p:nvPicPr>
        <p:blipFill>
          <a:blip r:embed="rId2"/>
          <a:stretch/>
        </p:blipFill>
        <p:spPr>
          <a:xfrm>
            <a:off x="0" y="928800"/>
            <a:ext cx="2857680" cy="4052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User\Desktop\медали Минач бабай\20170115_154858.jpg"/>
          <p:cNvPicPr/>
          <p:nvPr/>
        </p:nvPicPr>
        <p:blipFill>
          <a:blip r:embed="rId3"/>
          <a:stretch/>
        </p:blipFill>
        <p:spPr>
          <a:xfrm>
            <a:off x="3214800" y="2357280"/>
            <a:ext cx="3143160" cy="30718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214200" y="5072040"/>
            <a:ext cx="250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0 лет поб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Великой Отечественной Вой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6929280" y="521496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0 лет вооруженных сил ССС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лядываясь назад на свой род, мне не стыдно ни за кого из них. Я горжусь своими предками. Они отличались доброжелательностью, стремлением помочь другим, трудолюбием и всегда приходили друг другу на помощ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2876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одная мудрость гласит: без корня и полынь не растет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3840" y="1928520"/>
            <a:ext cx="8929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атика моего исследования состоит в сохранении знаний о моей родословной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00040" y="1714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работы – изучить историю моей семьи, всех ее многочисленных представителей, многие из которых остались только на фото и в памяти последующих покол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00040" y="1428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задачи: проследить генеалогию семьи Гизитдиновых (со стороны моей мамы) и Шарафутдиновых (со стороны моего отца), обобщить полученные данны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была написана на основе воспоминаний моих родственников, а также большого количества фотографий и доку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2efcd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e2efcd"/>
                </a:solidFill>
                <a:latin typeface="Arial"/>
              </a:rPr>
              <a:t>Генеалогическое древо 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71" name="Picture 2" descr="G:\исследовательская работа\родословная.jpg"/>
          <p:cNvPicPr/>
          <p:nvPr/>
        </p:nvPicPr>
        <p:blipFill>
          <a:blip r:embed="rId1"/>
          <a:stretch/>
        </p:blipFill>
        <p:spPr>
          <a:xfrm>
            <a:off x="714240" y="982800"/>
            <a:ext cx="7858440" cy="58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F:\IMG_4441.JPG"/>
          <p:cNvPicPr/>
          <p:nvPr/>
        </p:nvPicPr>
        <p:blipFill>
          <a:blip r:embed="rId2"/>
          <a:stretch/>
        </p:blipFill>
        <p:spPr>
          <a:xfrm>
            <a:off x="2571840" y="785880"/>
            <a:ext cx="392904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2efcd"/>
                </a:solidFill>
                <a:latin typeface="Times New Roman"/>
                <a:ea typeface="Times New Roman"/>
              </a:rPr>
              <a:t>Моя семья 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75" name="Содержимое 3" descr="D:\Фотки\Фото\Ревгать встреча\P1040070.JPG"/>
          <p:cNvPicPr/>
          <p:nvPr/>
        </p:nvPicPr>
        <p:blipFill>
          <a:blip r:embed="rId1"/>
          <a:stretch/>
        </p:blipFill>
        <p:spPr>
          <a:xfrm>
            <a:off x="428760" y="1285920"/>
            <a:ext cx="800100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00040" y="21384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я бабушка Гизитдинова Минагоря Хафисовна и мой дедушка Гизитдинов Мингалим Мухаметдин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Рисунок 3" descr="D:\Фотки\Фото\семья гизитдиновых\свадьба 50 лет бабай и эби\DSCF0311.JPG"/>
          <p:cNvPicPr/>
          <p:nvPr/>
        </p:nvPicPr>
        <p:blipFill>
          <a:blip r:embed="rId1"/>
          <a:stretch/>
        </p:blipFill>
        <p:spPr>
          <a:xfrm>
            <a:off x="1143000" y="2071800"/>
            <a:ext cx="6357960" cy="435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07:49:01Z</dcterms:created>
  <dc:creator>Школа</dc:creator>
  <dc:description/>
  <dc:language>en-US</dc:language>
  <cp:lastModifiedBy>Admin_G</cp:lastModifiedBy>
  <dcterms:modified xsi:type="dcterms:W3CDTF">2019-12-03T14:07:45Z</dcterms:modified>
  <cp:revision>36</cp:revision>
  <dc:subject/>
  <dc:title>Муниципальное казённое общеобразовательное учреждение  «Владимировская средняя школа» Убинского района Новосибирской области  </dc:title>
</cp:coreProperties>
</file>