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762A-9810-4484-9391-A4DF3FA2D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62DD-152E-4AC1-8ADE-0505B83A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7B48-8E7C-49A9-B45B-40300D434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CCA6-53C3-4807-908A-03C6FDF6D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A71A-BA63-4BE6-875B-1319B1157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AC716-9BA8-4ABD-994B-9CA68BC0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58D6-C1FA-43DF-9563-D70FC735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E5DA-8F6C-4D0A-AA22-E6F6B648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6612-917E-480B-B3CA-B41F92C1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95F1-CE82-44AF-8D1E-FBF16FB1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CB35E-CA12-4F78-8F19-D34FFC8C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25A5-0D64-41F4-9BBE-790A9009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8E8C-984D-42C5-BB93-F3428BDB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8073-2985-4D72-8D62-2E3E9D9C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1CA8-B66A-46EC-9701-8F470BE5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E5E6-B321-40C8-B114-EB641C94A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740E-AD1D-4CB6-A0F7-8EF26BC41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C4C4-B14E-4941-9E47-09A515A4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1057-1CFE-483D-9BCE-254336D1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DD16-557A-42DC-8E70-F0436BC8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F652-2C34-4C3D-B61A-937FECF9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1671-A52E-48B9-99EF-ACB609E4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2964-2796-4EBB-A761-2A3875C6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C0C2-5FF9-40F2-80F9-68D1473E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547D-4906-45A4-9D0D-019924B6F68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02A6-CAC5-49BA-8309-3DDFA04FF9F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560"/>
            <a:ext cx="6781680" cy="364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66"/>
                </a:solidFill>
                <a:latin typeface="Arial"/>
              </a:rPr>
              <a:t>Модельный кодекс профессиональной этики педагогических работников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едагог не должен допускат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2280" y="96156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юбого вида высказываний и действий дискриминационного характера по признакам пола, расы, национальности, языка, гражданства, социального,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имущественного или семейного положен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политических или религиозных предпочтени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рубости, проявлений пренебрежительного тона, заносчивости, предвзятых замечаний, предъявления неправомерных, незаслуженных обвинени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гроз, оскорбительных выражений или реплик, действий, препятствующих нормальному общению или провоцирующих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тивоправное поведе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Рисунок 5" descr="C:\Documents and Settings\Kab2\Рабочий стол\i (3).jpg"/>
          <p:cNvPicPr/>
          <p:nvPr/>
        </p:nvPicPr>
        <p:blipFill>
          <a:blip r:embed="rId1"/>
          <a:stretch/>
        </p:blipFill>
        <p:spPr>
          <a:xfrm>
            <a:off x="7334280" y="5121360"/>
            <a:ext cx="166356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Этические правила педагогов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являть корректность, выдержку, такт и внимательность в обращении с участниками образовательных отношений, уважать их честь и достоинство, быть доступным для общения, открытым и доброжелательным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блюдать культуру реч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Этические правила педагогов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нешний вид должен способствовать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уважительному отношению к педагогическим работника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 организациям, осуществляющим образовательную деятельность, способствовать общепринятому деловому стилю, который отличает официальность, сдержанность, аккуратнос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тветственность за нарушение Кодекс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рушения рассматриваются на заседаниях коллегиальных органов управлен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блюдение этих норм может учитываться при проведении аттестации, при применении дисциплинарных взысканий в случае совершения работником аморального проступка, а также при поощрении работник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Нормативная баз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нституция Р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З от 29.12.2012г. № 273-ФЗ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Об образовании в РФ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каз Президента РФ от 7.05.2012г. № 597 «О мероприятиях по реализации государственной социальной политики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440" y="64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одекс - это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28760" y="14475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вод общих принципов профессиональной этики и основных правил поведения педагогических работнико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428760" y="342900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Профессиональная этик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это  свод принципов и правил поведения специалиста на рабочем мест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Цели кодекс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становление этических норм и правил поведения педагогических работников для выполнения ими профессионально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деятельност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действие укреплению авторитета педагогических работников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еспечение единых норм поведения педагогических работник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одекс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вышение эффективности выполнения пед.работниками своих трудовых обязанност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нова для формирования взаимоотношений в системе образования, основанных на нормах морали, уважительном отношении к пед.работника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6"/>
          <p:cNvSpPr/>
          <p:nvPr/>
        </p:nvSpPr>
        <p:spPr>
          <a:xfrm flipH="1">
            <a:off x="2666520" y="137160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7"/>
          <p:cNvSpPr/>
          <p:nvPr/>
        </p:nvSpPr>
        <p:spPr>
          <a:xfrm>
            <a:off x="5105520" y="12952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Этические правила педагогов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уществлять деятельность на высоком профессиональном уровн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блюдать правовые, нравственные, этические норм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важать честь и достоинство обучающихся и других участников образовательных отношени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вивать у воспитанников познавательную активность, самостоятельность, инициативу, творческие способности, формировать гражданскую позицию, способность к труду, формировать культуру здорового образа жизн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Этические правила педагогов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менять педагогически обоснованные и обеспечивающие высокое качество образования формы, методы обучения и воспитан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итывать особенности психо-физического развития воспитанников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ключать действия, связанные с влиянием каких-либо личных, финансовых и других интересов, препятствующих добросовестному выполнению обязанносте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Этические правила педагогов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54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являть корректность и внимательность к обучающимся и их родителям и коллегам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являть терпимость и уважение к обычаям и традициям народов России и других государст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здерживаться от поведения, которое могло бы вызвать сомнение в добросовестном исполнении педагогическим работником трудовых обязанностей, а также избегать конфликтных ситуаций, способных нанести ущерб его репутации или авторитету организаци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Этические правила педагогов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ыть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образцом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фессионализма, безупречной репутации, способствовать формированию благоприятного морально-психологического климата для эффективной работы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нимать меры по недопущению коррупционно опасного поведения пед.работников, своим примером подавать пример честности, беспристрастности и справедлив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Биология</cp:lastModifiedBy>
  <dcterms:modified xsi:type="dcterms:W3CDTF">2019-12-03T12:41:01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