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613-03BE-4E06-8728-A5135E05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DBB-72D8-4FAA-B06A-FB495D4B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E4E-B92E-49B7-BD4A-C46E8454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DAD-D53A-4FB9-8885-2E2DFEBD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934-AC0E-47FF-AA9E-83D86FBA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832-0987-4821-9D69-AE1AC0A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0EA-E10F-48AD-ADBE-0EF3292C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4721-1B7A-41A5-92C6-1910E0B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BB59-491A-4479-9A64-22534FA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8BD-7E7A-457B-A65C-E9FE63E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6808-B5FF-4657-9805-2B5D174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274-310F-4121-BC29-1C167FB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2940-8424-48F5-BA6F-EFDD1F2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5A06-958C-4A36-BF85-B400FD5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ECBB-4C85-4D21-8A35-E3C9ACE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1FFC-8BF1-491D-A112-215FB26F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50EF-CC90-45D5-B93E-6B74A20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F68-1760-482A-82D5-098E8E1E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E08-4E44-42B5-90F3-BAC8D37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6C9-4662-4E26-9A0E-BFDA075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D72-9374-417E-A72A-29194ABE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DCB-445D-4796-B3B5-F1F6AC0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3D4-3EE1-4D71-8F9F-06108417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5BA-9F5E-4CD1-B842-4CA6455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CF7-A9DB-4DED-9E66-FBA719A98E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B73-86D3-4D0D-AAD7-DD78353505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364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одельный кодекс профессиональной этики педагогических работни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дагог не должен допуска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96156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го вида высказываний и действий дискриминационного характера по признакам пола, расы, национальности, языка, гражданства, социального,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ущественного или семейного полож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итических или религиозных предпочт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бости, проявлений пренебрежительного тона, заносчивости, предвзятых замечаний, предъявления неправомерных, незаслуженных обвин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з, оскорбительных выражений или реплик, действий, препятствующих нормальному общению или провоцирующ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тивоправное повед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C:\Documents and Settings\Kab2\Рабочий стол\i (3).jpg"/>
          <p:cNvPicPr/>
          <p:nvPr/>
        </p:nvPicPr>
        <p:blipFill>
          <a:blip r:embed="rId1"/>
          <a:stretch/>
        </p:blipFill>
        <p:spPr>
          <a:xfrm>
            <a:off x="7334280" y="5121360"/>
            <a:ext cx="16635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являть корректность, выдержку, такт и внимательность в обращении с участниками образовательных отношений, уважать их честь и достоинство, быть доступным для общения, открытым и доброжелательны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людать культуру реч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шний вид должен способствова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важительному отношению к педагогическим работника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организациям, осуществляющим образовательную деятельность, способствовать общепринятому деловому стилю, который отличает официальность, сдержанность, аккурат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ственность за нарушение Кодек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ушения рассматриваются на заседаниях коллегиальных органов управ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людение этих норм может учитываться при проведении аттестации, при применении дисциплинарных взысканий в случае совершения работником аморального проступка, а также при поощрении работ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ормативная ба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ституция Р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З от 29.12.2012г. № 273-Ф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б образовании в РФ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каз Президента РФ от 7.05.2012г. № 597 «О мероприятиях по реализации государственной социальной полит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440" y="6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декс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од общих принципов профессиональной этики и основных правил поведения педагогических работник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28760" y="3429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офессиональная э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 свод принципов и правил поведения специалиста на рабочем мест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 кодек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этических норм и правил поведения педагогических работников для выполнения ими профессиональ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ея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йствие укреплению авторитета педагогических работн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спечение единых норм поведения педагогических работ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эффективности выполнения пед.работниками своих трудовых обязанно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а для формирования взаимоотношений в системе образования, основанных на нормах морали, уважительном отношении к пед.работник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2666520" y="13716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105520" y="1295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ять деятельность на высоком профессиональном уровн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блюдать правовые, нравственные, этические нор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важать честь и достоинство обучающихся и других участников образовательны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вать у воспитанников познавательную активность, самостоятельность, инициативу, творческие способности, формировать гражданскую позицию, способность к труду, формировать культуру здорового образа жиз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педагогически обоснованные и обеспечивающие высокое качество образования формы, методы обучения и воспит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ывать особенности психо-физического развития воспитанн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лючать действия, связанные с влиянием каких-либо личных, финансовых и других интересов, препятствующих добросовестному выполнению обязаннос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являть корректность и внимательность к обучающимся и их родителям и коллег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являть терпимость и уважение к обычаям и традициям народов России и других государ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держиваться от поведения, которое могло бы вызвать сомнение в добросовестном исполнении педагогическим работником трудовых обязанностей, а также избегать конфликтных ситуаций, способных нанести ущерб его репутации или авторитету организ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разцом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ессионализма, безупречной репутации, способствовать формированию благоприятного морально-психологического климата для эффективной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имать меры по недопущению коррупционно опасного поведения пед.работников, своим примером подавать пример честности, беспристрастности и справедлив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Биология</cp:lastModifiedBy>
  <dcterms:modified xsi:type="dcterms:W3CDTF">2019-12-03T12:41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