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1D3-2984-43C3-9B77-23B2AD090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6EA7-CF8D-4EC4-8AB0-8D82129F6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64B-C340-44A1-A309-7F4CD6A36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7A2-4ADC-4CA0-B8DB-F7570F0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47B-3A87-4CF6-907D-F556E00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437-5780-46BF-93FC-DC350CBD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8EE-1691-4E86-A42B-01D6DF55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3F0-1E1A-4293-947A-20F5A840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368-7DAF-4C0C-9774-24700E16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AF2-BB42-4CE5-9AC0-F331A3E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BB5-B18E-433E-9D6D-589FFA4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DC2-0333-473B-9CF5-975276F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C1E-FDA6-499D-A529-4E674138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632-5C28-49EE-8E7C-313A5CE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653-0FB3-49F9-AD4B-74975A1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0A5A-2810-4B1A-A7DF-84366DE7D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9.xm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" Target="slide8.xml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japa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2987640" y="0"/>
            <a:ext cx="338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1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7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ЯПО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7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dzen.mp3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24000" y="26028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По представлениям древних японцев, божества не имели зримого облика, а воплощались в саму природу и почитались как духи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КАМИ. Такое обожествление природы получило название СИНТО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ПУТЬ БОГОВ, став японской национальной рели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3860640"/>
            <a:ext cx="3851280" cy="2997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3"/>
          <p:cNvSpPr txBox="1"/>
          <p:nvPr/>
        </p:nvSpPr>
        <p:spPr>
          <a:xfrm>
            <a:off x="0" y="3860640"/>
            <a:ext cx="630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77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9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УТЬ БОГ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9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6">
            <a:hlinkClick r:id="rId2" action="ppaction://hlinksldjump"/>
          </p:cNvPr>
          <p:cNvSpPr/>
          <p:nvPr/>
        </p:nvSpPr>
        <p:spPr>
          <a:xfrm>
            <a:off x="5508720" y="1916280"/>
            <a:ext cx="3635280" cy="4941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КУЛЬТУРА ЯПОН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50920" y="1844640"/>
            <a:ext cx="4537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Японская культура отражает стремление человека к гармонии с окружающим миром, умение видеть красоту в большом и  малом и искренне восхищаться е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724360" y="1844640"/>
            <a:ext cx="3419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КИМ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ТЕАТР КАБ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И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Ц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КЭБ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НС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АЙНАЯ ЦЕРЕ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k21"/>
          <p:cNvPicPr/>
          <p:nvPr/>
        </p:nvPicPr>
        <p:blipFill>
          <a:blip r:embed="rId2"/>
          <a:stretch/>
        </p:blipFill>
        <p:spPr>
          <a:xfrm>
            <a:off x="539640" y="260280"/>
            <a:ext cx="3313080" cy="511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k01"/>
          <p:cNvPicPr/>
          <p:nvPr/>
        </p:nvPicPr>
        <p:blipFill>
          <a:blip r:embed="rId3"/>
          <a:stretch/>
        </p:blipFill>
        <p:spPr>
          <a:xfrm>
            <a:off x="5148360" y="1989000"/>
            <a:ext cx="3278160" cy="4608720"/>
          </a:xfrm>
          <a:prstGeom prst="rect">
            <a:avLst/>
          </a:prstGeom>
          <a:ln w="0">
            <a:noFill/>
          </a:ln>
        </p:spPr>
      </p:pic>
      <p:sp>
        <p:nvSpPr>
          <p:cNvPr id="130" name="Line 31"/>
          <p:cNvSpPr/>
          <p:nvPr/>
        </p:nvSpPr>
        <p:spPr>
          <a:xfrm>
            <a:off x="3276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3"/>
          <p:cNvSpPr/>
          <p:nvPr/>
        </p:nvSpPr>
        <p:spPr>
          <a:xfrm>
            <a:off x="3276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250920" y="5445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ИМОН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национальная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4859280" y="260280"/>
            <a:ext cx="388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АТР КАБ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никальность театра в том, что все роли исполняют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06"/>
          <p:cNvPicPr/>
          <p:nvPr/>
        </p:nvPicPr>
        <p:blipFill>
          <a:blip r:embed="rId2"/>
          <a:stretch/>
        </p:blipFill>
        <p:spPr>
          <a:xfrm>
            <a:off x="468360" y="260280"/>
            <a:ext cx="345600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b08"/>
          <p:cNvPicPr/>
          <p:nvPr/>
        </p:nvPicPr>
        <p:blipFill>
          <a:blip r:embed="rId3"/>
          <a:stretch/>
        </p:blipFill>
        <p:spPr>
          <a:xfrm>
            <a:off x="4932360" y="333360"/>
            <a:ext cx="3743280" cy="324000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0" y="4221000"/>
            <a:ext cx="4859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КЭБА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традиционное искусство аранжировки цв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ВЕТЫ, КОТОРЫЕ ЖИВУТ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59280" y="3573360"/>
            <a:ext cx="428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НСА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скусство выращивания миниатюрных деревьев. Мастера могут создать  в плошках образ тысячелетнего дерева, сформировать любой пейз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888840" y="70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 rot="5400000">
            <a:off x="-2197440" y="270828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>
                    <a:alpha val="98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ИОТ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>
                  <a:alpha val="98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763640" y="4653000"/>
            <a:ext cx="73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ЯЯ СТОЛИЦА ИМПЕРАТОРСКОЙ ЯПОНИИ.ЛЮБАЯ ПРОГУЛКА ПО КИОТО НАЧИНАЕТСЯ С ХРАМА И ЗАКАНЧИВАЕТСЯ ХРА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 rot="5400000">
            <a:off x="-2196720" y="2780640"/>
            <a:ext cx="626436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ОКИ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1619280" y="3645000"/>
            <a:ext cx="75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, ГДЕ ВОСТОК И ЗАПАД, СТАРОЕ И НОВОЕ СМЕШИВАЮТСЯ САМЫМ ГАРМОНИЧНЫМ ОБРАЗОМ, А СТАРИННЫЕ ПОСТРОЙКИ СОСЕДСТВУЮТ С СОВРЕМЕННЫМИ НЕБОСКРЕБАМИ В ЗАПАДНОМ СТ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50920" y="260280"/>
            <a:ext cx="889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aba12"/>
                </a:solidFill>
                <a:latin typeface="Arial"/>
              </a:rPr>
              <a:t>ЯПОНИ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АК ИКЭБАНА,  КАЖДАЯ ИЗ ЕЕ ОСОБЕННОСТЕЙ ИНДИВИДУАЛЬНА, НО ВМЕСТЕ ИЗ НИХ ПОЛУЧАЕТСЯ УНИКАЛЬНЫЙ НЕЗАБЫВАЕМЫЙ БУК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 rot="21439800">
            <a:off x="0" y="3212640"/>
            <a:ext cx="112330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3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90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О ВСТРЕЧИ В ЯПОНИ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0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8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52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539640" y="76500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fuji4_1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5"/>
          <p:cNvSpPr/>
          <p:nvPr/>
        </p:nvSpPr>
        <p:spPr>
          <a:xfrm>
            <a:off x="324000" y="5229360"/>
            <a:ext cx="849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ЧЕСКИЕ МАТЕРИАЛЫ по теме: «ЯПО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КОНОМИЧЕСКАЯ И СОЦИАЛЬНАЯ ГЕОГРАФИЯ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у выполнила ЗИНОВЬЕВА Л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13"/>
          <p:cNvSpPr txBox="1"/>
          <p:nvPr/>
        </p:nvSpPr>
        <p:spPr>
          <a:xfrm>
            <a:off x="324000" y="76500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52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ГЛАШЕНИЕ К ПУТЕШЕСТВИЮ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16"/>
          <p:cNvSpPr/>
          <p:nvPr/>
        </p:nvSpPr>
        <p:spPr>
          <a:xfrm flipH="1">
            <a:off x="434880" y="2924280"/>
            <a:ext cx="838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 flipH="1">
            <a:off x="541440" y="2565360"/>
            <a:ext cx="81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 flipH="1">
            <a:off x="826920" y="2637000"/>
            <a:ext cx="95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истая национальный 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 flipH="1">
            <a:off x="250920" y="364500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тешествие в Японию будет для Вас одновременно путешествием и в будущее и в прошлое. И дело не только в ее богатой и древней истории и  культуре: сама по себе Япония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это огромный музей. Здесь храмы соседствуют с небоскребами и не нарушая общей гармонии, составляют единое це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184560" y="4152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1743120" y="-284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1"/>
          <p:cNvSpPr/>
          <p:nvPr/>
        </p:nvSpPr>
        <p:spPr>
          <a:xfrm>
            <a:off x="324000" y="2276640"/>
            <a:ext cx="8569080" cy="458136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181080" y="0"/>
            <a:ext cx="89629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РАНИЧКИ НАЦИОНАЛЬНОГО АЛЬБОМА</a:t>
            </a:r>
            <a:endParaRPr b="1" lang="en-US" sz="32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4000" y="2276640"/>
            <a:ext cx="813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ИЗИТНАЯ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КНО В ПРИР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УТЬ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УЛЬТУРА ЯП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ЛИЦЫ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КИОТ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ТОК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468000" cy="711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apanflag"/>
          <p:cNvPicPr/>
          <p:nvPr/>
        </p:nvPicPr>
        <p:blipFill>
          <a:blip r:embed="rId2"/>
          <a:stretch/>
        </p:blipFill>
        <p:spPr>
          <a:xfrm>
            <a:off x="0" y="26028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2009880" y="333360"/>
            <a:ext cx="6883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ЗИТНАЯ КАРТ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25" descr="japan2a.JPG (34660 bytes)"/>
          <p:cNvPicPr/>
          <p:nvPr/>
        </p:nvPicPr>
        <p:blipFill>
          <a:blip r:embed="rId3"/>
          <a:srcRect l="0" t="0" r="-157" b="43"/>
          <a:stretch/>
        </p:blipFill>
        <p:spPr>
          <a:xfrm>
            <a:off x="4932360" y="1700280"/>
            <a:ext cx="453564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9"/>
          <p:cNvSpPr/>
          <p:nvPr/>
        </p:nvSpPr>
        <p:spPr>
          <a:xfrm flipH="1">
            <a:off x="395280" y="1844640"/>
            <a:ext cx="3976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 flipH="1">
            <a:off x="754920" y="2133720"/>
            <a:ext cx="35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0" y="2060640"/>
            <a:ext cx="48592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лощадь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77 тыс. кв.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аселение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125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олица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ТОКИ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 flipH="1">
            <a:off x="93600" y="1989000"/>
            <a:ext cx="4408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 flipH="1">
            <a:off x="92160" y="1916280"/>
            <a:ext cx="426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4335480" y="2136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-3240" y="2338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6"/>
          <p:cNvSpPr/>
          <p:nvPr/>
        </p:nvSpPr>
        <p:spPr>
          <a:xfrm flipV="1">
            <a:off x="-91800" y="2601720"/>
            <a:ext cx="495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9"/>
          <p:cNvSpPr/>
          <p:nvPr/>
        </p:nvSpPr>
        <p:spPr>
          <a:xfrm flipH="1">
            <a:off x="251640" y="2565360"/>
            <a:ext cx="446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>
            <a:off x="0" y="260280"/>
            <a:ext cx="7308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99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КНО В ПРИРОД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99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03280" y="34290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авное у японцев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чувство прекрасного, умение создавать и тонко  понимать красоту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003640" y="5877000"/>
            <a:ext cx="3853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ФОТОВЕРНИС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0" descr="matsuo_1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0"/>
            <a:ext cx="291636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-1476360" y="258840"/>
          <a:ext cx="208080" cy="2086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7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8" descr="1"/>
          <p:cNvPicPr/>
          <p:nvPr/>
        </p:nvPicPr>
        <p:blipFill>
          <a:blip r:embed="rId2"/>
          <a:stretch/>
        </p:blipFill>
        <p:spPr>
          <a:xfrm>
            <a:off x="5867280" y="515772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15843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3"/>
          <p:cNvPicPr/>
          <p:nvPr/>
        </p:nvPicPr>
        <p:blipFill>
          <a:blip r:embed="rId5"/>
          <a:stretch/>
        </p:blipFill>
        <p:spPr>
          <a:xfrm>
            <a:off x="7596360" y="26028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4"/>
          <p:cNvPicPr/>
          <p:nvPr/>
        </p:nvPicPr>
        <p:blipFill>
          <a:blip r:embed="rId6"/>
          <a:stretch/>
        </p:blipFill>
        <p:spPr>
          <a:xfrm>
            <a:off x="7596360" y="350028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940360" y="184464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8"/>
          <p:cNvPicPr/>
          <p:nvPr/>
        </p:nvPicPr>
        <p:blipFill>
          <a:blip r:embed="rId9"/>
          <a:stretch/>
        </p:blipFill>
        <p:spPr>
          <a:xfrm>
            <a:off x="5867280" y="3500280"/>
            <a:ext cx="158436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596360" y="1844640"/>
            <a:ext cx="154764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7" descr="11"/>
          <p:cNvPicPr/>
          <p:nvPr/>
        </p:nvPicPr>
        <p:blipFill>
          <a:blip r:embed="rId12"/>
          <a:stretch/>
        </p:blipFill>
        <p:spPr>
          <a:xfrm>
            <a:off x="7596360" y="515772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6" descr="fuji3_1024"/>
          <p:cNvPicPr/>
          <p:nvPr/>
        </p:nvPicPr>
        <p:blipFill>
          <a:blip r:embed="rId13"/>
          <a:stretch/>
        </p:blipFill>
        <p:spPr>
          <a:xfrm>
            <a:off x="250920" y="260280"/>
            <a:ext cx="5184720" cy="403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65"/>
          <p:cNvSpPr/>
          <p:nvPr/>
        </p:nvSpPr>
        <p:spPr>
          <a:xfrm>
            <a:off x="-849240" y="4513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1" descr="s22"/>
          <p:cNvPicPr/>
          <p:nvPr/>
        </p:nvPicPr>
        <p:blipFill>
          <a:blip r:embed="rId14"/>
          <a:stretch/>
        </p:blipFill>
        <p:spPr>
          <a:xfrm>
            <a:off x="2627280" y="2708280"/>
            <a:ext cx="3000240" cy="360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72"/>
          <p:cNvSpPr/>
          <p:nvPr/>
        </p:nvSpPr>
        <p:spPr>
          <a:xfrm>
            <a:off x="324000" y="436572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ДЗИЯ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5"/>
          <p:cNvSpPr/>
          <p:nvPr/>
        </p:nvSpPr>
        <p:spPr>
          <a:xfrm>
            <a:off x="3059280" y="630864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дп. СИРАИ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6:21Z</dcterms:created>
  <dc:creator>user</dc:creator>
  <dc:description/>
  <dc:language>en-US</dc:language>
  <cp:lastModifiedBy>Коля</cp:lastModifiedBy>
  <dcterms:modified xsi:type="dcterms:W3CDTF">2013-06-30T16:58:37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e000000000001023620</vt:lpwstr>
  </property>
</Properties>
</file>