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26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3B1E-2156-4542-A27C-3BDC0C0BE2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F1A1-A6B7-40EF-85E6-F065988EE2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0104-8E25-4493-92E6-68F336ECF6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BAD4-86CD-4607-AE6B-EAC9CAD36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FC77-7E4A-410B-A837-AA09698A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C7E9-2083-4CA9-93B4-7CD7F621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029E-E779-4648-9504-1BFF5F383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D194-CF56-4AB1-AFF2-3DD7659E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FBD0-6753-4951-B737-B6E97F84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F758-5109-48EA-B102-EE64C67D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8829-CB80-4F6E-AFBF-0C2B2C74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F31A-235F-426E-9BD3-760EF7B2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272C-CF6D-4506-A271-D655B127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D94C-5691-4649-BEAA-B248AB7F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A3E1-D505-4ED1-9A69-1DD2FC24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A93F-496A-463E-A4A9-CB48143DDF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4.xml"/><Relationship Id="rId7" Type="http://schemas.openxmlformats.org/officeDocument/2006/relationships/slide" Target="slide15.xm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6.xml"/><Relationship Id="rId3" Type="http://schemas.openxmlformats.org/officeDocument/2006/relationships/slide" Target="slide3.xm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" Target="slide7.xm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" Target="slide9.xml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" Target="slide8.xml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6.xm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6.xm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6.xm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japan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WordArt 9"/>
          <p:cNvSpPr txBox="1"/>
          <p:nvPr/>
        </p:nvSpPr>
        <p:spPr>
          <a:xfrm>
            <a:off x="2987640" y="0"/>
            <a:ext cx="338472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115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87000"/>
                  </a:srgbClr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ЯПО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87000"/>
                </a:srgbClr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2" name="dzen.mp3" descr=""/>
          <p:cNvPicPr/>
          <p:nvPr/>
        </p:nvPicPr>
        <p:blipFill>
          <a:blip r:embed="rId2"/>
          <a:stretch/>
        </p:blipFill>
        <p:spPr>
          <a:xfrm>
            <a:off x="824400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b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324000" y="260280"/>
            <a:ext cx="8820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urier New"/>
              </a:rPr>
              <a:t>По представлениям древних японцев, божества не имели зримого облика, а воплощались в саму природу и почитались как духи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 – </a:t>
            </a:r>
            <a:r>
              <a:rPr b="1" i="1" lang="ru-RU" sz="3200" spc="-1" strike="noStrike">
                <a:solidFill>
                  <a:srgbClr val="000000"/>
                </a:solidFill>
                <a:latin typeface="Courier New"/>
              </a:rPr>
              <a:t>КАМИ. Такое обожествление природы получило название СИНТО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 – </a:t>
            </a:r>
            <a:r>
              <a:rPr b="1" i="1" lang="ru-RU" sz="3200" spc="-1" strike="noStrike">
                <a:solidFill>
                  <a:srgbClr val="000000"/>
                </a:solidFill>
                <a:latin typeface="Courier New"/>
              </a:rPr>
              <a:t>ПУТЬ БОГОВ, став японской национальной религ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2" descr="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92720" y="3860640"/>
            <a:ext cx="3851280" cy="2997360"/>
          </a:xfrm>
          <a:prstGeom prst="rect">
            <a:avLst/>
          </a:prstGeom>
          <a:ln w="0">
            <a:noFill/>
          </a:ln>
        </p:spPr>
      </p:pic>
      <p:sp>
        <p:nvSpPr>
          <p:cNvPr id="117" name="WordArt 13"/>
          <p:cNvSpPr txBox="1"/>
          <p:nvPr/>
        </p:nvSpPr>
        <p:spPr>
          <a:xfrm>
            <a:off x="0" y="3860640"/>
            <a:ext cx="630072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177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>
                    <a:alpha val="92000"/>
                  </a:srgbClr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ПУТЬ БОГ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>
                  <a:alpha val="92000"/>
                </a:srgbClr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d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0" descr="b05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6">
            <a:hlinkClick r:id="rId2" action="ppaction://hlinksldjump"/>
          </p:cNvPr>
          <p:cNvSpPr/>
          <p:nvPr/>
        </p:nvSpPr>
        <p:spPr>
          <a:xfrm>
            <a:off x="5508720" y="1916280"/>
            <a:ext cx="3635280" cy="4941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14"/>
          <p:cNvSpPr txBox="1"/>
          <p:nvPr/>
        </p:nvSpPr>
        <p:spPr>
          <a:xfrm>
            <a:off x="0" y="0"/>
            <a:ext cx="914400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399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КУЛЬТУРА ЯПОНИ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3399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250920" y="1844640"/>
            <a:ext cx="453708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Японская культура отражает стремление человека к гармонии с окружающим миром, умение видеть красоту в большом и  малом и искренне восхищаться е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5724360" y="1844640"/>
            <a:ext cx="341964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КИМО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ТЕАТР КАБ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РИГ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ЕЦ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КЭБ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ОНС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ЧАЙНАЯ ЦЕРЕМО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77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770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b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k21"/>
          <p:cNvPicPr/>
          <p:nvPr/>
        </p:nvPicPr>
        <p:blipFill>
          <a:blip r:embed="rId2"/>
          <a:stretch/>
        </p:blipFill>
        <p:spPr>
          <a:xfrm>
            <a:off x="539640" y="260280"/>
            <a:ext cx="3313080" cy="5113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k01"/>
          <p:cNvPicPr/>
          <p:nvPr/>
        </p:nvPicPr>
        <p:blipFill>
          <a:blip r:embed="rId3"/>
          <a:stretch/>
        </p:blipFill>
        <p:spPr>
          <a:xfrm>
            <a:off x="5148360" y="1989000"/>
            <a:ext cx="3278160" cy="4608720"/>
          </a:xfrm>
          <a:prstGeom prst="rect">
            <a:avLst/>
          </a:prstGeom>
          <a:ln w="0">
            <a:noFill/>
          </a:ln>
        </p:spPr>
      </p:pic>
      <p:sp>
        <p:nvSpPr>
          <p:cNvPr id="130" name="Line 31"/>
          <p:cNvSpPr/>
          <p:nvPr/>
        </p:nvSpPr>
        <p:spPr>
          <a:xfrm>
            <a:off x="3276720" y="414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3"/>
          <p:cNvSpPr/>
          <p:nvPr/>
        </p:nvSpPr>
        <p:spPr>
          <a:xfrm>
            <a:off x="3276720" y="414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5"/>
          <p:cNvSpPr/>
          <p:nvPr/>
        </p:nvSpPr>
        <p:spPr>
          <a:xfrm>
            <a:off x="4427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6"/>
          <p:cNvSpPr/>
          <p:nvPr/>
        </p:nvSpPr>
        <p:spPr>
          <a:xfrm>
            <a:off x="250920" y="5445000"/>
            <a:ext cx="42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ИМОНО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национальная одеж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7"/>
          <p:cNvSpPr/>
          <p:nvPr/>
        </p:nvSpPr>
        <p:spPr>
          <a:xfrm>
            <a:off x="4859280" y="260280"/>
            <a:ext cx="3888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АТР КАБУ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Уникальность театра в том, что все роли исполняют мужч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b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i06"/>
          <p:cNvPicPr/>
          <p:nvPr/>
        </p:nvPicPr>
        <p:blipFill>
          <a:blip r:embed="rId2"/>
          <a:stretch/>
        </p:blipFill>
        <p:spPr>
          <a:xfrm>
            <a:off x="468360" y="260280"/>
            <a:ext cx="3456000" cy="3889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b08"/>
          <p:cNvPicPr/>
          <p:nvPr/>
        </p:nvPicPr>
        <p:blipFill>
          <a:blip r:embed="rId3"/>
          <a:stretch/>
        </p:blipFill>
        <p:spPr>
          <a:xfrm>
            <a:off x="4932360" y="333360"/>
            <a:ext cx="3743280" cy="3240000"/>
          </a:xfrm>
          <a:prstGeom prst="rect">
            <a:avLst/>
          </a:prstGeom>
          <a:ln w="0">
            <a:noFill/>
          </a:ln>
        </p:spPr>
      </p:pic>
      <p:sp>
        <p:nvSpPr>
          <p:cNvPr id="139" name="Line 9"/>
          <p:cNvSpPr/>
          <p:nvPr/>
        </p:nvSpPr>
        <p:spPr>
          <a:xfrm>
            <a:off x="4500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0" y="4221000"/>
            <a:ext cx="485928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КЭБАН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традиционное искусство аранжировки цве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ВЕТЫ, КОТОРЫЕ ЖИВУТ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4859280" y="3573360"/>
            <a:ext cx="428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ОНСАЙ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скусство выращивания миниатюрных деревьев. Мастера могут создать  в плошках образ тысячелетнего дерева, сформировать любой пейза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b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888840" y="70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5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WordArt 6"/>
          <p:cNvSpPr txBox="1"/>
          <p:nvPr/>
        </p:nvSpPr>
        <p:spPr>
          <a:xfrm rot="5400000">
            <a:off x="-2197440" y="2708280"/>
            <a:ext cx="6264360" cy="136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>
                    <a:alpha val="98000"/>
                  </a:srgbClr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ИОТО</a:t>
            </a:r>
            <a:endParaRPr b="1" i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>
                  <a:alpha val="98000"/>
                </a:srgbClr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1763640" y="4653000"/>
            <a:ext cx="73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РЕВНЯЯ СТОЛИЦА ИМПЕРАТОРСКОЙ ЯПОНИИ.ЛЮБАЯ ПРОГУЛКА ПО КИОТО НАЧИНАЕТСЯ С ХРАМА И ЗАКАНЧИВАЕТСЯ ХРАМ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600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b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1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WordArt 7"/>
          <p:cNvSpPr txBox="1"/>
          <p:nvPr/>
        </p:nvSpPr>
        <p:spPr>
          <a:xfrm rot="5400000">
            <a:off x="-2196720" y="2780640"/>
            <a:ext cx="6264360" cy="122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ТОКИО</a:t>
            </a:r>
            <a:endParaRPr b="1" i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1619280" y="3645000"/>
            <a:ext cx="752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ОРОД, ГДЕ ВОСТОК И ЗАПАД, СТАРОЕ И НОВОЕ СМЕШИВАЮТСЯ САМЫМ ГАРМОНИЧНЫМ ОБРАЗОМ, А СТАРИННЫЕ ПОСТРОЙКИ СОСЕДСТВУЮТ С СОВРЕМЕННЫМИ НЕБОСКРЕБАМИ В ЗАПАДНОМ СТИ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000"/>
                            </p:stCondLst>
                            <p:childTnLst>
                              <p:par>
                                <p:cTn id="35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000"/>
                            </p:stCondLst>
                            <p:childTnLst>
                              <p:par>
                                <p:cTn id="3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6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b05"/>
          <p:cNvPicPr/>
          <p:nvPr/>
        </p:nvPicPr>
        <p:blipFill>
          <a:blip r:embed="rId1"/>
          <a:stretch/>
        </p:blipFill>
        <p:spPr>
          <a:xfrm>
            <a:off x="0" y="0"/>
            <a:ext cx="9144000" cy="7262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7"/>
          <p:cNvSpPr/>
          <p:nvPr/>
        </p:nvSpPr>
        <p:spPr>
          <a:xfrm>
            <a:off x="250920" y="260280"/>
            <a:ext cx="88930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aba12"/>
                </a:solidFill>
                <a:latin typeface="Arial"/>
              </a:rPr>
              <a:t>ЯПОНИЯ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КАК ИКЭБАНА,  КАЖДАЯ ИЗ ЕЕ ОСОБЕННОСТЕЙ ИНДИВИДУАЛЬНА, НО ВМЕСТЕ ИЗ НИХ ПОЛУЧАЕТСЯ УНИКАЛЬНЫЙ НЕЗАБЫВАЕМЫЙ БУК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WordArt 12"/>
          <p:cNvSpPr txBox="1"/>
          <p:nvPr/>
        </p:nvSpPr>
        <p:spPr>
          <a:xfrm rot="21439800">
            <a:off x="0" y="3212640"/>
            <a:ext cx="11233080" cy="245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537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>
                    <a:alpha val="90000"/>
                  </a:srgbClr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ДО ВСТРЕЧИ В ЯПОНИИ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>
                  <a:alpha val="90000"/>
                </a:srgbClr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d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68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7152"/>
                            </p:stCondLst>
                            <p:childTnLst>
                              <p:par>
                                <p:cTn id="3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b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7"/>
          <p:cNvSpPr/>
          <p:nvPr/>
        </p:nvSpPr>
        <p:spPr>
          <a:xfrm>
            <a:off x="539640" y="76500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2" descr="fuji4_102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5"/>
          <p:cNvSpPr/>
          <p:nvPr/>
        </p:nvSpPr>
        <p:spPr>
          <a:xfrm>
            <a:off x="324000" y="5229360"/>
            <a:ext cx="849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ТОДИЧЕСКИЕ МАТЕРИАЛЫ по теме: «ЯПО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ЭКОНОМИЧЕСКАЯ И СОЦИАЛЬНАЯ ГЕОГРАФИЯ 10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боту выполнила ЗИНОВЬЕВА Л.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b05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56" name="WordArt 13"/>
          <p:cNvSpPr txBox="1"/>
          <p:nvPr/>
        </p:nvSpPr>
        <p:spPr>
          <a:xfrm>
            <a:off x="324000" y="765000"/>
            <a:ext cx="84247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527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33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ГЛАШЕНИЕ К ПУТЕШЕСТВИЮ</a:t>
            </a:r>
            <a:endParaRPr b="1" lang="en-US" sz="1800" spc="1" strike="noStrike">
              <a:ln w="12600">
                <a:solidFill>
                  <a:srgbClr val="333333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Text Box 16"/>
          <p:cNvSpPr/>
          <p:nvPr/>
        </p:nvSpPr>
        <p:spPr>
          <a:xfrm flipH="1">
            <a:off x="434880" y="2924280"/>
            <a:ext cx="8385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 flipH="1">
            <a:off x="541440" y="2565360"/>
            <a:ext cx="813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9"/>
          <p:cNvSpPr/>
          <p:nvPr/>
        </p:nvSpPr>
        <p:spPr>
          <a:xfrm flipH="1">
            <a:off x="826920" y="2637000"/>
            <a:ext cx="950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Листая национальный альб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 flipH="1">
            <a:off x="250920" y="3645000"/>
            <a:ext cx="8642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утешествие в Японию будет для Вас одновременно путешествием и в будущее и в прошлое. И дело не только в ее богатой и древней истории и  культуре: сама по себе Япония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это огромный музей. Здесь храмы соседствуют с небоскребами и не нарушая общей гармонии, составляют единое цел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4"/>
          <p:cNvSpPr/>
          <p:nvPr/>
        </p:nvSpPr>
        <p:spPr>
          <a:xfrm>
            <a:off x="3184560" y="41529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7"/>
          <p:cNvSpPr/>
          <p:nvPr/>
        </p:nvSpPr>
        <p:spPr>
          <a:xfrm>
            <a:off x="1743120" y="-2840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b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21"/>
          <p:cNvSpPr/>
          <p:nvPr/>
        </p:nvSpPr>
        <p:spPr>
          <a:xfrm>
            <a:off x="324000" y="2276640"/>
            <a:ext cx="8569080" cy="4581360"/>
          </a:xfrm>
          <a:prstGeom prst="foldedCorner">
            <a:avLst>
              <a:gd name="adj" fmla="val 125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17"/>
          <p:cNvSpPr txBox="1"/>
          <p:nvPr/>
        </p:nvSpPr>
        <p:spPr>
          <a:xfrm>
            <a:off x="181080" y="0"/>
            <a:ext cx="8962920" cy="25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ТРАНИЧКИ НАЦИОНАЛЬНОГО АЛЬБОМА</a:t>
            </a:r>
            <a:endParaRPr b="1" lang="en-US" sz="3200" spc="1" strike="noStrike">
              <a:ln w="9360">
                <a:solidFill>
                  <a:srgbClr val="339966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324000" y="2276640"/>
            <a:ext cx="81356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ВИЗИТНАЯ КАРТОЧ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ОКНО В ПРИР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ПУТЬ БОГ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КУЛЬТУРА ЯПО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ОЛИЦЫ:</a:t>
            </a: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 КИОТ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ТОКИ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7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70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b05"/>
          <p:cNvPicPr/>
          <p:nvPr/>
        </p:nvPicPr>
        <p:blipFill>
          <a:blip r:embed="rId1"/>
          <a:stretch/>
        </p:blipFill>
        <p:spPr>
          <a:xfrm>
            <a:off x="0" y="0"/>
            <a:ext cx="9468000" cy="7118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japanflag"/>
          <p:cNvPicPr/>
          <p:nvPr/>
        </p:nvPicPr>
        <p:blipFill>
          <a:blip r:embed="rId2"/>
          <a:stretch/>
        </p:blipFill>
        <p:spPr>
          <a:xfrm>
            <a:off x="0" y="260280"/>
            <a:ext cx="1876320" cy="1409760"/>
          </a:xfrm>
          <a:prstGeom prst="rect">
            <a:avLst/>
          </a:prstGeom>
          <a:ln w="0">
            <a:noFill/>
          </a:ln>
        </p:spPr>
      </p:pic>
      <p:sp>
        <p:nvSpPr>
          <p:cNvPr id="71" name="WordArt 7"/>
          <p:cNvSpPr txBox="1"/>
          <p:nvPr/>
        </p:nvSpPr>
        <p:spPr>
          <a:xfrm>
            <a:off x="2009880" y="333360"/>
            <a:ext cx="68832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ВИЗИТНАЯ КАРТОЧ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2" name="Picture 25" descr="japan2a.JPG (34660 bytes)"/>
          <p:cNvPicPr/>
          <p:nvPr/>
        </p:nvPicPr>
        <p:blipFill>
          <a:blip r:embed="rId3"/>
          <a:srcRect l="0" t="0" r="-157" b="43"/>
          <a:stretch/>
        </p:blipFill>
        <p:spPr>
          <a:xfrm>
            <a:off x="4932360" y="1700280"/>
            <a:ext cx="4535640" cy="5400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29"/>
          <p:cNvSpPr/>
          <p:nvPr/>
        </p:nvSpPr>
        <p:spPr>
          <a:xfrm flipH="1">
            <a:off x="395280" y="1844640"/>
            <a:ext cx="3976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1"/>
          <p:cNvSpPr/>
          <p:nvPr/>
        </p:nvSpPr>
        <p:spPr>
          <a:xfrm flipH="1">
            <a:off x="754920" y="2133720"/>
            <a:ext cx="3529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2"/>
          <p:cNvSpPr/>
          <p:nvPr/>
        </p:nvSpPr>
        <p:spPr>
          <a:xfrm>
            <a:off x="0" y="2060640"/>
            <a:ext cx="4859280" cy="42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Площадь 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377 тыс. кв. к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Население 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125 млн.че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Столица 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 Black"/>
                <a:hlinkClick r:id="rId4" action="ppaction://hlinksldjump"/>
              </a:rPr>
              <a:t>ТОКИ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3"/>
          <p:cNvSpPr/>
          <p:nvPr/>
        </p:nvSpPr>
        <p:spPr>
          <a:xfrm flipH="1">
            <a:off x="93600" y="1989000"/>
            <a:ext cx="4408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4"/>
          <p:cNvSpPr/>
          <p:nvPr/>
        </p:nvSpPr>
        <p:spPr>
          <a:xfrm flipH="1">
            <a:off x="92160" y="1916280"/>
            <a:ext cx="4263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7"/>
          <p:cNvSpPr/>
          <p:nvPr/>
        </p:nvSpPr>
        <p:spPr>
          <a:xfrm>
            <a:off x="4335480" y="21366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8"/>
          <p:cNvSpPr/>
          <p:nvPr/>
        </p:nvSpPr>
        <p:spPr>
          <a:xfrm>
            <a:off x="-3240" y="23385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6"/>
          <p:cNvSpPr/>
          <p:nvPr/>
        </p:nvSpPr>
        <p:spPr>
          <a:xfrm flipV="1">
            <a:off x="-91800" y="2601720"/>
            <a:ext cx="4951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9"/>
          <p:cNvSpPr/>
          <p:nvPr/>
        </p:nvSpPr>
        <p:spPr>
          <a:xfrm flipH="1">
            <a:off x="251640" y="2565360"/>
            <a:ext cx="4465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7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70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000"/>
                            </p:stCondLst>
                            <p:childTnLst>
                              <p:par>
                                <p:cTn id="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WordArt 8"/>
          <p:cNvSpPr txBox="1"/>
          <p:nvPr/>
        </p:nvSpPr>
        <p:spPr>
          <a:xfrm>
            <a:off x="0" y="260280"/>
            <a:ext cx="730872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452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>
                    <a:alpha val="99000"/>
                  </a:srgbClr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ОКНО В ПРИРОД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>
                  <a:alpha val="99000"/>
                </a:srgbClr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403280" y="3429000"/>
            <a:ext cx="77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Главное у японцев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 чувство прекрасного, умение создавать и тонко  понимать красоту приро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5003640" y="5877000"/>
            <a:ext cx="3853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 Black"/>
                <a:hlinkClick r:id="rId2" action="ppaction://hlinksldjump"/>
              </a:rPr>
              <a:t>ФОТОВЕРНИСА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0" descr="matsuo_102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227640" y="0"/>
            <a:ext cx="2916360" cy="2997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b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-1476360" y="258840"/>
          <a:ext cx="208080" cy="208645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70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2244"/>
                          </a:solidFill>
                          <a:latin typeface="Verdana"/>
                        </a:rPr>
                        <a:t>  </a:t>
                      </a:r>
                      <a:r>
                        <a:rPr b="0" lang="ru-RU" sz="6000" spc="-1" strike="noStrike">
                          <a:solidFill>
                            <a:srgbClr val="002244"/>
                          </a:solidFill>
                          <a:latin typeface="Verdana"/>
                        </a:rPr>
                        <a:t> </a:t>
                      </a:r>
                      <a:r>
                        <a:rPr b="0" lang="ru-RU" sz="900" spc="-1" strike="noStrike">
                          <a:solidFill>
                            <a:srgbClr val="002244"/>
                          </a:solidFill>
                          <a:latin typeface="Verdana"/>
                        </a:rPr>
                        <a:t>                       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2244"/>
                          </a:solidFill>
                          <a:latin typeface="Verdana"/>
                        </a:rPr>
                        <a:t>  </a:t>
                      </a:r>
                      <a:r>
                        <a:rPr b="0" lang="ru-RU" sz="6000" spc="-1" strike="noStrike">
                          <a:solidFill>
                            <a:srgbClr val="002244"/>
                          </a:solidFill>
                          <a:latin typeface="Verdana"/>
                        </a:rPr>
                        <a:t> </a:t>
                      </a:r>
                      <a:r>
                        <a:rPr b="0" lang="ru-RU" sz="900" spc="-1" strike="noStrike">
                          <a:solidFill>
                            <a:srgbClr val="002244"/>
                          </a:solidFill>
                          <a:latin typeface="Verdana"/>
                        </a:rPr>
                        <a:t>                       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2244"/>
                          </a:solidFill>
                          <a:latin typeface="Verdana"/>
                        </a:rPr>
                        <a:t>  </a:t>
                      </a:r>
                      <a:r>
                        <a:rPr b="0" lang="ru-RU" sz="6000" spc="-1" strike="noStrike">
                          <a:solidFill>
                            <a:srgbClr val="002244"/>
                          </a:solidFill>
                          <a:latin typeface="Verdana"/>
                        </a:rPr>
                        <a:t> </a:t>
                      </a:r>
                      <a:r>
                        <a:rPr b="0" lang="ru-RU" sz="900" spc="-1" strike="noStrike">
                          <a:solidFill>
                            <a:srgbClr val="002244"/>
                          </a:solidFill>
                          <a:latin typeface="Verdana"/>
                        </a:rPr>
                        <a:t>                       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2244"/>
                          </a:solidFill>
                          <a:latin typeface="Verdana"/>
                        </a:rPr>
                        <a:t>  </a:t>
                      </a:r>
                      <a:r>
                        <a:rPr b="0" lang="ru-RU" sz="6000" spc="-1" strike="noStrike">
                          <a:solidFill>
                            <a:srgbClr val="002244"/>
                          </a:solidFill>
                          <a:latin typeface="Verdana"/>
                        </a:rPr>
                        <a:t> </a:t>
                      </a:r>
                      <a:r>
                        <a:rPr b="0" lang="ru-RU" sz="900" spc="-1" strike="noStrike">
                          <a:solidFill>
                            <a:srgbClr val="002244"/>
                          </a:solidFill>
                          <a:latin typeface="Verdana"/>
                        </a:rPr>
                        <a:t>                       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Picture 8" descr="1"/>
          <p:cNvPicPr/>
          <p:nvPr/>
        </p:nvPicPr>
        <p:blipFill>
          <a:blip r:embed="rId2"/>
          <a:stretch/>
        </p:blipFill>
        <p:spPr>
          <a:xfrm>
            <a:off x="5867280" y="5157720"/>
            <a:ext cx="1584360" cy="1440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867280" y="260280"/>
            <a:ext cx="1584360" cy="1428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3"/>
          <p:cNvPicPr/>
          <p:nvPr/>
        </p:nvPicPr>
        <p:blipFill>
          <a:blip r:embed="rId5"/>
          <a:stretch/>
        </p:blipFill>
        <p:spPr>
          <a:xfrm>
            <a:off x="7596360" y="260280"/>
            <a:ext cx="1547640" cy="1440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7" descr="4"/>
          <p:cNvPicPr/>
          <p:nvPr/>
        </p:nvPicPr>
        <p:blipFill>
          <a:blip r:embed="rId6"/>
          <a:stretch/>
        </p:blipFill>
        <p:spPr>
          <a:xfrm>
            <a:off x="7596360" y="3500280"/>
            <a:ext cx="1547640" cy="1440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9" descr="5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940360" y="1844640"/>
            <a:ext cx="1511280" cy="1513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8" descr="8"/>
          <p:cNvPicPr/>
          <p:nvPr/>
        </p:nvPicPr>
        <p:blipFill>
          <a:blip r:embed="rId9"/>
          <a:stretch/>
        </p:blipFill>
        <p:spPr>
          <a:xfrm>
            <a:off x="5867280" y="3500280"/>
            <a:ext cx="1584360" cy="1441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0" descr="9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596360" y="1844640"/>
            <a:ext cx="1547640" cy="1511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7" descr="11"/>
          <p:cNvPicPr/>
          <p:nvPr/>
        </p:nvPicPr>
        <p:blipFill>
          <a:blip r:embed="rId12"/>
          <a:stretch/>
        </p:blipFill>
        <p:spPr>
          <a:xfrm>
            <a:off x="7596360" y="5157720"/>
            <a:ext cx="1547640" cy="1440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6" descr="fuji3_1024"/>
          <p:cNvPicPr/>
          <p:nvPr/>
        </p:nvPicPr>
        <p:blipFill>
          <a:blip r:embed="rId13"/>
          <a:stretch/>
        </p:blipFill>
        <p:spPr>
          <a:xfrm>
            <a:off x="250920" y="260280"/>
            <a:ext cx="5184720" cy="4032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65"/>
          <p:cNvSpPr/>
          <p:nvPr/>
        </p:nvSpPr>
        <p:spPr>
          <a:xfrm>
            <a:off x="-849240" y="45133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71" descr="s22"/>
          <p:cNvPicPr/>
          <p:nvPr/>
        </p:nvPicPr>
        <p:blipFill>
          <a:blip r:embed="rId14"/>
          <a:stretch/>
        </p:blipFill>
        <p:spPr>
          <a:xfrm>
            <a:off x="2627280" y="2708280"/>
            <a:ext cx="3000240" cy="36003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72"/>
          <p:cNvSpPr/>
          <p:nvPr/>
        </p:nvSpPr>
        <p:spPr>
          <a:xfrm>
            <a:off x="324000" y="4365720"/>
            <a:ext cx="24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ФУДЗИЯ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75"/>
          <p:cNvSpPr/>
          <p:nvPr/>
        </p:nvSpPr>
        <p:spPr>
          <a:xfrm>
            <a:off x="3059280" y="6308640"/>
            <a:ext cx="31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дп. СИРАИ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b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0920" y="33336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b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9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b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5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2:16:21Z</dcterms:created>
  <dc:creator>user</dc:creator>
  <dc:description/>
  <dc:language>en-US</dc:language>
  <cp:lastModifiedBy>Коля</cp:lastModifiedBy>
  <dcterms:modified xsi:type="dcterms:W3CDTF">2013-06-30T16:58:37Z</dcterms:modified>
  <cp:revision>5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40e000000000001023620</vt:lpwstr>
  </property>
</Properties>
</file>