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048A-5F01-4648-B6AF-A1BF683A48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B939-E38A-4B69-ADF1-8295A28176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D7B-2F0E-4576-86AF-40D0A008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4E8-0CB2-47D1-ABB2-F7AB12F9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859-6F25-4601-8681-75D984DD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958-54B3-4467-B3D5-9158B2F6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E95A-F713-4D97-8D28-B0295EFA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61E7-C8DB-44D8-8B1C-C9DD12E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AF5B-5D38-4F24-A99A-4654758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1365-70F6-46E5-B51D-44F7979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1210-E7E7-4318-9F66-8935B61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477F-EE33-4BF8-AD47-44DDD7D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9F4-73E4-4D67-8035-08B60C4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5C3-0A55-4CC9-9510-B6715A14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A473-C564-42E9-93AA-06DB43A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EDF8-D127-4A6E-974E-BD116F8A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AA01-8A21-4C6D-95B2-A5B2F02A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0B8-B55A-4C36-9138-FAC5F9B8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D117-BCA2-4689-BE20-43B82E72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5D37-F353-4CB0-B24E-C62F9DFA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D277-05F7-48ED-BDD7-5EED7D20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478B-2D6A-45D8-ACFB-3B50205A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F8D1-FEB8-4579-9C07-C490D081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BB3E-0387-4BEC-AF02-069FAE2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690-7EE9-4B44-BC32-B60DAA1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E171-B518-4571-BE9D-2BDA571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E6E4-E161-4858-B393-BE4AEB2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6B52-558A-4415-8E29-17AAF77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A593-4C96-4B6B-8F8D-245ACAD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9E38-17B0-4C6E-BA21-73E868D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8D1D-FF01-4BF2-BFF7-8AAD6490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76F9-0205-4BA0-8BB5-F50CFC79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3C5E3-F2A9-4F87-A140-02FA8369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CC15-C281-44DC-BF92-572BA96F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5F83-388F-4DCA-873E-9F775040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BA4-2AFB-40CD-ADFB-40D9D9CA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C73A-076F-48CA-94F8-92B473E0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4680-76F8-4E9F-930B-A4D204F1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68A2-0EC7-4298-864E-5EC778C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FA7D-1265-4891-8A05-49020D46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52EC-7B76-4E63-B70A-C9728B38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99A9-94E0-4EC7-AEFB-B50D6A5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7964-02C1-4D53-8CC4-04C0917B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99F1-ED58-4431-B446-E05D30B2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E92D-475C-4C8A-A6D3-0DFD5D78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03EA-EC36-498D-AE60-CCB5486A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7DC-9F3C-41A9-86C7-F7D2E51C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25C19-DFE3-4AB8-857A-A83F1C0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988D8-9EE3-4A0C-9463-10170E49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B3A1-140D-4498-BE11-4EC651E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C97DA-1B63-4D13-BADD-2120FBB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CBE5C-BB62-42EF-81BB-5B56CF4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D1A4F-93FF-4CFF-ADFC-8B710F72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A7AF-896C-46F1-9A6D-3D914913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7229-8B9C-440D-BB4F-3273E9C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B619-E5BC-470E-910A-3EA77A0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2B02-3157-4EA0-8141-69A7AAA7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522-928F-4D17-A6D8-6CA7BB1F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75081-7472-49C7-AA6E-B1B9DB21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E2E69-ED1E-4FB6-B93B-63813FC5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FA46-B402-48C1-BB73-ABE50E4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F80AA-F842-4C21-8BD4-90D3CCC2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CDCF3-E551-4E47-A669-4A5BC013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71A56-4F71-45B0-AD95-513BDF7D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F99F-4FE6-4EC9-95A2-04F7A701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4D69-EEA8-4E0E-A337-47B2776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B4245-C8EE-4EF7-8873-BCA1EAA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75CB7-11E0-44C1-A7CB-16BF122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7B9-0CB5-4907-AF05-665251F5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C93F-EFA7-4301-99F6-F302CDEE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A0F7D-11F4-4640-824D-FC51AB29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D2BD-075B-4693-929B-D3266A8F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7AD6-77E2-4F6B-8BC2-162F2641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DC72-A612-49EA-AD85-912AF3F2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6148-ADED-463D-ACE7-A6A54FFB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F0D8-85A1-46AB-A3D1-D77988CB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3962E-A14E-47DE-B029-1DD0638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2670C-8AC0-4D13-99B0-D9E4D9A3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3C34-33F4-480C-8FFD-109C8946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4AE-8783-4DA5-BE6B-4C27D2CF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A912-8343-4D5D-8076-B9F73F9B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9A91C-73B2-44C6-AE01-AF1AB93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4C55F-E4A4-4A6A-9281-C69900CF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30564-FF9E-472C-B993-5824AB6D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5692-8271-4C9B-86D6-2B1475C9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D561-90BC-4E41-9DF8-A1B9CAFD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451E0-DFCF-4F7C-8DB2-426CCFEC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E85DA-7F45-4A9B-916A-759FFF5A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38B9C-EA38-422E-9E00-FE60D6C2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04DC7-7661-4533-8301-5722264F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3CA-42FF-4173-97A8-E5FF9CD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8C732-D28E-4928-B262-B447D410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0AD2B-CD34-457E-BB19-A993A32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FB173-2F36-4452-BFDA-3ADA1E2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26EFF-9327-47F0-B4DF-5726E646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9C904-FF5B-41E8-9F46-D140F1EE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27678-AFF4-49BE-A55C-331FC890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2DD6-A9A3-4B14-A12F-8D26C281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EDF-FDAD-4C06-A564-7FA6AD7828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1E8F-2209-4924-9E2D-0360442F1D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C828-B7AC-44A0-B1C5-B68C9935E1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B5CF-0D6E-4D5F-A19A-2D4A658006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0391-9ADE-411C-9141-0596187C40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0A1A-0C71-4575-9E2D-E41FA093CC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762-7956-4FC0-83A8-4277A36D20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B553-4A58-45CF-9C2D-479625A543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924000" y="4292640"/>
            <a:ext cx="472284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1" lang="ru-RU" sz="1700" spc="-1" strike="noStrike">
                <a:solidFill>
                  <a:srgbClr val="4e5b6f"/>
                </a:solidFill>
                <a:latin typeface="Lucida Sans Unicode"/>
              </a:rPr>
              <a:t>учитель химии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e5b6f"/>
                </a:solidFill>
                <a:latin typeface="Lucida Sans Unicode"/>
              </a:rPr>
              <a:t>МАОУ  «СОШ №2 с УИОП  г.Улан-Удэ»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e5b6f"/>
                </a:solidFill>
                <a:latin typeface="Lucida Sans Unicode"/>
              </a:rPr>
              <a:t>Пантелеева И.Ю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2"/>
          <a:stretch/>
        </p:blipFill>
        <p:spPr>
          <a:xfrm>
            <a:off x="689040" y="622440"/>
            <a:ext cx="77724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ы  данных курсов разработаны как модуль, который можно использовать как в качестве самостоятельного предметного проекта, так и интегрировано с биологией в различных организационных форм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Скругленный прямоугольник 3"/>
          <p:cNvSpPr/>
          <p:nvPr/>
        </p:nvSpPr>
        <p:spPr>
          <a:xfrm>
            <a:off x="1463760" y="620640"/>
            <a:ext cx="6553080" cy="5652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Lucida Sans Unicode"/>
              </a:rPr>
              <a:t>Групповые проект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1619280" y="1484280"/>
            <a:ext cx="2521080" cy="1731960"/>
          </a:xfrm>
          <a:prstGeom prst="rect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Lucida Sans Unicode"/>
              </a:rPr>
              <a:t>Группа №1 «Содержание растительных пигментов в раст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5392800" y="1484280"/>
            <a:ext cx="2624040" cy="1731960"/>
          </a:xfrm>
          <a:prstGeom prst="rect">
            <a:avLst/>
          </a:prstGeom>
          <a:solidFill>
            <a:srgbClr val="7fd13b"/>
          </a:solidFill>
          <a:ln w="55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Lucida Sans Unicode"/>
              </a:rPr>
              <a:t>Группа №2 – «Растительные индикат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 flipH="1">
            <a:off x="2410920" y="1185480"/>
            <a:ext cx="1008720" cy="299160"/>
          </a:xfrm>
          <a:prstGeom prst="straightConnector1">
            <a:avLst/>
          </a:prstGeom>
          <a:ln w="936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00" name="Прямая со стрелкой 9"/>
          <p:cNvCxnSpPr/>
          <p:nvPr/>
        </p:nvCxnSpPr>
        <p:spPr>
          <a:xfrm>
            <a:off x="5867280" y="1185480"/>
            <a:ext cx="937440" cy="299160"/>
          </a:xfrm>
          <a:prstGeom prst="straightConnector1">
            <a:avLst/>
          </a:prstGeom>
          <a:ln w="936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овать  формированию учебно-познавательных компетенций в сфере самостоятельной познавательной деятельности  (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ганизации целеполагания, планирования, анализа, рефлексии, самооценк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в том числе креативной (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бывание знаний из окружающей реальности, действий в необычной ситуаци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природоведческой (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авила поведения и деятельности в природной сред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, информационно – коммуникатив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зучить виды растительных пигментов и природных индикаторов, их значение для растений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меть пользоваться различными источниками информа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учиться производить сбор материала для лабораторной работы без нанесения вреда окружающей среде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знакомиться со способами разделения веществ методом адсорбции и хроматограф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учиться готовить индикаторную бумаг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учится оформлять результаты исследова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развивать умение работать в группе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50920" y="692280"/>
          <a:ext cx="8713800" cy="5913360"/>
        </p:xfrm>
        <a:graphic>
          <a:graphicData uri="http://schemas.openxmlformats.org/drawingml/2006/table">
            <a:tbl>
              <a:tblPr/>
              <a:tblGrid>
                <a:gridCol w="341280"/>
                <a:gridCol w="2106720"/>
                <a:gridCol w="504720"/>
                <a:gridCol w="3168720"/>
                <a:gridCol w="2592360"/>
              </a:tblGrid>
              <a:tr h="1226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ма 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ремя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Форма  прове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жидаем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368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иды растительных пиг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Групповая работа с различными источниками информации, публичная презентация матери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ть виды растительных пигментов, их функции в растения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ть работать в груп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492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бор лабораторного  материала –  листья,   цветы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тегрированная  экскурсия экскурсии в Этнографический музей (биология-хим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комство с видовым составом  растений, сбор лаборатор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4238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наружение растительных пигментов  методом                    хроматографи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аборатор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лучение  и раздел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сантофилла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лорофил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изучение их свой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813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общение и оформление  получен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дивидуальная, группова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ез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295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79280" y="765000"/>
          <a:ext cx="8496360" cy="5832720"/>
        </p:xfrm>
        <a:graphic>
          <a:graphicData uri="http://schemas.openxmlformats.org/drawingml/2006/table">
            <a:tbl>
              <a:tblPr/>
              <a:tblGrid>
                <a:gridCol w="343080"/>
                <a:gridCol w="2609640"/>
                <a:gridCol w="503280"/>
                <a:gridCol w="2376720"/>
                <a:gridCol w="2663640"/>
              </a:tblGrid>
              <a:tr h="7779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ма 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ремя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Формы пр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жидаемый результ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71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ведение. Техника безопасности. Кислотно-щелочные индикаторы, используемые в химических лабораториях. Растения - индикатор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Групповая работа с различными источниками информации, публичная презентация материал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ть растительные  индикаторы,    растения в которых они содержаться.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ть работать в групп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780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бор растительного  матери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тегрированная  экскурсия экскурсии в Этнографический музей (биология-хим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комство с видовым составом  растений - индикаторов, сбор лабораторного материал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4745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лучение растительной вытяжки, приготовление индикаторов. Изменение окраски растительных индикаторов в различных среда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 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абораторная рабо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лучение растительных индикаторов, изучение их свойств. Приготовление  индикаторной  бумаги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365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общение и оформление  полученных результа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ндивидуальная, групповая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езентац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2462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крепление в процессе практической деятельности теоретических знаний по хими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витие у обучающихся аналитических навыков и навыков критического мышле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витие коммуникативных навыков обучающихс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беспечение возможности  к осознанному выбору углубленной подготовки по химии на старшей ступен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ормирование основ социального опыта обучающихс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влечение внимания учащихся к актуальным проблемам по выбору будущей профессии,  информирование о возможных путях продолжения образова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ормирование гражданского самосознания и активной гражданской позици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907560"/>
            <a:ext cx="8128080" cy="540540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рганизация полезного и содержательного летнего отдыха детей посредством создания образовательного пространства, способствующего самоопределению учащихся основной ступени в выборе профил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явление  склонности школьников к конкретным видам деятельности по направлениям: естественно-математическое, историческо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довлетворение познавательных интересов учащихся 8-ых классов по выбранным предметам (истории, географии, химии, математике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000080" y="360360"/>
            <a:ext cx="72421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11280" y="836640"/>
            <a:ext cx="7842240" cy="554832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 fontScale="68000"/>
          </a:bodyPr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еспечение условий для развития творческого потенциала учащихся и навыков самостоятельной, поисково-исследовательской деятельности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учащихся приемам  исследовательской деятельности, умению написания реферата, публичного выступления  о результатах выполненного учебного исследовани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тие интереса к  учебному исследованию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Формирование  навыков  коммуникативной культуры, толерантного поведения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иобщение к духовным и художественным ценностям национальной культуры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оспитание гуманного  отношения к природе, окружающей среде, любви к малой Родин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одействие осознанному выбору профиля обучения на старшей ступени школ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0680" indent="-31068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solidFill>
            <a:srgbClr val="e5f6d8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е творческих способностей учащихс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е адекватной самооценки лич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равственное и патриотическое становление личности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амоопределение учащихся в выборе профил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е коммуникативных  компетенц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обретение навыков работы в групп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7fd13b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е интереса к предмету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Объект 3" descr=""/>
          <p:cNvPicPr/>
          <p:nvPr/>
        </p:nvPicPr>
        <p:blipFill>
          <a:blip r:embed="rId1"/>
          <a:stretch/>
        </p:blipFill>
        <p:spPr>
          <a:xfrm>
            <a:off x="1285920" y="1122480"/>
            <a:ext cx="7235640" cy="5364000"/>
          </a:xfrm>
          <a:prstGeom prst="rect">
            <a:avLst/>
          </a:prstGeom>
          <a:ln w="0">
            <a:noFill/>
          </a:ln>
        </p:spPr>
      </p:pic>
      <p:pic>
        <p:nvPicPr>
          <p:cNvPr id="386" name="Заголовок 1" descr=""/>
          <p:cNvPicPr/>
          <p:nvPr/>
        </p:nvPicPr>
        <p:blipFill>
          <a:blip r:embed="rId2"/>
          <a:stretch/>
        </p:blipFill>
        <p:spPr>
          <a:xfrm>
            <a:off x="469800" y="285840"/>
            <a:ext cx="80517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Объект 3" descr=""/>
          <p:cNvPicPr/>
          <p:nvPr/>
        </p:nvPicPr>
        <p:blipFill>
          <a:blip r:embed="rId1"/>
          <a:stretch/>
        </p:blipFill>
        <p:spPr>
          <a:xfrm>
            <a:off x="828720" y="1023840"/>
            <a:ext cx="7772400" cy="5432400"/>
          </a:xfrm>
          <a:prstGeom prst="rect">
            <a:avLst/>
          </a:prstGeom>
          <a:ln w="0">
            <a:noFill/>
          </a:ln>
        </p:spPr>
      </p:pic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1262160" y="1219320"/>
            <a:ext cx="7327800" cy="5492520"/>
          </a:xfrm>
          <a:prstGeom prst="rect">
            <a:avLst/>
          </a:prstGeom>
          <a:ln w="0">
            <a:noFill/>
          </a:ln>
        </p:spPr>
      </p:pic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-23760" y="1457280"/>
            <a:ext cx="9167760" cy="4578480"/>
          </a:xfrm>
          <a:prstGeom prst="rect">
            <a:avLst/>
          </a:prstGeom>
          <a:ln w="0">
            <a:noFill/>
          </a:ln>
        </p:spPr>
      </p:pic>
      <p:pic>
        <p:nvPicPr>
          <p:cNvPr id="392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44600" y="476280"/>
            <a:ext cx="84182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7:18:28Z</dcterms:created>
  <dc:creator>Ученик</dc:creator>
  <dc:description/>
  <dc:language>en-US</dc:language>
  <cp:lastModifiedBy>School2</cp:lastModifiedBy>
  <dcterms:modified xsi:type="dcterms:W3CDTF">2019-12-03T12:15:54Z</dcterms:modified>
  <cp:revision>77</cp:revision>
  <dc:subject/>
  <dc:title>Проект летняя школа    « Перспектива -2010»</dc:title>
</cp:coreProperties>
</file>