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5FFF-ACED-43CA-B56C-D5A8D89973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B797-2DFF-446B-BBE4-1A0D0E72F6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3F3-DB84-455E-8DA0-A85AD4AD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E3F-6CAD-4D30-837C-54B81DBC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F41-A8F3-4A4D-94AB-6831764A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0B8-BB60-4C09-9EFC-EF846745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1F5E-C5C4-42FD-A0CE-096A05CB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0A74-731E-46FE-B5C8-F03D40FC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ED87-BAA2-465B-B400-53FABFA6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F617-B734-41D0-9A62-C7789691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5A34-4162-4400-92F3-55CEA2E0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E983-4875-48F5-A898-EE7B30CD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1157-8735-4946-BD10-B82F8932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F65-355C-43BE-A8B6-47D67FE1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172B-7C33-438A-A3E9-971869F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BE58-5695-48AF-89F9-9B5045DC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20D9-F6AA-441F-962C-D7DEF7AC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DBBB-3D78-439E-B9FF-613DCEB7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6C04-DAFF-44B0-B9B4-F6F49061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515A-D364-4102-BC06-B2DA7BEA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3C2AE-85A2-4DB0-B91C-F111D942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8D6E-37BF-4C7C-88B8-49F1376B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FCA9-8197-4D55-9E93-D63F89B3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B09E-0074-4EC2-9468-19CEEF02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132-79A4-45A8-9B92-DBA21988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45C5D-C0BC-47B6-BD39-3AABC546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0B2E-CC27-4737-A94E-1203CBAA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02A30-343F-48A1-A36B-7650C4F8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BB24-9493-492F-85FD-4A1F6B5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8A40-29C4-466B-B18B-DD715B07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A9BC-77E7-46A6-BC74-3E7AF1A5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6F8B-193B-4730-A6A3-DD3FFA2E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4475-64DA-4C60-BB92-0CD1F63A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6486-1FB6-4A25-A0C1-71F24ED6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D23BB-E52A-4591-A9F1-7C3A20DF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229-AD5E-408A-AED9-426600F8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9D740-94F2-4327-891F-A9CBAF1D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0840-8207-42BC-9980-5078B9C7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4B23-A27F-4AAC-9765-DC0DAB0A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BC7AE-E905-40C1-91F9-6C290B39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80078-2B56-4BC6-AB1D-FFBD28CE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48884-944E-4F36-ACA1-44E95C56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29F9A-0962-4EA7-97B7-65987AC2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0F80-B7CA-43FE-BD5A-71058B31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A3C9-0D11-4EF7-A847-7E089DE8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21F3-8F1A-4C13-90DF-A4D08ABC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A6B-EAE5-46C2-8CB8-900F5739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DC903-84D3-4596-9F98-B163D3AD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02462-BE57-4CBE-AE2A-AA0F30AD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CA25-7F39-4534-A044-C94CEAE2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07302-1DCC-4CAB-BED2-30FC9B5B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81F5-3884-4E86-A826-5CE09A17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FAB82-1794-4945-9018-CF02BFA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23EA1-0A46-4B8D-83F4-F41420B9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D1C62-77D2-4FD3-BF59-B78C109C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9CAD3-BD61-4D5B-86D6-D5004E3B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6E5D2-BD59-4004-909F-042A3D57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949-D336-4205-BF0E-27A2660F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722E-69E1-4E70-868E-60BD6E33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7D62-8A4C-4527-B99F-5D9E788D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A6F23-C2C0-4710-A08F-FF4BC32A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B560E-47A9-4781-A6BE-7E2ABF27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A4F56-8023-494F-9743-9C8DDD97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BB46E-8298-4BB2-9EC9-9B7DE6CB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145B8-E64C-4C04-830E-708F86D0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AB7DF-AB92-4994-A308-1583745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6EB40-AF5F-4AAC-8AEA-0E2A5241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6B3E5-7DE8-4CC3-93CC-D41BE5B6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FE8-B4FC-405D-BD2E-1BF44156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12268-07DE-4D2B-8880-7E1DB7F4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B4BD7-D29A-44EC-B862-00417DAC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C3252-F055-4172-949F-67BCCE14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C5618-3201-4EF5-B622-F2032F04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27AD9-B656-47E0-8475-4EC82E24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71FB2-C1FB-4D44-AFFA-B85EE3D6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61C5B-D654-42BD-95B9-1BE6B519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EC17C-31D6-4BDA-8439-526EA854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43733-BC36-4690-9511-C6169A1A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247BC-5743-45B2-A610-8B35050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910-B796-4A0C-B3B6-F1071324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E75CE-E971-459E-98B7-3CC72ED6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6B887-6A46-4CF2-BF35-7CCC804E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E4B86-0616-4805-95E1-91131C2C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9521F-0034-42AB-8434-460411AA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29874-DAEB-4057-8C42-BBA83D16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AC0F-C977-4EFF-8E68-6B9C9AA2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61A2F-8969-4692-BA4A-AF009667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A7843-227C-4F9F-B32B-EFDCDFC3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DA883-23E8-45D9-B3FD-03A8652C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77A84-86CC-4383-97C4-740F6772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0D2-B0D1-4333-8F4C-52A3D4B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ED8E2-7CBE-4838-A20D-CBB8B4AD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26EE8-BC92-4A08-BCD6-4837E5D5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5A3B7-8313-42F3-8136-CAEF9131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2941C-A827-4D82-BC79-9E7CF6B1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FFFF1-087C-4E36-8E99-B61C0BFE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08D11-EC4E-4F23-8273-1792517B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F1891-09A1-4978-A482-DB55AD87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C722-87FC-48A0-B2C6-86175D80FE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2667-88FE-4C11-8A32-7E88F74706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E0F3-9246-4544-91CA-FF69ED659A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455F-8372-46D3-BA4A-0073AA4C1C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CEE5-1D66-4D83-BC08-7C9D45F584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B5DA-DE8E-4F25-8CBD-DBACA06CB5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3B2B-5CF1-407C-8855-3EFE80405B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C5F9-EC3F-4022-B685-A5DB324D13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924000" y="4292640"/>
            <a:ext cx="472284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e5b6f"/>
                </a:solidFill>
                <a:latin typeface="Lucida Sans Unicode"/>
              </a:rPr>
              <a:t> </a:t>
            </a:r>
            <a:r>
              <a:rPr b="1" lang="ru-RU" sz="1700" spc="-1" strike="noStrike">
                <a:solidFill>
                  <a:srgbClr val="4e5b6f"/>
                </a:solidFill>
                <a:latin typeface="Lucida Sans Unicode"/>
              </a:rPr>
              <a:t>учитель химии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e5b6f"/>
                </a:solidFill>
                <a:latin typeface="Lucida Sans Unicode"/>
              </a:rPr>
              <a:t>МАОУ  «СОШ №2 с УИОП  г.Улан-Удэ»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e5b6f"/>
                </a:solidFill>
                <a:latin typeface="Lucida Sans Unicode"/>
              </a:rPr>
              <a:t>Пантелеева И.Ю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2"/>
          <a:stretch/>
        </p:blipFill>
        <p:spPr>
          <a:xfrm>
            <a:off x="689040" y="622440"/>
            <a:ext cx="77724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ы  данных курсов разработаны как модуль, который можно использовать как в качестве самостоятельного предметного проекта, так и интегрировано с биологией в различных организационных форм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Скругленный прямоугольник 3"/>
          <p:cNvSpPr/>
          <p:nvPr/>
        </p:nvSpPr>
        <p:spPr>
          <a:xfrm>
            <a:off x="1463760" y="620640"/>
            <a:ext cx="6553080" cy="5652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Lucida Sans Unicode"/>
              </a:rPr>
              <a:t>Групповые проект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"/>
          <p:cNvSpPr/>
          <p:nvPr/>
        </p:nvSpPr>
        <p:spPr>
          <a:xfrm>
            <a:off x="1619280" y="1484280"/>
            <a:ext cx="2521080" cy="1731960"/>
          </a:xfrm>
          <a:prstGeom prst="rect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Lucida Sans Unicode"/>
              </a:rPr>
              <a:t>Группа №1 «Содержание растительных пигментов в раст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5392800" y="1484280"/>
            <a:ext cx="2624040" cy="1731960"/>
          </a:xfrm>
          <a:prstGeom prst="rect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Lucida Sans Unicode"/>
              </a:rPr>
              <a:t>Группа №2 – «Растительные индикато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Прямая со стрелкой 7"/>
          <p:cNvCxnSpPr/>
          <p:nvPr/>
        </p:nvCxnSpPr>
        <p:spPr>
          <a:xfrm flipH="1">
            <a:off x="2410920" y="1185480"/>
            <a:ext cx="1008720" cy="299160"/>
          </a:xfrm>
          <a:prstGeom prst="straightConnector1">
            <a:avLst/>
          </a:prstGeom>
          <a:ln w="936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00" name="Прямая со стрелкой 9"/>
          <p:cNvCxnSpPr/>
          <p:nvPr/>
        </p:nvCxnSpPr>
        <p:spPr>
          <a:xfrm>
            <a:off x="5867280" y="1185480"/>
            <a:ext cx="937440" cy="299160"/>
          </a:xfrm>
          <a:prstGeom prst="straightConnector1">
            <a:avLst/>
          </a:prstGeom>
          <a:ln w="936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ствовать  формированию учебно-познавательных компетенций в сфере самостоятельной познавательной деятельности  (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ганизации целеполагания, планирования, анализа, рефлексии, самооценк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в том числе креативной (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обывание знаний из окружающей реальности, действий в необычной ситуаци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и природоведческой (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авила поведения и деятельности в природной сред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, информационно – коммуникатив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зучить виды растительных пигментов и природных индикаторов, их значение для растений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уметь пользоваться различными источниками информа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учиться производить сбор материала для лабораторной работы без нанесения вреда окружающей среде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знакомиться со способами разделения веществ методом адсорбции и хроматограф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учиться готовить индикаторную бумаг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учится оформлять результаты исследова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развивать умение работать в группе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250920" y="692280"/>
          <a:ext cx="8713800" cy="5913360"/>
        </p:xfrm>
        <a:graphic>
          <a:graphicData uri="http://schemas.openxmlformats.org/drawingml/2006/table">
            <a:tbl>
              <a:tblPr/>
              <a:tblGrid>
                <a:gridCol w="341280"/>
                <a:gridCol w="2106720"/>
                <a:gridCol w="504720"/>
                <a:gridCol w="3168720"/>
                <a:gridCol w="2592360"/>
              </a:tblGrid>
              <a:tr h="12268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ема 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ремя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Форма  провед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жидаем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368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иды растительных пиг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Групповая работа с различными источниками информации, публичная презентация матери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нать виды растительных пигментов, их функции в растения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меть работать в групп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492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бор лабораторного  материала –  листья,   цветы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нтегрированная  экскурсия экскурсии в Этнографический музей (биология-хим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накомство с видовым составом  растений, сбор лаборатор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4238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бнаружение растительных пигментов  методом                    хроматографи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Лаборатор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лучение  и раздел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сантофилла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хлорофил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изучение их свой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813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бобщение и оформление  получен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ндивидуальная, группова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ез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2952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79280" y="765000"/>
          <a:ext cx="8496360" cy="5832720"/>
        </p:xfrm>
        <a:graphic>
          <a:graphicData uri="http://schemas.openxmlformats.org/drawingml/2006/table">
            <a:tbl>
              <a:tblPr/>
              <a:tblGrid>
                <a:gridCol w="343080"/>
                <a:gridCol w="2609640"/>
                <a:gridCol w="503280"/>
                <a:gridCol w="2376720"/>
                <a:gridCol w="2663640"/>
              </a:tblGrid>
              <a:tr h="7779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ема 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ремя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Формы пр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жидаемый результ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719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ведение. Техника безопасности. Кислотно-щелочные индикаторы, используемые в химических лабораториях. Растения - индикатор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Групповая работа с различными источниками информации, публичная презентация материал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нать растительные  индикаторы,    растения в которых они содержаться.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меть работать в групп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780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бор растительного  материа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нтегрированная  экскурсия экскурсии в Этнографический музей (биология-хим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накомство с видовым составом  растений - индикаторов, сбор лабораторного материал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4745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лучение растительной вытяжки, приготовление индикаторов. Изменение окраски растительных индикаторов в различных средах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 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Лабораторная рабо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лучение растительных индикаторов, изучение их свойств. Приготовление  индикаторной  бумаги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365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бобщение и оформление  полученных результа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ндивидуальная, групповая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езентац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2462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крепление в процессе практической деятельности теоретических знаний по химии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витие у обучающихся аналитических навыков и навыков критического мышлени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витие коммуникативных навыков обучающихс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беспечение возможности  к осознанному выбору углубленной подготовки по химии на старшей ступени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формирование основ социального опыта обучающихс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влечение внимания учащихся к актуальным проблемам по выбору будущей профессии,  информирование о возможных путях продолжения образовани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формирование гражданского самосознания и активной гражданской позиции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907560"/>
            <a:ext cx="8128080" cy="540540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рганизация полезного и содержательного летнего отдыха детей посредством создания образовательного пространства, способствующего самоопределению учащихся основной ступени в выборе профил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явление  склонности школьников к конкретным видам деятельности по направлениям: естественно-математическое, историческо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Удовлетворение познавательных интересов учащихся 8-ых классов по выбранным предметам (истории, географии, химии, математике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000080" y="360360"/>
            <a:ext cx="724212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611280" y="836640"/>
            <a:ext cx="7842240" cy="554832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 fontScale="68000"/>
          </a:bodyPr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еспечение условий для развития творческого потенциала учащихся и навыков самостоятельной, поисково-исследовательской деятельност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учащихся приемам  исследовательской деятельности, умению написания реферата, публичного выступления  о результатах выполненного учебного исследовани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тие интереса к  учебному исследованию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Формирование  навыков  коммуникативной культуры, толерантного поведения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иобщение к духовным и художественным ценностям национальной культуры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оспитание гуманного  отношения к природе, окружающей среде, любви к малой Родин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одействие осознанному выбору профиля обучения на старшей ступени школы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е творческих способностей учащихс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адекватной самооценки личност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равственное и патриотическое становление личности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амоопределение учащихся в выборе профил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е коммуникативных  компетенци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иобретение навыков работы в групп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е интереса к предмету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Объект 3" descr=""/>
          <p:cNvPicPr/>
          <p:nvPr/>
        </p:nvPicPr>
        <p:blipFill>
          <a:blip r:embed="rId1"/>
          <a:stretch/>
        </p:blipFill>
        <p:spPr>
          <a:xfrm>
            <a:off x="1285920" y="1122480"/>
            <a:ext cx="7235640" cy="5364000"/>
          </a:xfrm>
          <a:prstGeom prst="rect">
            <a:avLst/>
          </a:prstGeom>
          <a:ln w="0">
            <a:noFill/>
          </a:ln>
        </p:spPr>
      </p:pic>
      <p:pic>
        <p:nvPicPr>
          <p:cNvPr id="386" name="Заголовок 1" descr=""/>
          <p:cNvPicPr/>
          <p:nvPr/>
        </p:nvPicPr>
        <p:blipFill>
          <a:blip r:embed="rId2"/>
          <a:stretch/>
        </p:blipFill>
        <p:spPr>
          <a:xfrm>
            <a:off x="469800" y="285840"/>
            <a:ext cx="805176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Объект 3" descr=""/>
          <p:cNvPicPr/>
          <p:nvPr/>
        </p:nvPicPr>
        <p:blipFill>
          <a:blip r:embed="rId1"/>
          <a:stretch/>
        </p:blipFill>
        <p:spPr>
          <a:xfrm>
            <a:off x="828720" y="1023840"/>
            <a:ext cx="7772400" cy="5432400"/>
          </a:xfrm>
          <a:prstGeom prst="rect">
            <a:avLst/>
          </a:prstGeom>
          <a:ln w="0">
            <a:noFill/>
          </a:ln>
        </p:spPr>
      </p:pic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1262160" y="1219320"/>
            <a:ext cx="7327800" cy="5492520"/>
          </a:xfrm>
          <a:prstGeom prst="rect">
            <a:avLst/>
          </a:prstGeom>
          <a:ln w="0">
            <a:noFill/>
          </a:ln>
        </p:spPr>
      </p:pic>
      <p:pic>
        <p:nvPicPr>
          <p:cNvPr id="390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Объект 3" descr=""/>
          <p:cNvPicPr/>
          <p:nvPr/>
        </p:nvPicPr>
        <p:blipFill>
          <a:blip r:embed="rId1"/>
          <a:stretch/>
        </p:blipFill>
        <p:spPr>
          <a:xfrm>
            <a:off x="-23760" y="1457280"/>
            <a:ext cx="9167760" cy="4578480"/>
          </a:xfrm>
          <a:prstGeom prst="rect">
            <a:avLst/>
          </a:prstGeom>
          <a:ln w="0">
            <a:noFill/>
          </a:ln>
        </p:spPr>
      </p:pic>
      <p:pic>
        <p:nvPicPr>
          <p:cNvPr id="392" name="Заголовок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44600" y="476280"/>
            <a:ext cx="84182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18:28Z</dcterms:created>
  <dc:creator>Ученик</dc:creator>
  <dc:description/>
  <dc:language>en-US</dc:language>
  <cp:lastModifiedBy>School2</cp:lastModifiedBy>
  <dcterms:modified xsi:type="dcterms:W3CDTF">2019-12-03T12:15:54Z</dcterms:modified>
  <cp:revision>77</cp:revision>
  <dc:subject/>
  <dc:title>Проект летняя школа    « Перспектива -2010»</dc:title>
</cp:coreProperties>
</file>