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A27C-4DCC-4F45-910E-FD23204D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373F-5A17-4E0B-91BF-B5AC1EEF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F034-6346-4567-8BEC-ED22F45A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015-E9CC-469B-9D7D-F9802697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2F9B-FE95-48E3-8B85-208BC590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A574-1DB9-4F98-8115-2084211E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63B8-7B8D-4A7C-AA1E-714A0F12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C26-B343-4E4C-AF07-5C701230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480-C016-4F57-9D3F-77DBC0D6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2E08-535F-4FA9-95F4-AC1AF0D3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4561-32B3-4329-BA08-BB87166B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BCA-8210-481F-AAFC-275D8F9F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B1FD-BC0E-41E4-8EAC-E792284DE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98064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о раннее туманное утро. Над деревней раздавались петушиные крики. Мы отправились на рыбалку. Дорога шла равнинной местностью. Мы расположились на песчаном берегу небольшого оз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це взошло, и на растениях заблестела роса. Её капельки переливались, как бусинки. Легкий ветерок коснулся серебряной глади озера. В прибрежных кустах завозились у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05:32:03Z</dcterms:created>
  <dc:creator>Admin</dc:creator>
  <dc:description/>
  <dc:language>en-US</dc:language>
  <cp:lastModifiedBy>Admin</cp:lastModifiedBy>
  <dcterms:modified xsi:type="dcterms:W3CDTF">2011-01-31T05:32:03Z</dcterms:modified>
  <cp:revision>1</cp:revision>
  <dc:subject/>
  <dc:title>Проверь себя</dc:title>
</cp:coreProperties>
</file>