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7C7-C25D-4974-BD79-CD308385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B10-F334-4856-8DC8-DD6B761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8DF-D929-4F3B-86F9-8115B232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0B8-6F5E-4FB1-9D7E-E6191474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7A6-5374-47C7-8A5A-A1205324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F74-3FAE-4D52-8E6F-2E06E0B9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895-9281-4459-8215-0DB394B9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1AA-65BD-499B-B33B-8059822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9E6-C3A1-4A09-B28E-F1588B32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645-0EFB-4918-99DB-D99AA8DE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EE3-8C83-4274-9D95-D9BE22D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F82-27A3-4135-BE5A-2E077925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CB95-7626-45A3-9BB2-3BAD4C10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980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раннее туманное утро. Над деревней раздавались петушиные крики. Мы отправились на рыбалку. Дорога шла равнинной местностью. Мы расположились на песчаном берегу небольшого оз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взошло, и на растениях заблестела роса. Её капельки переливались, как бусинки. Легкий ветерок коснулся серебряной глади озера. В прибрежных кустах завозились 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5:32:03Z</dcterms:created>
  <dc:creator>Admin</dc:creator>
  <dc:description/>
  <dc:language>en-US</dc:language>
  <cp:lastModifiedBy>Admin</cp:lastModifiedBy>
  <dcterms:modified xsi:type="dcterms:W3CDTF">2011-01-31T05:32:03Z</dcterms:modified>
  <cp:revision>1</cp:revision>
  <dc:subject/>
  <dc:title>Проверь себя</dc:title>
</cp:coreProperties>
</file>