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7D9-E7F5-4CD3-AAB9-D27CBE0C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E01-53EC-4168-9429-2B4A1896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17A-19E5-4657-AB81-EECCFCCB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82B-86C6-4AAC-9CA7-1034770E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921-0252-454D-AD87-39C310E0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044-3E63-4FB3-AE66-94515A51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CF3-B19C-4E05-B5FB-E5B88FF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861-73E8-4C21-817D-553A6B93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E71-C1EB-47E3-945A-E8A8522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EB9-ECC1-48E2-BA74-1D0CEAB9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6F7-78D3-4771-B45A-0C54D65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F80-3108-485A-B4BC-A6D1AB92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90C6-2C8C-48FF-8873-ED66E81AA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делать 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8496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ариант. Вежливость собеседника зависит от твоей веж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ариант. Маленькая ложь за собой большую ведё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вариант. За напрасный труд никто спасибо не ска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6:54:29Z</dcterms:created>
  <dc:creator>Admin</dc:creator>
  <dc:description/>
  <dc:language>en-US</dc:language>
  <cp:lastModifiedBy>Admin</cp:lastModifiedBy>
  <dcterms:modified xsi:type="dcterms:W3CDTF">2011-03-15T06:54:29Z</dcterms:modified>
  <cp:revision>1</cp:revision>
  <dc:subject/>
  <dc:title>Сделать синтаксический разбор</dc:title>
</cp:coreProperties>
</file>