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F0D-F9E1-40E0-A0F7-A84A8141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A32-72D4-4C10-A2C3-1F223888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60D-1261-4C35-9D52-2C0B0D72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9F4-ED57-4AA9-88D7-76CB4C22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595-6C94-4FAF-B7D4-A4D05FAC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0AA-FEDA-4DC2-B3B1-6B59DAA6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648-25ED-4284-AC4D-16AB0717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983-940C-4D4D-8EB6-75BD4777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FF5-22E4-4188-A3C9-BDD1CE33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0F5-CE7C-4366-A3D4-B597AC36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D56-6100-466B-AED1-77E860DF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C6E-6221-49AB-BE73-3D809CCF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B0B8-6149-47F2-9AF3-FAF25BC2D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делать 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1844640"/>
            <a:ext cx="8496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ариант. Вежливость собеседника зависит от твоей вежлив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вариант. Маленькая ложь за собой большую ведё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вариант. За напрасный труд никто спасибо не ска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6:54:29Z</dcterms:created>
  <dc:creator>Admin</dc:creator>
  <dc:description/>
  <dc:language>en-US</dc:language>
  <cp:lastModifiedBy>Admin</cp:lastModifiedBy>
  <dcterms:modified xsi:type="dcterms:W3CDTF">2011-03-15T06:54:29Z</dcterms:modified>
  <cp:revision>1</cp:revision>
  <dc:subject/>
  <dc:title>Сделать синтаксический разбор</dc:title>
</cp:coreProperties>
</file>