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8CC-3AAD-4541-AAA1-14BF0215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10A-53F2-4D15-B289-CCA941A4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1FC-0684-4638-8622-355B215B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B0F-45CE-48E8-AE3D-E70D223C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DCE-F01A-4AB6-9E85-4CFA4A83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460-FEC1-4FB0-8936-60B2820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3B1-CDBB-4929-8079-483CF74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F0A-7DBA-4BAE-B33B-89D34C47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C4C-0079-48D3-B44B-66E8E8A6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009-C882-4F06-ADA0-1601BF3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D20-0B75-4461-B791-5874C09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5BB-1FA9-40C1-A00D-15A0264A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354-E913-4B7B-80B6-6BE66750A5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Системно-деятельностный подход   реализации ФГОС  на уроках биологии и химии</a:t>
            </a: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64720" y="2346480"/>
            <a:ext cx="179280" cy="6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9" descr="D:\л.в\презентации к мастеру\14[1].gif"/>
          <p:cNvPicPr/>
          <p:nvPr/>
        </p:nvPicPr>
        <p:blipFill>
          <a:blip r:embed="rId1"/>
          <a:stretch/>
        </p:blipFill>
        <p:spPr>
          <a:xfrm>
            <a:off x="1547640" y="2924280"/>
            <a:ext cx="2808360" cy="316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Рисунок11"/>
          <p:cNvPicPr/>
          <p:nvPr/>
        </p:nvPicPr>
        <p:blipFill>
          <a:blip r:embed="rId2"/>
          <a:stretch/>
        </p:blipFill>
        <p:spPr>
          <a:xfrm>
            <a:off x="5435640" y="3213000"/>
            <a:ext cx="23241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0" y="476280"/>
            <a:ext cx="4899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63640" y="1844640"/>
            <a:ext cx="5041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мые предметные результаты отраж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 по биолог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нцентрического или линейного ти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Рисунок2"/>
          <p:cNvPicPr/>
          <p:nvPr/>
        </p:nvPicPr>
        <p:blipFill>
          <a:blip r:embed="rId1"/>
          <a:stretch/>
        </p:blipFill>
        <p:spPr>
          <a:xfrm>
            <a:off x="0" y="1700280"/>
            <a:ext cx="28875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086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000" y="1628280"/>
            <a:ext cx="849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ой технолог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ая должна способствовать освоению планируемых результатов,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но-деятельностная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новными принципами которой являю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целост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194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02920" y="1989000"/>
            <a:ext cx="7489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Принцип минимак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психологической комфорт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вариатив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1260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0920" y="620280"/>
            <a:ext cx="7823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шел мудрец к бедным и сказа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Я вижу, вы голодны. Давайте, я дам вам рыбу, чтобы вы утолили голод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 гласит: не надо давать рыбу, надо научить ловить е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ндарт нового поколения и есть стандарт, который помог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учить "ловить рыбу", а тем самым, овладеть универсальными учебными действиями, без которых ничего не может бы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в действии порождается зн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762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280" y="1528920"/>
            <a:ext cx="83883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но-деятельностный подхо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ляет выделить основные результаты обучения и воспитания в контексте ключевых задач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ниверсальных учеб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йствий (УУ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которыми должны владеть учащие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учащимися УУД создают возможность самостоятельного успешного усвоения новых знаний, умений и компетентностей, включая организацию усвоения, то есть умения учи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Универсальные учебные действ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 (УУ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виды ууд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720"/>
            <a:ext cx="6051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90756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трехсот лет назад ученый Ван Гельмонт поставил опы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стил в горшок 80 кг земли и посадил в неё ветку ивы, предварительно  взвесив  её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ва росла 5 лет, не получая никакого питания, а только поливалась водой,  не содержащей солей. Взвесив иву через 5 лет, ученый  обнаружил,  что  вес  ивы увеличился на 65 кг, а вес земли в горшке уменьшился всего  на 50г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чему произошло такое явлени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-146160"/>
            <a:ext cx="6770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475920"/>
            <a:ext cx="81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леные продукты вкусны и часто употребляются в пищу. Но после их употребления очень хочется пить. С чем съесть сельдь? С хлебом или с картофелем, чтобы уменьшить неприятное состояние жажды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правление поиска ре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устанавливаю химический состав соли (т.е. вспоминаю химическую формулу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авливаю химический состав сравниваемых продуктов «хлеб» и «картофель» (работа с таблицей; -сравниваю, делаю выв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имерный ответ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ртофель содержит большее количество  калия, чем  хлеб. Калий  оказывает противоположное действие натрию, входящему в состав поваренной соли. Следовательно, сельдь лучше съесть с картофеле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Взрослый человек должен в сутки потреблять с пищей 3,5г калия. В 100 г картофеля содержится 568 мг калия. Сколько граммов картофеля нужно съесть, чтобы получить суточную норму кал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-237960"/>
            <a:ext cx="6699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47592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в алюминиевой кружке нельзя оставить ни чай с долькой лимона, ни раствор пищевой со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авление поиска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станавливаю химический состав алюминиевой посуды (т.е. вспоминаю химическую формулу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споминаю химические свойства вещества  - алюми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делаю выв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ный ответ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люминий растворяется в водных растворах кислот и  щелочей: чай с дольками лимона имеет кислую среду, а раствор пищевой соды – щелочную. Поэтому алюминиевая посуда разрушается от контакта с этими растворами. И растворы приобретают другие свой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-71280"/>
            <a:ext cx="6843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549360"/>
            <a:ext cx="806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лодая хозяйка повесила сушить белье на железную проволоку. Когда белье высохло, хозяйка с ужасом обнаружила на чистом белье «ржавые» полосы. Как объяснить появление ржавчины на белье? Как хозяйке избавиться от этих пятен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правление поиска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устанавливаю химическую формулу ржавчи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писываю уравнение реакции и условия образования этого вещ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делаю вы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ный ответ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- ржавчина, образуется при взаимодействии железа с водой в присутствии кислорода. Удалить ржавчину в домашних условиях можно раствором уксусной кисл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61680" y="1341360"/>
            <a:ext cx="830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стемно - деятельностный подход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тодологическая основа концепции ФГОС второго поко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и и внедрения стандартов второго поколения – повышение качества образования, достижение новых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ая педагогическая задач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рганизация условий, инициирующих детское действ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3374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школьного образовани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1413000"/>
            <a:ext cx="82072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знания обучающихся были результатом их собственных поисков, необходимо организовать эти поиски, управлять, развивать их позна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иция учителя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классу не с ответом (готовые знания, умения, навыки), а с вопрос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иция ученик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 познание мира, (в специально организованных для этого условиях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очное действие – я умею! У меня получится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о – ценностная оценка – Я считаю так то…. (формирование мировоззрени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24476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ижущей силой развития учен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вляетс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янное решение учебных задач выливается в систематическую самостоятельную поисковую деятельность, а само обучение превращается в проблемно-развивающее (по М. И. Махмутову), в котором деятельностное начало соотносится с направленностью этой деятельности на личность, которая и должна каким-то образом развиться в результате осуществления ею этой деятельности. Тем самым достигается, как указывается в документах по Модернизации образования, новое качество образования, заключающееся в соответствии его результатов запросам индивида, формирование у школьников адекватного общечеловеческим ценностям отношения к собственной личности и окружающему миру, осознанное проявление этого отношения в деятельности, развитие индивидуальных интересов, социальной активности, что наиболее продуктивно в условиях личностно-деятельностного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23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280"/>
            <a:ext cx="586728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именение системно-деятельностного подхода необходимо для  реализации задач современной шко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Рассмотрение учебных ситуаций различного вида  школьниками  способствует удовлетворению их познавательных интере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Выбранный метод педагогической деятельности (применение учебных ситуаций творческо-развивающего характера) актуален и целесообразен, он обеспечивает повышение профессиональной компетен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i?id=348584940-32-72&amp;n=21"/>
          <p:cNvPicPr/>
          <p:nvPr/>
        </p:nvPicPr>
        <p:blipFill>
          <a:blip r:embed="rId1"/>
          <a:stretch/>
        </p:blipFill>
        <p:spPr>
          <a:xfrm>
            <a:off x="6107040" y="0"/>
            <a:ext cx="3036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истемно-деятельност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жи мне, и я забуд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ажи мне, и я запомн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й мн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ействовать самому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я научу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итайская мудрос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MCj04247300000[1]"/>
          <p:cNvPicPr/>
          <p:nvPr/>
        </p:nvPicPr>
        <p:blipFill>
          <a:blip r:embed="rId1"/>
          <a:stretch/>
        </p:blipFill>
        <p:spPr>
          <a:xfrm>
            <a:off x="395280" y="3141720"/>
            <a:ext cx="2376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173880"/>
            <a:ext cx="533088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ГОС  вводят новое понятие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чебная ситу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которым подразумевается так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ая единица учебного процес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торой учащиеся с помощью учителя обнаруживают предмет своего действия, исследуют его, совершая разнообразные учебные действ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вязи с новыми  требованиями  перед учителем стави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учиться создавать учебны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5330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 к новым ФГО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2341800" y="1341360"/>
            <a:ext cx="60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1773360"/>
            <a:ext cx="50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основным требованиям Федерального государственного стандарта относится достижение учащимися планируемы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чност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апредмет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Рисунок3"/>
          <p:cNvPicPr/>
          <p:nvPr/>
        </p:nvPicPr>
        <p:blipFill>
          <a:blip r:embed="rId1"/>
          <a:stretch/>
        </p:blipFill>
        <p:spPr>
          <a:xfrm>
            <a:off x="4668840" y="2852640"/>
            <a:ext cx="44751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183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5" name="Rectangle 16"/>
          <p:cNvSpPr/>
          <p:nvPr/>
        </p:nvSpPr>
        <p:spPr>
          <a:xfrm>
            <a:off x="971640" y="1293120"/>
            <a:ext cx="79214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едмет би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жится формирование та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ульта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«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кологическое созна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признание высокой ценности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правил отношения к природ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знания основ здорового образа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здоровьесберегающих технолог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правил поведения в чрезвычайных ситуаци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620640"/>
            <a:ext cx="54723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а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1915920"/>
            <a:ext cx="8277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та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езультаты  предполагаю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воение учащимися  разнообраз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навательн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гулятивны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муникативных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етен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-35640"/>
            <a:ext cx="6770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764640"/>
            <a:ext cx="77500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м компетенциям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ндарта по биологии относя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овладение составляющими исследовательской и проектной деятельности», «давать определение понятиям, классифицировать, делать выводы и заключения, объяснять, структурировать материал, анализировать и оценивать информацию, преобразовывать информацию из одной формы в другую; и т.д.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108720"/>
            <a:ext cx="6627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764640"/>
            <a:ext cx="77500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ебные действия, используемые в учебном процессе должны научить школьника «целеполаганию, планированию, основам прогнозирования, как предвидения будущих событий и развития процесса, … самостоятельно оценивать правильность выполняемых действий, принимать решения в проблемной ситуации и т.п.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699920"/>
            <a:ext cx="7894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УД, учитель должен научить учащего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читывать разные мнения, формулировать собственную позицию, задавать вопросы, работать в группе, использовать адекватные языковые средства и т.п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3:46Z</dcterms:created>
  <dc:creator>user</dc:creator>
  <dc:description/>
  <dc:language>en-US</dc:language>
  <cp:lastModifiedBy>user</cp:lastModifiedBy>
  <dcterms:modified xsi:type="dcterms:W3CDTF">2019-12-02T18:44:30Z</dcterms:modified>
  <cp:revision>142</cp:revision>
  <dc:subject/>
  <dc:title>Психолого-педагогические основания для решения задач ФГОС  в основной школе </dc:title>
</cp:coreProperties>
</file>