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FDF-9EAD-4258-B60F-43896B0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621-4A0B-43FB-8542-C978561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9F3-9968-4D5E-B244-17F4F334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5C3-AF0F-4B23-99FC-66583089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81E-FF57-4D54-8CE0-15DF0CAA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0BD9-82E8-471F-9267-160FABE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A50C-AB79-444F-813C-6829218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2566-BC36-437C-A686-7506C893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3DFF-B71A-4DB9-85DC-AF42C13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46C8-FB86-4B8C-B3AE-7F07B94E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73B7-CE83-4976-9E5E-1FBB954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033-84C3-47A6-8A39-BD2012D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446F-7DC4-4E07-B0A2-B1BC63D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49F-B5F0-4678-A370-09C84FD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E456-ADB9-4D52-BE8E-CC4227E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B185-AFB0-4A56-9DA9-20C0805D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711E-AF23-48E0-B936-3BBAB8E7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B0E2-3274-4CA5-B03B-A915CA9C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E458-5A02-4E8B-88C3-E30CA9C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4DC5-4527-4DA7-B7D7-114EE7D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5D50-50A6-4771-B205-18ED5C6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E9D2-0A9B-4765-A16F-BBB5D47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E55-83B3-4A0C-9CB5-B9FDC8C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C6B5-411F-4169-96E6-0610F29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5586-F1A8-4768-A003-D98DBD1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6151-21E1-48CB-A057-51E0C48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E1A2-A051-4F4B-B927-B1E90EEE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1424-0CE7-4B9C-9B5C-684A8DD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C5EF-224D-4B28-8911-F8CC4044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00FF-192F-4BBF-A80C-B66AB40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2BD3-E7E4-47E7-BAB8-A490FB96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D8CD-CC89-4762-849F-6C276954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8185-1A3B-4C58-981C-4CBE7436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E2F-920A-4C89-9715-8D3367A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A7D1-60D0-459D-890A-D4A7D44A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7471-4CF7-4103-97A9-1BD5F01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BE17-7FA3-4D12-9E63-63BCD6C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C8F7F-1616-46C0-8DE5-A4DE7F4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F541-34AA-4A69-BAFF-CE82253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8487-9CC0-4B41-BA03-AA1565D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5E84-D46D-41F4-966A-74EDD449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23E8-C5F4-4595-B6C7-929AF4C4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0989-1690-464E-916E-C84FD083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35AE-020C-43D7-9B8F-C1DAD4C5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35B-8F07-4EEE-97E9-4FF7816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410AA-63A0-469A-AA0C-9AEA239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8136-45BF-4C81-BFD6-FD3D7876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F93E-2A29-4B00-88AC-17CC5E3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C1697-4BB4-494E-8452-176DB36A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D659-88E9-40F1-979C-372F3672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B7D5-DBD0-4F45-AC24-4875682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BFD3-CE3A-4D11-AEFE-D27E0B7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3FAC-5547-481F-A3DC-2F87EF7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6D1E-3649-4B5A-AF78-D30B4140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14C2-382D-4909-9AF3-50D90DCA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A5C-0EBB-41F4-97D2-80420749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C327-613D-4053-BA2F-136E5D52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49B94-B3C3-4AA3-AEB2-0DC32904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8FB2-2F6C-4298-B98C-6DEA76E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6EF8B-6C93-48F9-A47C-29E082B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D25F-F3EC-41C2-8568-87818B98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C72F-6D4E-48BA-92A7-DEFA7D5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FD4B-E1D6-4206-8674-09524873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5AAB-F093-49BD-AA87-865D394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4882-0E48-40D7-B729-94BBEE5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946D-E885-44A9-B1DE-DF90071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E14-7A60-49CF-B0E7-DEB760E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8AB9-5992-4F08-B365-48E65720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73CF-D342-4ED2-BA13-E940DAFE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A729-EF88-4268-AA71-793114F4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3053D-DDD6-42EE-ACBE-5DC556A6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C4D8C-D570-4005-A537-0C8ECCC6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6CC08-66B0-405D-8C0D-90118D1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5863-E0ED-4161-AE23-7C457996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1E9FC-DBEA-4A2D-8A60-2FCA211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7285-A297-4306-ABB1-121FEAE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C6B3-9156-464D-9351-4EF8155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372-6F43-410C-A15A-25C41D57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B8CB-E851-4331-BD6E-1A6512C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2D977-EBEA-42C2-B1FC-7E35CAF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062E-8173-4BDD-8CC9-3B5F74A4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C479-B075-4806-A206-BA5A8E4E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197D-CB89-420E-AA02-E8E1CA94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5556-3775-41D8-9CB2-7CDAB168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E3AEF-4DB7-46EA-BF38-B370F91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21233-540D-47CC-9DD4-06024D8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FB25D-ED80-4A59-9330-007B74A8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23B5-7B9E-4FBD-85EC-784DF69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AD3-1D7F-480A-8774-2DA892B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A302B-4ED0-4DA0-ADF4-4EFA9B7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ACB6-4BF9-44A9-93C4-2D64CAE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AA069-F8F8-4E69-A3B9-DFBB90B0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CC08-9BB6-417C-AC39-BB41328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C164-58E6-4219-A55D-FD74F34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4B19-58E7-473D-9109-65687F24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2E10-ABC4-44C4-B6CC-A5E38D48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F9B-DC99-472A-A86B-DE421DB49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2A4-B212-45C6-A5EC-648E782CB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263-9A7C-46ED-AC70-8399AA4E25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E2CC-BCFD-43A5-B4F8-CDB31CC68E0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38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e3e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262-80FF-4702-B78F-8E2541DA9AE1}" type="slidenum">
              <a:rPr b="0" lang="ru-RU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0bcb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0bcb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0bc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bcb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0bc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8CB6-0100-4D84-91CE-29CA9DC81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66ccff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66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23F-F707-4D7F-A431-1428B67BB9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4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4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50000">
                  <a:srgbClr val="ccecff"/>
                </a:gs>
                <a:gs pos="100000">
                  <a:srgbClr val="679a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679acd"/>
                </a:gs>
                <a:gs pos="100000">
                  <a:srgbClr val="3e3e5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3e3e5c"/>
                </a:gs>
                <a:gs pos="100000">
                  <a:srgbClr val="679a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5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100000">
                    <a:srgbClr val="3e3e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3e3e5c"/>
                  </a:gs>
                  <a:gs pos="100000">
                    <a:srgbClr val="679ac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679acd"/>
                  </a:gs>
                  <a:gs pos="50000">
                    <a:srgbClr val="ccecff"/>
                  </a:gs>
                  <a:gs pos="100000">
                    <a:srgbClr val="679ac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472D-F41D-438A-A2AF-4158A2C5CC24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glishgid.ru/wp-content/uploads/2014/04/Cornualla-Mapa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glishgid.ru/wp-content/uploads/2014/04/Cornualla-Mapa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glishgid.ru/wp-content/uploads/2014/04/kornuol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glishgid.ru/wp-content/uploads/2014/04/kornuoll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glishgid.ru/wp-content/uploads/2014/04/0_c4921_ba148494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293"/>
                </a:solidFill>
                <a:latin typeface="Arial"/>
              </a:rPr>
              <a:t>Сказочный и живописный уголок Англии — графство Корнуолл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143000"/>
            <a:ext cx="3828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ство Корнуолл одно из ярких и живописных мест в Англии . Его называют «полуостров Корнуолл».На территории Корнуолла нет ни одного города, а столицей считается поселок Трур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Содержимое 6" descr="Графство Корнуол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0840" y="3822840"/>
            <a:ext cx="73080" cy="810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7" descr="Графство Корнуол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28840"/>
            <a:ext cx="3676680" cy="40482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Графство Корнуолл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3786120"/>
            <a:ext cx="3429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Достопримечательности Корнуолла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есь развиты велосипедный спорт, дайвинг, конный спорт, дельтапланеризм, серфинг, яхтинг и другие виды развлечений. Графство Корнуолл считает- ся самым красивым садом в Бри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Содержимое 7" descr="Gravstvo Corn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2428920"/>
            <a:ext cx="3286080" cy="392904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8" descr="корнуол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4500720"/>
            <a:ext cx="34290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«Райский сад» или проект Эдем в Корнуолле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ерритории сада представлены также необычные скульптурные композиции из старых электроприборов, водорослей, веток и корней, из земли и тра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Содержимое 7" descr="«Райский сад» или проект Эдем в Корнуолле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d293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dfd293"/>
                </a:solidFill>
                <a:latin typeface="Arial"/>
              </a:rPr>
              <a:t>Театр Минак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основан за счет средств одной местной жительницы, которая предоставила свой участок с видом на море и построила красивые террасы и амфитеа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Содержимое 4" descr="Театр Минак"/>
          <p:cNvPicPr/>
          <p:nvPr/>
        </p:nvPicPr>
        <p:blipFill>
          <a:blip r:embed="rId1"/>
          <a:stretch/>
        </p:blipFill>
        <p:spPr>
          <a:xfrm>
            <a:off x="4857840" y="3643200"/>
            <a:ext cx="3824280" cy="2857680"/>
          </a:xfrm>
          <a:prstGeom prst="rect">
            <a:avLst/>
          </a:prstGeom>
          <a:ln w="0">
            <a:noFill/>
          </a:ln>
        </p:spPr>
      </p:pic>
      <p:sp>
        <p:nvSpPr>
          <p:cNvPr id="515" name="Прямоугольник 5"/>
          <p:cNvSpPr/>
          <p:nvPr/>
        </p:nvSpPr>
        <p:spPr>
          <a:xfrm>
            <a:off x="571680" y="500040"/>
            <a:ext cx="50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Замок Тинтагель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6" descr="Замок Тинтагель"/>
          <p:cNvPicPr/>
          <p:nvPr/>
        </p:nvPicPr>
        <p:blipFill>
          <a:blip r:embed="rId2"/>
          <a:stretch/>
        </p:blipFill>
        <p:spPr>
          <a:xfrm>
            <a:off x="642960" y="2571840"/>
            <a:ext cx="3571920" cy="38574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7"/>
          <p:cNvSpPr/>
          <p:nvPr/>
        </p:nvSpPr>
        <p:spPr>
          <a:xfrm>
            <a:off x="642960" y="157176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нно здесь, по преданию, и родился Король Арту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Гора святого Михаила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представляет собой отдельный остров, который находится в 350 метрах от берега. Согласно древним легендам, архангел Михаил явился местным рыбакам, после чего на этом месте было построено аббатство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Вокруг аббатства разбит парк с экзотическими растени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Содержимое 4" descr="Гора святого Михаила"/>
          <p:cNvPicPr/>
          <p:nvPr/>
        </p:nvPicPr>
        <p:blipFill>
          <a:blip r:embed="rId1"/>
          <a:stretch/>
        </p:blipFill>
        <p:spPr>
          <a:xfrm>
            <a:off x="4648320" y="1714680"/>
            <a:ext cx="4038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293"/>
                </a:solidFill>
                <a:latin typeface="Arial"/>
              </a:rPr>
              <a:t>Музей колдовств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648320" y="1642680"/>
            <a:ext cx="4038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легко можно узнать о различных видах гадания, магических ритуалах и рецептах приворотного зел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ными экспонатами являются магические книги с заклинаниями, хрустальные шары, снадобья, обереги, талисманы, зеркала для общения с духами и много-многое другое из мира магии. Здесь есть библиотека из нескольких тысяч интересных книг, куда можно предварительно записа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Содержимое 4" descr="Музей колдовства"/>
          <p:cNvPicPr/>
          <p:nvPr/>
        </p:nvPicPr>
        <p:blipFill>
          <a:blip r:embed="rId1"/>
          <a:stretch/>
        </p:blipFill>
        <p:spPr>
          <a:xfrm>
            <a:off x="457200" y="171468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2T20:57:22Z</dcterms:created>
  <dc:creator>Елена Юрьевна</dc:creator>
  <dc:description/>
  <dc:language>en-US</dc:language>
  <cp:lastModifiedBy>Елена Юрьевна</cp:lastModifiedBy>
  <dcterms:modified xsi:type="dcterms:W3CDTF">2019-12-02T21:30:21Z</dcterms:modified>
  <cp:revision>4</cp:revision>
  <dc:subject/>
  <dc:title>Сказочный и живописный уголок Англии — графство Корнуолл</dc:title>
</cp:coreProperties>
</file>