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3B4-BC6E-415A-A9D7-FE116F0E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B09-1182-4745-A309-F84FCA1A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CE7-E92B-44A0-82A0-C87B6939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0CB-FFF7-4EAE-9755-29B2E1F5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AC5-9EB2-4C23-A870-9989E13B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0C1-82DC-4C7D-9798-3E71870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32BA-522C-4656-B007-D24BC6F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78F-912A-4722-9F23-2BBA799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65CB-9166-43A2-983A-FFCBD5C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5C7-4B5B-47C9-A033-699DAF9A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AAA-675D-4B3F-B5D6-B90510B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51E-4291-4AF2-9ABE-37E9A01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84F-9EF4-4822-9167-7002AA8F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42CD-7465-4AD1-A746-9516BD4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9FD-155F-45B3-9566-00B7C22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2DD-3D27-457D-ADD7-CA472E85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5893-D765-41F2-B857-D36F707B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FC46-6946-423A-97BE-88152079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95B6-1F15-4C1B-831A-49599C68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3EBA-B1C7-413D-82DC-B7617FA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285D-7A16-4B4C-AB49-04916D0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55E6-345E-42FD-81E5-F7FB4731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115-9DD4-43F3-8DA9-DE597A2B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D347-5D5D-45A4-9D16-7D1D35BD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98B7-28E8-4B50-BBA4-8685BB4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3500-0612-444F-B8A5-872FDEB3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1BBC-ADA7-41A3-9BBB-EAD75F2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2B70-1A31-4D08-A27B-FC288FE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C93D-605E-42B8-B398-C07E63D4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B3C3-3751-444E-95FD-B58C1CB3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AC1C-5EAF-4242-B576-7A0A806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4CA0-4490-439C-AC00-ADD33B4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B86F-BBAF-4EB7-AFFE-C948A8C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FFC-4EB2-43B1-91F7-2123903E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7C3D-CE7F-4968-A53E-38B0BFB1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6A47-347B-4CAB-9A1E-2877966E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2B0E-06F5-448C-90C9-615E179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FA8A-2874-49FE-B0F7-195A03B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30AA-C115-4D62-BC0C-43E4FCA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AD1D-62C2-427F-AD61-100AC05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BCCF-8903-4F24-BFCC-1AD2BB8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65E8-7A54-4B4A-8E9C-D1A6CCF8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5F84-9641-4A66-80C1-38E531C8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30E8-BAE1-4B75-B691-0D9A373E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DAA-B202-4833-AC20-90BEC52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EFB6-7751-476A-AA6A-62ED3086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C33E-ABFB-4375-B9BD-97D7780D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B386-5CAC-4FEE-B0D5-7B23325F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6FC1A-5FCA-4FC4-992D-23441DE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6E067-4DD1-41AC-9B50-28B716E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C908-11D3-4AF2-AE09-AE9B97B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F215-9AE0-4E4E-BA8D-8CA5366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3669-9435-4E32-8E21-0CF423E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9414-CDE1-41A9-824F-DB67287C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9800-B3F7-498C-ADE0-F63B09BA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827-FE2C-47E1-B038-3101D366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0829A-ED02-41C5-B168-712DB612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2475-27D5-4FB9-8337-C886ADC8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0143-6647-46BA-94AE-F8BFDAA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B27E-F164-47C2-9EC1-F5AC1CC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FA83-1526-478C-B0E6-F6B130E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4655-82E9-4056-AC0A-DF6686E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045A-6733-4EBD-B93E-0F6F0D65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96A4-1F9D-4E58-BCA6-21726D2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1D3E-CE6E-47FE-B438-B0CDE6F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F6E6-BCC7-44B3-B2A4-0CA78FF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522-FEFD-42A8-A271-193D2E0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996A5-FC76-4507-B951-EBFBA70C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F864-E8F7-44BF-9CF2-3004B74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EE22-EEC2-46C2-B9A4-5AF3772D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D3EA-AFAC-47B5-8FFE-9683C93A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FF80-2F8B-4967-8451-4EC254A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2B07-AF4D-480A-9A53-33A4E29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237C-77C4-49E0-9512-2527685C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F0B0A-B827-4935-B42A-8E44DCB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08A2-2CD0-43D8-A82D-59DD9E5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1CCC-6021-4AF4-90ED-FEC957E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43D-F465-4E6E-B453-D9D027D6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9D84-259E-44FC-B2E2-C70E134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50F7B-C4D2-4DE6-9389-91C2690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DB0D-A0C4-4108-91DF-7706881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899E-8D48-4840-A3F6-BB7F11A5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EFD7-8B0E-4283-88AF-06C5EFE5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B7DBD-9805-45B7-9D26-3C4DBF5C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7871-0055-4FA3-B4E7-9509AECD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7EB0-B89A-47F0-B13D-C6D39D9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0BB3-0021-4CB4-ABCE-A98AC8A6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7F3D-CC70-4D18-A790-D281340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C64-87A9-474C-B5BD-AA6BC7A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11DB-ED0B-4AE0-A4ED-646FA1D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22BB5-CFB2-4AC7-AB85-B18FA27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8267-02C5-458E-B7B8-B286E4C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FC6B1-870A-48AB-A2F5-5EB73FE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489B9-0862-44D0-895B-A876286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3918-4004-4F60-B08E-522466CB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911B-AA59-4518-9DD1-70C408F2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3A7-97F9-4D8E-BB11-150016B43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E442-6501-45A6-86E4-00FF68255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A6E6-A502-4C95-A639-7304A30840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540-3146-435D-B047-E4E04018F8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8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AC7-03CE-43F8-AA8F-76C0870E5EEB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13BA-6124-4F79-B6F6-AAA3482D9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D67-CACC-415D-B38A-1DAEA2BD42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50000">
                  <a:srgbClr val="ccecff"/>
                </a:gs>
                <a:gs pos="100000">
                  <a:srgbClr val="679a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79a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94D-AB5B-4D83-AF54-320F83F17F46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glishgid.ru/wp-content/uploads/2014/04/Cornualla-Mapa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glishgid.ru/wp-content/uploads/2014/04/Cornualla-Mapa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glishgid.ru/wp-content/uploads/2014/04/kornuol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glishgid.ru/wp-content/uploads/2014/04/kornuoll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glishgid.ru/wp-content/uploads/2014/04/0_c4921_ba148494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Arial"/>
              </a:rPr>
              <a:t>Сказочный и живописный уголок Англии — графство Корнуолл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143000"/>
            <a:ext cx="3828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ство Корнуолл одно из ярких и живописных мест в Англии . Его называют «полуостров Корнуолл».На территории Корнуолла нет ни одного города, а столицей считается поселок Трур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Содержимое 6" descr="Графство Корнуол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0840" y="3822840"/>
            <a:ext cx="73080" cy="810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7" descr="Графство Корнуол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28840"/>
            <a:ext cx="3676680" cy="40482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Графство Корнуолл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3786120"/>
            <a:ext cx="3429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Достопримечательности Корнуолла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есь развиты велосипедный спорт, дайвинг, конный спорт, дельтапланеризм, серфинг, яхтинг и другие виды развлечений. Графство Корнуолл считает- ся самым красивым садом в Бри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Содержимое 7" descr="Gravstvo Corn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2428920"/>
            <a:ext cx="3286080" cy="392904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8" descr="корнуол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4500720"/>
            <a:ext cx="3429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«Райский сад» или проект Эдем в Корнуолл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ерритории сада представлены также необычные скульптурные композиции из старых электроприборов, водорослей, веток и корней, из земли и тра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Содержимое 7" descr="«Райский сад» или проект Эдем в Корнуолле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d293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dfd293"/>
                </a:solidFill>
                <a:latin typeface="Arial"/>
              </a:rPr>
              <a:t>Театр Минак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основан за счет средств одной местной жительницы, которая предоставила свой участок с видом на море и построила красивые террасы и амфитеа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Содержимое 4" descr="Театр Минак"/>
          <p:cNvPicPr/>
          <p:nvPr/>
        </p:nvPicPr>
        <p:blipFill>
          <a:blip r:embed="rId1"/>
          <a:stretch/>
        </p:blipFill>
        <p:spPr>
          <a:xfrm>
            <a:off x="4857840" y="3643200"/>
            <a:ext cx="3824280" cy="2857680"/>
          </a:xfrm>
          <a:prstGeom prst="rect">
            <a:avLst/>
          </a:prstGeom>
          <a:ln w="0">
            <a:noFill/>
          </a:ln>
        </p:spPr>
      </p:pic>
      <p:sp>
        <p:nvSpPr>
          <p:cNvPr id="515" name="Прямоугольник 5"/>
          <p:cNvSpPr/>
          <p:nvPr/>
        </p:nvSpPr>
        <p:spPr>
          <a:xfrm>
            <a:off x="571680" y="500040"/>
            <a:ext cx="50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Замок Тинтагель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6" descr="Замок Тинтагель"/>
          <p:cNvPicPr/>
          <p:nvPr/>
        </p:nvPicPr>
        <p:blipFill>
          <a:blip r:embed="rId2"/>
          <a:stretch/>
        </p:blipFill>
        <p:spPr>
          <a:xfrm>
            <a:off x="642960" y="2571840"/>
            <a:ext cx="3571920" cy="38574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7"/>
          <p:cNvSpPr/>
          <p:nvPr/>
        </p:nvSpPr>
        <p:spPr>
          <a:xfrm>
            <a:off x="642960" y="15717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нно здесь, по преданию, и родился Король Арту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Гора святого Михаила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представляет собой отдельный остров, который находится в 350 метрах от берега. Согласно древним легендам, архангел Михаил явился местным рыбакам, после чего на этом месте было построено аббатство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Вокруг аббатства разбит парк с экзотическими растени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Содержимое 4" descr="Гора святого Михаила"/>
          <p:cNvPicPr/>
          <p:nvPr/>
        </p:nvPicPr>
        <p:blipFill>
          <a:blip r:embed="rId1"/>
          <a:stretch/>
        </p:blipFill>
        <p:spPr>
          <a:xfrm>
            <a:off x="4648320" y="1714680"/>
            <a:ext cx="4038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Музей колдовств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48320" y="1642680"/>
            <a:ext cx="4038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легко можно узнать о различных видах гадания, магических ритуалах и рецептах приворотного зел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ными экспонатами являются магические книги с заклинаниями, хрустальные шары, снадобья, обереги, талисманы, зеркала для общения с духами и много-многое другое из мира магии. Здесь есть библиотека из нескольких тысяч интересных книг, куда можно предварительно запис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Содержимое 4" descr="Музей колдовства"/>
          <p:cNvPicPr/>
          <p:nvPr/>
        </p:nvPicPr>
        <p:blipFill>
          <a:blip r:embed="rId1"/>
          <a:stretch/>
        </p:blipFill>
        <p:spPr>
          <a:xfrm>
            <a:off x="457200" y="171468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2T20:57:22Z</dcterms:created>
  <dc:creator>Елена Юрьевна</dc:creator>
  <dc:description/>
  <dc:language>en-US</dc:language>
  <cp:lastModifiedBy>Елена Юрьевна</cp:lastModifiedBy>
  <dcterms:modified xsi:type="dcterms:W3CDTF">2019-12-02T21:30:21Z</dcterms:modified>
  <cp:revision>4</cp:revision>
  <dc:subject/>
  <dc:title>Сказочный и живописный уголок Англии — графство Корнуолл</dc:title>
</cp:coreProperties>
</file>