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DC7E-251D-4C5F-BB2F-11A5E1A7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E4BF-9D58-4BD3-AE44-873CB30A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687-438B-4017-8CEA-25C8A433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4E5A-C415-41D1-86C9-B3DCE48E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8F1A-1614-47D0-852A-3624C820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FCE5-53C2-4C62-B77E-A125EA18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361D-0457-41C9-9446-41045B3C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CE2E-8189-4FA5-811D-688E5C4C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1087-D7B7-4BC3-8E54-179FC670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CDC0-1045-485A-9280-9A67D0E7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A4A0-D140-402B-AB79-15879FEA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2F73-96B8-4B97-9A39-0C73F8D9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DE07-7264-4E23-B4BC-2B843912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D1B0-0B65-4B6E-AF20-A9D89365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80E3-C6EE-45C5-85BF-421D9616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49BB-94CB-4C7E-96A0-FF93EE3A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D7E8-C965-447B-92AF-32C0B423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8B107-0E0E-4478-95B0-7F13AE34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677C2-D97E-477A-B880-E1D8A972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C6F86-673A-46C1-BAF5-405AE066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42699-908F-417C-BD39-60B1E935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CF392-377A-4FE7-BB28-9A576E4E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028-94DB-4940-A3C3-D18819C6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D5309-0E8D-4CF0-8CE6-B72CE9A1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55ECB-3DF8-4300-8F5E-BB457EBB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C4A36-3B72-4FCE-8EF2-F531BA28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384F-BBDD-42A8-9B36-91B3186A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72CBF-ECB6-47D3-8180-6BEF5034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D14C4-8085-414B-A4FC-11DD8087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1DD0-1108-4EFF-A604-D689403A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6352F-C7FD-4094-BEB6-515C3E19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6142E-8D38-4617-9EAC-C39D3632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0412B-916E-44E8-A9DB-268E95F0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37D-72E9-4574-9C6B-F9D08119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3ACBF-074E-4FC2-BE08-02ABC9DE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DF36D-5A72-4A21-A6BD-3565935B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E38DB-32EA-492F-B484-742B3D23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2703A-EC11-484B-A97F-55364400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33545-7AFD-4FC9-8E15-11747158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30C21-3377-4E82-B8FF-CF86E49B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49E96-2430-452B-84A6-45A983ED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CED44-CD4D-47BF-AF8C-CAFA4C2A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EF36F-7023-46D6-A3E3-9CDB4E35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97D1-A476-4B30-BBC5-DAD36A92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F2D-5EF9-4EDE-8BA0-CE5794C6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E6B-CDB0-4F71-9BFC-C6E23BB8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61F0-4CF7-4503-8F24-F465D3A7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672-AD17-44A1-BDE1-FDF0AD94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E4E1-26C5-43E7-AC85-73CC841F68D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FADE-6206-433D-9138-976264453A4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A438-726A-48EE-8D48-822CED4579E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2A96-BCF1-4076-B640-AC1F4D39F8A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AutoShape 2" descr=""/>
          <p:cNvPicPr/>
          <p:nvPr/>
        </p:nvPicPr>
        <p:blipFill>
          <a:blip r:embed="rId1"/>
          <a:stretch/>
        </p:blipFill>
        <p:spPr>
          <a:xfrm>
            <a:off x="523800" y="987480"/>
            <a:ext cx="8010720" cy="33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Arial"/>
                <a:ea typeface="Arial"/>
              </a:rPr>
              <a:t>Аттестационное тестирова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ттестация может проводиться как в форме внешнего контроля (со стороны органов управления образованием), так и в форме внутришкольного контроля (со стороны администрации школы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может проводить и свое собственное аттестационное тестирование, для того, чтобы определить, какой процент его учеников успешно ( то есть выше тройки) осваивает курс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аттестационные тесты могут быть включены только задания базового уровня сложности (то есть такие, с которыми должны уверенно справляться не менее 70% детей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ттестационный тест относится к категории нормативных, то есть таких, которые нацелены на проверку усвоения определенного материала всеми ученикам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ттестационный тест является главным инструментом для выявления уровня успеваемост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ибольший интерес при анализе результатов тестирования представляет материал, который не усвоен, та группа учащихся, которая не осваивает обязательный, базовый материа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Конструирование аттестационного тес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аттестационный тест по истории включаются порядка 20-22 заданий, рассчитанных на 45 минут учебного времен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 содержит задания базового уровня с выбором одного ответа из четырех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 ориентирован на обязательные элементы программы, учебного содержа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 предполагает, в первую очередь, отработку уровня сформированности базовых познавательных и практических уме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Диагностический рубежный контроль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убежная диагностика проводится по мере изучения блока предметных тем, к примеру, один раз в семест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тест включаются элементы содержания, вызывающие наибольшие проблемы у школьник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елесообразно включение заданий, плохо выполненных учащимися в прошлые годы, для выявления динамики трудност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реть включаемых в тест заданий разрабатываются на повышенный уровень сложности, рассчитанный на выполнение не менее 50% учащихс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ст является важным инструментом для определения уровня качества знаний, то есть группы детей, успевающих по предмету на «4» и «5»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анализе результатов тестирования важно выявить характер различий между «пятеркой», «четверкой» и «тройкой», какие именно элементы содержания, какие умения и на каком уровне осваиваются этими группами учащихс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57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Конструирование диагностического тес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диагностический тест по истории включаются порядка 22-24 заданий, рассчитанных на 45 минут учебного времен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ст содержит 70% задания базового уровня и 30% повышенного уровня, с выбором одного ответа из четырех и с кратким ответом, формулируемым самим учащимс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асть А включает 20 заданий с выбором ответа, часть В от 2 до 4 заданий с кратким ответо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ст ориентирован на обязательные элементы программы, учебного содержания, но предполагает возможностей привлечения и более сложных предметных знаний и умений, контекстное знание, полученное из дополнительных источник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ст предполагает помимо выявления уровня сформированности базовых познавательных и практических умений проверку владения учащимися более сложными предметными умениями и навыками, в том числе, исследовательски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Arial"/>
                <a:ea typeface="Arial"/>
              </a:rPr>
              <a:t>Анализ диагностического тест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анализе диагностического теста важно выявить затруднения, проблемы, с которыми столкнулись школьник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первую очередь необходимо выстроить дерево умений, проверяемых в тесте и качество владения ими учащимися (умение оперировать понятием, анализировать исторический документ, выявлять причинно-следственные и дункциональные связи и т.д.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акже по итогам тестирования выстраивается таблица степени освоения классом дидактических единиц, вынесенных на контрол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иагностика – индикатор, позволяющий учителю отслеживать эффективность курса, вносить коррективы в тематическое планировани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 помощью диагностики выстраивается система учета индивидуальных познавательных возможностей учащихс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Общие правила формирования теста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ервые позиции в тесте должны занимать наиболее легкие задания, сложное задание может снизить готовность ребенка решить тест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я должны различаться между собой по стилю, формату, проверяемому содержанию и умениям, чем разнообразнее подбор заданий, тем интереснее ребенку будет выполнять тест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сложности заданий должна возрастать к концу теста, самые сложные задания – последни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я задания, проследите, чтобы в тесте не было на них подсказок в других заданиях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струкции к выполнению тестовых заданий должны быть предельно точны, корректны, понятны для ребен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я теста должны быть адекватны познавательным возможностям учащихся, объему и характеру содержания учебной дисциплины, не выходить за рамки основных учебно-методических комплектов, работающих в школ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Правила составления отдельных заданий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кст задания должен быть сформулирован четко, лаконично, без лишних сл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случае необходимости, допускаются отдельные пояснения и дополнения в текст задания для расширения поля анализа для ребен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 ответы в задание с выбором одного ответа из четырех должны строиться по одному логическому основанию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веты неверные (дистракторы) не могут различаться по длине с верным ответо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истракторы не могут содержать взаимоискючающую информацию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истракторы должны быть однозначно неверны, но правдоподобны, чтобы исключить возможность угадывания ребенком верного ответ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тексте ответов не должно быть прямых ссылок и аналогий с текстом зада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Дидактические уровни заданий в тестовой  диагностик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 уровень – знать/понимать; виды деятельности: понимание, различение, воспроизведение, узнавани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 уровень – уметь применять приобретенные знания в знакомой (стандартной) ситуаци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 уровень – использовать приобретенные знания и умения в измененной ситуац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иды деятельности учащихся, проверяемые  в тестовом контроле: уровень первы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спроизведение знаний предполагает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спознавание основных исторических фактов, событий, явлений отечественной истори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скрытие смысла ключевых исторических терминов и поняти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нание персоналий отечественной истории с древнейших времен до наших дне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определение и указывание важнейших достижений культуры и системы ценностей,  сформировавшихся в ходе исторического развития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ровень второй и третий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51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宋体"/>
              </a:rPr>
              <a:t>Применение знаний в знакомой или измененной ситуации подразумевает сформированность умений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宋体"/>
              </a:rPr>
              <a:t>объяснять исторические явл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宋体"/>
              </a:rPr>
              <a:t>устанавливать функциональные и причинно-следственные связи между историческими фактами и явления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宋体"/>
              </a:rPr>
              <a:t>анализировать исторические процессы, деятельность исторических личност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宋体"/>
              </a:rPr>
              <a:t>сравнивать между собою исторические явления и процессы, выявляя общие и различные черт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иды тест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ртовый контроль (входное тестирование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кущий, сопровождающий контрол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матический аттестационный контрол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матический диагностический контрол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убежное диагностическое обследован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нешнее аттестационное обследован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тоговый контрол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тоговый контроль в форме ЕГЭ за курс основной школы («малый ЕГЭ»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тоговый контроль в форме ЕГЭ за курс полной средней школ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лимпиадное предметное тестиро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Цели и задачи стартового тестирования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явление уровня остаточных знаний по предмету за предшествующий год /этап обуч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ие первичной диагностики класса в начале учебного год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явление характерных проблем и трудностей в усвоении общеучебных и предметных умений учащихс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явление пробелов в уровне освоения основных предметных тем с последующей корректировкой тематического учебного план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знакомление учащихся с форматами заданий, использующихся во внешних независимых обследованиях (при аттестации и аккредитации ОУ, в процессе проведения ЕГЭ и т.д.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Требования к составлению теста для стартового контроля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ест разрабатывается в расчете на 45 минут – один урок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тест включаются задания базового и повышенного уровня сложности в соотношении 70% на 30%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дания формируются в две части: часть А – задания с выбором одного ответа из четырех; часть В – задания с кратким ответ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Указания к оцениванию стартового тестирован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аждое из 24 заданий в тесте оценивается 1 балл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ьный балл – 24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22 - 24 балла  –  отличн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9 - 21 балл – хорош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2 -18 баллов –  удовлетворительн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 - 12 баллов  –  неудовлетворительн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Особенности текущего, сопровождающего тестирован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кущее, сопровождающее тестирование может применяться на каждом урок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особы применен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начале урока в качестве мотивации, введения в тем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конце урока в целях проведения первичного закрепления, рефлексии изученного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качестве домашнего задания для школьников, самостоятельно формулирующих тестовые задания по изученной тем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08:16:05Z</dcterms:created>
  <dc:creator>ольга</dc:creator>
  <dc:description/>
  <dc:language>en-US</dc:language>
  <cp:lastModifiedBy>Костя</cp:lastModifiedBy>
  <dcterms:modified xsi:type="dcterms:W3CDTF">2011-04-26T18:29:56Z</dcterms:modified>
  <cp:revision>64</cp:revision>
  <dc:subject/>
  <dc:title>Оценка образовательных достижений учащихся</dc:title>
</cp:coreProperties>
</file>