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1A8-1EDD-4534-8520-A9E6206D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7DD-E45C-4116-8CA2-1EC9F1C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FFA-4E69-409D-A60E-F38AC2E9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1BD-325E-4B1C-A4A3-8FA8FF6F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4F10-1BC4-4D48-8707-186D1384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6DE1-0E36-43F1-8EEC-941460E4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67BF-3D1B-4E88-ADBF-F85EE92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094-5049-42B8-8C3F-46992985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53E3-99F1-463B-A776-7AAD8D7B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B25-3FAE-4EA8-B2DE-CEC593C9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A1A8-8A03-44F6-B3D6-8EA6870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E72-3FF3-4B2D-B9AA-2FA1D92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697-DE83-4753-A562-B10C3DF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F59E-9E80-48C4-BC76-987D07B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604-7017-42A8-9E58-AA162456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9A5-3AEE-48FB-BC2E-83115963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EB00-ABDE-4E0E-A94A-BD886AD7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4711-B4D0-47FD-A933-8A13B816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C298-BA58-42EC-9DFE-D4D7A9D2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B136-C407-4CC1-A4E3-CA23AAA7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F9A0-F236-44E1-9663-FEFDECDD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EA96-95A0-466A-AA9D-7386ACF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FA2-621C-4453-A9A5-C6B78B3D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1B07-B26B-46DA-9C3F-96E674B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8A92-8EDD-4CEB-A23C-1AA6F55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CAD8-BF27-4C16-BF77-D942CF81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2A7C-70C5-4224-B413-C51B98C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A04E-2678-4FFD-999E-32AD5E2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417A-9A37-497E-9590-9FBEAF9A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9B97-6223-4D37-8964-66F96F90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EEA7-6CB0-4117-A657-6999B665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2E06-F316-4281-861C-012E1F7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721B-7195-4FBB-B098-90B6BF5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374-750F-4FDA-A8D9-C602906C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6110-9E45-40C0-8128-8CDD47F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70B3-8B30-4DC5-9E6F-E6935C9D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5A6B-3D47-4A3C-B7C2-12DB2108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7E2D-0960-493F-BDF6-D3F973C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5E3C-227F-4B82-84AB-7740FB3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8A9C-E77A-4000-BE93-695A935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6C8F-1ABE-4342-980C-CBC93A6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65B2-B014-48AF-A454-CF558FF4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A585-1A51-465D-87A0-0E1A00C1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866-6608-4C91-85FF-5DDFFE41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10F-3CBF-4739-ACD0-9FC3CB40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3D4-189C-409A-869B-7DE494E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E7B-B9F0-4BBE-87DB-9B7818F0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619-1DB7-49A0-B9BF-F9CC7EB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2C7-5CD8-48CD-913F-62DF33EBEE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C35-CF94-4AC6-8167-212B8F6444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356-B06E-472F-A54B-F68C367EB54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420-957E-4FBB-AE1F-36B05C12A6B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AutoShape 2" descr=""/>
          <p:cNvPicPr/>
          <p:nvPr/>
        </p:nvPicPr>
        <p:blipFill>
          <a:blip r:embed="rId1"/>
          <a:stretch/>
        </p:blipFill>
        <p:spPr>
          <a:xfrm>
            <a:off x="523800" y="987480"/>
            <a:ext cx="801072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Аттестационное тестиров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я может проводиться как в форме внешнего контроля (со стороны органов управления образованием), так и в форме внутришкольного контроля (со стороны администрации школы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ожет проводить и свое собственное аттестационное тестирование, для того, чтобы определить, какой процент его учеников успешно ( то есть выше тройки) осваивает кур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аттестационные тесты могут быть включены только задания базового уровня сложности (то есть такие, с которыми должны уверенно справляться не менее 70% детей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ый тест относится к категории нормативных, то есть таких, которые нацелены на проверку усвоения определенного материала всеми ученик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онный тест является главным инструментом для выявления уровня успеваем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й интерес при анализе результатов тестирования представляет материал, который не усвоен, та группа учащихся, которая не осваивает обязательный, базовый материа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онструирование аттестационного те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аттестационный тест по истории включаются порядка 20-22 заданий, рассчитанных на 45 минут учебного време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содержит задания базового уровня с выбором одного ответа из четыре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ориентирован на обязательные элементы программы, учебного содерж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предполагает, в первую очередь, отработку уровня сформированности базовых познавательных и практических ум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агностический рубежный контро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бежная диагностика проводится по мере изучения блока предметных тем, к примеру, один раз в семест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ест включаются элементы содержания, вызывающие наибольшие проблемы у школьни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сообразно включение заданий, плохо выполненных учащимися в прошлые годы, для выявления динамики труд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ть включаемых в тест заданий разрабатываются на повышенный уровень сложности, рассчитанный на выполнение не менее 50% учащих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является важным инструментом для определения уровня качества знаний, то есть группы детей, успевающих по предмету на «4» и «5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анализе результатов тестирования важно выявить характер различий между «пятеркой», «четверкой» и «тройкой», какие именно элементы содержания, какие умения и на каком уровне осваиваются этими группам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онструирование диагностического те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иагностический тест по истории включаются порядка 22-24 заданий, рассчитанных на 45 минут учебного врем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содержит 70% задания базового уровня и 30% повышенного уровня, с выбором одного ответа из четырех и с кратким ответом, формулируемым самим учащим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сть А включает 20 заданий с выбором ответа, часть В от 2 до 4 заданий с кратким ответ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ориентирован на обязательные элементы программы, учебного содержания, но предполагает возможностей привлечения и более сложных предметных знаний и умений, контекстное знание, полученное из дополнительных источни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 предполагает помимо выявления уровня сформированности базовых познавательных и практических умений проверку владения учащимися более сложными предметными умениями и навыками, в том числе, исследовательски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Анализ диагностического тес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анализе диагностического теста важно выявить затруднения, проблемы, с которыми столкнулись школьни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ервую очередь необходимо выстроить дерево умений, проверяемых в тесте и качество владения ими учащимися (умение оперировать понятием, анализировать исторический документ, выявлять причинно-следственные и дункциональные связи и т.д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же по итогам тестирования выстраивается таблица степени освоения классом дидактических единиц, вынесенных на контроль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агностика – индикатор, позволяющий учителю отслеживать эффективность курса, вносить коррективы в тематическое планирова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помощью диагностики выстраивается система учета индивидуальных познавательных возможностей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Общие правила формирования теста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вые позиции в тесте должны занимать наиболее легкие задания, сложное задание может снизить готовность ребенка решить тес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должны различаться между собой по стилю, формату, проверяемому содержанию и умениям, чем разнообразнее подбор заданий, тем интереснее ребенку будет выполнять тес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сложности заданий должна возрастать к концу теста, самые сложные задания – последн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я задания, проследите, чтобы в тесте не было на них подсказок в других задания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и к выполнению тестовых заданий должны быть предельно точны, корректны, понятны для ребен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я теста должны быть адекватны познавательным возможностям учащихся, объему и характеру содержания учебной дисциплины, не выходить за рамки основных учебно-методических комплектов, работающих в школ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Правила составления отдельных задани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кст задания должен быть сформулирован четко, лаконично, без лишних с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необходимости, допускаются отдельные пояснения и дополнения в текст задания для расширения поля анализа для ребен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ответы в задание с выбором одного ответа из четырех должны строиться по одному логическому основан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ы неверные (дистракторы) не могут различаться по длине с верным ответ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тракторы не могут содержать взаимоискючающую информац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стракторы должны быть однозначно неверны, но правдоподобны, чтобы исключить возможность угадывания ребенком верного ответ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ексте ответов не должно быть прямых ссылок и аналогий с текстом зад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дактические уровни заданий в тестовой  диагностик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уровень – знать/понимать; виды деятельности: понимание, различение, воспроизведение, узна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 уровень – уметь применять приобретенные знания в знакомой (стандартной) ситуа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уровень – использовать приобретенные знания и умения в измененной ситу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иды деятельности учащихся, проверяемые  в тестовом контроле: уровень первы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спроизведение знаний предполагает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познавание основных исторических фактов, событий, явлений отечественной истор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крытие смысла ключевых исторических терминов и понят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ние персоналий отечественной истории с древнейших времен до наших дн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определение и указывание важнейших достижений культуры и системы ценностей,  сформировавшихся в ходе исторического развития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ровень второй и трети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5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Применение знаний в знакомой или измененной ситуации подразумевает сформированность умений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объяснять исторические я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устанавливать функциональные и причинно-следственные связи между историческими фактами и явлен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анализировать исторические процессы, деятельность исторических личнос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сравнивать между собою исторические явления и процессы, выявляя общие и различные чер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тес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товый контроль (входное тестировани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ий, сопровождающи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й аттестационны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й диагностически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ежное диагностическое обследов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ее аттестационное обследов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 в форме ЕГЭ за курс основной школы («малый ЕГЭ»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овый контроль в форме ЕГЭ за курс полной средней школ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импиадное предметное тестир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Цели и задачи стартового тестировани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уровня остаточных знаний по предмету за предшествующий год /этап обуч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первичной диагностики класса в начале учебного го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характерных проблем и трудностей в усвоении общеучебных и предметных умений учащих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пробелов в уровне освоения основных предметных тем с последующей корректировкой тематического учебного план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знакомление учащихся с форматами заданий, использующихся во внешних независимых обследованиях (при аттестации и аккредитации ОУ, в процессе проведения ЕГЭ и т.д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ебования к составлению теста для стартового контрол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ст разрабатывается в расчете на 45 минут – один ур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тест включаются задания базового и повышенного уровня сложности в соотношении 70% на 30%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формируются в две части: часть А – задания с выбором одного ответа из четырех; часть В – задания с кратким отве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казания к оцениванию стартового тестиров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ждое из 24 заданий в тесте оценивается 1 балл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ый балл – 2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2 - 24 балла  –  отлич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9 - 21 балл – хорош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2 -18 баллов –  удовлетворитель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 - 12 баллов  –  неудовлетворитель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собенности текущего, сопровождающего тестиров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щее, сопровождающее тестирование может применяться на каждом уро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примен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ачале урока в качестве мотивации, введения в 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онце урока в целях проведения первичного закрепления, рефлексии изученног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честве домашнего задания для школьников, самостоятельно формулирующих тестовые задания по изученной те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8:16:05Z</dcterms:created>
  <dc:creator>ольга</dc:creator>
  <dc:description/>
  <dc:language>en-US</dc:language>
  <cp:lastModifiedBy>Костя</cp:lastModifiedBy>
  <dcterms:modified xsi:type="dcterms:W3CDTF">2011-04-26T18:29:56Z</dcterms:modified>
  <cp:revision>64</cp:revision>
  <dc:subject/>
  <dc:title>Оценка образовательных достижений учащихся</dc:title>
</cp:coreProperties>
</file>