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B6C2-BE07-4ED3-AB37-84C828E325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088A-B128-40E8-81E2-341C8461B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307-A6BC-4F9F-BC8A-5AB51DC3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67B-EBF6-4D4D-B9A8-FD3F6D51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EF1-03E3-443C-9C42-3AE9F42D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B6B-027B-48F2-9953-03818705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0826-FF19-4115-815C-55AD30AF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D32B-6E2B-46F8-A41E-30A64729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CC9F-2160-40BE-8217-736D2A36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10FB-6D88-45CB-B041-E464B37D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2D76-A199-4A02-896A-CBD95C91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3034-8611-4C20-82E0-F4C2E687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4FE7-EF6B-47B7-BD71-D4D9DCC5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6E3-5883-4910-8226-BAD364E0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91DC-4DF3-4CD9-8E96-7FE0A62D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3DA3-51E8-43AC-9C72-8178E91C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7318-0C52-4030-B4D3-C74A8F38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E466-71D9-400F-A270-00D27159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9107-65A9-4FD1-9F47-FFEB0A1C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982-C733-4FF2-B41E-2C01A600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D1C-B0E9-49D8-B2F8-E8ACD162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0A1-6390-4439-B5E6-F5DD972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9B3-6BA9-4C25-B35A-F28BCEFA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3BE-CC7C-4432-A1C6-351B4E2E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EFA-96F8-4BE4-8CC8-85031B34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A41-0435-4765-A03D-C2A404F0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000B-423A-4847-9D2F-92B357EE9E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C0A7-F37A-4806-9502-BEF9CDB7F7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1152000"/>
            <a:ext cx="6840360" cy="21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Технология развития критического мышления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042920" y="386064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…Всякое размышление есть результат внутреннего спора, так, как если бы человек повторял по отношению к себе те формы и способы поведения, которые он применял раньше к другим» Выгот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89FB-F8F9-4105-A72D-271A9D1E2C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6737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Эффективная лекция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26920" y="1844640"/>
          <a:ext cx="7705800" cy="3019320"/>
        </p:xfrm>
        <a:graphic>
          <a:graphicData uri="http://schemas.openxmlformats.org/drawingml/2006/table">
            <a:tbl>
              <a:tblPr/>
              <a:tblGrid>
                <a:gridCol w="4550040"/>
                <a:gridCol w="3155760"/>
              </a:tblGrid>
              <a:tr h="747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товой жур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ая информация и предпо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информ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вухчастный журнал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1916280"/>
          <a:ext cx="8002440" cy="2017440"/>
        </p:xfrm>
        <a:graphic>
          <a:graphicData uri="http://schemas.openxmlformats.org/drawingml/2006/table">
            <a:tbl>
              <a:tblPr/>
              <a:tblGrid>
                <a:gridCol w="4116240"/>
                <a:gridCol w="3886200"/>
              </a:tblGrid>
              <a:tr h="1222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e1"/>
                          </a:solidFill>
                          <a:latin typeface="Verdana"/>
                          <a:ea typeface="Times New Roman"/>
                        </a:rPr>
                        <a:t>Ци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e1"/>
                          </a:solidFill>
                          <a:latin typeface="Verdana"/>
                          <a:ea typeface="Times New Roman"/>
                        </a:rPr>
                        <a:t>Коммента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38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06BF-DCBF-4301-BCDC-F52E6FD691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ехчастный журнал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1600200"/>
          <a:ext cx="7772400" cy="4060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2717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Verdana"/>
                          <a:ea typeface="Times New Roman"/>
                        </a:rPr>
                        <a:t>Ци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Verdana"/>
                          <a:ea typeface="Times New Roman"/>
                        </a:rPr>
                        <a:t>Комментарии. Почему эта цитата привлекла ваше вниман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Verdana"/>
                          <a:ea typeface="Times New Roman"/>
                        </a:rPr>
                        <a:t>Вопросы к учите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sp>
        <p:nvSpPr>
          <p:cNvPr id="141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2A23-67C9-4113-868D-DA6E6AC2D1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дия осмысления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стадии осмысления содержания осуществляется непосредственный контакт с новой информацией (текст, фильм, лекция, материал параграфа). Работа ведётся индивидуально - в парах - в групп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F63B-DAE4-420E-BD10-A4F5CABD43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дия рефлексии.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981000"/>
          <a:ext cx="9144000" cy="5023080"/>
        </p:xfrm>
        <a:graphic>
          <a:graphicData uri="http://schemas.openxmlformats.org/drawingml/2006/table">
            <a:tbl>
              <a:tblPr/>
              <a:tblGrid>
                <a:gridCol w="2693880"/>
                <a:gridCol w="2286000"/>
                <a:gridCol w="4164120"/>
              </a:tblGrid>
              <a:tr h="3672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УЧИТЕЛ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Следует вернуть учащихся к первоначальным записям -предположениям внести изменения, дополнения, дать творчески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ДОСТИГНУТА ЛИ ПОСТАВЛЕННАЯ ЦЕЛ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УЧЕНИК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Учащиеся соотносят новую информ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со старо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используя знания, полученные на стадии осмы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Заполнение кластеров, таблиц, установление причинно-следственной связи между блоками информ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Возврат к ключевым словам, верным и неверным утверждени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Ответы на поставленные вопрос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Организация круглых столов и дискусс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Написание творческих работ: синквейн, эсс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Ромашка Блу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sp>
        <p:nvSpPr>
          <p:cNvPr id="14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57A4-F267-4958-8415-0B73C2EA31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E2B7-EFFC-427B-B5B2-816B5CB39D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Красивое многоточие… </a:t>
            </a:r>
            <a:br>
              <a:rPr sz="44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5 мин.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55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шем синкве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авила написания синквей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Одно слов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уществительное или местоимение, обозначающее предмет, о котором идет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Два слов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Прилагательные или причастия, описывающие признаки и свойства выбранного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Три слов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лаголы, описывающие совершаемые предметом или объектом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Фраза из четырех слов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ыражает личное отношение автора к предмету или объек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Одно слов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Характеризует суть предмета или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08000" y="115920"/>
            <a:ext cx="592200" cy="673200"/>
            <a:chOff x="108000" y="115920"/>
            <a:chExt cx="592200" cy="673200"/>
          </a:xfrm>
        </p:grpSpPr>
        <p:sp>
          <p:nvSpPr>
            <p:cNvPr id="152" name="Puzzle3"/>
            <p:cNvSpPr/>
            <p:nvPr/>
          </p:nvSpPr>
          <p:spPr>
            <a:xfrm>
              <a:off x="396360" y="115920"/>
              <a:ext cx="232560" cy="357840"/>
            </a:xfrm>
            <a:custGeom>
              <a:avLst/>
              <a:gdLst>
                <a:gd name="textAreaLeft" fmla="*/ 24120 w 232560"/>
                <a:gd name="textAreaRight" fmla="*/ 206280 w 232560"/>
                <a:gd name="textAreaTop" fmla="*/ 127800 h 357840"/>
                <a:gd name="textAreaBottom" fmla="*/ 335160 h 35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uzzle2"/>
            <p:cNvSpPr/>
            <p:nvPr/>
          </p:nvSpPr>
          <p:spPr>
            <a:xfrm>
              <a:off x="328680" y="376560"/>
              <a:ext cx="371520" cy="325800"/>
            </a:xfrm>
            <a:custGeom>
              <a:avLst/>
              <a:gdLst>
                <a:gd name="textAreaLeft" fmla="*/ 92520 w 371520"/>
                <a:gd name="textAreaRight" fmla="*/ 278280 w 371520"/>
                <a:gd name="textAreaTop" fmla="*/ 101520 h 325800"/>
                <a:gd name="textAreaBottom" fmla="*/ 30852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uzzle4"/>
            <p:cNvSpPr/>
            <p:nvPr/>
          </p:nvSpPr>
          <p:spPr>
            <a:xfrm>
              <a:off x="184680" y="372600"/>
              <a:ext cx="223920" cy="416520"/>
            </a:xfrm>
            <a:custGeom>
              <a:avLst/>
              <a:gdLst>
                <a:gd name="textAreaLeft" fmla="*/ 21240 w 223920"/>
                <a:gd name="textAreaRight" fmla="*/ 209520 w 223920"/>
                <a:gd name="textAreaTop" fmla="*/ 109080 h 416520"/>
                <a:gd name="textAreaBottom" fmla="*/ 30816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uzzle1"/>
            <p:cNvSpPr/>
            <p:nvPr/>
          </p:nvSpPr>
          <p:spPr>
            <a:xfrm>
              <a:off x="108000" y="223920"/>
              <a:ext cx="376200" cy="248400"/>
            </a:xfrm>
            <a:custGeom>
              <a:avLst/>
              <a:gdLst>
                <a:gd name="textAreaLeft" fmla="*/ 105840 w 376200"/>
                <a:gd name="textAreaRight" fmla="*/ 281160 w 376200"/>
                <a:gd name="textAreaTop" fmla="*/ 29520 h 248400"/>
                <a:gd name="textAreaBottom" fmla="*/ 22500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9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6381-7F3D-4A08-9BB1-0ADBAA22EB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нквей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, ярк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ит, греет, раду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це очень горячее т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33376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каленное, газообраз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лучает,нагревает, обжиг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ое излучение несет энер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4932360" y="1484280"/>
            <a:ext cx="0" cy="537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дия рефлексии.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 стадии рефлексии осуществляется анализ, творческая переработка, интерпретация изученной информации. Работа ведётся индивидуально - в парах - в групп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ADC4-E59E-421E-81A5-254B963335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A978-0408-468E-8DF8-C65626DBAB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Мысль в подарок…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00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меющие мыслить умею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давать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. К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j0293936"/>
          <p:cNvPicPr/>
          <p:nvPr/>
        </p:nvPicPr>
        <p:blipFill>
          <a:blip r:embed="rId1"/>
          <a:stretch/>
        </p:blipFill>
        <p:spPr>
          <a:xfrm>
            <a:off x="1258920" y="3573360"/>
            <a:ext cx="280836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F2F9-C3D3-4936-B50A-CF13F58635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то такой критически мыслящий человек? </a:t>
            </a:r>
            <a:br>
              <a:rPr sz="3200"/>
            </a:br>
            <a:r>
              <a:rPr b="1" lang="ru-RU" sz="32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человек, который не принимает ничего на веру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человек, который излишне сосредоточен на недостатках, на пробелах в информации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человек, который умеет анализировать предлагаемые сведения, не удовлетворяется одним лишь источником информац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обенности ТРКМ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ическое мышление есть мышление самостоя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я является отправным, а отнюдь не конечным пунктом критического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ическое мышление начинается с постановки вопросов и уяснения проблем, которые нужно реш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ическое мышление стремится к убедительной арг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ическое мышление есть мышление социа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89B5-753D-44EB-B55A-87910CF779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05B3-5E7A-4422-8977-536D6B61E3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Технологические этап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4360" y="1484280"/>
          <a:ext cx="7772400" cy="50896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я стадия     ВЫЗ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я стадия    ОСМЫС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я стадия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2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ация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уждение интереса к получению новой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учеником собственных целей обу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новой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ктировка поставленных учеником целей обу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дение нового зн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учеником новых целей обу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дия вызо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1280" y="620640"/>
          <a:ext cx="8532720" cy="6237360"/>
        </p:xfrm>
        <a:graphic>
          <a:graphicData uri="http://schemas.openxmlformats.org/drawingml/2006/table">
            <a:tbl>
              <a:tblPr/>
              <a:tblGrid>
                <a:gridCol w="2232000"/>
                <a:gridCol w="2233440"/>
                <a:gridCol w="4067280"/>
              </a:tblGrid>
              <a:tr h="781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иёмы и 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6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уже имеющихся знаний по изучаемому вопросу. Активизация учащихся, мотивация для дальнейшей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ИЗВЕС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вспоминает, что ему известно по изучаемому вопросу (делает предположения), систематизирует информацию до её  изучения, задаёт вопросы, на которые хотел бы получить отв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списка "известной информации"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«Ключевые слова»:знаю – хочу узнать – узна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развивающей коопераци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-предположение по ключевым слов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ая систематизация материала: кластеры, таблиц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ые и неверные утвержд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утанные логические цепоч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зговая атак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ка Блу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C70B-84EA-4051-B982-F6EB523347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омашка Блума.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1599840"/>
          <a:ext cx="7772400" cy="4530600"/>
        </p:xfrm>
        <a:graphic>
          <a:graphicData uri="http://schemas.openxmlformats.org/drawingml/2006/table"/>
        </a:graphic>
      </p:graphicFrame>
      <p:sp>
        <p:nvSpPr>
          <p:cNvPr id="120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457C-4784-4ED6-BFF1-792BE08206C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Света\Рабочий стол\ТРКМ\Ромашка вопросов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дия вызова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формация, полученная на стадии вызова, выслушивается, записывается, обсуждается. Работа ведётся индивидуально, в парах или 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F231-2A15-48F9-9C60-A0F2D42562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9" descr="http://1.bp.blogspot.com/_rt_PJKq4uKs/S1O-3f7KoYI/AAAAAAAAA6w/hnhQLwtFByE/s200/%D0%A0%D0%BE%D0%BC%D0%B0%D1%88%D0%BA%D0%B0+%D0%B2%D0%BE%D0%BF%D1%80%D0%BE%D1%81%D0%BE%D0%B2.jpg"/>
          <p:cNvPicPr/>
          <p:nvPr/>
        </p:nvPicPr>
        <p:blipFill>
          <a:blip r:embed="rId1"/>
          <a:stretch/>
        </p:blipFill>
        <p:spPr>
          <a:xfrm>
            <a:off x="6227640" y="4149720"/>
            <a:ext cx="21574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1E5E-9F39-44BF-B14F-4A496514A5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Таблицы: </a:t>
            </a:r>
            <a:br>
              <a:rPr sz="44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«Знаю – Узнал – Хочу узнать –  (ЗУХ)»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4360" y="2060640"/>
          <a:ext cx="7848360" cy="2158920"/>
        </p:xfrm>
        <a:graphic>
          <a:graphicData uri="http://schemas.openxmlformats.org/drawingml/2006/table">
            <a:tbl>
              <a:tblPr/>
              <a:tblGrid>
                <a:gridCol w="2500200"/>
                <a:gridCol w="2235240"/>
                <a:gridCol w="311292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зна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узна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хотим узнат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55640" y="4797360"/>
          <a:ext cx="7704000" cy="1901880"/>
        </p:xfrm>
        <a:graphic>
          <a:graphicData uri="http://schemas.openxmlformats.org/drawingml/2006/table">
            <a:tbl>
              <a:tblPr/>
              <a:tblGrid>
                <a:gridCol w="3527280"/>
                <a:gridCol w="4176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информации, которыми мы намерены пользов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информации, из которых мы получили/намерены получить информа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лавные сло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куда узнал(ю)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дия осмысления.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600200"/>
          <a:ext cx="8893080" cy="4997520"/>
        </p:xfrm>
        <a:graphic>
          <a:graphicData uri="http://schemas.openxmlformats.org/drawingml/2006/table">
            <a:tbl>
              <a:tblPr/>
              <a:tblGrid>
                <a:gridCol w="2965320"/>
                <a:gridCol w="2963880"/>
                <a:gridCol w="2963880"/>
              </a:tblGrid>
              <a:tr h="499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УЧИТЕЛЬь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Организация работы с текстом. Сохранение интереса к теме, постепенное продвижение от знания "старого" к "новому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ЧТО ДЕЛАТ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УЧЕНИК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читает (слушает) текст, используя предложенные учителем активные методы чтения, делает пометки на полях или ведёт записи по мере осмысления новой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ПРИЕМ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Методы активного чте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Инсерт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«6 шляп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Бортовой журн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двойной днев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тройной дневн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чтение с остановк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дерево предсказан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Толстые и тонкие вопрос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Times New Roman"/>
                        </a:rPr>
                        <a:t>Экспертиз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sp>
        <p:nvSpPr>
          <p:cNvPr id="132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3AEB-F7EF-49D1-90C8-1B4534DC97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3:48:03Z</dcterms:created>
  <dc:creator>Shill</dc:creator>
  <dc:description/>
  <dc:language>en-US</dc:language>
  <cp:lastModifiedBy>Your User Name</cp:lastModifiedBy>
  <dcterms:modified xsi:type="dcterms:W3CDTF">2011-10-02T15:41:04Z</dcterms:modified>
  <cp:revision>100</cp:revision>
  <dc:subject/>
  <dc:title>Использование технологии развития критического мышления (ТРКМ) в дистанционном обучении</dc:title>
</cp:coreProperties>
</file>