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703-EF8A-448E-8372-57516D43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46A-0474-4543-8C93-8448369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508-F636-4169-8D8E-1552A7C7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132-E120-43E4-B3FB-06C77500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AED-F13A-4C0F-B2AA-F6934351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04B3-B034-4C98-92EE-076536D3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4125-495D-40B1-91D1-79086A2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9839-4799-4A2C-B821-B641E3D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5A4-392A-4FBA-A475-186BE10C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C7D-EEB1-4F8D-A2DE-F3A66CF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1ECD-0670-4757-A14B-5A7154D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5CF-362B-4BE8-805E-8B0D06D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228-4F62-4D78-975C-2971052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7107-AC1A-4D6B-96BC-0F2A990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AD4D-0023-470D-B760-F12033A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7E90-87DA-4BE5-80D0-1EC71BEC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8F94-FA76-4C69-86B8-576534AD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4365-B488-4465-B49E-A188E15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79E3-2767-4CE2-85D8-CC5CA102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6150-5121-4E57-A62B-4FFF297B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FBA0-B7DD-4F2C-8339-55E80292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D05F-238E-442C-9F44-461F1D8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F40-B562-4D26-8893-95828DC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1E36-166A-41C3-9E46-2F3177B6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B3C1-2462-48D4-AD95-4275370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5DF9-7BED-41F4-9149-E15DC3C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1A1A-80A2-430D-908E-A3DBD19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FF70-71BD-4AC4-9E1A-0237E431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7D14-2A77-48C5-B2FD-DDD53555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C798-F6EB-421E-82C9-9A400310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05EA-F70D-4EA4-A201-1A3EC1F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2A37-01D8-4152-A057-41E653E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F24DA-DAAD-47F2-9221-EF705FB7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536-C014-4B51-8823-0D63EDB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B423-998D-4D0C-A5E7-DB9A78D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7773-DC0B-421D-B517-0F38B5E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40DB-9FF3-48A7-B5C8-7D79C32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6267-74A2-4E26-BA60-F9109F9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A6DC-3919-4612-B508-3488078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8E49-E2F6-4EA4-9139-29ADD6A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2B0F-91D5-4C2E-B8FE-1D476C4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FC7D-C151-4661-A18C-8DB324F1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6FFE-E070-4D2C-A68F-BF448889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D20-DE18-4884-8C5D-D03BE894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8B4-72A2-4E12-ABC9-3E5AA8CC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B0E-3E6D-4504-BBAD-80D61FB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3E6-2934-4E8A-9C6C-319FCE3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E6F-BC31-4EBB-81AC-E3A550B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3E3B-9EEF-42E1-99FC-4943B7C339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9CEB-E92F-443C-85D4-99DAE92A34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D173-C270-485C-AE7E-9D2E6A1E0D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2C4-3295-4D3C-BFA9-E537F3D6FA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96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игун-терап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492360" y="3499920"/>
            <a:ext cx="410400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едиекова А.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7" descr="i?id=396279952-03-72&amp;n=21"/>
          <p:cNvPicPr/>
          <p:nvPr/>
        </p:nvPicPr>
        <p:blipFill>
          <a:blip r:embed="rId1"/>
          <a:stretch/>
        </p:blipFill>
        <p:spPr>
          <a:xfrm>
            <a:off x="395280" y="2060640"/>
            <a:ext cx="27352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тодика занятий Цигу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игуне имеется много различных методик.  Подбирать соответствующие приемы и упражнения нужно с учетом течения болезни,  состояния организма больного,  его возраста, уровня инь и ян, работоспособности внутренних органов, с тем чтобы эти упражнения были максимально полезны человеку,  соответствовали его индивидуальным особенностям, – только в этом случае лечение будет эффектив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.  В зависимости от тяжести заболевания.  Тяжелобольным следует выполнять упражнения в положении лежа или сидя;  при легких болезнях –  в положении стоя,  в движении шагом, а также по методике тайцзицигуна (цигуна Великого Предел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09"/>
          <p:cNvPicPr/>
          <p:nvPr/>
        </p:nvPicPr>
        <p:blipFill>
          <a:blip r:embed="rId1"/>
          <a:stretch/>
        </p:blipFill>
        <p:spPr>
          <a:xfrm>
            <a:off x="4716360" y="1689120"/>
            <a:ext cx="35956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 .  В зависимости от характера заболевания.  Например,  при опущении желудка или почки будут полезны упражнения в положении лежа,  а также концентрация на даньтяне. Больным сердечными и легочными заболеваниями рекомендуется заниматься тайцзигу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5" descr="i?id=542137425-33-72&amp;n=21"/>
          <p:cNvPicPr/>
          <p:nvPr/>
        </p:nvPicPr>
        <p:blipFill>
          <a:blip r:embed="rId1"/>
          <a:stretch/>
        </p:blipFill>
        <p:spPr>
          <a:xfrm>
            <a:off x="4500720" y="1557360"/>
            <a:ext cx="431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.  Для разных больных с одинаковой болезнью следует выбирать различные упражнения.  Например,  для больных гепатитом,  которые любят прогулки,  нужно рекомендовать упражнения в движении шагом (синбугун); тем же, кто любит тайцзицюань, можно рекомендовать тайцзицигу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5" descr="i?id=252285679-48-72&amp;n=21"/>
          <p:cNvPicPr/>
          <p:nvPr/>
        </p:nvPicPr>
        <p:blipFill>
          <a:blip r:embed="rId1"/>
          <a:stretch/>
        </p:blipFill>
        <p:spPr>
          <a:xfrm>
            <a:off x="4643280" y="1628640"/>
            <a:ext cx="396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аосская дыхательная гимнасти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бное действие данных систем заключается, по представлению восточной медицины, в том, что благодаря определенным последовательным положениям тела, дыхательным упражнениям с концентрацией внимания, удается регулировать энергетические потоки человеческого организма, восстанавливать нарушенную гармонию и накапливать энерг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ть три важные составляющие, объединяющие все комплексы и упражнения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те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дых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со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2" descr="C:\Users\1\Desktop\94c005bb82ea.jpg"/>
          <p:cNvPicPr/>
          <p:nvPr/>
        </p:nvPicPr>
        <p:blipFill>
          <a:blip r:embed="rId1"/>
          <a:stretch/>
        </p:blipFill>
        <p:spPr>
          <a:xfrm>
            <a:off x="4648320" y="1557360"/>
            <a:ext cx="2587680" cy="2170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1\Desktop\meditacao.jpg"/>
          <p:cNvPicPr/>
          <p:nvPr/>
        </p:nvPicPr>
        <p:blipFill>
          <a:blip r:embed="rId2"/>
          <a:stretch/>
        </p:blipFill>
        <p:spPr>
          <a:xfrm>
            <a:off x="4572000" y="3843360"/>
            <a:ext cx="28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аосская школа, основной своей целью считае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епление, как тела, так и дух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ые упражнения для сохранения здоровья и долголетия, распространяемые Бянь Чжичжуном, являются частью драгоценных китайских методов по укреплению организма и профилактике заболев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Picture 2" descr="C:\Users\1\Desktop\1317643117_1.jpg"/>
          <p:cNvPicPr/>
          <p:nvPr/>
        </p:nvPicPr>
        <p:blipFill>
          <a:blip r:embed="rId1"/>
          <a:stretch/>
        </p:blipFill>
        <p:spPr>
          <a:xfrm>
            <a:off x="4648320" y="1844640"/>
            <a:ext cx="4038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кальным достоинством, отличающим эти упражнения от любых других, является то, что нагрузки при их выполнении лежат в области Сядань - нижней части жив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ое понятие (Сядань) имеет непосредственную связь с тем, что в современной западной медицине обозначается как система гипоталамус – гипофиз - половые железы, т.е. внутренняя репродуктивная систе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нципами Даосской оздоровительной гимнастики являются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биологических функций организма челове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держание органов тела здоровыми и активны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ние производства половых гормон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изация циркуляции внутренней энергии по канала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кровообращ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ование внутренних функций организм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сопротивляемости к заболевания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метаболизма и, таким образом, продлени молодости и восстановление полноценности ощущения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907560"/>
            <a:ext cx="4038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жнения наиболее эффективны для людей среднего и пожилого возраста, ослабленных или больных, с избыточным весом, страдающих от болезней, вызванных нарушением половых функций и расстройством органов внутренней секре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2" descr="C:\Users\1\Desktop\czikung.jpg"/>
          <p:cNvPicPr/>
          <p:nvPr/>
        </p:nvPicPr>
        <p:blipFill>
          <a:blip r:embed="rId1"/>
          <a:stretch/>
        </p:blipFill>
        <p:spPr>
          <a:xfrm>
            <a:off x="4932360" y="1125360"/>
            <a:ext cx="352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гун-терап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– это метод традиционной китайской медицины, основанный на представлении об энергии ци, являющейся основой функционирования человеческого организ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5" descr="i?id=6698783-47-72&amp;n=21"/>
          <p:cNvPicPr/>
          <p:nvPr/>
        </p:nvPicPr>
        <p:blipFill>
          <a:blip r:embed="rId1"/>
          <a:stretch/>
        </p:blipFill>
        <p:spPr>
          <a:xfrm>
            <a:off x="3203640" y="292428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ффекты от применения данного комплекс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симальное поглощение свежего воздуха и отдача негативных продуктов дыха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ование функционирования внутренних органо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ние циркуляции крови и энергии по организ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е повышение жизнестойк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епление конститу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половых функций и уменьшение вес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ен для лечения плечевых и спинных боле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дутия живо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нструальных б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игун в АФК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е преимущество Цигун перед Хатха Йогой в том что происходит не статическое напряжение мышц и связкой а динамическо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озволяет снизить нагрузку на сердечнососудистую систем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нировка сухожилий в данном виде упражнений очень полезна для людей страдающих от проблем с опорно-двигательным аппара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оровье человека обусловлено наличием достаточного количества энергии ци в организме и возможностью ее беспрепятственного движения в н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5" descr="i?id=238076514-14-72&amp;n=21"/>
          <p:cNvPicPr/>
          <p:nvPr/>
        </p:nvPicPr>
        <p:blipFill>
          <a:blip r:embed="rId1"/>
          <a:stretch/>
        </p:blipFill>
        <p:spPr>
          <a:xfrm>
            <a:off x="2916360" y="2924280"/>
            <a:ext cx="4968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личают следующие два направления цигунтерап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цигун-терап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яя цигун-терап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5" descr="i?id=223488814-12-72&amp;n=21"/>
          <p:cNvPicPr/>
          <p:nvPr/>
        </p:nvPicPr>
        <p:blipFill>
          <a:blip r:embed="rId1"/>
          <a:stretch/>
        </p:blipFill>
        <p:spPr>
          <a:xfrm>
            <a:off x="3348000" y="2781360"/>
            <a:ext cx="274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цигун-терапия состоит в регулировании энергии ци человеческого организма с помощью специальных упраж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яя цигун-терапия состоит в регулировании энергии ци человеческого организма непосредственно врачом цигун-терапев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казания к применению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ение цигун-терапии показано при любых заболеваниях, а также в профилактических целях. Эффективность любых методов лечения как медикаментозных, так и немедикаментозных существенно возрастает в сочетании с применением цигун-терапии. Более того, в тех случаях, когда прочие методы лечения оказываются неприменимыми или неэффективными, данный метод является единственным методом лечения и при правильном его применении неизменно приводит к положительной динамике заболе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возник Цигун?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гун - гимнастика, разработанная и усовершенствованная китайским народом в результате его длительной борьбы с природными стихиями. Она стала эффективным средством предупреждения и лечения болезней, укрепления здоровья, поддержания бодрости духа и продления жи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762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тайский народ обратился к осмыслению закона жизни несколько тысячелетий назад. На некоторых изделиях из меди, относящихся к эпохе династии Шан и раннему периоду династии Чжоу, изображены картинки, живописующие различные позы Цигуна. Это свидетельствует о том, что Цигун существовал задолго до изобретения пись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5" descr="i?id=506486172-08-72&amp;n=21"/>
          <p:cNvPicPr/>
          <p:nvPr/>
        </p:nvPicPr>
        <p:blipFill>
          <a:blip r:embed="rId1"/>
          <a:stretch/>
        </p:blipFill>
        <p:spPr>
          <a:xfrm>
            <a:off x="5219640" y="1413000"/>
            <a:ext cx="364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835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вестный отечественный китаевед Е. А. Торчинов свя-зывает происхождение цигуна с эволюцией традиционной китайской религии даосизма. В I тыс. н. э. внешние алхимические практики даосизма подверглись деградации и упадку, что послужило толчком к развитию внутренней алхимии, так называемой «даосской йоги», а уже только в ХХ столетии на её основе развивается направление цигу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Picture 5" descr="i?id=16890427-15-72&amp;n=21"/>
          <p:cNvPicPr/>
          <p:nvPr/>
        </p:nvPicPr>
        <p:blipFill>
          <a:blip r:embed="rId1"/>
          <a:stretch/>
        </p:blipFill>
        <p:spPr>
          <a:xfrm>
            <a:off x="5364000" y="2205000"/>
            <a:ext cx="2455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4:14Z</dcterms:created>
  <dc:creator>Afiopochka</dc:creator>
  <dc:description/>
  <dc:language>en-US</dc:language>
  <cp:lastModifiedBy>Trenerskaya</cp:lastModifiedBy>
  <dcterms:modified xsi:type="dcterms:W3CDTF">2019-12-03T05:53:54Z</dcterms:modified>
  <cp:revision>16</cp:revision>
  <dc:subject/>
  <dc:title>Цигун-терапия</dc:title>
</cp:coreProperties>
</file>