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D28-81C5-4A2D-ABB1-B01F8B64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1AD-E4CF-442C-A837-47EF7F14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0DB-D4EE-4F45-894E-4BD28BEE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C99-8227-4960-856A-468C946B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932-0AC7-46E6-A82C-A1D2C4F0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65D-66FF-4CA7-908E-16F8EF0A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B8F2-D098-43D8-8EA6-026FF2D8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4DC9-3727-44F6-BA11-13483126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4FDC-7244-4883-AD49-E1F7A91A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A43-8256-4A14-8E7A-EDA3C88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09F-CB63-4E99-9E30-2BE60030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724-D6EF-49F4-93AF-C8B87995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22F-6A71-49B4-82C8-7C69C91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8756-DF59-4165-B977-528AD7B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BBDE-4A88-4741-9768-5F2D1436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453B-6A7F-4CE1-8EDF-C06B38E2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A0D-E227-4F97-9C22-9191163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5FB1-3786-43BF-8811-AB529A4F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5239-83F9-4282-9E34-9771E0CC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45E5-8378-4A96-A676-E9F647A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7B25-F6B9-42D2-A1AA-1564AE3C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C64E-D7B5-4B58-822F-F6DABAC6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68A-528A-439F-8777-3AAD28C9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1F10-85FF-4570-A236-D5C654EB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B292-9B63-4413-813E-7E4466FA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8B87-4871-4987-B786-B2AE7CB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5D4C-A30E-4E3D-BAFF-5CC4D4E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5658-7F2B-48DE-AD0B-ABE28400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95CF-C88B-471E-BB7E-4F08FB64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64CB-74BA-4956-9CD2-2D70626E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4632D-58E5-45F4-9677-919F5550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B5DD-CCF6-4D06-B6F1-94B0B438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0550-763D-4D65-82EE-FBD57744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1E2-2B07-4EB0-8027-DAD6DA67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D551-A665-45F0-8AA8-DA425F7F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866FA-8563-498E-B7C9-CB9E8970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2EC6-93CC-46CC-B64F-E428D44D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15457-64FB-41B9-9BA5-C4ADC21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29E7-6C2F-42B8-B0B3-A6F6860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4379-22E9-4868-BC49-876885C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9C63-BC85-4CAD-9CB5-65E82E7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8326-FFBD-4E77-8164-8951A573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3EB0-3BC9-40F2-AED3-E2680E26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A30-48E2-4A06-9FD8-17AD5A52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EBB-7F5D-42C4-897E-9EEFDFD8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118-7E53-4AD4-8374-5735DF3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610-6758-45F0-8AD7-4AE2C0A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16B-92C7-49EF-9268-7132637F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66EE-C62E-4C13-8E59-F313305209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A49A-0CDD-4997-B349-96E6422BF9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FF4A-B4F8-4983-9C05-AAC45699D9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FD67-6CF6-440A-A561-A2EC73B063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96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игун-терап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492360" y="3499920"/>
            <a:ext cx="4104000" cy="27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едиекова А.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019 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7" descr="i?id=396279952-03-72&amp;n=21"/>
          <p:cNvPicPr/>
          <p:nvPr/>
        </p:nvPicPr>
        <p:blipFill>
          <a:blip r:embed="rId1"/>
          <a:stretch/>
        </p:blipFill>
        <p:spPr>
          <a:xfrm>
            <a:off x="395280" y="2060640"/>
            <a:ext cx="27352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тодика занятий Цигу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игуне имеется много различных методик.  Подбирать соответствующие приемы и упражнения нужно с учетом течения болезни,  состояния организма больного,  его возраста, уровня инь и ян, работоспособности внутренних органов, с тем чтобы эти упражнения были максимально полезны человеку,  соответствовали его индивидуальным особенностям, – только в этом случае лечение будет эффективн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нципы подбора упражн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.  В зависимости от тяжести заболевания.  Тяжелобольным следует выполнять упражнения в положении лежа или сидя;  при легких болезнях –  в положении стоя,  в движении шагом, а также по методике тайцзицигуна (цигуна Великого Предел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09"/>
          <p:cNvPicPr/>
          <p:nvPr/>
        </p:nvPicPr>
        <p:blipFill>
          <a:blip r:embed="rId1"/>
          <a:stretch/>
        </p:blipFill>
        <p:spPr>
          <a:xfrm>
            <a:off x="4716360" y="1689120"/>
            <a:ext cx="35956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нципы подбора упражн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 .  В зависимости от характера заболевания.  Например,  при опущении желудка или почки будут полезны упражнения в положении лежа,  а также концентрация на даньтяне. Больным сердечными и легочными заболеваниями рекомендуется заниматься тайцзигу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5" descr="i?id=542137425-33-72&amp;n=21"/>
          <p:cNvPicPr/>
          <p:nvPr/>
        </p:nvPicPr>
        <p:blipFill>
          <a:blip r:embed="rId1"/>
          <a:stretch/>
        </p:blipFill>
        <p:spPr>
          <a:xfrm>
            <a:off x="4500720" y="1557360"/>
            <a:ext cx="431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нципы подбора упражн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 .  Для разных больных с одинаковой болезнью следует выбирать различные упражнения.  Например,  для больных гепатитом,  которые любят прогулки,  нужно рекомендовать упражнения в движении шагом (синбугун); тем же, кто любит тайцзицюань, можно рекомендовать тайцзицигу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Picture 5" descr="i?id=252285679-48-72&amp;n=21"/>
          <p:cNvPicPr/>
          <p:nvPr/>
        </p:nvPicPr>
        <p:blipFill>
          <a:blip r:embed="rId1"/>
          <a:stretch/>
        </p:blipFill>
        <p:spPr>
          <a:xfrm>
            <a:off x="4643280" y="1628640"/>
            <a:ext cx="396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аосская дыхательная гимнасти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бное действие данных систем заключается, по представлению восточной медицины, в том, что благодаря определенным последовательным положениям тела, дыхательным упражнениям с концентрацией внимания, удается регулировать энергетические потоки человеческого организма, восстанавливать нарушенную гармонию и накапливать энерг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ть три важные составляющие, объединяющие все комплексы и упражнения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ирование тел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ирование дых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ирование со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Picture 2" descr="C:\Users\1\Desktop\94c005bb82ea.jpg"/>
          <p:cNvPicPr/>
          <p:nvPr/>
        </p:nvPicPr>
        <p:blipFill>
          <a:blip r:embed="rId1"/>
          <a:stretch/>
        </p:blipFill>
        <p:spPr>
          <a:xfrm>
            <a:off x="4648320" y="1557360"/>
            <a:ext cx="2587680" cy="2170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1\Desktop\meditacao.jpg"/>
          <p:cNvPicPr/>
          <p:nvPr/>
        </p:nvPicPr>
        <p:blipFill>
          <a:blip r:embed="rId2"/>
          <a:stretch/>
        </p:blipFill>
        <p:spPr>
          <a:xfrm>
            <a:off x="4572000" y="3843360"/>
            <a:ext cx="28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аосская школа, основной своей целью считае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епление, как тела, так и дух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ные упражнения для сохранения здоровья и долголетия, распространяемые Бянь Чжичжуном, являются частью драгоценных китайских методов по укреплению организма и профилактике заболев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Picture 2" descr="C:\Users\1\Desktop\1317643117_1.jpg"/>
          <p:cNvPicPr/>
          <p:nvPr/>
        </p:nvPicPr>
        <p:blipFill>
          <a:blip r:embed="rId1"/>
          <a:stretch/>
        </p:blipFill>
        <p:spPr>
          <a:xfrm>
            <a:off x="4648320" y="1844640"/>
            <a:ext cx="4038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кальным достоинством, отличающим эти упражнения от любых других, является то, что нагрузки при их выполнении лежат в области Сядань - нижней части живо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ое понятие (Сядань) имеет непосредственную связь с тем, что в современной западной медицине обозначается как система гипоталамус – гипофиз - половые железы, т.е. внутренняя репродуктивная систе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нципами Даосской оздоровительной гимнастики являются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биологических функций организма челове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держание органов тела здоровыми и активным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ние производства половых гормон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изация циркуляции внутренней энергии по канала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кровообращ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ование внутренних функций организм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сопротивляемости к заболевания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метаболизма и, таким образом, продлени молодости и восстановление полноценности ощущения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907560"/>
            <a:ext cx="4038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ажнения наиболее эффективны для людей среднего и пожилого возраста, ослабленных или больных, с избыточным весом, страдающих от болезней, вызванных нарушением половых функций и расстройством органов внутренней секре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2" descr="C:\Users\1\Desktop\czikung.jpg"/>
          <p:cNvPicPr/>
          <p:nvPr/>
        </p:nvPicPr>
        <p:blipFill>
          <a:blip r:embed="rId1"/>
          <a:stretch/>
        </p:blipFill>
        <p:spPr>
          <a:xfrm>
            <a:off x="4932360" y="1125360"/>
            <a:ext cx="352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гун-терап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– это метод традиционной китайской медицины, основанный на представлении об энергии ци, являющейся основой функционирования человеческого организм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5" descr="i?id=6698783-47-72&amp;n=21"/>
          <p:cNvPicPr/>
          <p:nvPr/>
        </p:nvPicPr>
        <p:blipFill>
          <a:blip r:embed="rId1"/>
          <a:stretch/>
        </p:blipFill>
        <p:spPr>
          <a:xfrm>
            <a:off x="3203640" y="292428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ффекты от применения данного комплекс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симальное поглощение свежего воздуха и отдача негативных продуктов дыха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ование функционирования внутренних органо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имулирование циркуляции крови и энергии по организ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е повышение жизнестойк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епление конституц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учшение половых функций и уменьшение вес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ен для лечения плечевых и спинных боле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дутия живо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нструальных б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игун в АФК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ое преимущество Цигун перед Хатха Йогой в том что происходит не статическое напряжение мышц и связкой а динамическо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озволяет снизить нагрузку на сердечнососудистую систем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нировка сухожилий в данном виде упражнений очень полезна для людей страдающих от проблем с опорно-двигательным аппара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 ВНИМАНИ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оровье человека обусловлено наличием достаточного количества энергии ци в организме и возможностью ее беспрепятственного движения в н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Picture 5" descr="i?id=238076514-14-72&amp;n=21"/>
          <p:cNvPicPr/>
          <p:nvPr/>
        </p:nvPicPr>
        <p:blipFill>
          <a:blip r:embed="rId1"/>
          <a:stretch/>
        </p:blipFill>
        <p:spPr>
          <a:xfrm>
            <a:off x="2916360" y="2924280"/>
            <a:ext cx="49687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личают следующие два направления цигунтерап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цигун-терап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шняя цигун-терап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5" descr="i?id=223488814-12-72&amp;n=21"/>
          <p:cNvPicPr/>
          <p:nvPr/>
        </p:nvPicPr>
        <p:blipFill>
          <a:blip r:embed="rId1"/>
          <a:stretch/>
        </p:blipFill>
        <p:spPr>
          <a:xfrm>
            <a:off x="3348000" y="2781360"/>
            <a:ext cx="274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цигун-терапия состоит в регулировании энергии ци человеческого организма с помощью специальных упраж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ешняя цигун-терапия состоит в регулировании энергии ци человеческого организма непосредственно врачом цигун-терапев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казания к применению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нение цигун-терапии показано при любых заболеваниях, а также в профилактических целях. Эффективность любых методов лечения как медикаментозных, так и немедикаментозных существенно возрастает в сочетании с применением цигун-терапии. Более того, в тех случаях, когда прочие методы лечения оказываются неприменимыми или неэффективными, данный метод является единственным методом лечения и при правильном его применении неизменно приводит к положительной динамике заболе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к возник Цигун?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гун - гимнастика, разработанная и усовершенствованная китайским народом в результате его длительной борьбы с природными стихиями. Она стала эффективным средством предупреждения и лечения болезней, укрепления здоровья, поддержания бодрости духа и продления жи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762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тайский народ обратился к осмыслению закона жизни несколько тысячелетий назад. На некоторых изделиях из меди, относящихся к эпохе династии Шан и раннему периоду династии Чжоу, изображены картинки, живописующие различные позы Цигуна. Это свидетельствует о том, что Цигун существовал задолго до изобретения пись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5" descr="i?id=506486172-08-72&amp;n=21"/>
          <p:cNvPicPr/>
          <p:nvPr/>
        </p:nvPicPr>
        <p:blipFill>
          <a:blip r:embed="rId1"/>
          <a:stretch/>
        </p:blipFill>
        <p:spPr>
          <a:xfrm>
            <a:off x="5219640" y="1413000"/>
            <a:ext cx="364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835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вестный отечественный китаевед Е. А. Торчинов свя-зывает происхождение цигуна с эволюцией традиционной китайской религии даосизма. В I тыс. н. э. внешние алхимические практики даосизма подверглись деградации и упадку, что послужило толчком к развитию внутренней алхимии, так называемой «даосской йоги», а уже только в ХХ столетии на её основе развивается направление цигу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Picture 5" descr="i?id=16890427-15-72&amp;n=21"/>
          <p:cNvPicPr/>
          <p:nvPr/>
        </p:nvPicPr>
        <p:blipFill>
          <a:blip r:embed="rId1"/>
          <a:stretch/>
        </p:blipFill>
        <p:spPr>
          <a:xfrm>
            <a:off x="5364000" y="2205000"/>
            <a:ext cx="2455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4:34:14Z</dcterms:created>
  <dc:creator>Afiopochka</dc:creator>
  <dc:description/>
  <dc:language>en-US</dc:language>
  <cp:lastModifiedBy>Trenerskaya</cp:lastModifiedBy>
  <dcterms:modified xsi:type="dcterms:W3CDTF">2019-12-03T05:53:54Z</dcterms:modified>
  <cp:revision>16</cp:revision>
  <dc:subject/>
  <dc:title>Цигун-терапия</dc:title>
</cp:coreProperties>
</file>