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3.gif" ContentType="image/gif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DB36-D79E-43E0-BF82-88390040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CC32-1221-49BE-9DBD-CA90A4EF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D09D-017A-4C2F-9F22-2D1FDF8D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2780-7A3A-4286-92B8-3EF160CE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BB0D-D583-480C-9A22-683BE5CD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ACEA-43D3-4975-84ED-0D36ABFF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5DE-CAA4-40B4-AFE4-6ED79E07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6178-04C4-45AE-B123-92BEA319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F94-1C36-44CA-B2F9-D4EB20AE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7722-FF56-49F6-989C-4A4CC081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69FC-A32B-4C2F-845A-2D3BFBDD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DE33-C9E0-4AB3-858A-84F27FDE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91EB-C2B9-40B7-AAB4-AAA98A9233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81360" y="3429000"/>
            <a:ext cx="63828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195640" y="692280"/>
            <a:ext cx="5832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1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вая помощь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66920" y="4653000"/>
            <a:ext cx="5400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 остановке сердц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7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2277000"/>
            <a:ext cx="54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в, что грудная клетка приподнимается во время искусственного дыхания, прикоснитесь двумя пальцами к адамову ябло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стите пальцы в углубление между адамовым яблоком и мышцей на боковой стороне ше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чение 5—10 секунд пытайтесь нащупать пуль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588000" y="2349360"/>
            <a:ext cx="2238480" cy="222912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8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134080"/>
            <a:ext cx="54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ульс есть, продолжайте искусственное дыхание, производя по 1 вдуванию воздуха каждые 4 секу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каждые 15 вдуваний проверяйте пуль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1 минуту вызовите неотложную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 продолжайте искусственное дыхание с проверкой пуль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588000" y="2205000"/>
            <a:ext cx="2238480" cy="232416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1989720"/>
            <a:ext cx="54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ульса нет, начинайте непрямой массаж серд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яя положения головы ребенка, положите выступ своей ладони ему на грудину 5 раз так, чтобы грудина каждый раз опускалась на 2,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жимайте на грудину плавно и ритмично, не отрывая от нее выступа ладо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443640" y="2060640"/>
            <a:ext cx="2238480" cy="202860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356000" y="404640"/>
            <a:ext cx="79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10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193176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дуйте 1 вдувание воздуха с 5 нажатиями на груд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ите эти приемы 10 ра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659640" y="1052640"/>
            <a:ext cx="2238120" cy="454320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356000" y="404640"/>
            <a:ext cx="79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11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220464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ова в течение 5—10 секунд пытайтесь нащупать пуль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659640" y="2060640"/>
            <a:ext cx="2238120" cy="222876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1187280" y="514944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торяйте приемы, описанные в пунктах 10 и 11, до появления пульса или прибытия врача. Если пульс восстановился, повторяйте прием, описанный в пункте 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2340000" y="1700280"/>
            <a:ext cx="511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1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асть II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/>
          <p:nvPr/>
        </p:nvSpPr>
        <p:spPr>
          <a:xfrm>
            <a:off x="971640" y="5588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новка сердца и дыхания у ребенка старше 8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87280" y="765720"/>
            <a:ext cx="77774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анные ниже приемы восстановления сердечной деятельности и дыхания никогда не заменят навыков, приобретенных в ходе специального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ая подготовка позволяет проводить реанимацию гораздо успешн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20360" y="40464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то нужно зн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3717000"/>
            <a:ext cx="741672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сердце у ребенка бьется, надавливаний на грудную клетку делать не нужно: это может привести к остановке серд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подозреваете у ребенка травму позвоночника, не двигайте его голову и шею, когда определяете, дышит ли 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51960" y="321300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его не следует дел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60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44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1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220464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ы выяснить, в сознании ли ребенок, осторожно потеребите его и позовите по и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588000" y="2276640"/>
            <a:ext cx="22384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242064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ребенок не реагирует, то, крепко поддерживая рукой голову и шею и не сгибая ему спину, положите ребенка на твердую поверхность лицом вверх и обнажите ему груд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516720" y="2349360"/>
            <a:ext cx="223848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1916280"/>
            <a:ext cx="64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освободить дыхательные пути от запавшего языка, приподнимите ребенку подбородок и отведите голову наз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подозреваете у ребенка травму позвоночника, выдвиньте его нижнюю челюсть вперед, стараясь при этом не двигать голову и шею. Рот ребенка должен оставаться открыт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516720" y="4653000"/>
            <a:ext cx="2238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340000" y="1700280"/>
            <a:ext cx="511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1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асть I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5588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ановка сердца и дыхания у ребенка 1—8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4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349360"/>
            <a:ext cx="54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итесь ухом ко рту ребенка, чтобы услышать его дыхание, и посмотрите, движется ли его грудная кле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матривайтесь и прислушивайтесь не более 5 секун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588000" y="2349360"/>
            <a:ext cx="22384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305440"/>
            <a:ext cx="547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ебенок не дышит, приступайте к искусственному дыха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яя положения головы ребенка, большим и указательным пальцами зажмите ему нос и плотно прижмите свой рот к его р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елайте 2 медленных полных вдувания воздуха, с паузой между ни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588000" y="2349360"/>
            <a:ext cx="223848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6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234936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грудная клетка во время искусственного дыхания не приходит в движение, измените положение головы ребенка и сделайте еще 2 вдувания воздух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588000" y="2421000"/>
            <a:ext cx="22384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7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2277000"/>
            <a:ext cx="54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в, что грудная клетка приподнимается во время искусственного дыхания, прикоснитесь двумя пальцами к адамову ябло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стите пальцы в углубление между адамовым яблоком и мышцей на боковой стороне ше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чение 5—10 секунд пытайтесь нащупать пуль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588000" y="2492280"/>
            <a:ext cx="223848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8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2134080"/>
            <a:ext cx="54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ульс есть, продолжайте искусственное дыхание, производя по 1 вдуванию воздуха кажд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ку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каждые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дуваний проверяйте пуль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1 минуту вызовите неотложную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 продолжайте искусственное дыхание с проверкой пуль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659640" y="2349360"/>
            <a:ext cx="223812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1486080"/>
            <a:ext cx="54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ульса нет, начинайте непрямой массаж серд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яя положения головы ребенка, положите выступ своей ладони ему на грудину на 2 пальца выше ее нижне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ю другую руку положите сверху. Пальцы рук сомкните замком, при этом они не должны касаться груди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йтесь чуть вперед и в течение 10 секунд резко нажмите на грудину 15 раз так, чтобы грудина каждый раз опускалась на 4—5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жимайте на грудину плавно и ритмично, не отрывая от нее выступа ладо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877080" y="2421000"/>
            <a:ext cx="1969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4356000" y="404640"/>
            <a:ext cx="79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10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193176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дуйте 2 вдувания воздуха с 15 нажатиями на груд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ите эти приемы 4 р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516720" y="907920"/>
            <a:ext cx="22384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4356000" y="404640"/>
            <a:ext cx="79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11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220464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ова в течение 5—10 секунд пытайтесь нащупать пуль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87280" y="514944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торяйте приемы, описанные в пунктах 10 и 11, до появления пульса или прибытия врача. Если пульс восстановился, повторяйте прием, описанный в пункте 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6372360" y="2060640"/>
            <a:ext cx="22381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87280" y="765720"/>
            <a:ext cx="77774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анные ниже приемы восстановления сердечной деятельности и дыхания никогда не заменят навыков, приобретенных в ходе специального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ая подготовка позволяет проводить реанимацию гораздо успешн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20360" y="40464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то нужно зн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3717000"/>
            <a:ext cx="741672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сердце у ребенка бьется, надавливаний на грудную клетку делать не нужно: это может привести к остановке серд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подозреваете у ребенка травму позвоночника, не двигайте его голову и шею, когда определяете, дышит ли 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51960" y="321300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его не следует дел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6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44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581880" y="2270160"/>
            <a:ext cx="2238120" cy="223848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  <p:sp>
        <p:nvSpPr>
          <p:cNvPr id="59" name="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1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220464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ы выяснить, в сознании ли ребенок, осторожно потеребите его и позовите по и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242064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ребенок не реагирует, то, крепко поддерживая рукой голову и шею и не сгибая ему спину, положите ребенка на твердую поверхность лицом вверх и обнажите ему груд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659640" y="2349360"/>
            <a:ext cx="2238120" cy="216216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1916280"/>
            <a:ext cx="64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освободить дыхательные пути от запавшего языка, приподнимите ребенку подбородок и отведите голову наз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подозреваете у ребенка травму позвоночника, выдвиньте его нижнюю челюсть вперед, стараясь при этом не двигать голову и шею. Рот ребенка должен оставаться открыт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581880" y="4365720"/>
            <a:ext cx="2238120" cy="221940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4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2349360"/>
            <a:ext cx="54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итесь ухом ко рту ребенка, чтобы услышать его дыхание, и посмотрите, движется ли его грудная кле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матривайтесь и прислушивайтесь не более 5 секун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588000" y="2276640"/>
            <a:ext cx="2238480" cy="208584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2305440"/>
            <a:ext cx="547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ебенок не дышит, приступайте к искусственному дыха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яя положения головы ребенка, большим и указательным пальцами зажмите ему нос и плотно прижмите свой рот к его р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елайте 2 медленных полных вдувания воздуха, с паузой между ни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588000" y="2205000"/>
            <a:ext cx="2238480" cy="234324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6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234936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грудная клетка во время искусственного дыхания не приходит в движение, измените положение головы ребенка и сделайте еще 2 вдувания воздух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588000" y="2205000"/>
            <a:ext cx="2238480" cy="242892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8:05:39Z</dcterms:created>
  <dc:creator>Афанасьев И.В.</dc:creator>
  <dc:description/>
  <dc:language>en-US</dc:language>
  <cp:lastModifiedBy>Вадимыч</cp:lastModifiedBy>
  <dcterms:modified xsi:type="dcterms:W3CDTF">2008-06-02T17:47:12Z</dcterms:modified>
  <cp:revision>8</cp:revision>
  <dc:subject/>
  <dc:title>Первая помощь при остановке сердца</dc:title>
</cp:coreProperties>
</file>