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A00-505C-48F1-B4F0-4291A461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C6F-2492-4F94-AD4B-E934293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A3B-1268-47A9-9740-535B893B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DED-0C32-41A3-BF8A-76586384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700-4375-4B8F-A61C-92B0C900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5EF-C188-438A-A01A-C626CA4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651-8F0E-439F-B2D5-DD82665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4EF4-3AAF-49F6-90E2-5E7F303F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5DF0-E923-47FC-9DEA-9DF17F9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3263-FF2D-43EA-8AD7-5F8AF24D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229E-6B9A-4196-9379-A87FF09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4F6-6146-47CF-9839-0C20C84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0C49-8485-44C6-B35B-F12C500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96E6-5C35-4AE6-AC26-EA67AFB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B91-DBEB-4548-9D62-FC6575F2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6C6D-A313-4FAF-AF5C-67574441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51BE-2B25-48A0-9658-BBFDD268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3C00F-FF77-48E5-A900-25699C66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CB7E5C-986F-4DCE-84F5-73E791AD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2AEEE-1FA1-45D1-8DAE-63D4463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AA420-B4A8-45F9-A599-BAE452D6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9047C-A2C7-4C34-B514-B9B48E81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84B-FB54-4B77-A892-FA778560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4E3CB-5352-43D9-AA89-4FB2E85C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90248-E6C7-41CE-9284-D89D52B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A8993-C61D-4ADB-B6CA-AA222D85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3C796-4511-4328-A271-BC1FDB1D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199B7-5665-4E2B-BB58-4D3C6E52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4050E-210E-491F-9C97-3A042C6D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15848-4AF0-401E-86C4-A8C9C3E3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C32-F615-481C-A899-17B7834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43E-F4EF-4EBE-8D08-4463295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9D8-1CB7-46B5-B539-F094F05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F45-0B4F-4CD1-83A3-52448F2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4A5-2A89-4F29-8EE3-5831C52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C9D-6FED-4932-833F-3BA448F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A8B-4280-4CAE-A3F7-93A3A9965C5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26B7-887F-41FC-81EF-5FA44F46C39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9C8-B0F0-4866-BD43-9226C35FCD7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1773360"/>
            <a:ext cx="8207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nstantia"/>
              </a:rPr>
              <a:t>при ранениях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335640" cy="4751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189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кровотечения методом максимального сгибания конеч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1413000"/>
            <a:ext cx="21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гибательную поверхность локтевого или коленного сустава помещают небольшого размера валик из плотно скатанной ткани и затем максимально сгибают руку (ногу) в локтевом (коленном) суставе соответ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тановка кровотечения из подключной артерии путём максимального отвода рук 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280836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ксимально отвести назад левое и правое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Отведенные плечи зафиксировать за спиной, используя широкий бинт или подходящую мате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9244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4730" t="27722" r="5499" b="31946"/>
          <a:stretch/>
        </p:blipFill>
        <p:spPr>
          <a:xfrm>
            <a:off x="1116000" y="1484280"/>
            <a:ext cx="6840720" cy="2305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19280" y="260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ила оказания первой помощи при ранении коне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870360"/>
            <a:ext cx="6696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риподнять конечность и прижать арте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Наложить кровоостанавливающий жгут или тугую давящую повяз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Накрыть рану салфеткой и закрепить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5445000"/>
            <a:ext cx="85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гут на конечность можно наложить не более, чем на 1 ча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лучае посинения и отёка конечности (при неправильном наложении жгута) следует немедленно заново наложить жг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венозного и капиллярного кровоте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43700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пиллярное и венозное кровотечение останавливают наложением стерильной давящей повязки. При венозном кровотечении поврежденную конечность следует приподн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остановленном кровотечении давящую повязку можно не снимать до поступления больно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105264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Arial"/>
              </a:rPr>
              <a:t>При венозном кровотечении темная кровь вытекает медленно, равномерно, непрямой стру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409840" cy="1927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3213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Arial"/>
              </a:rPr>
              <a:t>При капиллярном кровотечении кровь сочится каплями со всей раненой поверх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00720" y="2205000"/>
            <a:ext cx="24480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4639" r="0" b="7167"/>
          <a:stretch/>
        </p:blipFill>
        <p:spPr>
          <a:xfrm>
            <a:off x="755640" y="1413000"/>
            <a:ext cx="762012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ложение повязок на разные части тела при венозном и капиллярном кровотеч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1484280"/>
            <a:ext cx="25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ет огромное множество видов повязок. Каждая из них имеет своё предназначение и особенности нало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335772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предплечь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86900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область затыл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465300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тод наложения повязки на нижнюю часть живота и паховую обл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rcRect l="25502" t="18917" r="31025" b="5499"/>
          <a:stretch/>
        </p:blipFill>
        <p:spPr>
          <a:xfrm>
            <a:off x="1258920" y="1773360"/>
            <a:ext cx="3313080" cy="431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03280" y="47628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ила оказания первой помощи при ранении гру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1844640"/>
            <a:ext cx="3095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жать ладонь к ране, чтобы воздух не поступал через неё в грудную по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ложить на рану герметичную повязку или лейкопластыр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пособы обездвиживания (иммобилизации)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471680"/>
            <a:ext cx="82072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ая цель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 иммобилиз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беспечить по возможности полный покой поврежденной части тела, что исключает дополнительную травматизацию и уменьшает б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иммобилизаци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обездвижить два сустава (выше и ниже места перелом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положить слой ваты или мягкой ткани на определяющиеся под кожей костные высту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ладывать шины надо остор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ны должны быть прочными и как можно более лег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76500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e104"/>
                </a:solidFill>
                <a:latin typeface="Times New Roman"/>
              </a:rPr>
              <a:t>Рана</a:t>
            </a: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- нарушение целостности кожи и слизистых оболочек.</a:t>
            </a: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fac9"/>
                </a:solidFill>
                <a:latin typeface="Times New Roman"/>
              </a:rPr>
              <a:t>При ранении (процессе нанесении раны) могут быть также повреждены мышцы, сосуды, нервные волокна, внутренние орга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6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ичины ра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4000" y="1197000"/>
            <a:ext cx="8424720" cy="5083200"/>
            <a:chOff x="324000" y="1197000"/>
            <a:chExt cx="8424720" cy="5083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424720" cy="50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7812000" y="5662800"/>
              <a:ext cx="720720" cy="61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0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Раны бывают резанные, ушибленные, рубленные, колотые, укушен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00000" y="1700280"/>
            <a:ext cx="7508880" cy="4806720"/>
            <a:chOff x="900000" y="1700280"/>
            <a:chExt cx="7508880" cy="48067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900000" y="1700280"/>
              <a:ext cx="7508880" cy="48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7524720" y="5900760"/>
              <a:ext cx="72072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Меры асептики и антисептики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197000"/>
            <a:ext cx="82072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Асеп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это метод, обеспечивающий предупреждение попадания микробов в рану при ее обработке. Включает в себя стерилизацию инструментов и обработку рук оказывающего медицин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Основной закон асепт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1201"/>
                </a:solidFill>
                <a:latin typeface="Arial"/>
              </a:rPr>
              <a:t>всё, что приходит в соприкосновение с раной, должно быть стериль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e104"/>
                </a:solidFill>
                <a:latin typeface="Arial"/>
              </a:rPr>
              <a:t>Антисеп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комплекс мероприятий, направленных на уничтожение микробов на коже, в ране или в организме (в цел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дзаголовок 2"/>
          <p:cNvSpPr/>
          <p:nvPr/>
        </p:nvSpPr>
        <p:spPr>
          <a:xfrm>
            <a:off x="539640" y="476280"/>
            <a:ext cx="8353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7417080" cy="3647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260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e104"/>
                </a:solidFill>
                <a:latin typeface="Times New Roman"/>
              </a:rPr>
              <a:t>Признаки ранения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боль, обычно кровотечение, нарушение целостности тка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7584" r="0" b="8000"/>
          <a:stretch/>
        </p:blipFill>
        <p:spPr>
          <a:xfrm>
            <a:off x="755640" y="907920"/>
            <a:ext cx="7620120" cy="482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18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иды кровоте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51577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Артериальное кровот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4581360"/>
            <a:ext cx="13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Веноз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2421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Внутренне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4581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Капилляр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349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351b"/>
                </a:solidFill>
                <a:latin typeface="Arial"/>
              </a:rPr>
              <a:t>Наружное кровоте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характеру кровотечение может бы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альное; венозное; капилляр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285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632720" cy="5362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становка артериального кровотечения подручными средст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9973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жать пальцем артерию выше кровоте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85264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а расстоянии 3-5 см выше раны вокруг конечности наложить любую чистую и мягкую мат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950080"/>
            <a:ext cx="29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ставить пострадавшего с наложенным жгутом в мед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4437000"/>
            <a:ext cx="230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януть жгут двумя руками в средней части, плотно приложить жгут к конечности, сделать необходимое число оборотов вокруг конеч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5661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крепить к жгуту записку с указанием точного времени его на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rcRect l="28354" t="0" r="28187" b="0"/>
          <a:stretch/>
        </p:blipFill>
        <p:spPr>
          <a:xfrm>
            <a:off x="5003640" y="260280"/>
            <a:ext cx="358776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18900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очки остановки артериального кровотечения паль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421000"/>
            <a:ext cx="402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 применяется в случае, если не удалось остановить кровотечение путём прямого давления или подъёма конечности, при этом пальцами или кулаком надавливается в точках зажатия арте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Admin</dc:creator>
  <dc:description/>
  <dc:language>en-US</dc:language>
  <cp:lastModifiedBy>Аня</cp:lastModifiedBy>
  <dcterms:modified xsi:type="dcterms:W3CDTF">2008-12-18T17:14:17Z</dcterms:modified>
  <cp:revision>31</cp:revision>
  <dc:subject/>
  <dc:title>Лесков</dc:title>
</cp:coreProperties>
</file>