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854-60C8-4811-BA73-203DA998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0A0-5C63-4DB3-9BCB-3CBE3D04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D93-4A40-4DCC-9919-B07F9498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CB4-731E-4F30-8142-398E43B1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023D-8987-4A9C-A8F8-4A8CBBCA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37C-A68B-4D56-99A2-7B99BEFA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4C6-7C77-4453-AAB8-E39FDEA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04A1-444F-4F2B-BF0E-4F580BA3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2C0-C001-475C-BD45-6B8CE47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ED88-28EA-4D54-B5B3-B5ECFC04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AE0B-2FAF-49A5-B757-81F64CD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073-4292-428E-9997-68E4AA0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774E-E483-4F89-A9D9-1CD012F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C4A4-CC80-463C-9575-9F89D44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FF11-0439-4311-A2E5-E10574B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227D-0BBE-484A-89AE-B6DBAAC5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CF9-153A-4272-81DB-2223A9FD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F8E-A1FA-4291-8926-6556850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E45-BDCB-40FD-BB2B-C405D317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AB3-EAFF-48FB-B9FE-8E8B690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031-A031-4AA4-AC82-7E9D84EC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067-CCD8-4241-BACC-96F58CC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5EA-14E8-43F1-8C0B-0F86D24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420-5E3E-4622-A33A-C667F1D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15DB-1A93-4245-9F38-31155429A6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AE0-C538-44FA-8E67-CD6620835E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319040" y="542880"/>
            <a:ext cx="667728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нглицизмы в городской сред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4543560" y="4005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ученица 9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Иванова Дарья Игор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Мавлютова Розалина Ришат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1259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ламная формула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A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66680" y="1557360"/>
            <a:ext cx="7250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ntion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влечь внимание покупате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est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заинтересовать его предложени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ire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збудить желание иметь рекламируемый това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онечная цель - побудить покупателя к главному действию - покупке тов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1294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Анкетирование учен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3" descr="C:\college\открытый урок\картинки\13.jpg"/>
          <p:cNvPicPr/>
          <p:nvPr/>
        </p:nvPicPr>
        <p:blipFill>
          <a:blip r:embed="rId1"/>
          <a:stretch/>
        </p:blipFill>
        <p:spPr>
          <a:xfrm>
            <a:off x="1979640" y="2276640"/>
            <a:ext cx="5081400" cy="358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4"/>
          <p:cNvGraphicFramePr/>
          <p:nvPr/>
        </p:nvGraphicFramePr>
        <p:xfrm>
          <a:off x="1187280" y="907920"/>
          <a:ext cx="75438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75438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1185840" y="685800"/>
          <a:ext cx="7556400" cy="58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685800"/>
                    <a:ext cx="755640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538200" y="338040"/>
          <a:ext cx="7377120" cy="57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338040"/>
                    <a:ext cx="7377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вод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английского языка очень выгодно в условиях развивающейся среды рекламных коммуникаций, за счет его гибкости, открытости к изменениям и легкости для восприят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лийский – это язык нового поколения без определенной национальности и места жительства, воспитанного на массовой куль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1476360" y="2205000"/>
            <a:ext cx="671832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2f2f2"/>
                </a:solidFill>
                <a:latin typeface="Times New Roman"/>
              </a:rPr>
              <a:t>Thank you for your attentio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2f2f2"/>
              </a:solidFill>
              <a:latin typeface="Times New Roman"/>
              <a:ea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00ff"/>
                </a:solidFill>
                <a:uFillTx/>
                <a:latin typeface="Tahoma"/>
              </a:rPr>
              <a:t>Цель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причины употребления англицизмов в вывесках 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00ff"/>
                </a:solidFill>
                <a:uFillTx/>
                <a:latin typeface="Tahoma"/>
              </a:rPr>
              <a:t>Объек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ая среда г. Стерлитам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00ff"/>
                </a:solidFill>
                <a:uFillTx/>
                <a:latin typeface="Tahoma"/>
              </a:rPr>
              <a:t>Предм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глицизмы на вывесках магазинов и обществе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Англициз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а или обороты речи в каком-нибудь языке заимствованные из английского языка или созданные по образцу английского слова или вы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вески на улицах Стерлитама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Picture 3" descr="C:\Users\Розалина\Desktop\конференции\англицизмы\ek4.jpg"/>
          <p:cNvPicPr/>
          <p:nvPr/>
        </p:nvPicPr>
        <p:blipFill>
          <a:blip r:embed="rId1"/>
          <a:stretch/>
        </p:blipFill>
        <p:spPr>
          <a:xfrm>
            <a:off x="5580000" y="2111400"/>
            <a:ext cx="3282840" cy="21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Розалина\Desktop\конференции\англицизмы\1431532535589220364.jpg"/>
          <p:cNvPicPr/>
          <p:nvPr/>
        </p:nvPicPr>
        <p:blipFill>
          <a:blip r:embed="rId2"/>
          <a:stretch/>
        </p:blipFill>
        <p:spPr>
          <a:xfrm>
            <a:off x="250920" y="1913040"/>
            <a:ext cx="3043080" cy="252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Розалина\Desktop\конференции\англицизмы\sport-str-ru.jpg"/>
          <p:cNvPicPr/>
          <p:nvPr/>
        </p:nvPicPr>
        <p:blipFill>
          <a:blip r:embed="rId3"/>
          <a:stretch/>
        </p:blipFill>
        <p:spPr>
          <a:xfrm>
            <a:off x="2843280" y="3173400"/>
            <a:ext cx="3024000" cy="3662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0"/>
            <a:ext cx="4601880" cy="321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019160" y="2556000"/>
            <a:ext cx="7093080" cy="451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552920" y="11160"/>
            <a:ext cx="456552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Users\Розалина\Desktop\конференции\англицизмы\83176129.jpg"/>
          <p:cNvPicPr/>
          <p:nvPr/>
        </p:nvPicPr>
        <p:blipFill>
          <a:blip r:embed="rId1"/>
          <a:stretch/>
        </p:blipFill>
        <p:spPr>
          <a:xfrm>
            <a:off x="3416400" y="1159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Розалина\Desktop\конференции\англицизмы\bbbP1yYoo_U.jpg"/>
          <p:cNvPicPr/>
          <p:nvPr/>
        </p:nvPicPr>
        <p:blipFill>
          <a:blip r:embed="rId2"/>
          <a:stretch/>
        </p:blipFill>
        <p:spPr>
          <a:xfrm>
            <a:off x="0" y="836640"/>
            <a:ext cx="5524560" cy="38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Розалина\Desktop\конференции\англицизмы\759d3d6fae88c4f3cbf2fe9b9239625f.jpg"/>
          <p:cNvPicPr/>
          <p:nvPr/>
        </p:nvPicPr>
        <p:blipFill>
          <a:blip r:embed="rId3"/>
          <a:stretch/>
        </p:blipFill>
        <p:spPr>
          <a:xfrm>
            <a:off x="1332000" y="2997360"/>
            <a:ext cx="552456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ипы вывесок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15640" y="1341360"/>
            <a:ext cx="754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глийские слова, написанные по-английски –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anc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глийские слова, написанные русскими буквами – «Бьют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е слова, написанные с помощью английских букв –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r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кращения –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F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ые бренды –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ida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аж Синем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нотеатр Мир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ьюти – Красо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anc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Глян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t Plus Fot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ечать плюс Фо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ty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 го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йл Сити – Нефтяной го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Avenu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роспект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x pric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фиксированная ц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han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ывшие в употребл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2T08:30:54Z</dcterms:created>
  <dc:creator>Ксения</dc:creator>
  <dc:description/>
  <dc:language>en-US</dc:language>
  <cp:lastModifiedBy>Розалина</cp:lastModifiedBy>
  <dcterms:modified xsi:type="dcterms:W3CDTF">2019-12-04T14:28:32Z</dcterms:modified>
  <cp:revision>31</cp:revision>
  <dc:subject/>
  <dc:title>Слайд 1</dc:title>
</cp:coreProperties>
</file>