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6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5B7891-2EBD-4A5B-B7C7-A7EAC14AF3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9ED062-2372-42E1-BDF2-65A215265E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B5E-28CB-4BD6-A899-46325668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E85-ACD4-4B99-B42C-E1C0A8F1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BEE-B8AA-4563-BAA9-37938234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50E-4F2B-4105-B218-26599564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9EF-8438-49B1-8F50-C77314E9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ACFC-DE95-4CF8-81A0-5EA525D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D237-7531-4443-871E-037FAC5D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4B19-A05F-44BD-BAC9-F3819462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B49D-CA19-4686-B56A-373E1A64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330E-F2E6-4C69-9F03-CC79ECAE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9A60-AC7D-4C40-B7FD-0276F05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BB2-A554-42C3-BB54-9A6DACC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1BAA-461D-43B4-94E2-D60511D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CC35-5150-4396-834B-73AF91C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820-EB4A-48C8-B5BD-3892CC9F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80E9-D2D1-4D7F-9874-D98AEBE2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DC31-8376-4362-BE03-66188D5E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9D8C-68E4-4FFF-92AE-761EC784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C1C5-A8DD-4350-B655-93D96DC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86A5-4A9F-4C6E-AA73-09B4214D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35FA-23B7-461E-85EE-897A3AE7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6133-BD83-43EE-BEED-F960564C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4B6-E485-4E34-9EE4-D5BB123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81E3-DFA0-4F23-826E-37CE14E3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13E5-4001-4428-A8A5-D510D5CB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5174-40C3-4814-9A15-0561070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610B-B487-4EED-8E81-FAEE85D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F9B0-1EC3-47DA-A3EB-800090F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5E5E-D042-4652-B98D-3316CC3E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379C-58AD-485E-ACFF-3AB38C9C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53172-C7FC-45A0-B867-56F73F87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63C2-119D-43BE-8129-2FB3295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6340-8262-47E0-AD94-3D520A31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872-6204-4D01-8D8F-20B99741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527F-65DA-40AC-ACBB-0E515FF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088F-4DCA-4DCA-A342-2540CF60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D56A-2628-4902-8413-CEA06DEC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9026-5E1C-4E0C-98A9-C4F4D00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903B-D1A9-4FC8-8677-785659A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0F4C-5375-4E4B-9714-03D5458A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94FC-A9C4-4430-B620-71131A7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1E9A-0D41-4FE4-9A08-AA52D6FC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8A19-7D62-4414-80E1-94BD8BB7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784A-5CF6-466D-89F8-79268152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96A-74AD-4671-AD4C-FE00DEE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A606-C560-48F5-B013-4623B0B1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9B376-989D-4669-BE37-84E1DF0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2CB3-008A-45E9-A6A5-CF97497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4F74-9F8B-4428-80BA-28419E8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D01D-8539-4CF5-A83A-7179DA2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475A-BCC1-47FE-8EC8-BAB17E6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3CE9-0F07-447F-88BF-957F3A67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43D6-8342-46DC-9EDD-14FEAE52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97FC-530B-4217-8ED5-472A256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613F-2D3C-4FB3-9C56-C685E5A0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406-F10F-4D5B-8A7D-1986300A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5B25-CE5B-42FF-BA06-14928523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A99-BD2A-411C-B66B-993759B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6AE-4AA9-4F68-8645-CE6CAB5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443-07BF-4870-B3B4-65F57B6B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C24EC-2C17-476D-8632-AC6A49C392D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9360" y="-9360"/>
              <a:ext cx="952200" cy="628200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C85DE-3D5E-4966-A734-0565C07925D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05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3C24D-1B8E-4491-AC53-2C9E78CBFE9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59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A8419-5604-474E-84AA-31A7587C2C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213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AF4C2-DEB5-4CD3-AE34-13F25C5AFB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9072720" cy="18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i="1" lang="ru-RU" sz="6000" spc="-1" strike="noStrike" u="sng">
                <a:solidFill>
                  <a:srgbClr val="002060"/>
                </a:solidFill>
                <a:uFillTx/>
                <a:latin typeface="PT Astra Sans"/>
                <a:ea typeface="PT Astra Sans"/>
              </a:rPr>
              <a:t>Тема урока:</a:t>
            </a:r>
            <a:r>
              <a:rPr b="1" i="1" lang="ru-RU" sz="6000" spc="-1" strike="noStrike">
                <a:solidFill>
                  <a:srgbClr val="002060"/>
                </a:solidFill>
                <a:latin typeface="PT Astra Sans"/>
                <a:ea typeface="PT Astra Sans"/>
              </a:rPr>
              <a:t> 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PT Astra Sans"/>
                <a:ea typeface="PT Astra Sans"/>
              </a:rPr>
              <a:t>«Число и цифра 4»</a:t>
            </a:r>
            <a:br>
              <a:rPr sz="5400"/>
            </a:b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03280" y="6012000"/>
            <a:ext cx="5745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PT Astra Sans"/>
              </a:rPr>
              <a:t>Выполнил: учитель начальных клас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PT Astra Sans"/>
              </a:rPr>
              <a:t>МБОУ СШ №1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PT Astra Sans"/>
              </a:rPr>
              <a:t>Васильева Ирина Михайловн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1"/>
          <a:stretch/>
        </p:blipFill>
        <p:spPr>
          <a:xfrm>
            <a:off x="360360" y="3510000"/>
            <a:ext cx="287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4" descr=""/>
          <p:cNvPicPr/>
          <p:nvPr/>
        </p:nvPicPr>
        <p:blipFill>
          <a:blip r:embed="rId1"/>
          <a:stretch/>
        </p:blipFill>
        <p:spPr>
          <a:xfrm>
            <a:off x="5754600" y="3621240"/>
            <a:ext cx="2425680" cy="2109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2"/>
          <a:stretch/>
        </p:blipFill>
        <p:spPr>
          <a:xfrm>
            <a:off x="2182680" y="3621240"/>
            <a:ext cx="2425680" cy="2109600"/>
          </a:xfrm>
          <a:prstGeom prst="rect">
            <a:avLst/>
          </a:prstGeom>
          <a:ln w="0">
            <a:noFill/>
          </a:ln>
        </p:spPr>
      </p:pic>
      <p:sp>
        <p:nvSpPr>
          <p:cNvPr id="332" name="WordArt 16"/>
          <p:cNvSpPr txBox="1"/>
          <p:nvPr/>
        </p:nvSpPr>
        <p:spPr>
          <a:xfrm>
            <a:off x="6548400" y="3938760"/>
            <a:ext cx="9525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2897280" y="3938760"/>
            <a:ext cx="950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4" name="WordArt 18"/>
          <p:cNvSpPr txBox="1"/>
          <p:nvPr/>
        </p:nvSpPr>
        <p:spPr>
          <a:xfrm>
            <a:off x="4643280" y="1874880"/>
            <a:ext cx="9511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647640" y="15732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Состав числа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4" descr=""/>
          <p:cNvPicPr/>
          <p:nvPr/>
        </p:nvPicPr>
        <p:blipFill>
          <a:blip r:embed="rId1"/>
          <a:stretch/>
        </p:blipFill>
        <p:spPr>
          <a:xfrm>
            <a:off x="5754600" y="3621240"/>
            <a:ext cx="2425680" cy="2109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"/>
          <p:cNvPicPr/>
          <p:nvPr/>
        </p:nvPicPr>
        <p:blipFill>
          <a:blip r:embed="rId2"/>
          <a:stretch/>
        </p:blipFill>
        <p:spPr>
          <a:xfrm>
            <a:off x="2182680" y="3621240"/>
            <a:ext cx="2425680" cy="2109600"/>
          </a:xfrm>
          <a:prstGeom prst="rect">
            <a:avLst/>
          </a:prstGeom>
          <a:ln w="0">
            <a:noFill/>
          </a:ln>
        </p:spPr>
      </p:pic>
      <p:sp>
        <p:nvSpPr>
          <p:cNvPr id="338" name="WordArt 16"/>
          <p:cNvSpPr txBox="1"/>
          <p:nvPr/>
        </p:nvSpPr>
        <p:spPr>
          <a:xfrm>
            <a:off x="6548400" y="3938760"/>
            <a:ext cx="9525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" name="WordArt 17"/>
          <p:cNvSpPr txBox="1"/>
          <p:nvPr/>
        </p:nvSpPr>
        <p:spPr>
          <a:xfrm>
            <a:off x="2897280" y="3938760"/>
            <a:ext cx="950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40" name="WordArt 13"/>
          <p:cNvSpPr txBox="1"/>
          <p:nvPr/>
        </p:nvSpPr>
        <p:spPr>
          <a:xfrm>
            <a:off x="4643280" y="1874880"/>
            <a:ext cx="9511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41" name="Rectangle 18"/>
          <p:cNvSpPr/>
          <p:nvPr/>
        </p:nvSpPr>
        <p:spPr>
          <a:xfrm flipV="1">
            <a:off x="0" y="-141120"/>
            <a:ext cx="1008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1800360" y="4665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Состав числа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4" descr=""/>
          <p:cNvPicPr/>
          <p:nvPr/>
        </p:nvPicPr>
        <p:blipFill>
          <a:blip r:embed="rId1"/>
          <a:stretch/>
        </p:blipFill>
        <p:spPr>
          <a:xfrm>
            <a:off x="5754600" y="3621240"/>
            <a:ext cx="2425680" cy="2109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"/>
          <p:cNvPicPr/>
          <p:nvPr/>
        </p:nvPicPr>
        <p:blipFill>
          <a:blip r:embed="rId2"/>
          <a:stretch/>
        </p:blipFill>
        <p:spPr>
          <a:xfrm>
            <a:off x="2182680" y="3621240"/>
            <a:ext cx="2425680" cy="21096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16"/>
          <p:cNvSpPr txBox="1"/>
          <p:nvPr/>
        </p:nvSpPr>
        <p:spPr>
          <a:xfrm>
            <a:off x="6548400" y="3938760"/>
            <a:ext cx="9525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46" name="WordArt 17"/>
          <p:cNvSpPr txBox="1"/>
          <p:nvPr/>
        </p:nvSpPr>
        <p:spPr>
          <a:xfrm>
            <a:off x="2897280" y="3938760"/>
            <a:ext cx="950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18"/>
          <p:cNvSpPr txBox="1"/>
          <p:nvPr/>
        </p:nvSpPr>
        <p:spPr>
          <a:xfrm>
            <a:off x="4643280" y="1874880"/>
            <a:ext cx="9511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1511280" y="32400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Состав числа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684360"/>
            <a:ext cx="8569440" cy="50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Сегодня на уроке: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 Мы познакомились…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Мы узнали…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Мы научились писать…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12720" y="5724000"/>
            <a:ext cx="7056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ru-RU" sz="19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br>
              <a:rPr sz="7900"/>
            </a:br>
            <a:br>
              <a:rPr sz="7900"/>
            </a:br>
            <a:r>
              <a:rPr b="0" lang="ru-RU" sz="79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0" lang="ru-RU" sz="7900" spc="-1" strike="noStrike">
                <a:solidFill>
                  <a:srgbClr val="002060"/>
                </a:solidFill>
                <a:latin typeface="Trebuchet MS"/>
              </a:rPr>
              <a:t>Молодцы!</a:t>
            </a:r>
            <a:endParaRPr b="0" lang="en-US" sz="7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1"/>
          <a:stretch/>
        </p:blipFill>
        <p:spPr>
          <a:xfrm>
            <a:off x="8136000" y="3281400"/>
            <a:ext cx="1944720" cy="4278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1008000" y="108000"/>
            <a:ext cx="20988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000" y="17640"/>
            <a:ext cx="720108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br>
              <a:rPr sz="3200"/>
            </a:b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Trebuchet MS"/>
              </a:rPr>
              <a:t>Нас приветствует солнышко и дарит нам свои лучики добра, счастья, здоровья. Солнышко “улыбается”. Давайте и мы улыбнёмся, подарим и поделимся друг с другом прекрасным настроением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86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Picture 6" descr="340338255278766144"/>
          <p:cNvPicPr/>
          <p:nvPr/>
        </p:nvPicPr>
        <p:blipFill>
          <a:blip r:embed="rId1"/>
          <a:stretch/>
        </p:blipFill>
        <p:spPr>
          <a:xfrm>
            <a:off x="2087640" y="3635280"/>
            <a:ext cx="381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3840" y="126720"/>
            <a:ext cx="8653320" cy="111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mic Sans MS"/>
              </a:rPr>
              <a:t>Игра «Помоги ёжику </a:t>
            </a: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33cc33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33cc33"/>
                </a:solidFill>
                <a:latin typeface="Comic Sans MS"/>
              </a:rPr>
              <a:t>собрать яблоки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76120" y="1398600"/>
            <a:ext cx="936792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2 + 1 = 3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2 – 1 = 1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3 – 1 = 2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3 – 2 = 1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2 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1 + 1 =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12" descr="Ежик"/>
          <p:cNvPicPr/>
          <p:nvPr/>
        </p:nvPicPr>
        <p:blipFill>
          <a:blip r:embed="rId1"/>
          <a:srcRect l="7382" t="4763" r="0" b="7145"/>
          <a:stretch/>
        </p:blipFill>
        <p:spPr>
          <a:xfrm>
            <a:off x="4643280" y="4016520"/>
            <a:ext cx="4989600" cy="2941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j0344872"/>
          <p:cNvPicPr/>
          <p:nvPr/>
        </p:nvPicPr>
        <p:blipFill>
          <a:blip r:embed="rId2"/>
          <a:stretch/>
        </p:blipFill>
        <p:spPr>
          <a:xfrm>
            <a:off x="3887640" y="2340000"/>
            <a:ext cx="987480" cy="1031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j0300097"/>
          <p:cNvPicPr/>
          <p:nvPr/>
        </p:nvPicPr>
        <p:blipFill>
          <a:blip r:embed="rId3"/>
          <a:stretch/>
        </p:blipFill>
        <p:spPr>
          <a:xfrm>
            <a:off x="1511280" y="5003640"/>
            <a:ext cx="814320" cy="795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j0300097"/>
          <p:cNvPicPr/>
          <p:nvPr/>
        </p:nvPicPr>
        <p:blipFill>
          <a:blip r:embed="rId4"/>
          <a:stretch/>
        </p:blipFill>
        <p:spPr>
          <a:xfrm>
            <a:off x="3672000" y="1332000"/>
            <a:ext cx="873000" cy="793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0300097"/>
          <p:cNvPicPr/>
          <p:nvPr/>
        </p:nvPicPr>
        <p:blipFill>
          <a:blip r:embed="rId5"/>
          <a:stretch/>
        </p:blipFill>
        <p:spPr>
          <a:xfrm>
            <a:off x="1511280" y="2556000"/>
            <a:ext cx="735120" cy="793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j0344872"/>
          <p:cNvPicPr/>
          <p:nvPr/>
        </p:nvPicPr>
        <p:blipFill>
          <a:blip r:embed="rId6"/>
          <a:stretch/>
        </p:blipFill>
        <p:spPr>
          <a:xfrm>
            <a:off x="1511280" y="6227640"/>
            <a:ext cx="87480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44872"/>
          <p:cNvPicPr/>
          <p:nvPr/>
        </p:nvPicPr>
        <p:blipFill>
          <a:blip r:embed="rId7"/>
          <a:stretch/>
        </p:blipFill>
        <p:spPr>
          <a:xfrm>
            <a:off x="1584360" y="3635280"/>
            <a:ext cx="909720" cy="952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j0344872"/>
          <p:cNvPicPr/>
          <p:nvPr/>
        </p:nvPicPr>
        <p:blipFill>
          <a:blip r:embed="rId8"/>
          <a:stretch/>
        </p:blipFill>
        <p:spPr>
          <a:xfrm>
            <a:off x="1511280" y="1116000"/>
            <a:ext cx="8352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9017E-006 L 0.58073 0.38289 E">
                                      <p:cBhvr>
                                        <p:cTn id="1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2775 C 0.12761 -0.05364 0.25573 -0.13503 0.35972 -0.0874 C 0.46354 -0.03977 0.5441 0.13711 0.625 0.31445 E">
                                      <p:cBhvr>
                                        <p:cTn id="17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02312E-006 L 0.46459 0.0837 E">
                                      <p:cBhvr>
                                        <p:cTn id="21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0.12315 C 0.02188 0.07408 0.03698 0.02523 0.08021 -0.00578 C 0.12344 -0.0368 0.21354 -0.0375 0.26684 -0.06342 C 0.32014 -0.08935 0.34966 -0.16805 0.40018 -0.16134 C 0.4507 -0.15463 0.55191 -0.05625 0.57032 -0.02338 C 0.58872 0.00949 0.51997 0.02616 0.51025 0.03658 E">
                                      <p:cBhvr>
                                        <p:cTn id="25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55903 -0.24167 E">
                                      <p:cBhvr>
                                        <p:cTn id="2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148 C -0.02101 -0.09526 -0.04184 -0.17503 -0.06997 -0.17503 C -0.09809 -0.17503 -0.17709 -0.08069 -0.1684 -0.01688 C -0.15972 0.04647 -0.08802 0.13226 -0.0184 0.20393 C 0.05121 0.27561 0.19357 0.36948 0.2493 0.41295 E">
                                      <p:cBhvr>
                                        <p:cTn id="33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21387E-006 L 0.11632 0.28832 E">
                                      <p:cBhvr>
                                        <p:cTn id="3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684360"/>
            <a:ext cx="8569440" cy="50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rebuchet MS"/>
              </a:rPr>
              <a:t>Сегодня на уроке: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 Мы познакомимся…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Мы узнаем….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Trebuchet MS"/>
              </a:rPr>
              <a:t>Мы научимся писать…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245960" y="4465440"/>
            <a:ext cx="642276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ru-RU" sz="19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7392960" y="587520"/>
            <a:ext cx="2435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7728120" y="252360"/>
            <a:ext cx="0" cy="2351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7392960" y="2352600"/>
            <a:ext cx="2435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9577440" y="252360"/>
            <a:ext cx="0" cy="2351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Line 6"/>
          <p:cNvSpPr/>
          <p:nvPr/>
        </p:nvSpPr>
        <p:spPr>
          <a:xfrm flipH="1">
            <a:off x="8651520" y="587520"/>
            <a:ext cx="420840" cy="1008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8651880" y="1595520"/>
            <a:ext cx="6732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Line 8"/>
          <p:cNvSpPr/>
          <p:nvPr/>
        </p:nvSpPr>
        <p:spPr>
          <a:xfrm flipH="1">
            <a:off x="8988480" y="923760"/>
            <a:ext cx="588960" cy="14288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252360" y="168120"/>
            <a:ext cx="697248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фра новая – четыре.  Стол стоит  у нас в квартире, Сколько ножек у него –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стола у твоего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Picture 27" descr="B_Fly11"/>
          <p:cNvPicPr/>
          <p:nvPr/>
        </p:nvPicPr>
        <p:blipFill>
          <a:blip r:embed="rId1"/>
          <a:stretch/>
        </p:blipFill>
        <p:spPr>
          <a:xfrm rot="18088800">
            <a:off x="8040960" y="3130920"/>
            <a:ext cx="1611360" cy="156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B_Fly11"/>
          <p:cNvPicPr/>
          <p:nvPr/>
        </p:nvPicPr>
        <p:blipFill>
          <a:blip r:embed="rId2"/>
          <a:stretch/>
        </p:blipFill>
        <p:spPr>
          <a:xfrm rot="3100200">
            <a:off x="6024960" y="2710440"/>
            <a:ext cx="1611360" cy="1565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2" descr=""/>
          <p:cNvPicPr/>
          <p:nvPr/>
        </p:nvPicPr>
        <p:blipFill>
          <a:blip r:embed="rId3"/>
          <a:stretch/>
        </p:blipFill>
        <p:spPr>
          <a:xfrm>
            <a:off x="1312920" y="3924360"/>
            <a:ext cx="5543640" cy="3549600"/>
          </a:xfrm>
          <a:prstGeom prst="rect">
            <a:avLst/>
          </a:prstGeom>
          <a:ln w="0">
            <a:noFill/>
          </a:ln>
        </p:spPr>
      </p:pic>
      <p:sp>
        <p:nvSpPr>
          <p:cNvPr id="300" name="Номер слайда 17"/>
          <p:cNvSpPr/>
          <p:nvPr/>
        </p:nvSpPr>
        <p:spPr>
          <a:xfrm>
            <a:off x="7104240" y="6659640"/>
            <a:ext cx="564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1" descr=""/>
          <p:cNvPicPr/>
          <p:nvPr/>
        </p:nvPicPr>
        <p:blipFill>
          <a:blip r:embed="rId1"/>
          <a:stretch/>
        </p:blipFill>
        <p:spPr>
          <a:xfrm>
            <a:off x="1731960" y="49320"/>
            <a:ext cx="6967440" cy="75564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32" descr=""/>
          <p:cNvPicPr/>
          <p:nvPr/>
        </p:nvPicPr>
        <p:blipFill>
          <a:blip r:embed="rId2"/>
          <a:stretch/>
        </p:blipFill>
        <p:spPr>
          <a:xfrm>
            <a:off x="493560" y="1158840"/>
            <a:ext cx="1659240" cy="162072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4" descr=""/>
          <p:cNvPicPr/>
          <p:nvPr/>
        </p:nvPicPr>
        <p:blipFill>
          <a:blip r:embed="rId3"/>
          <a:stretch/>
        </p:blipFill>
        <p:spPr>
          <a:xfrm>
            <a:off x="3492360" y="1176480"/>
            <a:ext cx="1659240" cy="16221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37" descr=""/>
          <p:cNvPicPr/>
          <p:nvPr/>
        </p:nvPicPr>
        <p:blipFill>
          <a:blip r:embed="rId4"/>
          <a:stretch/>
        </p:blipFill>
        <p:spPr>
          <a:xfrm>
            <a:off x="1974960" y="120636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38" descr=""/>
          <p:cNvPicPr/>
          <p:nvPr/>
        </p:nvPicPr>
        <p:blipFill>
          <a:blip r:embed="rId5"/>
          <a:stretch/>
        </p:blipFill>
        <p:spPr>
          <a:xfrm>
            <a:off x="6443640" y="1182600"/>
            <a:ext cx="1657440" cy="162108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39" descr=""/>
          <p:cNvPicPr/>
          <p:nvPr/>
        </p:nvPicPr>
        <p:blipFill>
          <a:blip r:embed="rId6"/>
          <a:stretch/>
        </p:blipFill>
        <p:spPr>
          <a:xfrm>
            <a:off x="5078520" y="1158840"/>
            <a:ext cx="1657080" cy="162072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40" descr=""/>
          <p:cNvPicPr/>
          <p:nvPr/>
        </p:nvPicPr>
        <p:blipFill>
          <a:blip r:embed="rId7"/>
          <a:stretch/>
        </p:blipFill>
        <p:spPr>
          <a:xfrm>
            <a:off x="549360" y="2975040"/>
            <a:ext cx="1657440" cy="162072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41" descr=""/>
          <p:cNvPicPr/>
          <p:nvPr/>
        </p:nvPicPr>
        <p:blipFill>
          <a:blip r:embed="rId8"/>
          <a:stretch/>
        </p:blipFill>
        <p:spPr>
          <a:xfrm>
            <a:off x="3492360" y="3041640"/>
            <a:ext cx="1659240" cy="161604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42" descr=""/>
          <p:cNvPicPr/>
          <p:nvPr/>
        </p:nvPicPr>
        <p:blipFill>
          <a:blip r:embed="rId9"/>
          <a:stretch/>
        </p:blipFill>
        <p:spPr>
          <a:xfrm>
            <a:off x="1974960" y="296244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44" descr=""/>
          <p:cNvPicPr/>
          <p:nvPr/>
        </p:nvPicPr>
        <p:blipFill>
          <a:blip r:embed="rId10"/>
          <a:stretch/>
        </p:blipFill>
        <p:spPr>
          <a:xfrm>
            <a:off x="5005440" y="3054240"/>
            <a:ext cx="1657440" cy="16210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8"/>
          <p:cNvSpPr/>
          <p:nvPr/>
        </p:nvSpPr>
        <p:spPr>
          <a:xfrm>
            <a:off x="7939080" y="4986360"/>
            <a:ext cx="1657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Прямоугольник 19" descr=""/>
          <p:cNvPicPr/>
          <p:nvPr/>
        </p:nvPicPr>
        <p:blipFill>
          <a:blip r:embed="rId11"/>
          <a:stretch/>
        </p:blipFill>
        <p:spPr>
          <a:xfrm>
            <a:off x="7821720" y="1231920"/>
            <a:ext cx="1657080" cy="161460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20" descr=""/>
          <p:cNvPicPr/>
          <p:nvPr/>
        </p:nvPicPr>
        <p:blipFill>
          <a:blip r:embed="rId12"/>
          <a:stretch/>
        </p:blipFill>
        <p:spPr>
          <a:xfrm>
            <a:off x="7924680" y="3041640"/>
            <a:ext cx="1657440" cy="161604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21" descr=""/>
          <p:cNvPicPr/>
          <p:nvPr/>
        </p:nvPicPr>
        <p:blipFill>
          <a:blip r:embed="rId13"/>
          <a:stretch/>
        </p:blipFill>
        <p:spPr>
          <a:xfrm>
            <a:off x="6583320" y="3041640"/>
            <a:ext cx="1652760" cy="16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839880" y="1260360"/>
            <a:ext cx="5208480" cy="5207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3276720" y="4116240"/>
            <a:ext cx="21002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Line 4"/>
          <p:cNvSpPr/>
          <p:nvPr/>
        </p:nvSpPr>
        <p:spPr>
          <a:xfrm flipH="1">
            <a:off x="4787640" y="1847880"/>
            <a:ext cx="1260360" cy="46195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Line 5"/>
          <p:cNvSpPr/>
          <p:nvPr/>
        </p:nvSpPr>
        <p:spPr>
          <a:xfrm flipH="1">
            <a:off x="3276720" y="1260360"/>
            <a:ext cx="923760" cy="2855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4116240" y="1260360"/>
            <a:ext cx="168480" cy="1666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5964120" y="1763640"/>
            <a:ext cx="168480" cy="1684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1" name="Picture 12" descr=""/>
          <p:cNvPicPr/>
          <p:nvPr/>
        </p:nvPicPr>
        <p:blipFill>
          <a:blip r:embed="rId1"/>
          <a:stretch/>
        </p:blipFill>
        <p:spPr>
          <a:xfrm rot="7451400">
            <a:off x="3250800" y="-144360"/>
            <a:ext cx="4269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52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55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58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934920" y="374760"/>
            <a:ext cx="797580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Четыре лапки, а в лапках царапки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локо пьет, песни пое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3" name="Picture 2" descr="D:\СЕМЬЯ\алла\педагогика Алла\Компьютерные технологии\мои работы 2012\Посчитаем\Веселый счет\Цифра 4\9b963f8d6aca.png"/>
          <p:cNvPicPr/>
          <p:nvPr/>
        </p:nvPicPr>
        <p:blipFill>
          <a:blip r:embed="rId1"/>
          <a:stretch/>
        </p:blipFill>
        <p:spPr>
          <a:xfrm>
            <a:off x="3432240" y="255600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D:\СЕМЬЯ\алла\педагогика Алла\Компьютерные технологии\мои работы 2012\Посчитаем\Веселый счет\Цифра 4\корова.png"/>
          <p:cNvPicPr/>
          <p:nvPr/>
        </p:nvPicPr>
        <p:blipFill>
          <a:blip r:embed="rId2"/>
          <a:stretch/>
        </p:blipFill>
        <p:spPr>
          <a:xfrm>
            <a:off x="431640" y="3274920"/>
            <a:ext cx="3405240" cy="4076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D:\СЕМЬЯ\алла\педагогика Алла\Компьютерные технологии\мои работы 2012\Посчитаем\Веселый счет\Цифра 4\78423683_0_506e0_439affa7_XL.png"/>
          <p:cNvPicPr/>
          <p:nvPr/>
        </p:nvPicPr>
        <p:blipFill>
          <a:blip r:embed="rId3"/>
          <a:stretch/>
        </p:blipFill>
        <p:spPr>
          <a:xfrm>
            <a:off x="6837480" y="3286080"/>
            <a:ext cx="2913120" cy="40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4"/>
          <p:cNvSpPr/>
          <p:nvPr/>
        </p:nvSpPr>
        <p:spPr>
          <a:xfrm>
            <a:off x="1150920" y="507960"/>
            <a:ext cx="754056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од крышей есть  четыре ножки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 на крыше –  чашки, ложки…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7" name="Picture 5" descr="D:\СЕМЬЯ\алла\педагогика Алла\Компьютерные технологии\мои работы 2012\Посчитаем\Веселый счет\Цифра 4\стулчик.png"/>
          <p:cNvPicPr/>
          <p:nvPr/>
        </p:nvPicPr>
        <p:blipFill>
          <a:blip r:embed="rId1"/>
          <a:stretch/>
        </p:blipFill>
        <p:spPr>
          <a:xfrm>
            <a:off x="8056440" y="3233880"/>
            <a:ext cx="1905120" cy="2433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D:\СЕМЬЯ\алла\педагогика Алла\Компьютерные технологии\мои работы 2012\Посчитаем\Веселый счет\Цифра 4\42768.png"/>
          <p:cNvPicPr/>
          <p:nvPr/>
        </p:nvPicPr>
        <p:blipFill>
          <a:blip r:embed="rId2"/>
          <a:stretch/>
        </p:blipFill>
        <p:spPr>
          <a:xfrm>
            <a:off x="0" y="2109960"/>
            <a:ext cx="4657680" cy="5449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D:\СЕМЬЯ\алла\педагогика Алла\Компьютерные технологии\мои работы 2012\Посчитаем\Веселый счет\Цифра 4\стол.png"/>
          <p:cNvPicPr/>
          <p:nvPr/>
        </p:nvPicPr>
        <p:blipFill>
          <a:blip r:embed="rId3"/>
          <a:stretch/>
        </p:blipFill>
        <p:spPr>
          <a:xfrm>
            <a:off x="4494240" y="3997440"/>
            <a:ext cx="356220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44:04Z</dcterms:created>
  <dc:creator>Сергеева М.В.</dc:creator>
  <dc:description/>
  <dc:language>en-US</dc:language>
  <cp:lastModifiedBy>User</cp:lastModifiedBy>
  <dcterms:modified xsi:type="dcterms:W3CDTF">2019-12-04T16:25:27Z</dcterms:modified>
  <cp:revision>19</cp:revision>
  <dc:subject/>
  <dc:title>Число и цифра 4</dc:title>
</cp:coreProperties>
</file>